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F353-291A-4F57-931C-1345B0BBD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A193-E191-44FE-8ABE-459A10FB7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5ADA-786B-41E0-BC10-B166DAC69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6F54-A5D7-4261-8CF0-4568218CA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7AC0-4DA6-40FC-8DC3-364744F5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F6F3D-E08C-4193-9F97-99FED7DC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87394-F484-4E1D-A347-26EAA833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BDEAE-C1CA-453F-B911-3AAD56A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D50F-122A-4B25-853F-21B27DA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9183-F899-42D6-B041-19C41407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44038-80E2-4B4B-869A-DCAF4AF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679E-10BC-434A-AAF1-642D6EDC2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4F3C-EFBF-4B96-8157-D2C6658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49EB0-677B-451B-AEC5-3B011E0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3059A-C82D-410E-B002-525B8D6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CB14C-A4F9-451D-BE91-1E3FC130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C6A3-78B2-42B8-990B-33430ADD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152F-0716-4940-9BEC-2AF4866AA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3A6A-C103-4F14-8254-8CB5282B4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B4B7-A3AE-4111-BCA5-BE7942C19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05DB-9879-4328-BD6C-BE7058CF0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DC61-1388-44C5-BF73-3EF4A4578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3572-6F10-40FE-8F86-1F73C4DCB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2256-8783-4101-AB90-FA10EDC72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1B4-8EE2-44FB-858A-F40FAD5A9C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747-4ADB-465D-8C2A-AA1AF244A2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echnologyreview.com/magazine/oct01/tristram.asp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Logic Design of</a:t>
            </a:r>
            <a:br>
              <a:rPr sz="4400"/>
            </a:b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3320" y="3665520"/>
            <a:ext cx="2739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Jordi Cortadella</a:t>
            </a: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Jim Gars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lex Yakovlev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36720" y="3719520"/>
            <a:ext cx="640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Univ. Politècnica de Catalunya, Barcelona, Sp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Manchester University, U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University of Newcastle upon Tyne, U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5072-C0AE-474A-8EE6-F0066C84EC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Key Design Differenc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desig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ust ensure hazard-freedom, signal ack-ing, local timing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ombinational logic and memory latches (registers) are often mixed in “complex gate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ynamic timing analysis of logic is needed to determine relative delays between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To avoid complex issues, circuits may be built as Delay-insensitive and/or Speed-independent (as discussed late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B380-07B8-47F0-B135-5B1289661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3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Verification and Testing Differenc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ynchronous logic verification and testi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Only functional correctness aspect is verified and tes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esting can be done with standard ATE and at low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verification and testi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In addition to functional correctness, temporal aspect is crucial: e.g. causality and order, deadlock-freed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esting must cover faults in complex gates (logic+memory) and must proceed at normal operation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elay fault testing may be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CC2C-D8A4-4B4E-B7F6-29A97F1D0F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Synchronous commun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lock edges determine the time instants where data must be samp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ata wires may glitch between clock edges (set-up/hold times must be satisfi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ata are transmitted at a fixed rat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(clock frequenc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4920" y="1294920"/>
            <a:ext cx="1371600" cy="381600"/>
            <a:chOff x="304920" y="1294920"/>
            <a:chExt cx="1371600" cy="381600"/>
          </a:xfrm>
        </p:grpSpPr>
        <p:sp>
          <p:nvSpPr>
            <p:cNvPr id="222" name=""/>
            <p:cNvSpPr/>
            <p:nvPr/>
          </p:nvSpPr>
          <p:spPr>
            <a:xfrm>
              <a:off x="3049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535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76520" y="1294920"/>
            <a:ext cx="1371600" cy="381600"/>
            <a:chOff x="1676520" y="1294920"/>
            <a:chExt cx="1371600" cy="381600"/>
          </a:xfrm>
        </p:grpSpPr>
        <p:sp>
          <p:nvSpPr>
            <p:cNvPr id="225" name=""/>
            <p:cNvSpPr/>
            <p:nvPr/>
          </p:nvSpPr>
          <p:spPr>
            <a:xfrm>
              <a:off x="16765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2251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8120" y="1294920"/>
            <a:ext cx="1371600" cy="381600"/>
            <a:chOff x="3048120" y="1294920"/>
            <a:chExt cx="1371600" cy="381600"/>
          </a:xfrm>
        </p:grpSpPr>
        <p:sp>
          <p:nvSpPr>
            <p:cNvPr id="228" name=""/>
            <p:cNvSpPr/>
            <p:nvPr/>
          </p:nvSpPr>
          <p:spPr>
            <a:xfrm>
              <a:off x="30481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5967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1294920"/>
            <a:ext cx="1371600" cy="381600"/>
            <a:chOff x="4419720" y="1294920"/>
            <a:chExt cx="1371600" cy="381600"/>
          </a:xfrm>
        </p:grpSpPr>
        <p:sp>
          <p:nvSpPr>
            <p:cNvPr id="231" name=""/>
            <p:cNvSpPr/>
            <p:nvPr/>
          </p:nvSpPr>
          <p:spPr>
            <a:xfrm>
              <a:off x="44197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9683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791320" y="1294920"/>
            <a:ext cx="1371600" cy="381600"/>
            <a:chOff x="5791320" y="1294920"/>
            <a:chExt cx="1371600" cy="381600"/>
          </a:xfrm>
        </p:grpSpPr>
        <p:sp>
          <p:nvSpPr>
            <p:cNvPr id="234" name=""/>
            <p:cNvSpPr/>
            <p:nvPr/>
          </p:nvSpPr>
          <p:spPr>
            <a:xfrm>
              <a:off x="57913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3399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162920" y="1294920"/>
            <a:ext cx="1371600" cy="381600"/>
            <a:chOff x="7162920" y="1294920"/>
            <a:chExt cx="1371600" cy="381600"/>
          </a:xfrm>
        </p:grpSpPr>
        <p:sp>
          <p:nvSpPr>
            <p:cNvPr id="237" name=""/>
            <p:cNvSpPr/>
            <p:nvPr/>
          </p:nvSpPr>
          <p:spPr>
            <a:xfrm>
              <a:off x="71629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7115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534520" y="16765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057400"/>
            <a:ext cx="8534160" cy="38088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0"/>
                </a:moveTo>
                <a:lnTo>
                  <a:pt x="528" y="0"/>
                </a:lnTo>
                <a:lnTo>
                  <a:pt x="576" y="144"/>
                </a:lnTo>
                <a:lnTo>
                  <a:pt x="624" y="48"/>
                </a:lnTo>
                <a:lnTo>
                  <a:pt x="672" y="192"/>
                </a:lnTo>
                <a:lnTo>
                  <a:pt x="720" y="48"/>
                </a:lnTo>
                <a:lnTo>
                  <a:pt x="768" y="144"/>
                </a:lnTo>
                <a:lnTo>
                  <a:pt x="816" y="0"/>
                </a:lnTo>
                <a:lnTo>
                  <a:pt x="864" y="240"/>
                </a:lnTo>
                <a:lnTo>
                  <a:pt x="912" y="96"/>
                </a:lnTo>
                <a:lnTo>
                  <a:pt x="960" y="192"/>
                </a:lnTo>
                <a:lnTo>
                  <a:pt x="1008" y="0"/>
                </a:lnTo>
                <a:lnTo>
                  <a:pt x="1488" y="0"/>
                </a:lnTo>
                <a:lnTo>
                  <a:pt x="1536" y="96"/>
                </a:lnTo>
                <a:lnTo>
                  <a:pt x="1584" y="48"/>
                </a:lnTo>
                <a:lnTo>
                  <a:pt x="1632" y="144"/>
                </a:lnTo>
                <a:lnTo>
                  <a:pt x="1728" y="0"/>
                </a:lnTo>
                <a:lnTo>
                  <a:pt x="1824" y="240"/>
                </a:lnTo>
                <a:lnTo>
                  <a:pt x="2448" y="240"/>
                </a:lnTo>
                <a:lnTo>
                  <a:pt x="2496" y="192"/>
                </a:lnTo>
                <a:lnTo>
                  <a:pt x="2592" y="240"/>
                </a:lnTo>
                <a:lnTo>
                  <a:pt x="2688" y="192"/>
                </a:lnTo>
                <a:lnTo>
                  <a:pt x="2736" y="240"/>
                </a:lnTo>
                <a:lnTo>
                  <a:pt x="3168" y="240"/>
                </a:lnTo>
                <a:lnTo>
                  <a:pt x="3216" y="144"/>
                </a:lnTo>
                <a:lnTo>
                  <a:pt x="3264" y="192"/>
                </a:lnTo>
                <a:lnTo>
                  <a:pt x="3312" y="96"/>
                </a:lnTo>
                <a:lnTo>
                  <a:pt x="3360" y="192"/>
                </a:lnTo>
                <a:lnTo>
                  <a:pt x="3408" y="96"/>
                </a:lnTo>
                <a:lnTo>
                  <a:pt x="3504" y="144"/>
                </a:lnTo>
                <a:lnTo>
                  <a:pt x="3552" y="0"/>
                </a:lnTo>
                <a:lnTo>
                  <a:pt x="4128" y="0"/>
                </a:lnTo>
                <a:lnTo>
                  <a:pt x="4176" y="96"/>
                </a:lnTo>
                <a:lnTo>
                  <a:pt x="4224" y="48"/>
                </a:lnTo>
                <a:lnTo>
                  <a:pt x="4320" y="240"/>
                </a:lnTo>
                <a:lnTo>
                  <a:pt x="4464" y="240"/>
                </a:lnTo>
                <a:lnTo>
                  <a:pt x="4512" y="96"/>
                </a:lnTo>
                <a:lnTo>
                  <a:pt x="4560" y="240"/>
                </a:lnTo>
                <a:lnTo>
                  <a:pt x="4992" y="240"/>
                </a:lnTo>
                <a:lnTo>
                  <a:pt x="5040" y="144"/>
                </a:lnTo>
                <a:lnTo>
                  <a:pt x="5088" y="192"/>
                </a:lnTo>
                <a:lnTo>
                  <a:pt x="5136" y="144"/>
                </a:lnTo>
                <a:lnTo>
                  <a:pt x="5232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034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750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66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182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89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A1DE-0AE3-4A15-92C8-A812F49997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ual r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wo wires with L(low) and H (high) per b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L” = “spacer”,  “LH” = “0”,  “HL” = “1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-bit data communication requires 2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ach bit is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elf-tim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Other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-insensitive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codes exist (e.g. k-of-n) and event-based signalling (choice criteria: pin and power efficiency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16765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131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4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94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46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99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42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1676520"/>
            <a:ext cx="2743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167652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880" y="2057400"/>
            <a:ext cx="8539200" cy="380880"/>
          </a:xfrm>
          <a:custGeom>
            <a:avLst/>
            <a:gdLst/>
            <a:ahLst/>
            <a:rect l="l" t="t" r="r" b="b"/>
            <a:pathLst>
              <a:path w="5379" h="240">
                <a:moveTo>
                  <a:pt x="0" y="239"/>
                </a:moveTo>
                <a:cubicBezTo>
                  <a:pt x="674" y="239"/>
                  <a:pt x="1348" y="239"/>
                  <a:pt x="2022" y="239"/>
                </a:cubicBezTo>
                <a:lnTo>
                  <a:pt x="2067" y="0"/>
                </a:lnTo>
                <a:lnTo>
                  <a:pt x="2403" y="0"/>
                </a:lnTo>
                <a:lnTo>
                  <a:pt x="2429" y="239"/>
                </a:lnTo>
                <a:lnTo>
                  <a:pt x="2793" y="231"/>
                </a:lnTo>
                <a:lnTo>
                  <a:pt x="2835" y="0"/>
                </a:lnTo>
                <a:lnTo>
                  <a:pt x="3219" y="0"/>
                </a:lnTo>
                <a:lnTo>
                  <a:pt x="3267" y="240"/>
                </a:lnTo>
                <a:lnTo>
                  <a:pt x="4581" y="239"/>
                </a:lnTo>
                <a:lnTo>
                  <a:pt x="4611" y="0"/>
                </a:lnTo>
                <a:lnTo>
                  <a:pt x="4947" y="0"/>
                </a:lnTo>
                <a:lnTo>
                  <a:pt x="4995" y="240"/>
                </a:lnTo>
                <a:lnTo>
                  <a:pt x="5379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027A-8E86-4881-B148-97D2BB4116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1219320"/>
            <a:ext cx="4572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1219320"/>
            <a:ext cx="4572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1219320"/>
            <a:ext cx="3812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1219320"/>
            <a:ext cx="2286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1219320"/>
            <a:ext cx="6098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96080" y="1219320"/>
            <a:ext cx="3812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Bundle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Validity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milar to an aperiodic local c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-bit data communication requires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+1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wires may glitch when no val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gnaling protoc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evel sensitive (latch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ransition sensitive (register): 2-phase / 4-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981080"/>
            <a:ext cx="8534160" cy="38124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0"/>
                </a:moveTo>
                <a:lnTo>
                  <a:pt x="528" y="0"/>
                </a:lnTo>
                <a:lnTo>
                  <a:pt x="576" y="144"/>
                </a:lnTo>
                <a:lnTo>
                  <a:pt x="624" y="48"/>
                </a:lnTo>
                <a:lnTo>
                  <a:pt x="672" y="192"/>
                </a:lnTo>
                <a:lnTo>
                  <a:pt x="720" y="48"/>
                </a:lnTo>
                <a:lnTo>
                  <a:pt x="768" y="144"/>
                </a:lnTo>
                <a:lnTo>
                  <a:pt x="816" y="0"/>
                </a:lnTo>
                <a:lnTo>
                  <a:pt x="864" y="240"/>
                </a:lnTo>
                <a:lnTo>
                  <a:pt x="912" y="96"/>
                </a:lnTo>
                <a:lnTo>
                  <a:pt x="960" y="192"/>
                </a:lnTo>
                <a:lnTo>
                  <a:pt x="1008" y="0"/>
                </a:lnTo>
                <a:lnTo>
                  <a:pt x="1488" y="0"/>
                </a:lnTo>
                <a:lnTo>
                  <a:pt x="1536" y="96"/>
                </a:lnTo>
                <a:lnTo>
                  <a:pt x="1584" y="48"/>
                </a:lnTo>
                <a:lnTo>
                  <a:pt x="1632" y="144"/>
                </a:lnTo>
                <a:lnTo>
                  <a:pt x="1728" y="0"/>
                </a:lnTo>
                <a:lnTo>
                  <a:pt x="1824" y="240"/>
                </a:lnTo>
                <a:lnTo>
                  <a:pt x="2448" y="240"/>
                </a:lnTo>
                <a:lnTo>
                  <a:pt x="2496" y="192"/>
                </a:lnTo>
                <a:lnTo>
                  <a:pt x="2592" y="240"/>
                </a:lnTo>
                <a:lnTo>
                  <a:pt x="2688" y="192"/>
                </a:lnTo>
                <a:lnTo>
                  <a:pt x="2736" y="240"/>
                </a:lnTo>
                <a:lnTo>
                  <a:pt x="3168" y="240"/>
                </a:lnTo>
                <a:lnTo>
                  <a:pt x="3216" y="144"/>
                </a:lnTo>
                <a:lnTo>
                  <a:pt x="3264" y="192"/>
                </a:lnTo>
                <a:lnTo>
                  <a:pt x="3312" y="96"/>
                </a:lnTo>
                <a:lnTo>
                  <a:pt x="3360" y="192"/>
                </a:lnTo>
                <a:lnTo>
                  <a:pt x="3408" y="96"/>
                </a:lnTo>
                <a:lnTo>
                  <a:pt x="3504" y="144"/>
                </a:lnTo>
                <a:lnTo>
                  <a:pt x="3552" y="0"/>
                </a:lnTo>
                <a:lnTo>
                  <a:pt x="4128" y="0"/>
                </a:lnTo>
                <a:lnTo>
                  <a:pt x="4176" y="96"/>
                </a:lnTo>
                <a:lnTo>
                  <a:pt x="4224" y="48"/>
                </a:lnTo>
                <a:lnTo>
                  <a:pt x="4320" y="240"/>
                </a:lnTo>
                <a:lnTo>
                  <a:pt x="4464" y="240"/>
                </a:lnTo>
                <a:lnTo>
                  <a:pt x="4512" y="96"/>
                </a:lnTo>
                <a:lnTo>
                  <a:pt x="4560" y="240"/>
                </a:lnTo>
                <a:lnTo>
                  <a:pt x="4992" y="240"/>
                </a:lnTo>
                <a:lnTo>
                  <a:pt x="5040" y="144"/>
                </a:lnTo>
                <a:lnTo>
                  <a:pt x="5088" y="192"/>
                </a:lnTo>
                <a:lnTo>
                  <a:pt x="5136" y="144"/>
                </a:lnTo>
                <a:lnTo>
                  <a:pt x="5232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79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24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18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425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219320"/>
            <a:ext cx="8534160" cy="38088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240"/>
                </a:moveTo>
                <a:lnTo>
                  <a:pt x="96" y="240"/>
                </a:lnTo>
                <a:lnTo>
                  <a:pt x="144" y="0"/>
                </a:lnTo>
                <a:lnTo>
                  <a:pt x="432" y="0"/>
                </a:lnTo>
                <a:lnTo>
                  <a:pt x="480" y="240"/>
                </a:lnTo>
                <a:lnTo>
                  <a:pt x="1056" y="240"/>
                </a:lnTo>
                <a:lnTo>
                  <a:pt x="1104" y="0"/>
                </a:lnTo>
                <a:lnTo>
                  <a:pt x="1392" y="0"/>
                </a:lnTo>
                <a:lnTo>
                  <a:pt x="1440" y="240"/>
                </a:lnTo>
                <a:lnTo>
                  <a:pt x="1872" y="240"/>
                </a:lnTo>
                <a:lnTo>
                  <a:pt x="1920" y="0"/>
                </a:lnTo>
                <a:lnTo>
                  <a:pt x="2160" y="0"/>
                </a:lnTo>
                <a:lnTo>
                  <a:pt x="2208" y="240"/>
                </a:lnTo>
                <a:lnTo>
                  <a:pt x="2832" y="240"/>
                </a:lnTo>
                <a:lnTo>
                  <a:pt x="2880" y="0"/>
                </a:lnTo>
                <a:lnTo>
                  <a:pt x="3024" y="0"/>
                </a:lnTo>
                <a:lnTo>
                  <a:pt x="3072" y="240"/>
                </a:lnTo>
                <a:lnTo>
                  <a:pt x="3600" y="240"/>
                </a:lnTo>
                <a:lnTo>
                  <a:pt x="3648" y="0"/>
                </a:lnTo>
                <a:lnTo>
                  <a:pt x="4032" y="0"/>
                </a:lnTo>
                <a:lnTo>
                  <a:pt x="4080" y="240"/>
                </a:lnTo>
                <a:lnTo>
                  <a:pt x="4608" y="240"/>
                </a:lnTo>
                <a:lnTo>
                  <a:pt x="4656" y="0"/>
                </a:lnTo>
                <a:lnTo>
                  <a:pt x="4896" y="0"/>
                </a:lnTo>
                <a:lnTo>
                  <a:pt x="4944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0463-CD00-454A-8EFE-C5194CF919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Example: memory read cyc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Transition signaling, 4-ph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2360" y="13082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2800" y="2055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7600" y="28605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560" y="3579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295280"/>
            <a:ext cx="7315200" cy="38124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432" y="240"/>
                </a:lnTo>
                <a:lnTo>
                  <a:pt x="480" y="0"/>
                </a:lnTo>
                <a:lnTo>
                  <a:pt x="1584" y="0"/>
                </a:lnTo>
                <a:lnTo>
                  <a:pt x="1632" y="240"/>
                </a:lnTo>
                <a:lnTo>
                  <a:pt x="2544" y="240"/>
                </a:lnTo>
                <a:lnTo>
                  <a:pt x="2592" y="0"/>
                </a:lnTo>
                <a:lnTo>
                  <a:pt x="3504" y="0"/>
                </a:lnTo>
                <a:lnTo>
                  <a:pt x="3552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2819520"/>
            <a:ext cx="7315200" cy="38088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1200" y="240"/>
                </a:lnTo>
                <a:lnTo>
                  <a:pt x="1248" y="0"/>
                </a:lnTo>
                <a:lnTo>
                  <a:pt x="1872" y="0"/>
                </a:lnTo>
                <a:lnTo>
                  <a:pt x="1920" y="240"/>
                </a:lnTo>
                <a:lnTo>
                  <a:pt x="3312" y="240"/>
                </a:lnTo>
                <a:lnTo>
                  <a:pt x="3360" y="0"/>
                </a:lnTo>
                <a:lnTo>
                  <a:pt x="3888" y="0"/>
                </a:lnTo>
                <a:lnTo>
                  <a:pt x="3936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2057400"/>
            <a:ext cx="990720" cy="380880"/>
          </a:xfrm>
          <a:prstGeom prst="hexagon">
            <a:avLst>
              <a:gd name="adj" fmla="val 17088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2057400"/>
            <a:ext cx="990360" cy="380880"/>
          </a:xfrm>
          <a:prstGeom prst="hexagon">
            <a:avLst>
              <a:gd name="adj" fmla="val 1708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2057400"/>
            <a:ext cx="2590920" cy="380880"/>
          </a:xfrm>
          <a:prstGeom prst="hexagon">
            <a:avLst>
              <a:gd name="adj" fmla="val 19998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3581280"/>
            <a:ext cx="2438280" cy="381240"/>
          </a:xfrm>
          <a:prstGeom prst="hexagon">
            <a:avLst>
              <a:gd name="adj" fmla="val 18802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2057400"/>
            <a:ext cx="2590920" cy="380880"/>
          </a:xfrm>
          <a:prstGeom prst="hexagon">
            <a:avLst>
              <a:gd name="adj" fmla="val 1209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3581280"/>
            <a:ext cx="1600200" cy="381240"/>
          </a:xfrm>
          <a:prstGeom prst="hexagon">
            <a:avLst>
              <a:gd name="adj" fmla="val 16245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581280"/>
            <a:ext cx="1371600" cy="381240"/>
          </a:xfrm>
          <a:prstGeom prst="hexagon">
            <a:avLst>
              <a:gd name="adj" fmla="val 17489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057400"/>
            <a:ext cx="228600" cy="380880"/>
          </a:xfrm>
          <a:prstGeom prst="hexagon">
            <a:avLst>
              <a:gd name="adj" fmla="val 2083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720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884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078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25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16000" y="1482840"/>
            <a:ext cx="1225800" cy="1509480"/>
          </a:xfrm>
          <a:custGeom>
            <a:avLst/>
            <a:gdLst/>
            <a:ahLst/>
            <a:rect l="l" t="t" r="r" b="b"/>
            <a:pathLst>
              <a:path w="772" h="951">
                <a:moveTo>
                  <a:pt x="0" y="0"/>
                </a:moveTo>
                <a:cubicBezTo>
                  <a:pt x="36" y="28"/>
                  <a:pt x="174" y="78"/>
                  <a:pt x="218" y="170"/>
                </a:cubicBezTo>
                <a:cubicBezTo>
                  <a:pt x="262" y="262"/>
                  <a:pt x="234" y="442"/>
                  <a:pt x="266" y="554"/>
                </a:cubicBezTo>
                <a:cubicBezTo>
                  <a:pt x="298" y="666"/>
                  <a:pt x="326" y="776"/>
                  <a:pt x="410" y="842"/>
                </a:cubicBezTo>
                <a:cubicBezTo>
                  <a:pt x="494" y="908"/>
                  <a:pt x="697" y="928"/>
                  <a:pt x="772" y="951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35320" y="1447920"/>
            <a:ext cx="574560" cy="1577880"/>
          </a:xfrm>
          <a:custGeom>
            <a:avLst/>
            <a:gdLst/>
            <a:ahLst/>
            <a:rect l="l" t="t" r="r" b="b"/>
            <a:pathLst>
              <a:path w="362" h="994">
                <a:moveTo>
                  <a:pt x="0" y="973"/>
                </a:moveTo>
                <a:cubicBezTo>
                  <a:pt x="28" y="962"/>
                  <a:pt x="150" y="994"/>
                  <a:pt x="170" y="912"/>
                </a:cubicBezTo>
                <a:cubicBezTo>
                  <a:pt x="190" y="830"/>
                  <a:pt x="122" y="616"/>
                  <a:pt x="122" y="480"/>
                </a:cubicBezTo>
                <a:cubicBezTo>
                  <a:pt x="122" y="344"/>
                  <a:pt x="130" y="176"/>
                  <a:pt x="170" y="96"/>
                </a:cubicBezTo>
                <a:cubicBezTo>
                  <a:pt x="210" y="16"/>
                  <a:pt x="286" y="8"/>
                  <a:pt x="362" y="0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1444680"/>
            <a:ext cx="503280" cy="1655640"/>
          </a:xfrm>
          <a:custGeom>
            <a:avLst/>
            <a:gdLst/>
            <a:ahLst/>
            <a:rect l="l" t="t" r="r" b="b"/>
            <a:pathLst>
              <a:path w="317" h="1043">
                <a:moveTo>
                  <a:pt x="0" y="2"/>
                </a:moveTo>
                <a:cubicBezTo>
                  <a:pt x="24" y="16"/>
                  <a:pt x="125" y="0"/>
                  <a:pt x="141" y="88"/>
                </a:cubicBezTo>
                <a:cubicBezTo>
                  <a:pt x="157" y="176"/>
                  <a:pt x="103" y="384"/>
                  <a:pt x="96" y="530"/>
                </a:cubicBezTo>
                <a:cubicBezTo>
                  <a:pt x="89" y="676"/>
                  <a:pt x="59" y="881"/>
                  <a:pt x="96" y="962"/>
                </a:cubicBezTo>
                <a:cubicBezTo>
                  <a:pt x="133" y="1043"/>
                  <a:pt x="271" y="1003"/>
                  <a:pt x="317" y="1013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1447920"/>
            <a:ext cx="990720" cy="1600200"/>
          </a:xfrm>
          <a:custGeom>
            <a:avLst/>
            <a:gdLst/>
            <a:ahLst/>
            <a:rect l="l" t="t" r="r" b="b"/>
            <a:pathLst>
              <a:path w="624" h="1008">
                <a:moveTo>
                  <a:pt x="0" y="1008"/>
                </a:moveTo>
                <a:cubicBezTo>
                  <a:pt x="36" y="1008"/>
                  <a:pt x="72" y="1008"/>
                  <a:pt x="96" y="960"/>
                </a:cubicBezTo>
                <a:cubicBezTo>
                  <a:pt x="120" y="912"/>
                  <a:pt x="120" y="856"/>
                  <a:pt x="144" y="720"/>
                </a:cubicBezTo>
                <a:cubicBezTo>
                  <a:pt x="168" y="584"/>
                  <a:pt x="198" y="259"/>
                  <a:pt x="240" y="144"/>
                </a:cubicBezTo>
                <a:cubicBezTo>
                  <a:pt x="282" y="29"/>
                  <a:pt x="330" y="53"/>
                  <a:pt x="394" y="29"/>
                </a:cubicBezTo>
                <a:cubicBezTo>
                  <a:pt x="458" y="5"/>
                  <a:pt x="576" y="6"/>
                  <a:pt x="624" y="0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AE68-86E9-41C4-8249-ACA844F97B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Example: memory read cyc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Transition signaling, 2-ph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520" y="1293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" y="21002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7360" y="28605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6160" y="3564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2057400"/>
            <a:ext cx="990720" cy="380880"/>
          </a:xfrm>
          <a:prstGeom prst="hexagon">
            <a:avLst>
              <a:gd name="adj" fmla="val 17088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057400"/>
            <a:ext cx="990360" cy="380880"/>
          </a:xfrm>
          <a:prstGeom prst="hexagon">
            <a:avLst>
              <a:gd name="adj" fmla="val 1708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057400"/>
            <a:ext cx="2590920" cy="380880"/>
          </a:xfrm>
          <a:prstGeom prst="hexagon">
            <a:avLst>
              <a:gd name="adj" fmla="val 19998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3581280"/>
            <a:ext cx="2438280" cy="381240"/>
          </a:xfrm>
          <a:prstGeom prst="hexagon">
            <a:avLst>
              <a:gd name="adj" fmla="val 18802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2057400"/>
            <a:ext cx="2590920" cy="380880"/>
          </a:xfrm>
          <a:prstGeom prst="hexagon">
            <a:avLst>
              <a:gd name="adj" fmla="val 1209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3581280"/>
            <a:ext cx="1600200" cy="381240"/>
          </a:xfrm>
          <a:prstGeom prst="hexagon">
            <a:avLst>
              <a:gd name="adj" fmla="val 16245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3581280"/>
            <a:ext cx="1371600" cy="381240"/>
          </a:xfrm>
          <a:prstGeom prst="hexagon">
            <a:avLst>
              <a:gd name="adj" fmla="val 17489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2057400"/>
            <a:ext cx="228600" cy="380880"/>
          </a:xfrm>
          <a:prstGeom prst="hexagon">
            <a:avLst>
              <a:gd name="adj" fmla="val 2083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0720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884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078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25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295280"/>
            <a:ext cx="7315200" cy="38124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432" y="240"/>
                </a:lnTo>
                <a:lnTo>
                  <a:pt x="480" y="0"/>
                </a:lnTo>
                <a:lnTo>
                  <a:pt x="2544" y="0"/>
                </a:lnTo>
                <a:lnTo>
                  <a:pt x="2592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819520"/>
            <a:ext cx="7315200" cy="38088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1200" y="240"/>
                </a:lnTo>
                <a:lnTo>
                  <a:pt x="1248" y="0"/>
                </a:lnTo>
                <a:lnTo>
                  <a:pt x="3312" y="0"/>
                </a:lnTo>
                <a:lnTo>
                  <a:pt x="3360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796F-620C-4808-8C4A-F56317D8663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modu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Signaling protoco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in+ start+ [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computatio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] done+ reqout+ ackout+ ackin+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in-  start-       [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set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]        done-  reqout-  ackout-  ackin-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(more concurrency is also possi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62320" y="1295280"/>
            <a:ext cx="2209680" cy="13716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2320" y="3276720"/>
            <a:ext cx="2209680" cy="533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24240" y="17524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2000" y="175248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83040" y="17510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12240" y="1751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795840" y="2666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862520" y="2666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76520" y="33526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2000" y="33526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720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7652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4960" y="30942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63200" y="30942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 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80200" y="3502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ck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48800" y="3502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ck 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75400" y="15224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PA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9040" y="33512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47840" y="2724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sta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1880" y="2724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d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C801-EDFE-48D8-A9CD-0596390D11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Arial"/>
                <a:ea typeface="Arial"/>
              </a:rPr>
              <a:t>Asynchronous latches: C el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11280" y="1606680"/>
            <a:ext cx="2957040" cy="1145520"/>
            <a:chOff x="611280" y="1606680"/>
            <a:chExt cx="2957040" cy="1145520"/>
          </a:xfrm>
        </p:grpSpPr>
        <p:sp>
          <p:nvSpPr>
            <p:cNvPr id="356" name=""/>
            <p:cNvSpPr/>
            <p:nvPr/>
          </p:nvSpPr>
          <p:spPr>
            <a:xfrm flipV="1">
              <a:off x="990720" y="2368440"/>
              <a:ext cx="914400" cy="15264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0"/>
                  </a:moveTo>
                  <a:lnTo>
                    <a:pt x="384" y="0"/>
                  </a:lnTo>
                  <a:lnTo>
                    <a:pt x="576" y="96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920" y="2216160"/>
              <a:ext cx="609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28800" y="1835280"/>
              <a:ext cx="762120" cy="7617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9200" y="198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0720" y="1835280"/>
              <a:ext cx="914400" cy="15228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0"/>
                  </a:moveTo>
                  <a:lnTo>
                    <a:pt x="384" y="0"/>
                  </a:lnTo>
                  <a:lnTo>
                    <a:pt x="576" y="96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640" y="160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1280" y="229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184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143000" y="3727440"/>
            <a:ext cx="1752480" cy="1922760"/>
            <a:chOff x="1143000" y="3727440"/>
            <a:chExt cx="1752480" cy="1922760"/>
          </a:xfrm>
        </p:grpSpPr>
        <p:sp>
          <p:nvSpPr>
            <p:cNvPr id="365" name=""/>
            <p:cNvSpPr/>
            <p:nvPr/>
          </p:nvSpPr>
          <p:spPr>
            <a:xfrm>
              <a:off x="1213560" y="3727440"/>
              <a:ext cx="164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     B     Z</a:t>
              </a:r>
              <a:r>
                <a:rPr b="0" lang="es-ES_tradnl" sz="2400" spc="-1" strike="noStrike" baseline="30000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      0      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      1      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      0      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      1     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43000" y="4143600"/>
              <a:ext cx="1752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86000" y="3838680"/>
              <a:ext cx="0" cy="1676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72000" y="17589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1305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378080"/>
            <a:ext cx="228600" cy="4190760"/>
          </a:xfrm>
          <a:custGeom>
            <a:avLst/>
            <a:gdLst/>
            <a:ahLst/>
            <a:rect l="l" t="t" r="r" b="b"/>
            <a:pathLst>
              <a:path w="144" h="2640">
                <a:moveTo>
                  <a:pt x="144" y="0"/>
                </a:moveTo>
                <a:lnTo>
                  <a:pt x="144" y="144"/>
                </a:lnTo>
                <a:lnTo>
                  <a:pt x="0" y="144"/>
                </a:lnTo>
                <a:lnTo>
                  <a:pt x="0" y="336"/>
                </a:lnTo>
                <a:lnTo>
                  <a:pt x="144" y="336"/>
                </a:lnTo>
                <a:lnTo>
                  <a:pt x="144" y="1008"/>
                </a:lnTo>
                <a:lnTo>
                  <a:pt x="0" y="1008"/>
                </a:lnTo>
                <a:lnTo>
                  <a:pt x="0" y="1200"/>
                </a:lnTo>
                <a:lnTo>
                  <a:pt x="144" y="1200"/>
                </a:lnTo>
                <a:lnTo>
                  <a:pt x="144" y="1440"/>
                </a:lnTo>
                <a:lnTo>
                  <a:pt x="0" y="1440"/>
                </a:lnTo>
                <a:lnTo>
                  <a:pt x="0" y="1632"/>
                </a:lnTo>
                <a:lnTo>
                  <a:pt x="144" y="1632"/>
                </a:lnTo>
                <a:lnTo>
                  <a:pt x="144" y="2256"/>
                </a:lnTo>
                <a:lnTo>
                  <a:pt x="0" y="2256"/>
                </a:lnTo>
                <a:lnTo>
                  <a:pt x="0" y="2448"/>
                </a:lnTo>
                <a:lnTo>
                  <a:pt x="144" y="2448"/>
                </a:lnTo>
                <a:lnTo>
                  <a:pt x="144" y="26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16066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29782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76920" y="36640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495936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67120" y="3070080"/>
            <a:ext cx="109800" cy="109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67120" y="1700280"/>
            <a:ext cx="10980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38163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511164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172200" y="1378080"/>
            <a:ext cx="609480" cy="4190760"/>
            <a:chOff x="6172200" y="1378080"/>
            <a:chExt cx="609480" cy="4190760"/>
          </a:xfrm>
        </p:grpSpPr>
        <p:sp>
          <p:nvSpPr>
            <p:cNvPr id="380" name=""/>
            <p:cNvSpPr/>
            <p:nvPr/>
          </p:nvSpPr>
          <p:spPr>
            <a:xfrm>
              <a:off x="6172200" y="17589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72200" y="31305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1378080"/>
              <a:ext cx="228600" cy="4190760"/>
            </a:xfrm>
            <a:custGeom>
              <a:avLst/>
              <a:gdLst/>
              <a:ahLst/>
              <a:rect l="l" t="t" r="r" b="b"/>
              <a:pathLst>
                <a:path w="144" h="2640">
                  <a:moveTo>
                    <a:pt x="144" y="0"/>
                  </a:moveTo>
                  <a:lnTo>
                    <a:pt x="144" y="144"/>
                  </a:lnTo>
                  <a:lnTo>
                    <a:pt x="0" y="144"/>
                  </a:lnTo>
                  <a:lnTo>
                    <a:pt x="0" y="336"/>
                  </a:lnTo>
                  <a:lnTo>
                    <a:pt x="144" y="336"/>
                  </a:lnTo>
                  <a:lnTo>
                    <a:pt x="144" y="1008"/>
                  </a:lnTo>
                  <a:lnTo>
                    <a:pt x="0" y="1008"/>
                  </a:lnTo>
                  <a:lnTo>
                    <a:pt x="0" y="1200"/>
                  </a:lnTo>
                  <a:lnTo>
                    <a:pt x="144" y="1200"/>
                  </a:lnTo>
                  <a:lnTo>
                    <a:pt x="144" y="1440"/>
                  </a:lnTo>
                  <a:lnTo>
                    <a:pt x="0" y="1440"/>
                  </a:lnTo>
                  <a:lnTo>
                    <a:pt x="0" y="1632"/>
                  </a:lnTo>
                  <a:lnTo>
                    <a:pt x="144" y="1632"/>
                  </a:lnTo>
                  <a:lnTo>
                    <a:pt x="144" y="2256"/>
                  </a:lnTo>
                  <a:lnTo>
                    <a:pt x="0" y="2256"/>
                  </a:lnTo>
                  <a:lnTo>
                    <a:pt x="0" y="2448"/>
                  </a:lnTo>
                  <a:lnTo>
                    <a:pt x="144" y="2448"/>
                  </a:lnTo>
                  <a:lnTo>
                    <a:pt x="144" y="26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76760" y="16063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76760" y="29779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6760" y="36637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6760" y="4959360"/>
              <a:ext cx="0" cy="304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67320" y="3070080"/>
              <a:ext cx="109440" cy="1090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67320" y="1700280"/>
              <a:ext cx="109440" cy="1090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72200" y="38163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511164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81480" y="2139840"/>
            <a:ext cx="1600200" cy="304920"/>
            <a:chOff x="5181480" y="2139840"/>
            <a:chExt cx="1600200" cy="304920"/>
          </a:xfrm>
        </p:grpSpPr>
        <p:sp>
          <p:nvSpPr>
            <p:cNvPr id="392" name=""/>
            <p:cNvSpPr/>
            <p:nvPr/>
          </p:nvSpPr>
          <p:spPr>
            <a:xfrm>
              <a:off x="5181480" y="2139840"/>
              <a:ext cx="1600200" cy="193680"/>
            </a:xfrm>
            <a:custGeom>
              <a:avLst/>
              <a:gdLst/>
              <a:ahLst/>
              <a:rect l="l" t="t" r="r" b="b"/>
              <a:pathLst>
                <a:path w="1008" h="122">
                  <a:moveTo>
                    <a:pt x="0" y="0"/>
                  </a:moveTo>
                  <a:lnTo>
                    <a:pt x="240" y="0"/>
                  </a:lnTo>
                  <a:lnTo>
                    <a:pt x="241" y="122"/>
                  </a:lnTo>
                  <a:lnTo>
                    <a:pt x="430" y="122"/>
                  </a:lnTo>
                  <a:lnTo>
                    <a:pt x="432" y="0"/>
                  </a:lnTo>
                  <a:lnTo>
                    <a:pt x="1008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360" y="24447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664240" y="2444760"/>
            <a:ext cx="10944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181480" y="4425480"/>
            <a:ext cx="1600200" cy="304920"/>
            <a:chOff x="5181480" y="4425480"/>
            <a:chExt cx="1600200" cy="304920"/>
          </a:xfrm>
        </p:grpSpPr>
        <p:sp>
          <p:nvSpPr>
            <p:cNvPr id="396" name=""/>
            <p:cNvSpPr/>
            <p:nvPr/>
          </p:nvSpPr>
          <p:spPr>
            <a:xfrm flipV="1">
              <a:off x="5181480" y="4536720"/>
              <a:ext cx="1600200" cy="193680"/>
            </a:xfrm>
            <a:custGeom>
              <a:avLst/>
              <a:gdLst/>
              <a:ahLst/>
              <a:rect l="l" t="t" r="r" b="b"/>
              <a:pathLst>
                <a:path w="1008" h="122">
                  <a:moveTo>
                    <a:pt x="0" y="0"/>
                  </a:moveTo>
                  <a:lnTo>
                    <a:pt x="240" y="0"/>
                  </a:lnTo>
                  <a:lnTo>
                    <a:pt x="241" y="122"/>
                  </a:lnTo>
                  <a:lnTo>
                    <a:pt x="430" y="122"/>
                  </a:lnTo>
                  <a:lnTo>
                    <a:pt x="432" y="0"/>
                  </a:lnTo>
                  <a:lnTo>
                    <a:pt x="1008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360" y="442548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715000" y="2554200"/>
            <a:ext cx="0" cy="195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230720"/>
            <a:ext cx="0" cy="1951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3463920"/>
            <a:ext cx="228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42080" y="3424320"/>
            <a:ext cx="87480" cy="87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7415640" y="3258360"/>
            <a:ext cx="533160" cy="43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3400560"/>
            <a:ext cx="152640" cy="15228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77320" y="34639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378080"/>
            <a:ext cx="1600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5568840"/>
            <a:ext cx="1600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4880" y="9968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4880" y="5492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45480" y="153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9240" y="4883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9440" y="35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9440" y="290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2920" y="290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2920" y="3587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2960" y="4883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9080" y="1530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4160" y="26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64160" y="3816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94840" y="320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57800" y="50925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[van Berkel 91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99120" y="4289400"/>
            <a:ext cx="214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Arial"/>
                <a:ea typeface="Arial"/>
              </a:rPr>
              <a:t>Static Logic Implemen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41EA-34BC-4EA3-9FEA-216F532CFE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C-element: Other implement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98760" y="1263600"/>
            <a:ext cx="3315960" cy="5012640"/>
            <a:chOff x="698760" y="1263600"/>
            <a:chExt cx="3315960" cy="5012640"/>
          </a:xfrm>
        </p:grpSpPr>
        <p:sp>
          <p:nvSpPr>
            <p:cNvPr id="424" name=""/>
            <p:cNvSpPr/>
            <p:nvPr/>
          </p:nvSpPr>
          <p:spPr>
            <a:xfrm>
              <a:off x="1130400" y="198108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43280" y="28875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81480" y="1598400"/>
              <a:ext cx="290520" cy="4219560"/>
            </a:xfrm>
            <a:custGeom>
              <a:avLst/>
              <a:gdLst/>
              <a:ahLst/>
              <a:rect l="l" t="t" r="r" b="b"/>
              <a:pathLst>
                <a:path w="183" h="2658">
                  <a:moveTo>
                    <a:pt x="174" y="0"/>
                  </a:moveTo>
                  <a:lnTo>
                    <a:pt x="174" y="145"/>
                  </a:lnTo>
                  <a:lnTo>
                    <a:pt x="12" y="145"/>
                  </a:lnTo>
                  <a:lnTo>
                    <a:pt x="12" y="338"/>
                  </a:lnTo>
                  <a:lnTo>
                    <a:pt x="174" y="338"/>
                  </a:lnTo>
                  <a:lnTo>
                    <a:pt x="174" y="712"/>
                  </a:lnTo>
                  <a:lnTo>
                    <a:pt x="0" y="721"/>
                  </a:lnTo>
                  <a:lnTo>
                    <a:pt x="0" y="940"/>
                  </a:lnTo>
                  <a:lnTo>
                    <a:pt x="183" y="940"/>
                  </a:lnTo>
                  <a:lnTo>
                    <a:pt x="165" y="1654"/>
                  </a:lnTo>
                  <a:lnTo>
                    <a:pt x="0" y="1663"/>
                  </a:lnTo>
                  <a:lnTo>
                    <a:pt x="9" y="1928"/>
                  </a:lnTo>
                  <a:lnTo>
                    <a:pt x="165" y="1919"/>
                  </a:lnTo>
                  <a:lnTo>
                    <a:pt x="174" y="2271"/>
                  </a:lnTo>
                  <a:lnTo>
                    <a:pt x="12" y="2271"/>
                  </a:lnTo>
                  <a:lnTo>
                    <a:pt x="12" y="2465"/>
                  </a:lnTo>
                  <a:lnTo>
                    <a:pt x="174" y="2465"/>
                  </a:lnTo>
                  <a:lnTo>
                    <a:pt x="174" y="2658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35320" y="182880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65560" y="273528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3760" y="4306680"/>
              <a:ext cx="0" cy="30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4000" y="5181480"/>
              <a:ext cx="0" cy="30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41720" y="2813040"/>
              <a:ext cx="109440" cy="1094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25880" y="1922400"/>
              <a:ext cx="109440" cy="1094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44800" y="44877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89080" y="53625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1040" y="176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8000" y="510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1320" y="2604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8760" y="423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863720" y="3506760"/>
              <a:ext cx="1062360" cy="14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25720" y="3219480"/>
              <a:ext cx="671400" cy="569520"/>
              <a:chOff x="2925720" y="3219480"/>
              <a:chExt cx="671400" cy="569520"/>
            </a:xfrm>
          </p:grpSpPr>
          <p:sp>
            <p:nvSpPr>
              <p:cNvPr id="441" name=""/>
              <p:cNvSpPr/>
              <p:nvPr/>
            </p:nvSpPr>
            <p:spPr>
              <a:xfrm rot="5400000">
                <a:off x="2909160" y="3235680"/>
                <a:ext cx="569520" cy="536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62840" y="3447000"/>
                <a:ext cx="134280" cy="1141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597480" y="3506760"/>
              <a:ext cx="366840" cy="15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13720" y="581652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Gn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7880" y="12636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Vd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78080" y="4410000"/>
              <a:ext cx="5223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67280" y="4664160"/>
              <a:ext cx="522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8720" y="3512880"/>
              <a:ext cx="0" cy="87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514600" y="4649760"/>
              <a:ext cx="14400" cy="11174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812960" y="5762520"/>
              <a:ext cx="711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48240" y="312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184720" y="194328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97600" y="284940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35800" y="1560600"/>
            <a:ext cx="290160" cy="4219560"/>
          </a:xfrm>
          <a:custGeom>
            <a:avLst/>
            <a:gdLst/>
            <a:ahLst/>
            <a:rect l="l" t="t" r="r" b="b"/>
            <a:pathLst>
              <a:path w="183" h="2658">
                <a:moveTo>
                  <a:pt x="174" y="0"/>
                </a:moveTo>
                <a:lnTo>
                  <a:pt x="174" y="145"/>
                </a:lnTo>
                <a:lnTo>
                  <a:pt x="12" y="145"/>
                </a:lnTo>
                <a:lnTo>
                  <a:pt x="12" y="338"/>
                </a:lnTo>
                <a:lnTo>
                  <a:pt x="174" y="338"/>
                </a:lnTo>
                <a:lnTo>
                  <a:pt x="174" y="712"/>
                </a:lnTo>
                <a:lnTo>
                  <a:pt x="0" y="721"/>
                </a:lnTo>
                <a:lnTo>
                  <a:pt x="0" y="940"/>
                </a:lnTo>
                <a:lnTo>
                  <a:pt x="183" y="940"/>
                </a:lnTo>
                <a:lnTo>
                  <a:pt x="165" y="1654"/>
                </a:lnTo>
                <a:lnTo>
                  <a:pt x="0" y="1663"/>
                </a:lnTo>
                <a:lnTo>
                  <a:pt x="9" y="1928"/>
                </a:lnTo>
                <a:lnTo>
                  <a:pt x="165" y="1919"/>
                </a:lnTo>
                <a:lnTo>
                  <a:pt x="174" y="2271"/>
                </a:lnTo>
                <a:lnTo>
                  <a:pt x="12" y="2271"/>
                </a:lnTo>
                <a:lnTo>
                  <a:pt x="12" y="2465"/>
                </a:lnTo>
                <a:lnTo>
                  <a:pt x="174" y="2465"/>
                </a:lnTo>
                <a:lnTo>
                  <a:pt x="174" y="2658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9640" y="179064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19880" y="269712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18080" y="42688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48320" y="51436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2774880"/>
            <a:ext cx="10944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80200" y="1884240"/>
            <a:ext cx="109440" cy="109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99120" y="444960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3400" y="532440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15360" y="1728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81960" y="506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5640" y="256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5308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918040" y="3468240"/>
            <a:ext cx="641520" cy="1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557760" y="3181320"/>
            <a:ext cx="671400" cy="569520"/>
            <a:chOff x="6557760" y="3181320"/>
            <a:chExt cx="671400" cy="569520"/>
          </a:xfrm>
        </p:grpSpPr>
        <p:sp>
          <p:nvSpPr>
            <p:cNvPr id="469" name=""/>
            <p:cNvSpPr/>
            <p:nvPr/>
          </p:nvSpPr>
          <p:spPr>
            <a:xfrm rot="5400000">
              <a:off x="6541200" y="3197520"/>
              <a:ext cx="569520" cy="536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94880" y="3408840"/>
              <a:ext cx="134280" cy="11412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230960" y="3468600"/>
            <a:ext cx="787680" cy="158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8040" y="5778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52200" y="12254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02560" y="308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594480" y="2505240"/>
            <a:ext cx="406080" cy="439560"/>
            <a:chOff x="6594480" y="2505240"/>
            <a:chExt cx="406080" cy="43956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6613560" y="2557800"/>
              <a:ext cx="439560" cy="3340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4480" y="2692440"/>
              <a:ext cx="83880" cy="8676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V="1">
            <a:off x="7475400" y="2742840"/>
            <a:ext cx="0" cy="739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995880" y="2757600"/>
            <a:ext cx="479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1800" y="2743200"/>
            <a:ext cx="378000" cy="725400"/>
          </a:xfrm>
          <a:custGeom>
            <a:avLst/>
            <a:gdLst/>
            <a:ahLst/>
            <a:rect l="l" t="t" r="r" b="b"/>
            <a:pathLst>
              <a:path w="238" h="457">
                <a:moveTo>
                  <a:pt x="238" y="0"/>
                </a:moveTo>
                <a:lnTo>
                  <a:pt x="0" y="0"/>
                </a:lnTo>
                <a:lnTo>
                  <a:pt x="0" y="457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29720" y="2009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Weak inver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75400" y="512136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Quasi-Sta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92600" y="506880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54E3-40C3-4B69-9404-A91EEBEC7A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19000"/>
            <a:ext cx="7772400" cy="36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: Basic concepts on asynchronous circuit design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I: Logic synthesis from concurrent specifications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II: Advanced topics on synthesis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V: Design pract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BB70-82FD-4253-B2D1-DA7D117086F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ual-rail logi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068480" y="1447920"/>
            <a:ext cx="3228480" cy="2212200"/>
            <a:chOff x="1068480" y="1447920"/>
            <a:chExt cx="3228480" cy="2212200"/>
          </a:xfrm>
        </p:grpSpPr>
        <p:sp>
          <p:nvSpPr>
            <p:cNvPr id="486" name=""/>
            <p:cNvSpPr/>
            <p:nvPr/>
          </p:nvSpPr>
          <p:spPr>
            <a:xfrm>
              <a:off x="3124080" y="312408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160" y="342900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76160" y="281916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1960" y="1523880"/>
              <a:ext cx="762120" cy="7617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361960" y="2666880"/>
              <a:ext cx="838080" cy="9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780" y="3222"/>
                    <a:pt x="17959" y="5080"/>
                    <a:pt x="17959" y="10800"/>
                  </a:cubicBezTo>
                  <a:cubicBezTo>
                    <a:pt x="17959" y="16520"/>
                    <a:pt x="19780" y="183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76160" y="1676160"/>
              <a:ext cx="68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6160" y="2133360"/>
              <a:ext cx="68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190476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12760" y="14479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77840" y="25905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12040" y="18288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8480" y="3200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4640" y="1676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35360" y="2895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109480" y="228456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ual-rail AND g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118880" y="471312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Valid behavior for monotonic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D357-4BCE-4C9D-80E2-0065768D9FD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mpletion detect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7920" y="1447920"/>
            <a:ext cx="2286000" cy="4343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Dual-rail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90720" y="1676520"/>
            <a:ext cx="457200" cy="152280"/>
            <a:chOff x="990720" y="1676520"/>
            <a:chExt cx="457200" cy="152280"/>
          </a:xfrm>
        </p:grpSpPr>
        <p:sp>
          <p:nvSpPr>
            <p:cNvPr id="505" name=""/>
            <p:cNvSpPr/>
            <p:nvPr/>
          </p:nvSpPr>
          <p:spPr>
            <a:xfrm>
              <a:off x="990720" y="16765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90720" y="18288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90720" y="21337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2286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25909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27432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3048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3200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35053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0720" y="36576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3962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41148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44197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4572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5334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5486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733920" y="1905120"/>
            <a:ext cx="457200" cy="152280"/>
            <a:chOff x="3733920" y="1905120"/>
            <a:chExt cx="457200" cy="152280"/>
          </a:xfrm>
        </p:grpSpPr>
        <p:sp>
          <p:nvSpPr>
            <p:cNvPr id="522" name=""/>
            <p:cNvSpPr/>
            <p:nvPr/>
          </p:nvSpPr>
          <p:spPr>
            <a:xfrm>
              <a:off x="3733920" y="19051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33920" y="20574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733920" y="2514600"/>
            <a:ext cx="457200" cy="152280"/>
            <a:chOff x="3733920" y="2514600"/>
            <a:chExt cx="457200" cy="152280"/>
          </a:xfrm>
        </p:grpSpPr>
        <p:sp>
          <p:nvSpPr>
            <p:cNvPr id="525" name=""/>
            <p:cNvSpPr/>
            <p:nvPr/>
          </p:nvSpPr>
          <p:spPr>
            <a:xfrm>
              <a:off x="3733920" y="25146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33920" y="26668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733920" y="3124080"/>
            <a:ext cx="457200" cy="152280"/>
            <a:chOff x="3733920" y="3124080"/>
            <a:chExt cx="457200" cy="152280"/>
          </a:xfrm>
        </p:grpSpPr>
        <p:sp>
          <p:nvSpPr>
            <p:cNvPr id="528" name=""/>
            <p:cNvSpPr/>
            <p:nvPr/>
          </p:nvSpPr>
          <p:spPr>
            <a:xfrm>
              <a:off x="3733920" y="31240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33920" y="327636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733920" y="3733920"/>
            <a:ext cx="457200" cy="152280"/>
            <a:chOff x="3733920" y="3733920"/>
            <a:chExt cx="457200" cy="152280"/>
          </a:xfrm>
        </p:grpSpPr>
        <p:sp>
          <p:nvSpPr>
            <p:cNvPr id="531" name=""/>
            <p:cNvSpPr/>
            <p:nvPr/>
          </p:nvSpPr>
          <p:spPr>
            <a:xfrm>
              <a:off x="3733920" y="37339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3920" y="38862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733920" y="4952880"/>
            <a:ext cx="457200" cy="152280"/>
            <a:chOff x="3733920" y="4952880"/>
            <a:chExt cx="457200" cy="152280"/>
          </a:xfrm>
        </p:grpSpPr>
        <p:sp>
          <p:nvSpPr>
            <p:cNvPr id="534" name=""/>
            <p:cNvSpPr/>
            <p:nvPr/>
          </p:nvSpPr>
          <p:spPr>
            <a:xfrm>
              <a:off x="3733920" y="49528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510516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082520" y="46944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25720" y="41148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191120" y="1752480"/>
            <a:ext cx="3942000" cy="4192200"/>
            <a:chOff x="4191120" y="1752480"/>
            <a:chExt cx="3942000" cy="4192200"/>
          </a:xfrm>
        </p:grpSpPr>
        <p:grpSp>
          <p:nvGrpSpPr>
            <p:cNvPr id="539" name=""/>
            <p:cNvGrpSpPr/>
            <p:nvPr/>
          </p:nvGrpSpPr>
          <p:grpSpPr>
            <a:xfrm>
              <a:off x="4191120" y="1752480"/>
              <a:ext cx="3271320" cy="3505320"/>
              <a:chOff x="4191120" y="1752480"/>
              <a:chExt cx="3271320" cy="3505320"/>
            </a:xfrm>
          </p:grpSpPr>
          <p:sp>
            <p:nvSpPr>
              <p:cNvPr id="540" name=""/>
              <p:cNvSpPr/>
              <p:nvPr/>
            </p:nvSpPr>
            <p:spPr>
              <a:xfrm>
                <a:off x="4572000" y="198108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72000" y="259092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72000" y="32004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2000" y="380988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72000" y="50292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191120" y="17524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4191120" y="23623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191120" y="297180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4191120" y="35812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191120" y="480060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52880" y="2590920"/>
                <a:ext cx="990720" cy="9903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952880" y="1981080"/>
                <a:ext cx="990720" cy="16002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52880" y="3200400"/>
                <a:ext cx="990720" cy="380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952880" y="3580920"/>
                <a:ext cx="990720" cy="228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952880" y="3581280"/>
                <a:ext cx="990720" cy="1447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38680" y="3276720"/>
                <a:ext cx="533520" cy="5331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07440" y="3276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2200" y="35370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54880" y="3274920"/>
                <a:ext cx="90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done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4191120" y="5484960"/>
              <a:ext cx="39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mpletion detection tre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E244-2292-403F-B59B-4F9B936A432F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Arial"/>
                <a:ea typeface="Arial"/>
              </a:rPr>
              <a:t>Differential cascode voltage switch logic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4440" y="1295280"/>
            <a:ext cx="152280" cy="1828800"/>
          </a:xfrm>
          <a:custGeom>
            <a:avLst/>
            <a:gdLst/>
            <a:ahLst/>
            <a:rect l="l" t="t" r="r" b="b"/>
            <a:pathLst>
              <a:path w="96" h="1152">
                <a:moveTo>
                  <a:pt x="0" y="0"/>
                </a:moveTo>
                <a:lnTo>
                  <a:pt x="0" y="288"/>
                </a:lnTo>
                <a:lnTo>
                  <a:pt x="96" y="288"/>
                </a:lnTo>
                <a:lnTo>
                  <a:pt x="96" y="480"/>
                </a:lnTo>
                <a:lnTo>
                  <a:pt x="0" y="480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3040" y="1752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83040" y="1874880"/>
            <a:ext cx="76320" cy="763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049720" y="1295280"/>
            <a:ext cx="152640" cy="1828800"/>
          </a:xfrm>
          <a:custGeom>
            <a:avLst/>
            <a:gdLst/>
            <a:ahLst/>
            <a:rect l="l" t="t" r="r" b="b"/>
            <a:pathLst>
              <a:path w="96" h="1152">
                <a:moveTo>
                  <a:pt x="0" y="0"/>
                </a:moveTo>
                <a:lnTo>
                  <a:pt x="0" y="288"/>
                </a:lnTo>
                <a:lnTo>
                  <a:pt x="96" y="288"/>
                </a:lnTo>
                <a:lnTo>
                  <a:pt x="96" y="480"/>
                </a:lnTo>
                <a:lnTo>
                  <a:pt x="0" y="480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73760" y="1752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897440" y="1874880"/>
            <a:ext cx="76320" cy="763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92520" y="3124080"/>
            <a:ext cx="762120" cy="2514600"/>
          </a:xfrm>
          <a:custGeom>
            <a:avLst/>
            <a:gdLst/>
            <a:ahLst/>
            <a:rect l="l" t="t" r="r" b="b"/>
            <a:pathLst>
              <a:path w="480" h="1584">
                <a:moveTo>
                  <a:pt x="384" y="0"/>
                </a:moveTo>
                <a:lnTo>
                  <a:pt x="384" y="240"/>
                </a:lnTo>
                <a:lnTo>
                  <a:pt x="480" y="240"/>
                </a:lnTo>
                <a:lnTo>
                  <a:pt x="480" y="432"/>
                </a:lnTo>
                <a:lnTo>
                  <a:pt x="384" y="432"/>
                </a:lnTo>
                <a:lnTo>
                  <a:pt x="384" y="528"/>
                </a:lnTo>
                <a:lnTo>
                  <a:pt x="480" y="528"/>
                </a:lnTo>
                <a:lnTo>
                  <a:pt x="480" y="720"/>
                </a:lnTo>
                <a:lnTo>
                  <a:pt x="384" y="725"/>
                </a:lnTo>
                <a:lnTo>
                  <a:pt x="384" y="816"/>
                </a:lnTo>
                <a:lnTo>
                  <a:pt x="480" y="816"/>
                </a:lnTo>
                <a:lnTo>
                  <a:pt x="480" y="1008"/>
                </a:lnTo>
                <a:lnTo>
                  <a:pt x="384" y="1008"/>
                </a:lnTo>
                <a:lnTo>
                  <a:pt x="384" y="1200"/>
                </a:lnTo>
                <a:lnTo>
                  <a:pt x="0" y="1200"/>
                </a:lnTo>
                <a:lnTo>
                  <a:pt x="0" y="1296"/>
                </a:lnTo>
                <a:lnTo>
                  <a:pt x="96" y="1296"/>
                </a:lnTo>
                <a:lnTo>
                  <a:pt x="96" y="1488"/>
                </a:lnTo>
                <a:lnTo>
                  <a:pt x="0" y="1488"/>
                </a:lnTo>
                <a:lnTo>
                  <a:pt x="0" y="1584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0960" y="35053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30960" y="39625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30960" y="44197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30960" y="36576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30960" y="41148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30960" y="45720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21120" y="5181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21120" y="533412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35320" y="3505320"/>
            <a:ext cx="15264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5936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06720" y="4038480"/>
            <a:ext cx="15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73560" y="3505320"/>
            <a:ext cx="15228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9724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44960" y="4038480"/>
            <a:ext cx="152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11440" y="3505320"/>
            <a:ext cx="15228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3512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82840" y="4038480"/>
            <a:ext cx="152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63720" y="5029200"/>
            <a:ext cx="18288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63720" y="3505320"/>
            <a:ext cx="15242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54440" y="312408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54440" y="1295280"/>
            <a:ext cx="1447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68680" y="563868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202360" y="2246400"/>
            <a:ext cx="1143000" cy="380880"/>
            <a:chOff x="5202360" y="2246400"/>
            <a:chExt cx="1143000" cy="380880"/>
          </a:xfrm>
        </p:grpSpPr>
        <p:sp>
          <p:nvSpPr>
            <p:cNvPr id="591" name=""/>
            <p:cNvSpPr/>
            <p:nvPr/>
          </p:nvSpPr>
          <p:spPr>
            <a:xfrm>
              <a:off x="5202360" y="243828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582880" y="2246400"/>
              <a:ext cx="381600" cy="380880"/>
              <a:chOff x="5582880" y="2246400"/>
              <a:chExt cx="381600" cy="380880"/>
            </a:xfrm>
          </p:grpSpPr>
          <p:sp>
            <p:nvSpPr>
              <p:cNvPr id="593" name=""/>
              <p:cNvSpPr/>
              <p:nvPr/>
            </p:nvSpPr>
            <p:spPr>
              <a:xfrm rot="5400000">
                <a:off x="5544720" y="2284200"/>
                <a:ext cx="38088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88160" y="2398680"/>
                <a:ext cx="76320" cy="763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5964480" y="243828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611080" y="2262240"/>
            <a:ext cx="1143000" cy="380880"/>
            <a:chOff x="2611080" y="2262240"/>
            <a:chExt cx="1143000" cy="380880"/>
          </a:xfrm>
        </p:grpSpPr>
        <p:sp>
          <p:nvSpPr>
            <p:cNvPr id="597" name=""/>
            <p:cNvSpPr/>
            <p:nvPr/>
          </p:nvSpPr>
          <p:spPr>
            <a:xfrm flipH="1">
              <a:off x="3373200" y="2454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2991960" y="2262240"/>
              <a:ext cx="381600" cy="380880"/>
              <a:chOff x="2991960" y="2262240"/>
              <a:chExt cx="381600" cy="380880"/>
            </a:xfrm>
          </p:grpSpPr>
          <p:sp>
            <p:nvSpPr>
              <p:cNvPr id="599" name=""/>
              <p:cNvSpPr/>
              <p:nvPr/>
            </p:nvSpPr>
            <p:spPr>
              <a:xfrm flipH="1" rot="16200000">
                <a:off x="3030120" y="2300040"/>
                <a:ext cx="38088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991960" y="2414520"/>
                <a:ext cx="76320" cy="763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 flipH="1">
              <a:off x="2611080" y="2454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006960" y="2846520"/>
            <a:ext cx="335160" cy="365040"/>
          </a:xfrm>
          <a:prstGeom prst="flowChartDelay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57960" y="2986200"/>
            <a:ext cx="74520" cy="745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54440" y="2925720"/>
            <a:ext cx="22478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194440" y="3132000"/>
            <a:ext cx="8078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27800" y="3025800"/>
            <a:ext cx="2221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75720" y="1397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09040" y="513720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89360" y="34592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16000" y="393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20680" y="4381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93800" y="3833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30240" y="38336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45800" y="3825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69760" y="22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Z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31640" y="22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Z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75400" y="2819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73400" y="1927080"/>
            <a:ext cx="8384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543384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3-input AND/NAND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27280" y="3295800"/>
            <a:ext cx="6588000" cy="1914480"/>
          </a:xfrm>
          <a:prstGeom prst="rect">
            <a:avLst/>
          </a:prstGeom>
          <a:noFill/>
          <a:ln w="2844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02320" y="378792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N-type transistor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484520" y="1552680"/>
            <a:ext cx="14400" cy="3636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164040" y="1509480"/>
            <a:ext cx="1334880" cy="2844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BBCB-D915-4CBD-9DE0-A4D547A92D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dual-rail desig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dual-rail ripple-carry adder (A. Martin, 199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ritical delay is proportional to logN (N=number of bi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32-bit adder delay (1.6m MOSIS CMOS): 11ns versus 40 ns for synchron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 cell transistor count = 34 versus synchronous = 2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More recent success stories (modularity and automatic synthesis) of dual-rail logic  from Null-Convension Logic from Theseus Log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62A6-32FF-4789-8533-46F6B8A1DFE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Bundled-data logic block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05320" y="1295280"/>
            <a:ext cx="2286000" cy="3160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ingle-rail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15238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48120" y="19810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24382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28954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48120" y="33526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4194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1905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91320" y="25146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91320" y="31240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91320" y="4191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54320" y="354024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3120" y="335268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905480" y="4635360"/>
            <a:ext cx="5603400" cy="535680"/>
            <a:chOff x="1905480" y="4635360"/>
            <a:chExt cx="5603400" cy="535680"/>
          </a:xfrm>
        </p:grpSpPr>
        <p:sp>
          <p:nvSpPr>
            <p:cNvPr id="641" name=""/>
            <p:cNvSpPr/>
            <p:nvPr/>
          </p:nvSpPr>
          <p:spPr>
            <a:xfrm>
              <a:off x="3733920" y="4713120"/>
              <a:ext cx="1828800" cy="4572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0320" y="47113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66880" y="494172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62720" y="494172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05480" y="463536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star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51360" y="46353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on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061000" y="5722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ventional logic + matched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7504-C74D-4F5E-9D7A-4094A99311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Mutual exclusion el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25720" y="2513160"/>
            <a:ext cx="533520" cy="609480"/>
          </a:xfrm>
          <a:prstGeom prst="flowChartDelay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9240" y="2741760"/>
            <a:ext cx="152280" cy="152280"/>
          </a:xfrm>
          <a:prstGeom prst="ellipse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925720" y="3808440"/>
            <a:ext cx="685800" cy="609480"/>
            <a:chOff x="2925720" y="3808440"/>
            <a:chExt cx="685800" cy="609480"/>
          </a:xfrm>
        </p:grpSpPr>
        <p:sp>
          <p:nvSpPr>
            <p:cNvPr id="652" name=""/>
            <p:cNvSpPr/>
            <p:nvPr/>
          </p:nvSpPr>
          <p:spPr>
            <a:xfrm>
              <a:off x="2925720" y="3808440"/>
              <a:ext cx="533160" cy="609480"/>
            </a:xfrm>
            <a:prstGeom prst="flowChartDelay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58880" y="4036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611520" y="281772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373640" y="2817360"/>
            <a:ext cx="1904400" cy="152640"/>
            <a:chOff x="4373640" y="2817360"/>
            <a:chExt cx="1904400" cy="152640"/>
          </a:xfrm>
        </p:grpSpPr>
        <p:sp>
          <p:nvSpPr>
            <p:cNvPr id="656" name=""/>
            <p:cNvSpPr/>
            <p:nvPr/>
          </p:nvSpPr>
          <p:spPr>
            <a:xfrm>
              <a:off x="437364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3640" y="297000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754520" y="281736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54520" y="2817720"/>
              <a:ext cx="7614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628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16280" y="297000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9752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97520" y="2817720"/>
              <a:ext cx="380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611520" y="411336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63800" y="2817720"/>
            <a:ext cx="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696760" y="3960720"/>
            <a:ext cx="2286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697120" y="36561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697120" y="3274560"/>
            <a:ext cx="106668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97120" y="3274920"/>
            <a:ext cx="106668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63800" y="3656160"/>
            <a:ext cx="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697120" y="29703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696760" y="2970360"/>
            <a:ext cx="2286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63600" y="274176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39920" y="4265640"/>
            <a:ext cx="6858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373640" y="3961080"/>
            <a:ext cx="1904400" cy="152640"/>
            <a:chOff x="4373640" y="3961080"/>
            <a:chExt cx="1904400" cy="152640"/>
          </a:xfrm>
        </p:grpSpPr>
        <p:sp>
          <p:nvSpPr>
            <p:cNvPr id="676" name=""/>
            <p:cNvSpPr/>
            <p:nvPr/>
          </p:nvSpPr>
          <p:spPr>
            <a:xfrm flipV="1">
              <a:off x="437364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3640" y="396108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54520" y="396144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54520" y="4113360"/>
              <a:ext cx="7614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51628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16280" y="396108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589752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97520" y="4113360"/>
              <a:ext cx="380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278400" y="2817720"/>
            <a:ext cx="0" cy="1295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78400" y="3427560"/>
            <a:ext cx="3049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83320" y="342756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1040" y="3656160"/>
            <a:ext cx="380880" cy="7596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25920" y="2970360"/>
            <a:ext cx="152280" cy="1522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25920" y="3808440"/>
            <a:ext cx="152280" cy="1522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2240" y="3122640"/>
            <a:ext cx="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02240" y="3274920"/>
            <a:ext cx="10666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668920" y="29703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668920" y="36561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02240" y="3656160"/>
            <a:ext cx="10666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02240" y="3656160"/>
            <a:ext cx="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763800" y="3274560"/>
            <a:ext cx="83844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63800" y="3274920"/>
            <a:ext cx="83844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135400" y="258876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35400" y="2589120"/>
            <a:ext cx="19828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35400" y="4341960"/>
            <a:ext cx="1944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35400" y="411300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36760" y="2379600"/>
            <a:ext cx="76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09760" y="3971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07120" y="2360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67520" y="411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17680" y="2206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65040" y="380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12960" y="2282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12960" y="4035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51640" y="2130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541920" y="4319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3360" y="10954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Basic arbitration element: Mu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69880" y="5057640"/>
            <a:ext cx="59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n asynchronous data latch with MS resolver can be built similar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08320" y="1666800"/>
            <a:ext cx="2316240" cy="309096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17840" y="170172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tastability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97DF-571B-4A98-859E-2356BDD60E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Micropipelines </a:t>
            </a:r>
            <a:r>
              <a:rPr b="0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(Sutherland 89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82800" y="2247840"/>
            <a:ext cx="1366200" cy="612000"/>
            <a:chOff x="982800" y="2247840"/>
            <a:chExt cx="1366200" cy="612000"/>
          </a:xfrm>
        </p:grpSpPr>
        <p:sp>
          <p:nvSpPr>
            <p:cNvPr id="718" name=""/>
            <p:cNvSpPr/>
            <p:nvPr/>
          </p:nvSpPr>
          <p:spPr>
            <a:xfrm>
              <a:off x="1434960" y="2350800"/>
              <a:ext cx="485280" cy="485280"/>
            </a:xfrm>
            <a:prstGeom prst="ellipse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8960" y="239688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17360" y="2247840"/>
              <a:ext cx="439200" cy="2300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982800" y="2698200"/>
              <a:ext cx="463320" cy="1616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31760" y="2593800"/>
              <a:ext cx="41724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366920" y="294012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Jo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906280" y="2131920"/>
            <a:ext cx="1806480" cy="991800"/>
            <a:chOff x="2906280" y="2131920"/>
            <a:chExt cx="1806480" cy="991800"/>
          </a:xfrm>
        </p:grpSpPr>
        <p:sp>
          <p:nvSpPr>
            <p:cNvPr id="725" name=""/>
            <p:cNvSpPr/>
            <p:nvPr/>
          </p:nvSpPr>
          <p:spPr>
            <a:xfrm flipH="1">
              <a:off x="3564360" y="2173320"/>
              <a:ext cx="844200" cy="90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16360" y="2222640"/>
              <a:ext cx="903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35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35302"/>
                </a:path>
              </a:pathLst>
            </a:cu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906280" y="2131560"/>
              <a:ext cx="9046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35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35302"/>
                </a:path>
              </a:pathLst>
            </a:cu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103560" y="2373480"/>
              <a:ext cx="601560" cy="1080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16160" y="2917800"/>
              <a:ext cx="54396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98840" y="266076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230640" y="311796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rg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3880" y="5551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ogg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234040" y="1932120"/>
            <a:ext cx="1795320" cy="1648800"/>
            <a:chOff x="5234040" y="1932120"/>
            <a:chExt cx="1795320" cy="1648800"/>
          </a:xfrm>
        </p:grpSpPr>
        <p:sp>
          <p:nvSpPr>
            <p:cNvPr id="734" name=""/>
            <p:cNvSpPr/>
            <p:nvPr/>
          </p:nvSpPr>
          <p:spPr>
            <a:xfrm>
              <a:off x="5564160" y="1990800"/>
              <a:ext cx="1146240" cy="1527480"/>
            </a:xfrm>
            <a:prstGeom prst="rect">
              <a:avLst/>
            </a:prstGeom>
            <a:solidFill>
              <a:srgbClr val="ff9933"/>
            </a:solidFill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34040" y="216720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48080" y="3326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49880" y="24940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51320" y="30164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00680" y="22435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15080" y="32878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35440" y="193212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14920" y="27896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5800" y="193716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g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42040" y="30038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g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51560" y="2275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49760" y="3121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7013520" y="2144880"/>
            <a:ext cx="21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uest-Grant-Done (RGD)Arbi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62880" y="4905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13320" y="4079880"/>
            <a:ext cx="1804680" cy="1606680"/>
            <a:chOff x="5413320" y="4079880"/>
            <a:chExt cx="1804680" cy="1606680"/>
          </a:xfrm>
        </p:grpSpPr>
        <p:sp>
          <p:nvSpPr>
            <p:cNvPr id="750" name=""/>
            <p:cNvSpPr/>
            <p:nvPr/>
          </p:nvSpPr>
          <p:spPr>
            <a:xfrm>
              <a:off x="5752800" y="4170600"/>
              <a:ext cx="1146240" cy="1515960"/>
            </a:xfrm>
            <a:prstGeom prst="rect">
              <a:avLst/>
            </a:prstGeom>
            <a:solidFill>
              <a:srgbClr val="ff9933"/>
            </a:solidFill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2680" y="43912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5280" y="46706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13320" y="51469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27360" y="5450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03720" y="47498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94360" y="5099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76560" y="4079880"/>
              <a:ext cx="6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67200" y="49262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4453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24280" y="4802400"/>
              <a:ext cx="6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4600" y="44402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67200" y="5218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92088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el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43040" y="3807000"/>
            <a:ext cx="1581120" cy="1644480"/>
            <a:chOff x="743040" y="3807000"/>
            <a:chExt cx="1581120" cy="1644480"/>
          </a:xfrm>
        </p:grpSpPr>
        <p:sp>
          <p:nvSpPr>
            <p:cNvPr id="765" name=""/>
            <p:cNvSpPr/>
            <p:nvPr/>
          </p:nvSpPr>
          <p:spPr>
            <a:xfrm>
              <a:off x="1420560" y="4051440"/>
              <a:ext cx="174600" cy="207720"/>
            </a:xfrm>
            <a:prstGeom prst="flowChartDecision">
              <a:avLst/>
            </a:prstGeom>
            <a:solidFill>
              <a:srgbClr val="ff9933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743040" y="4154400"/>
              <a:ext cx="1581120" cy="1297080"/>
              <a:chOff x="743040" y="4154400"/>
              <a:chExt cx="1581120" cy="1297080"/>
            </a:xfrm>
          </p:grpSpPr>
          <p:sp>
            <p:nvSpPr>
              <p:cNvPr id="767" name=""/>
              <p:cNvSpPr/>
              <p:nvPr/>
            </p:nvSpPr>
            <p:spPr>
              <a:xfrm>
                <a:off x="1062000" y="4259160"/>
                <a:ext cx="949320" cy="119232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43040" y="4935240"/>
                <a:ext cx="31428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033560" y="4682880"/>
                <a:ext cx="61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i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996920" y="4635360"/>
                <a:ext cx="31464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9880" y="5273640"/>
                <a:ext cx="31428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70160" y="444168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utf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71600" y="495288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ut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258920" y="415440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el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1514520" y="3807000"/>
              <a:ext cx="0" cy="2426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063960" y="4181400"/>
            <a:ext cx="1590120" cy="1623960"/>
            <a:chOff x="3063960" y="4181400"/>
            <a:chExt cx="1590120" cy="1623960"/>
          </a:xfrm>
        </p:grpSpPr>
        <p:sp>
          <p:nvSpPr>
            <p:cNvPr id="777" name=""/>
            <p:cNvSpPr/>
            <p:nvPr/>
          </p:nvSpPr>
          <p:spPr>
            <a:xfrm>
              <a:off x="3382560" y="4286160"/>
              <a:ext cx="948960" cy="119232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63960" y="496260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54120" y="471024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39800" y="45943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30440" y="530064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55800" y="4398840"/>
              <a:ext cx="74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out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92160" y="4979880"/>
              <a:ext cx="74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out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79480" y="418140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47640" y="5475240"/>
            <a:ext cx="16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74880" y="121428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icropipeline (2-phase) control bloc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5D06-9945-46A4-99BA-875E409064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1233360"/>
            <a:ext cx="9144000" cy="4376880"/>
            <a:chOff x="0" y="1233360"/>
            <a:chExt cx="9144000" cy="4376880"/>
          </a:xfrm>
        </p:grpSpPr>
        <p:sp>
          <p:nvSpPr>
            <p:cNvPr id="788" name=""/>
            <p:cNvSpPr/>
            <p:nvPr/>
          </p:nvSpPr>
          <p:spPr>
            <a:xfrm>
              <a:off x="5272200" y="4629240"/>
              <a:ext cx="3871800" cy="9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400" y="1233360"/>
              <a:ext cx="339408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39200" y="1233360"/>
              <a:ext cx="150480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4616280"/>
              <a:ext cx="416556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1233360"/>
              <a:ext cx="192096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Micropipelines (Sutherland 89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24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238284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91120" y="239544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77120" y="240840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444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2432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70384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8372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58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44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30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00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95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86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295280" y="437688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581280" y="201456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867280" y="437688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8153280" y="201456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9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58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200" y="502776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-44280" y="122076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31720" y="4710240"/>
            <a:ext cx="1520640" cy="590400"/>
            <a:chOff x="531720" y="4710240"/>
            <a:chExt cx="1520640" cy="590400"/>
          </a:xfrm>
        </p:grpSpPr>
        <p:sp>
          <p:nvSpPr>
            <p:cNvPr id="823" name=""/>
            <p:cNvSpPr/>
            <p:nvPr/>
          </p:nvSpPr>
          <p:spPr>
            <a:xfrm>
              <a:off x="1099800" y="4754520"/>
              <a:ext cx="38124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01960" y="471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1720" y="50929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17320" y="508968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03280" y="5067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116680" y="4711680"/>
            <a:ext cx="1520640" cy="590400"/>
            <a:chOff x="5116680" y="4711680"/>
            <a:chExt cx="1520640" cy="590400"/>
          </a:xfrm>
        </p:grpSpPr>
        <p:sp>
          <p:nvSpPr>
            <p:cNvPr id="829" name=""/>
            <p:cNvSpPr/>
            <p:nvPr/>
          </p:nvSpPr>
          <p:spPr>
            <a:xfrm>
              <a:off x="5684760" y="4755960"/>
              <a:ext cx="38124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86920" y="471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16680" y="509436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6002280" y="50911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88240" y="5068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819520" y="1468080"/>
            <a:ext cx="1520280" cy="590040"/>
            <a:chOff x="2819520" y="1468080"/>
            <a:chExt cx="1520280" cy="590040"/>
          </a:xfrm>
        </p:grpSpPr>
        <p:sp>
          <p:nvSpPr>
            <p:cNvPr id="835" name=""/>
            <p:cNvSpPr/>
            <p:nvPr/>
          </p:nvSpPr>
          <p:spPr>
            <a:xfrm flipV="1">
              <a:off x="3387960" y="1632600"/>
              <a:ext cx="38088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90120" y="159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819520" y="14677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3704760" y="1471320"/>
              <a:ext cx="634680" cy="20808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691080" y="159624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7962840" y="1633680"/>
            <a:ext cx="381240" cy="38088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65000" y="159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394400" y="1468440"/>
            <a:ext cx="635040" cy="208080"/>
          </a:xfrm>
          <a:custGeom>
            <a:avLst/>
            <a:gdLst/>
            <a:ahLst/>
            <a:rect l="l" t="t" r="r" b="b"/>
            <a:pathLst>
              <a:path w="400" h="131">
                <a:moveTo>
                  <a:pt x="0" y="131"/>
                </a:moveTo>
                <a:cubicBezTo>
                  <a:pt x="90" y="131"/>
                  <a:pt x="179" y="131"/>
                  <a:pt x="269" y="131"/>
                </a:cubicBezTo>
                <a:lnTo>
                  <a:pt x="40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282160" y="1473120"/>
            <a:ext cx="388800" cy="208080"/>
          </a:xfrm>
          <a:custGeom>
            <a:avLst/>
            <a:gdLst/>
            <a:ahLst/>
            <a:rect l="l" t="t" r="r" b="b"/>
            <a:pathLst>
              <a:path w="245" h="131">
                <a:moveTo>
                  <a:pt x="245" y="1"/>
                </a:moveTo>
                <a:cubicBezTo>
                  <a:pt x="175" y="1"/>
                  <a:pt x="173" y="0"/>
                  <a:pt x="103" y="0"/>
                </a:cubicBezTo>
                <a:lnTo>
                  <a:pt x="0" y="131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265960" y="1596240"/>
            <a:ext cx="104760" cy="104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531720" y="1467000"/>
            <a:ext cx="23083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16160" y="146484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284720" y="1471680"/>
            <a:ext cx="3138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877000" y="147456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978200" y="5297400"/>
            <a:ext cx="3138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625920" y="437652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594120" y="5302080"/>
            <a:ext cx="19270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197920" y="437472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41000" y="505764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624880" y="123192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071800" y="1258920"/>
            <a:ext cx="840240" cy="398880"/>
            <a:chOff x="2071800" y="1258920"/>
            <a:chExt cx="840240" cy="398880"/>
          </a:xfrm>
        </p:grpSpPr>
        <p:sp>
          <p:nvSpPr>
            <p:cNvPr id="856" name=""/>
            <p:cNvSpPr/>
            <p:nvPr/>
          </p:nvSpPr>
          <p:spPr>
            <a:xfrm>
              <a:off x="2071800" y="1349280"/>
              <a:ext cx="731880" cy="25344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80440" y="12589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4387680" y="5087880"/>
            <a:ext cx="840240" cy="398880"/>
            <a:chOff x="4387680" y="5087880"/>
            <a:chExt cx="840240" cy="398880"/>
          </a:xfrm>
        </p:grpSpPr>
        <p:sp>
          <p:nvSpPr>
            <p:cNvPr id="859" name=""/>
            <p:cNvSpPr/>
            <p:nvPr/>
          </p:nvSpPr>
          <p:spPr>
            <a:xfrm>
              <a:off x="4387680" y="5178600"/>
              <a:ext cx="731880" cy="25380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96320" y="50878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667560" y="1268280"/>
            <a:ext cx="840240" cy="398880"/>
            <a:chOff x="6667560" y="1268280"/>
            <a:chExt cx="840240" cy="398880"/>
          </a:xfrm>
        </p:grpSpPr>
        <p:sp>
          <p:nvSpPr>
            <p:cNvPr id="862" name=""/>
            <p:cNvSpPr/>
            <p:nvPr/>
          </p:nvSpPr>
          <p:spPr>
            <a:xfrm>
              <a:off x="6667560" y="1359000"/>
              <a:ext cx="731880" cy="25380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76200" y="12682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521F-37EE-4BD4-8B65-DB40B3D7ED0C}" type="slidenum">
              <a:t>27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ata-path / Contr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00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86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58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38160" y="1887480"/>
            <a:ext cx="107964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24160" y="1900080"/>
            <a:ext cx="107964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10160" y="1913040"/>
            <a:ext cx="107964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7784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5772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724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91676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91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77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63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33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28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19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14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105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00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2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91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5200" y="432288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602920" y="432288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131840" y="3881520"/>
            <a:ext cx="276120" cy="457200"/>
            <a:chOff x="1131840" y="3881520"/>
            <a:chExt cx="276120" cy="457200"/>
          </a:xfrm>
        </p:grpSpPr>
        <p:sp>
          <p:nvSpPr>
            <p:cNvPr id="890" name=""/>
            <p:cNvSpPr/>
            <p:nvPr/>
          </p:nvSpPr>
          <p:spPr>
            <a:xfrm flipV="1">
              <a:off x="1131840" y="388152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1407960" y="388152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246400" y="3813120"/>
            <a:ext cx="1440" cy="53028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523960" y="38862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438360" y="3890880"/>
            <a:ext cx="276480" cy="457200"/>
            <a:chOff x="3438360" y="3890880"/>
            <a:chExt cx="276480" cy="457200"/>
          </a:xfrm>
        </p:grpSpPr>
        <p:sp>
          <p:nvSpPr>
            <p:cNvPr id="895" name=""/>
            <p:cNvSpPr/>
            <p:nvPr/>
          </p:nvSpPr>
          <p:spPr>
            <a:xfrm flipV="1">
              <a:off x="3438360" y="389088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3714840" y="389088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 flipV="1">
            <a:off x="4781520" y="389556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724360" y="3900600"/>
            <a:ext cx="276480" cy="457200"/>
            <a:chOff x="5724360" y="3900600"/>
            <a:chExt cx="276480" cy="457200"/>
          </a:xfrm>
        </p:grpSpPr>
        <p:sp>
          <p:nvSpPr>
            <p:cNvPr id="899" name=""/>
            <p:cNvSpPr/>
            <p:nvPr/>
          </p:nvSpPr>
          <p:spPr>
            <a:xfrm flipV="1">
              <a:off x="5724360" y="390060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6000840" y="390060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 flipV="1">
            <a:off x="7143840" y="39052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8010360" y="3909960"/>
            <a:ext cx="276480" cy="457200"/>
            <a:chOff x="8010360" y="3909960"/>
            <a:chExt cx="276480" cy="457200"/>
          </a:xfrm>
        </p:grpSpPr>
        <p:sp>
          <p:nvSpPr>
            <p:cNvPr id="903" name=""/>
            <p:cNvSpPr/>
            <p:nvPr/>
          </p:nvSpPr>
          <p:spPr>
            <a:xfrm flipV="1">
              <a:off x="8010360" y="390996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286840" y="390996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535640" y="3825720"/>
            <a:ext cx="1440" cy="53028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13720" y="3841920"/>
            <a:ext cx="1440" cy="52992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47880" y="4340160"/>
            <a:ext cx="7434000" cy="91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07200" y="45766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616600" y="466416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21960" y="471816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22360" y="4667400"/>
            <a:ext cx="457200" cy="276120"/>
            <a:chOff x="522360" y="4667400"/>
            <a:chExt cx="457200" cy="276120"/>
          </a:xfrm>
        </p:grpSpPr>
        <p:sp>
          <p:nvSpPr>
            <p:cNvPr id="912" name=""/>
            <p:cNvSpPr/>
            <p:nvPr/>
          </p:nvSpPr>
          <p:spPr>
            <a:xfrm>
              <a:off x="522360" y="46674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2360" y="49435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8388360" y="4635360"/>
            <a:ext cx="271440" cy="276480"/>
            <a:chOff x="8388360" y="4635360"/>
            <a:chExt cx="271440" cy="276480"/>
          </a:xfrm>
        </p:grpSpPr>
        <p:sp>
          <p:nvSpPr>
            <p:cNvPr id="915" name=""/>
            <p:cNvSpPr/>
            <p:nvPr/>
          </p:nvSpPr>
          <p:spPr>
            <a:xfrm>
              <a:off x="8388360" y="4635360"/>
              <a:ext cx="271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88360" y="4911840"/>
              <a:ext cx="271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77F0-A94B-45F4-A9C5-61ADEAFA506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287800" y="2906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11920" y="49640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51200" y="2494080"/>
            <a:ext cx="4098960" cy="531720"/>
          </a:xfrm>
          <a:custGeom>
            <a:avLst/>
            <a:gdLst/>
            <a:ahLst/>
            <a:rect l="l" t="t" r="r" b="b"/>
            <a:pathLst>
              <a:path w="2582" h="335">
                <a:moveTo>
                  <a:pt x="0" y="335"/>
                </a:moveTo>
                <a:lnTo>
                  <a:pt x="378" y="335"/>
                </a:lnTo>
                <a:lnTo>
                  <a:pt x="553" y="0"/>
                </a:lnTo>
                <a:lnTo>
                  <a:pt x="1520" y="0"/>
                </a:lnTo>
                <a:lnTo>
                  <a:pt x="1673" y="335"/>
                </a:lnTo>
                <a:lnTo>
                  <a:pt x="2582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27440" y="3763800"/>
            <a:ext cx="4491000" cy="543240"/>
          </a:xfrm>
          <a:custGeom>
            <a:avLst/>
            <a:gdLst/>
            <a:ahLst/>
            <a:rect l="l" t="t" r="r" b="b"/>
            <a:pathLst>
              <a:path w="2829" h="342">
                <a:moveTo>
                  <a:pt x="0" y="342"/>
                </a:moveTo>
                <a:lnTo>
                  <a:pt x="888" y="342"/>
                </a:lnTo>
                <a:lnTo>
                  <a:pt x="1019" y="0"/>
                </a:lnTo>
                <a:lnTo>
                  <a:pt x="2175" y="0"/>
                </a:lnTo>
                <a:lnTo>
                  <a:pt x="2349" y="342"/>
                </a:lnTo>
                <a:lnTo>
                  <a:pt x="2829" y="342"/>
                </a:ln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1640" y="2711520"/>
            <a:ext cx="752400" cy="1332000"/>
          </a:xfrm>
          <a:custGeom>
            <a:avLst/>
            <a:gdLst/>
            <a:ahLst/>
            <a:rect l="l" t="t" r="r" b="b"/>
            <a:pathLst>
              <a:path w="474" h="839">
                <a:moveTo>
                  <a:pt x="0" y="30"/>
                </a:moveTo>
                <a:cubicBezTo>
                  <a:pt x="74" y="15"/>
                  <a:pt x="149" y="0"/>
                  <a:pt x="170" y="103"/>
                </a:cubicBezTo>
                <a:cubicBezTo>
                  <a:pt x="191" y="206"/>
                  <a:pt x="74" y="527"/>
                  <a:pt x="125" y="650"/>
                </a:cubicBezTo>
                <a:cubicBezTo>
                  <a:pt x="176" y="773"/>
                  <a:pt x="325" y="806"/>
                  <a:pt x="474" y="839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34040" y="2747880"/>
            <a:ext cx="1025640" cy="1322640"/>
          </a:xfrm>
          <a:custGeom>
            <a:avLst/>
            <a:gdLst/>
            <a:ahLst/>
            <a:rect l="l" t="t" r="r" b="b"/>
            <a:pathLst>
              <a:path w="646" h="833">
                <a:moveTo>
                  <a:pt x="0" y="816"/>
                </a:moveTo>
                <a:cubicBezTo>
                  <a:pt x="74" y="824"/>
                  <a:pt x="149" y="833"/>
                  <a:pt x="208" y="784"/>
                </a:cubicBezTo>
                <a:cubicBezTo>
                  <a:pt x="267" y="735"/>
                  <a:pt x="332" y="631"/>
                  <a:pt x="355" y="522"/>
                </a:cubicBezTo>
                <a:cubicBezTo>
                  <a:pt x="378" y="413"/>
                  <a:pt x="301" y="215"/>
                  <a:pt x="349" y="128"/>
                </a:cubicBezTo>
                <a:cubicBezTo>
                  <a:pt x="397" y="41"/>
                  <a:pt x="521" y="20"/>
                  <a:pt x="646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0480" y="2746440"/>
            <a:ext cx="1041480" cy="1350720"/>
          </a:xfrm>
          <a:custGeom>
            <a:avLst/>
            <a:gdLst/>
            <a:ahLst/>
            <a:rect l="l" t="t" r="r" b="b"/>
            <a:pathLst>
              <a:path w="656" h="851">
                <a:moveTo>
                  <a:pt x="0" y="1"/>
                </a:moveTo>
                <a:cubicBezTo>
                  <a:pt x="71" y="0"/>
                  <a:pt x="142" y="0"/>
                  <a:pt x="201" y="46"/>
                </a:cubicBezTo>
                <a:cubicBezTo>
                  <a:pt x="260" y="92"/>
                  <a:pt x="325" y="161"/>
                  <a:pt x="352" y="280"/>
                </a:cubicBezTo>
                <a:cubicBezTo>
                  <a:pt x="379" y="399"/>
                  <a:pt x="313" y="669"/>
                  <a:pt x="364" y="760"/>
                </a:cubicBezTo>
                <a:cubicBezTo>
                  <a:pt x="415" y="851"/>
                  <a:pt x="535" y="837"/>
                  <a:pt x="656" y="824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850160" y="2494080"/>
            <a:ext cx="496800" cy="533160"/>
          </a:xfrm>
          <a:custGeom>
            <a:avLst/>
            <a:gdLst/>
            <a:ahLst/>
            <a:rect l="l" t="t" r="r" b="b"/>
            <a:pathLst>
              <a:path w="313" h="336">
                <a:moveTo>
                  <a:pt x="0" y="336"/>
                </a:moveTo>
                <a:lnTo>
                  <a:pt x="121" y="0"/>
                </a:lnTo>
                <a:lnTo>
                  <a:pt x="3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26360" y="2687760"/>
            <a:ext cx="635040" cy="1366560"/>
          </a:xfrm>
          <a:custGeom>
            <a:avLst/>
            <a:gdLst/>
            <a:ahLst/>
            <a:rect l="l" t="t" r="r" b="b"/>
            <a:pathLst>
              <a:path w="400" h="861">
                <a:moveTo>
                  <a:pt x="0" y="861"/>
                </a:moveTo>
                <a:cubicBezTo>
                  <a:pt x="35" y="860"/>
                  <a:pt x="70" y="859"/>
                  <a:pt x="96" y="832"/>
                </a:cubicBezTo>
                <a:cubicBezTo>
                  <a:pt x="122" y="805"/>
                  <a:pt x="137" y="783"/>
                  <a:pt x="154" y="701"/>
                </a:cubicBezTo>
                <a:cubicBezTo>
                  <a:pt x="171" y="619"/>
                  <a:pt x="191" y="450"/>
                  <a:pt x="199" y="342"/>
                </a:cubicBezTo>
                <a:cubicBezTo>
                  <a:pt x="207" y="234"/>
                  <a:pt x="171" y="108"/>
                  <a:pt x="205" y="54"/>
                </a:cubicBezTo>
                <a:cubicBezTo>
                  <a:pt x="239" y="0"/>
                  <a:pt x="319" y="9"/>
                  <a:pt x="400" y="19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04040" y="2557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0280" y="38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555520" y="483084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 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 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15E4-62AE-494E-9BEB-D1FFA384F5C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Logic Design of</a:t>
            </a:r>
            <a:br>
              <a:rPr sz="4400"/>
            </a:b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Par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Basic concepts on asynchronous circuit de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CA981-C734-4631-9F0B-D4BD0C886F3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87800" y="2906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11920" y="4962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068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02280" y="355608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91520" y="353844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64600" y="33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5008680" y="3189240"/>
            <a:ext cx="2458800" cy="685800"/>
            <a:chOff x="5008680" y="3189240"/>
            <a:chExt cx="2458800" cy="685800"/>
          </a:xfrm>
        </p:grpSpPr>
        <p:sp>
          <p:nvSpPr>
            <p:cNvPr id="953" name=""/>
            <p:cNvSpPr/>
            <p:nvPr/>
          </p:nvSpPr>
          <p:spPr>
            <a:xfrm rot="5400000">
              <a:off x="5905080" y="32274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08680" y="3556080"/>
              <a:ext cx="93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53080" y="353844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7245-66D2-4F5C-AC83-68FCF7E56701}" type="slidenum">
              <a:t>3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88160" y="290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311920" y="496260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068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02280" y="355608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391520" y="353844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64600" y="33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008680" y="3189240"/>
            <a:ext cx="2458800" cy="685800"/>
            <a:chOff x="5008680" y="3189240"/>
            <a:chExt cx="2458800" cy="685800"/>
          </a:xfrm>
        </p:grpSpPr>
        <p:sp>
          <p:nvSpPr>
            <p:cNvPr id="972" name=""/>
            <p:cNvSpPr/>
            <p:nvPr/>
          </p:nvSpPr>
          <p:spPr>
            <a:xfrm rot="5400000">
              <a:off x="5905080" y="32274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08680" y="3556080"/>
              <a:ext cx="93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353844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541920" y="3463920"/>
              <a:ext cx="138240" cy="150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47C5-B287-492F-93BF-BBD349FA4365}" type="slidenum">
              <a:t>3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7660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59360" y="4950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7840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37040" y="28717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017800" y="2274840"/>
            <a:ext cx="288720" cy="6793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36880" y="3270240"/>
            <a:ext cx="242640" cy="692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5360" y="2068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3160" y="3497400"/>
            <a:ext cx="18432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290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91240" y="296712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710480" y="3538440"/>
            <a:ext cx="48564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51760" y="269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60840" y="1878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53200" y="3909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549520" y="230976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67160" y="3278160"/>
            <a:ext cx="242640" cy="692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030400" y="4321080"/>
            <a:ext cx="289080" cy="679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2517840" y="435600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858400" y="2041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789360" y="3487680"/>
            <a:ext cx="184320" cy="196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88000" y="409716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48880" y="385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5324400" y="2967120"/>
            <a:ext cx="2381040" cy="1138320"/>
            <a:chOff x="5324400" y="2967120"/>
            <a:chExt cx="2381040" cy="1138320"/>
          </a:xfrm>
        </p:grpSpPr>
        <p:sp>
          <p:nvSpPr>
            <p:cNvPr id="1001" name=""/>
            <p:cNvSpPr/>
            <p:nvPr/>
          </p:nvSpPr>
          <p:spPr>
            <a:xfrm>
              <a:off x="6240600" y="3171960"/>
              <a:ext cx="738000" cy="7380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975000" y="3540240"/>
              <a:ext cx="73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2040" y="330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24400" y="2967120"/>
              <a:ext cx="974880" cy="36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324400" y="3749760"/>
              <a:ext cx="979560" cy="355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F2F4-4B59-4AF7-854A-EE91CEAC54A8}" type="slidenum">
              <a:t>32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77660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59360" y="49514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56480" y="3529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37040" y="28717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17800" y="2274840"/>
            <a:ext cx="288720" cy="6793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25360" y="2068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73160" y="3497400"/>
            <a:ext cx="18432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90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91240" y="296712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710480" y="3538440"/>
            <a:ext cx="48564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51760" y="269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155440" y="3305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0840" y="1878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53240" y="4232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2549520" y="230976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858400" y="2041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789360" y="3487680"/>
            <a:ext cx="184320" cy="196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88000" y="409716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48880" y="385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448000" y="3290760"/>
            <a:ext cx="0" cy="335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44760" y="3943440"/>
            <a:ext cx="0" cy="3348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41520" y="4651200"/>
            <a:ext cx="0" cy="335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324400" y="2967120"/>
            <a:ext cx="2381040" cy="1138320"/>
            <a:chOff x="5324400" y="2967120"/>
            <a:chExt cx="2381040" cy="1138320"/>
          </a:xfrm>
        </p:grpSpPr>
        <p:sp>
          <p:nvSpPr>
            <p:cNvPr id="1030" name=""/>
            <p:cNvSpPr/>
            <p:nvPr/>
          </p:nvSpPr>
          <p:spPr>
            <a:xfrm>
              <a:off x="6240600" y="3171960"/>
              <a:ext cx="738000" cy="7380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6975000" y="3540240"/>
              <a:ext cx="73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22040" y="330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324400" y="2967120"/>
              <a:ext cx="974880" cy="36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324400" y="3749760"/>
              <a:ext cx="979560" cy="355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8771-8AC1-4107-8C97-FB8319CE6E7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474560" y="3692520"/>
            <a:ext cx="5952960" cy="2378520"/>
            <a:chOff x="1474560" y="3692520"/>
            <a:chExt cx="5952960" cy="2378520"/>
          </a:xfrm>
        </p:grpSpPr>
        <p:sp>
          <p:nvSpPr>
            <p:cNvPr id="1037" name=""/>
            <p:cNvSpPr/>
            <p:nvPr/>
          </p:nvSpPr>
          <p:spPr>
            <a:xfrm>
              <a:off x="3207960" y="3908520"/>
              <a:ext cx="297000" cy="328320"/>
            </a:xfrm>
            <a:custGeom>
              <a:avLst/>
              <a:gdLst/>
              <a:ahLst/>
              <a:rect l="l" t="t" r="r" b="b"/>
              <a:pathLst>
                <a:path w="187" h="207">
                  <a:moveTo>
                    <a:pt x="187" y="0"/>
                  </a:moveTo>
                  <a:lnTo>
                    <a:pt x="187" y="207"/>
                  </a:lnTo>
                  <a:lnTo>
                    <a:pt x="0" y="207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2590560" y="4137120"/>
              <a:ext cx="738000" cy="738000"/>
              <a:chOff x="2590560" y="4137120"/>
              <a:chExt cx="738000" cy="738000"/>
            </a:xfrm>
          </p:grpSpPr>
          <p:sp>
            <p:nvSpPr>
              <p:cNvPr id="1039" name=""/>
              <p:cNvSpPr/>
              <p:nvPr/>
            </p:nvSpPr>
            <p:spPr>
              <a:xfrm>
                <a:off x="2590560" y="4137120"/>
                <a:ext cx="738000" cy="73800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772000" y="4267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493960" y="3886200"/>
              <a:ext cx="738000" cy="738000"/>
              <a:chOff x="5493960" y="3886200"/>
              <a:chExt cx="738000" cy="738000"/>
            </a:xfrm>
          </p:grpSpPr>
          <p:sp>
            <p:nvSpPr>
              <p:cNvPr id="1042" name=""/>
              <p:cNvSpPr/>
              <p:nvPr/>
            </p:nvSpPr>
            <p:spPr>
              <a:xfrm>
                <a:off x="5493960" y="3886200"/>
                <a:ext cx="738000" cy="73800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675400" y="4016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6248160" y="4255920"/>
              <a:ext cx="7160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240080" y="5218200"/>
              <a:ext cx="717480" cy="554040"/>
              <a:chOff x="4240080" y="5218200"/>
              <a:chExt cx="717480" cy="554040"/>
            </a:xfrm>
          </p:grpSpPr>
          <p:sp>
            <p:nvSpPr>
              <p:cNvPr id="1046" name=""/>
              <p:cNvSpPr/>
              <p:nvPr/>
            </p:nvSpPr>
            <p:spPr>
              <a:xfrm>
                <a:off x="4240080" y="5218200"/>
                <a:ext cx="598320" cy="554040"/>
              </a:xfrm>
              <a:prstGeom prst="flowChartDelay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54240" y="5436000"/>
                <a:ext cx="103320" cy="12672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4165560" y="3781440"/>
              <a:ext cx="817560" cy="601560"/>
              <a:chOff x="4165560" y="3781440"/>
              <a:chExt cx="817560" cy="601560"/>
            </a:xfrm>
          </p:grpSpPr>
          <p:sp>
            <p:nvSpPr>
              <p:cNvPr id="1049" name=""/>
              <p:cNvSpPr/>
              <p:nvPr/>
            </p:nvSpPr>
            <p:spPr>
              <a:xfrm>
                <a:off x="4880160" y="4022640"/>
                <a:ext cx="102960" cy="12636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4205160" y="3781440"/>
                <a:ext cx="657360" cy="60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18" y="3164"/>
                      <a:pt x="17635" y="5080"/>
                      <a:pt x="17635" y="10800"/>
                    </a:cubicBezTo>
                    <a:cubicBezTo>
                      <a:pt x="17635" y="16520"/>
                      <a:pt x="19618" y="1843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65560" y="3841560"/>
                <a:ext cx="103320" cy="12672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5001840" y="4092480"/>
              <a:ext cx="543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904560" y="5904000"/>
              <a:ext cx="307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16080" y="4305240"/>
              <a:ext cx="336600" cy="1598760"/>
            </a:xfrm>
            <a:custGeom>
              <a:avLst/>
              <a:gdLst/>
              <a:ahLst/>
              <a:rect l="l" t="t" r="r" b="b"/>
              <a:pathLst>
                <a:path w="212" h="350">
                  <a:moveTo>
                    <a:pt x="0" y="350"/>
                  </a:moveTo>
                  <a:lnTo>
                    <a:pt x="0" y="0"/>
                  </a:lnTo>
                  <a:lnTo>
                    <a:pt x="2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68440" y="4251240"/>
              <a:ext cx="3270240" cy="480960"/>
            </a:xfrm>
            <a:custGeom>
              <a:avLst/>
              <a:gdLst/>
              <a:ahLst/>
              <a:rect l="l" t="t" r="r" b="b"/>
              <a:pathLst>
                <a:path w="2060" h="303">
                  <a:moveTo>
                    <a:pt x="2060" y="0"/>
                  </a:moveTo>
                  <a:lnTo>
                    <a:pt x="2060" y="303"/>
                  </a:lnTo>
                  <a:lnTo>
                    <a:pt x="0" y="30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1904760" y="3908520"/>
              <a:ext cx="2255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1904400" y="4503600"/>
              <a:ext cx="677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85640" y="4503600"/>
              <a:ext cx="1951200" cy="852480"/>
            </a:xfrm>
            <a:custGeom>
              <a:avLst/>
              <a:gdLst/>
              <a:ahLst/>
              <a:rect l="l" t="t" r="r" b="b"/>
              <a:pathLst>
                <a:path w="1229" h="744">
                  <a:moveTo>
                    <a:pt x="0" y="0"/>
                  </a:moveTo>
                  <a:lnTo>
                    <a:pt x="0" y="744"/>
                  </a:lnTo>
                  <a:lnTo>
                    <a:pt x="1229" y="744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080" y="5654520"/>
              <a:ext cx="312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60800" y="4479840"/>
              <a:ext cx="593640" cy="1022400"/>
            </a:xfrm>
            <a:custGeom>
              <a:avLst/>
              <a:gdLst/>
              <a:ahLst/>
              <a:rect l="l" t="t" r="r" b="b"/>
              <a:pathLst>
                <a:path w="374" h="644">
                  <a:moveTo>
                    <a:pt x="0" y="644"/>
                  </a:moveTo>
                  <a:lnTo>
                    <a:pt x="197" y="644"/>
                  </a:lnTo>
                  <a:lnTo>
                    <a:pt x="197" y="0"/>
                  </a:lnTo>
                  <a:lnTo>
                    <a:pt x="374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49400" y="4098960"/>
              <a:ext cx="571680" cy="1251000"/>
            </a:xfrm>
            <a:custGeom>
              <a:avLst/>
              <a:gdLst/>
              <a:ahLst/>
              <a:rect l="l" t="t" r="r" b="b"/>
              <a:pathLst>
                <a:path w="360" h="788">
                  <a:moveTo>
                    <a:pt x="0" y="788"/>
                  </a:moveTo>
                  <a:lnTo>
                    <a:pt x="0" y="0"/>
                  </a:lnTo>
                  <a:lnTo>
                    <a:pt x="36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52320" y="3692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06960" y="40496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910200" y="56721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74560" y="4302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581800" y="1393920"/>
            <a:ext cx="2458800" cy="2451600"/>
            <a:chOff x="5581800" y="1393920"/>
            <a:chExt cx="2458800" cy="2451600"/>
          </a:xfrm>
        </p:grpSpPr>
        <p:sp>
          <p:nvSpPr>
            <p:cNvPr id="1067" name=""/>
            <p:cNvSpPr/>
            <p:nvPr/>
          </p:nvSpPr>
          <p:spPr>
            <a:xfrm>
              <a:off x="5939280" y="1401840"/>
              <a:ext cx="58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75920" y="20736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07960" y="2764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87440" y="3446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5880" y="13939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96680" y="2081520"/>
              <a:ext cx="58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68600" y="2752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66800" y="34322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51680" y="17463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51680" y="24321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51680" y="31179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46600" y="1665360"/>
              <a:ext cx="343080" cy="1960560"/>
            </a:xfrm>
            <a:custGeom>
              <a:avLst/>
              <a:gdLst/>
              <a:ahLst/>
              <a:rect l="l" t="t" r="r" b="b"/>
              <a:pathLst>
                <a:path w="216" h="1235">
                  <a:moveTo>
                    <a:pt x="184" y="1235"/>
                  </a:moveTo>
                  <a:cubicBezTo>
                    <a:pt x="123" y="1152"/>
                    <a:pt x="62" y="1069"/>
                    <a:pt x="36" y="889"/>
                  </a:cubicBezTo>
                  <a:cubicBezTo>
                    <a:pt x="10" y="709"/>
                    <a:pt x="0" y="301"/>
                    <a:pt x="30" y="153"/>
                  </a:cubicBezTo>
                  <a:cubicBezTo>
                    <a:pt x="60" y="5"/>
                    <a:pt x="138" y="2"/>
                    <a:pt x="216" y="0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43640" y="17463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26360" y="242748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08720" y="310860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43800" y="1624320"/>
              <a:ext cx="439560" cy="2031840"/>
            </a:xfrm>
            <a:custGeom>
              <a:avLst/>
              <a:gdLst/>
              <a:ahLst/>
              <a:rect l="l" t="t" r="r" b="b"/>
              <a:pathLst>
                <a:path w="277" h="1280">
                  <a:moveTo>
                    <a:pt x="0" y="1280"/>
                  </a:moveTo>
                  <a:cubicBezTo>
                    <a:pt x="98" y="1244"/>
                    <a:pt x="197" y="1208"/>
                    <a:pt x="237" y="1024"/>
                  </a:cubicBezTo>
                  <a:cubicBezTo>
                    <a:pt x="277" y="840"/>
                    <a:pt x="270" y="350"/>
                    <a:pt x="243" y="179"/>
                  </a:cubicBezTo>
                  <a:cubicBezTo>
                    <a:pt x="216" y="8"/>
                    <a:pt x="146" y="4"/>
                    <a:pt x="77" y="0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81800" y="2487600"/>
              <a:ext cx="172800" cy="1731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67800" y="2471760"/>
              <a:ext cx="172800" cy="1731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645840" y="1755720"/>
            <a:ext cx="3765240" cy="1565280"/>
            <a:chOff x="645840" y="1755720"/>
            <a:chExt cx="3765240" cy="1565280"/>
          </a:xfrm>
        </p:grpSpPr>
        <p:sp>
          <p:nvSpPr>
            <p:cNvPr id="1086" name=""/>
            <p:cNvSpPr/>
            <p:nvPr/>
          </p:nvSpPr>
          <p:spPr>
            <a:xfrm>
              <a:off x="1887120" y="1755720"/>
              <a:ext cx="1251000" cy="15652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95120" y="21412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44600" y="214632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1095120" y="28270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138120" y="28270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7120" y="1917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0520" y="19414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45840" y="26128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68200" y="261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89080" y="2044440"/>
              <a:ext cx="87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FIF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ntr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6472080" y="1604880"/>
            <a:ext cx="640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431040" y="1747800"/>
            <a:ext cx="722160" cy="466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2367000"/>
            <a:ext cx="711360" cy="549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6359040" y="3057480"/>
            <a:ext cx="762120" cy="507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2E1C-7678-4ED4-B25D-B24831C69D39}" type="slidenum">
              <a:t>3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964440" y="2025720"/>
            <a:ext cx="3684240" cy="2288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0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lo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READ (IN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WRITE (OUT, (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)/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end lo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242040" y="2184480"/>
            <a:ext cx="1676520" cy="189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236000" y="1692360"/>
            <a:ext cx="406080" cy="488880"/>
          </a:xfrm>
          <a:prstGeom prst="downArrow">
            <a:avLst>
              <a:gd name="adj1" fmla="val 50000"/>
              <a:gd name="adj2" fmla="val 30098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36000" y="4091040"/>
            <a:ext cx="406080" cy="488880"/>
          </a:xfrm>
          <a:prstGeom prst="downArrow">
            <a:avLst>
              <a:gd name="adj1" fmla="val 50000"/>
              <a:gd name="adj2" fmla="val 30098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10480" y="168588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429240" y="168588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3320" y="408456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34280" y="408456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20040" y="1287360"/>
            <a:ext cx="49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93080" y="1287360"/>
            <a:ext cx="49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50600" y="4500720"/>
            <a:ext cx="59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626880" y="4508640"/>
            <a:ext cx="59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62560" y="1238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088040" y="45212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27240" y="286848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fil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A908-7C09-43A9-A81E-EC372D3F22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block dia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809640" y="1152360"/>
            <a:ext cx="7702200" cy="2801520"/>
            <a:chOff x="809640" y="1152360"/>
            <a:chExt cx="7702200" cy="2801520"/>
          </a:xfrm>
        </p:grpSpPr>
        <p:sp>
          <p:nvSpPr>
            <p:cNvPr id="1118" name=""/>
            <p:cNvSpPr/>
            <p:nvPr/>
          </p:nvSpPr>
          <p:spPr>
            <a:xfrm>
              <a:off x="6505560" y="2017800"/>
              <a:ext cx="1143000" cy="231480"/>
            </a:xfrm>
            <a:prstGeom prst="rightArrow">
              <a:avLst>
                <a:gd name="adj1" fmla="val 50000"/>
                <a:gd name="adj2" fmla="val 12344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244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242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67080" y="1787400"/>
              <a:ext cx="457200" cy="1270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67280" y="1787400"/>
              <a:ext cx="457200" cy="1270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67480" y="1152360"/>
              <a:ext cx="838080" cy="19051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45200" y="219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45400" y="219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897520" y="1881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24480" y="1382760"/>
              <a:ext cx="1143000" cy="231480"/>
            </a:xfrm>
            <a:prstGeom prst="rightArrow">
              <a:avLst>
                <a:gd name="adj1" fmla="val 50000"/>
                <a:gd name="adj2" fmla="val 12344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33760" y="1441440"/>
              <a:ext cx="990720" cy="115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409920" y="1442880"/>
              <a:ext cx="127080" cy="1030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240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58120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0980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417672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40532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593424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16284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59080" y="3378240"/>
              <a:ext cx="4267080" cy="41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77840" y="33274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ntro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2021040" y="3698640"/>
              <a:ext cx="334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21040" y="3470040"/>
              <a:ext cx="334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625800" y="3700440"/>
              <a:ext cx="335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26160" y="3471840"/>
              <a:ext cx="335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92640" y="320184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92640" y="348768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972840" y="32623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2840" y="35481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38120" y="30099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0620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09520" y="3000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00280" y="3000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6524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8588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640" y="2214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88160" y="19191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654120" y="4292640"/>
            <a:ext cx="848988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re level-sensitive latches (transparent when R=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+ is a bundled-data adder (matched delay between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indicates the validity of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fter 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+ the environment is allowed to change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(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,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) control a level-sensitive latch at the outp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46D2-7462-4D9C-8184-E566E1F0794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control spe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577440" y="1197000"/>
            <a:ext cx="7522920" cy="2386080"/>
            <a:chOff x="577440" y="1197000"/>
            <a:chExt cx="7522920" cy="2386080"/>
          </a:xfrm>
        </p:grpSpPr>
        <p:sp>
          <p:nvSpPr>
            <p:cNvPr id="1158" name=""/>
            <p:cNvSpPr/>
            <p:nvPr/>
          </p:nvSpPr>
          <p:spPr>
            <a:xfrm>
              <a:off x="6123600" y="1795320"/>
              <a:ext cx="1112760" cy="209520"/>
            </a:xfrm>
            <a:prstGeom prst="rightArrow">
              <a:avLst>
                <a:gd name="adj1" fmla="val 50000"/>
                <a:gd name="adj2" fmla="val 1327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19472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3664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91320" y="1587240"/>
              <a:ext cx="444960" cy="11480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49400" y="1587240"/>
              <a:ext cx="444960" cy="11480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07480" y="1197000"/>
              <a:ext cx="815760" cy="15382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67640" y="195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25720" y="195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32120" y="167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94720" y="1221120"/>
              <a:ext cx="1112760" cy="209520"/>
            </a:xfrm>
            <a:prstGeom prst="rightArrow">
              <a:avLst>
                <a:gd name="adj1" fmla="val 50000"/>
                <a:gd name="adj2" fmla="val 1327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29920" y="1274400"/>
              <a:ext cx="96444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09320" y="1275480"/>
              <a:ext cx="123480" cy="93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7856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30256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2504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85596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80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56740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988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6200" y="3025440"/>
              <a:ext cx="4154760" cy="37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67880" y="29793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ntro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1756800" y="3315240"/>
              <a:ext cx="32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57160" y="3108600"/>
              <a:ext cx="32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240960" y="3316680"/>
              <a:ext cx="326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40960" y="3110040"/>
              <a:ext cx="326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39920" y="286596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39920" y="312444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79000" y="292068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579000" y="31773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68480" y="2692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52144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98480" y="2683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74120" y="2683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0776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1256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7440" y="1973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76680" y="17060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61960" y="3541680"/>
            <a:ext cx="7161480" cy="2683080"/>
            <a:chOff x="561960" y="3541680"/>
            <a:chExt cx="7161480" cy="2683080"/>
          </a:xfrm>
        </p:grpSpPr>
        <p:grpSp>
          <p:nvGrpSpPr>
            <p:cNvPr id="1196" name=""/>
            <p:cNvGrpSpPr/>
            <p:nvPr/>
          </p:nvGrpSpPr>
          <p:grpSpPr>
            <a:xfrm>
              <a:off x="561960" y="3637080"/>
              <a:ext cx="1179360" cy="2500920"/>
              <a:chOff x="561960" y="3637080"/>
              <a:chExt cx="1179360" cy="2500920"/>
            </a:xfrm>
          </p:grpSpPr>
          <p:sp>
            <p:nvSpPr>
              <p:cNvPr id="1197" name=""/>
              <p:cNvSpPr/>
              <p:nvPr/>
            </p:nvSpPr>
            <p:spPr>
              <a:xfrm>
                <a:off x="1005840" y="36370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02600" y="43009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99360" y="496440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996120" y="562788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330200" y="41166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8120" y="478008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346040" y="54439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06240" y="3897720"/>
                <a:ext cx="43920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61960" y="477540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2025720" y="3624480"/>
              <a:ext cx="5697720" cy="2533320"/>
              <a:chOff x="2025720" y="3624480"/>
              <a:chExt cx="5697720" cy="2533320"/>
            </a:xfrm>
          </p:grpSpPr>
          <p:sp>
            <p:nvSpPr>
              <p:cNvPr id="1207" name=""/>
              <p:cNvSpPr/>
              <p:nvPr/>
            </p:nvSpPr>
            <p:spPr>
              <a:xfrm>
                <a:off x="2464920" y="36342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461680" y="430524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458440" y="49766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455200" y="564768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794320" y="411876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802240" y="479052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810160" y="546156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070360" y="3897360"/>
                <a:ext cx="439560" cy="19378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25720" y="4785120"/>
                <a:ext cx="14940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28320" y="363096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25440" y="43020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21840" y="49730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918960" y="5644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257720" y="41158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265640" y="47872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273560" y="545832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533760" y="3894120"/>
                <a:ext cx="43992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489480" y="4782240"/>
                <a:ext cx="14940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92080" y="362772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80200" y="4300560"/>
                <a:ext cx="6667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5600" y="4969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82360" y="564156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21480" y="411264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29400" y="47836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37320" y="545508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97520" y="3890880"/>
                <a:ext cx="43992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3240" y="4779000"/>
                <a:ext cx="14904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869160" y="362448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65920" y="429552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62680" y="496692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59440" y="563832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85240" y="410940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193160" y="478044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201080" y="545184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461280" y="3887640"/>
                <a:ext cx="43956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417000" y="4775760"/>
                <a:ext cx="14904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1589040" y="3708360"/>
              <a:ext cx="878040" cy="74880"/>
            </a:xfrm>
            <a:custGeom>
              <a:avLst/>
              <a:gdLst/>
              <a:ahLst/>
              <a:rect l="l" t="t" r="r" b="b"/>
              <a:pathLst>
                <a:path w="509" h="75">
                  <a:moveTo>
                    <a:pt x="0" y="75"/>
                  </a:moveTo>
                  <a:cubicBezTo>
                    <a:pt x="44" y="39"/>
                    <a:pt x="89" y="4"/>
                    <a:pt x="174" y="2"/>
                  </a:cubicBezTo>
                  <a:cubicBezTo>
                    <a:pt x="259" y="0"/>
                    <a:pt x="384" y="30"/>
                    <a:pt x="509" y="6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19200" y="4692600"/>
              <a:ext cx="958680" cy="1347840"/>
            </a:xfrm>
            <a:custGeom>
              <a:avLst/>
              <a:gdLst/>
              <a:ahLst/>
              <a:rect l="l" t="t" r="r" b="b"/>
              <a:pathLst>
                <a:path w="604" h="849">
                  <a:moveTo>
                    <a:pt x="604" y="764"/>
                  </a:moveTo>
                  <a:cubicBezTo>
                    <a:pt x="504" y="806"/>
                    <a:pt x="404" y="849"/>
                    <a:pt x="335" y="750"/>
                  </a:cubicBezTo>
                  <a:cubicBezTo>
                    <a:pt x="266" y="651"/>
                    <a:pt x="245" y="293"/>
                    <a:pt x="189" y="168"/>
                  </a:cubicBezTo>
                  <a:cubicBezTo>
                    <a:pt x="133" y="43"/>
                    <a:pt x="66" y="21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21120" y="3541680"/>
              <a:ext cx="2412720" cy="897120"/>
            </a:xfrm>
            <a:custGeom>
              <a:avLst/>
              <a:gdLst/>
              <a:ahLst/>
              <a:rect l="l" t="t" r="r" b="b"/>
              <a:pathLst>
                <a:path w="1520" h="565">
                  <a:moveTo>
                    <a:pt x="0" y="565"/>
                  </a:moveTo>
                  <a:cubicBezTo>
                    <a:pt x="19" y="522"/>
                    <a:pt x="76" y="379"/>
                    <a:pt x="116" y="304"/>
                  </a:cubicBezTo>
                  <a:cubicBezTo>
                    <a:pt x="156" y="229"/>
                    <a:pt x="166" y="162"/>
                    <a:pt x="240" y="114"/>
                  </a:cubicBezTo>
                  <a:cubicBezTo>
                    <a:pt x="314" y="66"/>
                    <a:pt x="405" y="26"/>
                    <a:pt x="560" y="13"/>
                  </a:cubicBezTo>
                  <a:cubicBezTo>
                    <a:pt x="715" y="0"/>
                    <a:pt x="1010" y="10"/>
                    <a:pt x="1170" y="34"/>
                  </a:cubicBezTo>
                  <a:cubicBezTo>
                    <a:pt x="1330" y="58"/>
                    <a:pt x="1425" y="108"/>
                    <a:pt x="1520" y="158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94280" y="3664080"/>
              <a:ext cx="982800" cy="741240"/>
            </a:xfrm>
            <a:custGeom>
              <a:avLst/>
              <a:gdLst/>
              <a:ahLst/>
              <a:rect l="l" t="t" r="r" b="b"/>
              <a:pathLst>
                <a:path w="619" h="467">
                  <a:moveTo>
                    <a:pt x="0" y="467"/>
                  </a:moveTo>
                  <a:cubicBezTo>
                    <a:pt x="19" y="419"/>
                    <a:pt x="61" y="251"/>
                    <a:pt x="124" y="176"/>
                  </a:cubicBezTo>
                  <a:cubicBezTo>
                    <a:pt x="187" y="101"/>
                    <a:pt x="297" y="32"/>
                    <a:pt x="379" y="16"/>
                  </a:cubicBezTo>
                  <a:cubicBezTo>
                    <a:pt x="461" y="0"/>
                    <a:pt x="569" y="68"/>
                    <a:pt x="619" y="81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464000" y="3954600"/>
              <a:ext cx="2413080" cy="2270160"/>
            </a:xfrm>
            <a:custGeom>
              <a:avLst/>
              <a:gdLst/>
              <a:ahLst/>
              <a:rect l="l" t="t" r="r" b="b"/>
              <a:pathLst>
                <a:path w="1520" h="1430">
                  <a:moveTo>
                    <a:pt x="1520" y="1222"/>
                  </a:moveTo>
                  <a:cubicBezTo>
                    <a:pt x="1500" y="1261"/>
                    <a:pt x="1481" y="1301"/>
                    <a:pt x="1338" y="1331"/>
                  </a:cubicBezTo>
                  <a:cubicBezTo>
                    <a:pt x="1195" y="1361"/>
                    <a:pt x="829" y="1410"/>
                    <a:pt x="661" y="1404"/>
                  </a:cubicBezTo>
                  <a:cubicBezTo>
                    <a:pt x="493" y="1398"/>
                    <a:pt x="406" y="1430"/>
                    <a:pt x="327" y="1295"/>
                  </a:cubicBezTo>
                  <a:cubicBezTo>
                    <a:pt x="248" y="1160"/>
                    <a:pt x="214" y="777"/>
                    <a:pt x="189" y="596"/>
                  </a:cubicBezTo>
                  <a:cubicBezTo>
                    <a:pt x="164" y="415"/>
                    <a:pt x="205" y="310"/>
                    <a:pt x="174" y="211"/>
                  </a:cubicBezTo>
                  <a:cubicBezTo>
                    <a:pt x="143" y="112"/>
                    <a:pt x="76" y="54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928960" y="4046760"/>
              <a:ext cx="981000" cy="1912680"/>
            </a:xfrm>
            <a:custGeom>
              <a:avLst/>
              <a:gdLst/>
              <a:ahLst/>
              <a:rect l="l" t="t" r="r" b="b"/>
              <a:pathLst>
                <a:path w="618" h="1205">
                  <a:moveTo>
                    <a:pt x="618" y="1171"/>
                  </a:moveTo>
                  <a:cubicBezTo>
                    <a:pt x="546" y="1188"/>
                    <a:pt x="475" y="1205"/>
                    <a:pt x="414" y="1171"/>
                  </a:cubicBezTo>
                  <a:cubicBezTo>
                    <a:pt x="353" y="1137"/>
                    <a:pt x="283" y="1097"/>
                    <a:pt x="254" y="967"/>
                  </a:cubicBezTo>
                  <a:cubicBezTo>
                    <a:pt x="225" y="837"/>
                    <a:pt x="281" y="554"/>
                    <a:pt x="239" y="393"/>
                  </a:cubicBezTo>
                  <a:cubicBezTo>
                    <a:pt x="197" y="232"/>
                    <a:pt x="98" y="116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62320" y="5027760"/>
              <a:ext cx="138240" cy="13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FDB1-A28D-4480-A3C3-B5A989F789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control imp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849240" y="3571920"/>
            <a:ext cx="7161480" cy="2682720"/>
            <a:chOff x="849240" y="3571920"/>
            <a:chExt cx="7161480" cy="2682720"/>
          </a:xfrm>
        </p:grpSpPr>
        <p:grpSp>
          <p:nvGrpSpPr>
            <p:cNvPr id="1252" name=""/>
            <p:cNvGrpSpPr/>
            <p:nvPr/>
          </p:nvGrpSpPr>
          <p:grpSpPr>
            <a:xfrm>
              <a:off x="849240" y="3666960"/>
              <a:ext cx="1179720" cy="2500920"/>
              <a:chOff x="849240" y="3666960"/>
              <a:chExt cx="1179720" cy="2500920"/>
            </a:xfrm>
          </p:grpSpPr>
          <p:sp>
            <p:nvSpPr>
              <p:cNvPr id="1253" name=""/>
              <p:cNvSpPr/>
              <p:nvPr/>
            </p:nvSpPr>
            <p:spPr>
              <a:xfrm>
                <a:off x="1293480" y="366696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290600" y="433080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287000" y="499428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283760" y="565776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17840" y="41464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625760" y="480996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633680" y="54738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93880" y="3927600"/>
                <a:ext cx="43956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9240" y="4805280"/>
                <a:ext cx="14940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2313000" y="3654360"/>
              <a:ext cx="5697720" cy="2510280"/>
              <a:chOff x="2313000" y="3654360"/>
              <a:chExt cx="5697720" cy="2510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2752200" y="366408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48960" y="432756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745720" y="49910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742480" y="565452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081600" y="414324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89520" y="48070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097440" y="54705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357640" y="3924360"/>
                <a:ext cx="43956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13000" y="4802040"/>
                <a:ext cx="14940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215600" y="366084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212720" y="432432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209120" y="4987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206240" y="56516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45000" y="41403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52920" y="480384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60840" y="54673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21040" y="3921120"/>
                <a:ext cx="43992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776760" y="4799160"/>
                <a:ext cx="14940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79360" y="36576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76120" y="432108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672880" y="498456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669640" y="56484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08760" y="41371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016680" y="48006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24600" y="546408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84800" y="3917880"/>
                <a:ext cx="43992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40520" y="479592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56440" y="365436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53200" y="431784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49960" y="498168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146720" y="564516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72520" y="41338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480440" y="47973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88360" y="546084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48560" y="3914640"/>
                <a:ext cx="43956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04280" y="479268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1876680" y="3738600"/>
              <a:ext cx="877680" cy="74520"/>
            </a:xfrm>
            <a:custGeom>
              <a:avLst/>
              <a:gdLst/>
              <a:ahLst/>
              <a:rect l="l" t="t" r="r" b="b"/>
              <a:pathLst>
                <a:path w="509" h="75">
                  <a:moveTo>
                    <a:pt x="0" y="75"/>
                  </a:moveTo>
                  <a:cubicBezTo>
                    <a:pt x="44" y="39"/>
                    <a:pt x="89" y="4"/>
                    <a:pt x="174" y="2"/>
                  </a:cubicBezTo>
                  <a:cubicBezTo>
                    <a:pt x="259" y="0"/>
                    <a:pt x="384" y="30"/>
                    <a:pt x="509" y="6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806840" y="4722840"/>
              <a:ext cx="958680" cy="1347840"/>
            </a:xfrm>
            <a:custGeom>
              <a:avLst/>
              <a:gdLst/>
              <a:ahLst/>
              <a:rect l="l" t="t" r="r" b="b"/>
              <a:pathLst>
                <a:path w="604" h="849">
                  <a:moveTo>
                    <a:pt x="604" y="764"/>
                  </a:moveTo>
                  <a:cubicBezTo>
                    <a:pt x="504" y="806"/>
                    <a:pt x="404" y="849"/>
                    <a:pt x="335" y="750"/>
                  </a:cubicBezTo>
                  <a:cubicBezTo>
                    <a:pt x="266" y="651"/>
                    <a:pt x="245" y="293"/>
                    <a:pt x="189" y="168"/>
                  </a:cubicBezTo>
                  <a:cubicBezTo>
                    <a:pt x="133" y="43"/>
                    <a:pt x="66" y="21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08400" y="3571920"/>
              <a:ext cx="2413080" cy="896760"/>
            </a:xfrm>
            <a:custGeom>
              <a:avLst/>
              <a:gdLst/>
              <a:ahLst/>
              <a:rect l="l" t="t" r="r" b="b"/>
              <a:pathLst>
                <a:path w="1520" h="565">
                  <a:moveTo>
                    <a:pt x="0" y="565"/>
                  </a:moveTo>
                  <a:cubicBezTo>
                    <a:pt x="19" y="522"/>
                    <a:pt x="76" y="379"/>
                    <a:pt x="116" y="304"/>
                  </a:cubicBezTo>
                  <a:cubicBezTo>
                    <a:pt x="156" y="229"/>
                    <a:pt x="166" y="162"/>
                    <a:pt x="240" y="114"/>
                  </a:cubicBezTo>
                  <a:cubicBezTo>
                    <a:pt x="314" y="66"/>
                    <a:pt x="405" y="26"/>
                    <a:pt x="560" y="13"/>
                  </a:cubicBezTo>
                  <a:cubicBezTo>
                    <a:pt x="715" y="0"/>
                    <a:pt x="1010" y="10"/>
                    <a:pt x="1170" y="34"/>
                  </a:cubicBezTo>
                  <a:cubicBezTo>
                    <a:pt x="1330" y="58"/>
                    <a:pt x="1425" y="108"/>
                    <a:pt x="1520" y="158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81920" y="3693960"/>
              <a:ext cx="982440" cy="741600"/>
            </a:xfrm>
            <a:custGeom>
              <a:avLst/>
              <a:gdLst/>
              <a:ahLst/>
              <a:rect l="l" t="t" r="r" b="b"/>
              <a:pathLst>
                <a:path w="619" h="467">
                  <a:moveTo>
                    <a:pt x="0" y="467"/>
                  </a:moveTo>
                  <a:cubicBezTo>
                    <a:pt x="19" y="419"/>
                    <a:pt x="61" y="251"/>
                    <a:pt x="124" y="176"/>
                  </a:cubicBezTo>
                  <a:cubicBezTo>
                    <a:pt x="187" y="101"/>
                    <a:pt x="297" y="32"/>
                    <a:pt x="379" y="16"/>
                  </a:cubicBezTo>
                  <a:cubicBezTo>
                    <a:pt x="461" y="0"/>
                    <a:pt x="569" y="68"/>
                    <a:pt x="619" y="81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51640" y="3984480"/>
              <a:ext cx="2412720" cy="2270160"/>
            </a:xfrm>
            <a:custGeom>
              <a:avLst/>
              <a:gdLst/>
              <a:ahLst/>
              <a:rect l="l" t="t" r="r" b="b"/>
              <a:pathLst>
                <a:path w="1520" h="1430">
                  <a:moveTo>
                    <a:pt x="1520" y="1222"/>
                  </a:moveTo>
                  <a:cubicBezTo>
                    <a:pt x="1500" y="1261"/>
                    <a:pt x="1481" y="1301"/>
                    <a:pt x="1338" y="1331"/>
                  </a:cubicBezTo>
                  <a:cubicBezTo>
                    <a:pt x="1195" y="1361"/>
                    <a:pt x="829" y="1410"/>
                    <a:pt x="661" y="1404"/>
                  </a:cubicBezTo>
                  <a:cubicBezTo>
                    <a:pt x="493" y="1398"/>
                    <a:pt x="406" y="1430"/>
                    <a:pt x="327" y="1295"/>
                  </a:cubicBezTo>
                  <a:cubicBezTo>
                    <a:pt x="248" y="1160"/>
                    <a:pt x="214" y="777"/>
                    <a:pt x="189" y="596"/>
                  </a:cubicBezTo>
                  <a:cubicBezTo>
                    <a:pt x="164" y="415"/>
                    <a:pt x="205" y="310"/>
                    <a:pt x="174" y="211"/>
                  </a:cubicBezTo>
                  <a:cubicBezTo>
                    <a:pt x="143" y="112"/>
                    <a:pt x="76" y="54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16240" y="4076640"/>
              <a:ext cx="981360" cy="1913040"/>
            </a:xfrm>
            <a:custGeom>
              <a:avLst/>
              <a:gdLst/>
              <a:ahLst/>
              <a:rect l="l" t="t" r="r" b="b"/>
              <a:pathLst>
                <a:path w="618" h="1205">
                  <a:moveTo>
                    <a:pt x="618" y="1171"/>
                  </a:moveTo>
                  <a:cubicBezTo>
                    <a:pt x="546" y="1188"/>
                    <a:pt x="475" y="1205"/>
                    <a:pt x="414" y="1171"/>
                  </a:cubicBezTo>
                  <a:cubicBezTo>
                    <a:pt x="353" y="1137"/>
                    <a:pt x="283" y="1097"/>
                    <a:pt x="254" y="967"/>
                  </a:cubicBezTo>
                  <a:cubicBezTo>
                    <a:pt x="225" y="837"/>
                    <a:pt x="281" y="554"/>
                    <a:pt x="239" y="393"/>
                  </a:cubicBezTo>
                  <a:cubicBezTo>
                    <a:pt x="197" y="232"/>
                    <a:pt x="98" y="116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49600" y="5057640"/>
              <a:ext cx="138240" cy="13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929160" y="950760"/>
            <a:ext cx="7497720" cy="2738880"/>
            <a:chOff x="929160" y="950760"/>
            <a:chExt cx="7497720" cy="2738880"/>
          </a:xfrm>
        </p:grpSpPr>
        <p:sp>
          <p:nvSpPr>
            <p:cNvPr id="1307" name=""/>
            <p:cNvSpPr/>
            <p:nvPr/>
          </p:nvSpPr>
          <p:spPr>
            <a:xfrm flipV="1">
              <a:off x="7226640" y="2781000"/>
              <a:ext cx="385920" cy="39348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7109280" y="2824200"/>
              <a:ext cx="110880" cy="106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968160" y="2875320"/>
              <a:ext cx="136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7607880" y="2979360"/>
              <a:ext cx="264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972840" y="3090240"/>
              <a:ext cx="2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6258960" y="2287080"/>
              <a:ext cx="729000" cy="404640"/>
              <a:chOff x="6258960" y="2287080"/>
              <a:chExt cx="729000" cy="404640"/>
            </a:xfrm>
          </p:grpSpPr>
          <p:sp>
            <p:nvSpPr>
              <p:cNvPr id="1313" name=""/>
              <p:cNvSpPr/>
              <p:nvPr/>
            </p:nvSpPr>
            <p:spPr>
              <a:xfrm flipH="1">
                <a:off x="6437880" y="2287080"/>
                <a:ext cx="408960" cy="3934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258960" y="2484720"/>
                <a:ext cx="1789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6808680" y="2373120"/>
                <a:ext cx="1792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6804360" y="2610360"/>
                <a:ext cx="1789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6469200" y="22928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5662440" y="3145680"/>
              <a:ext cx="325080" cy="543960"/>
              <a:chOff x="5662440" y="3145680"/>
              <a:chExt cx="325080" cy="543960"/>
            </a:xfrm>
          </p:grpSpPr>
          <p:sp>
            <p:nvSpPr>
              <p:cNvPr id="1319" name=""/>
              <p:cNvSpPr/>
              <p:nvPr/>
            </p:nvSpPr>
            <p:spPr>
              <a:xfrm>
                <a:off x="5817600" y="356256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735520" y="314568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17680" y="315000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 rot="16200000">
                <a:off x="5664240" y="3234240"/>
                <a:ext cx="321480" cy="3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70" y="3182"/>
                      <a:pt x="17739" y="5080"/>
                      <a:pt x="17739" y="10800"/>
                    </a:cubicBezTo>
                    <a:cubicBezTo>
                      <a:pt x="17739" y="16520"/>
                      <a:pt x="19670" y="184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 flipH="1" flipV="1" rot="5400000">
              <a:off x="4095360" y="1659240"/>
              <a:ext cx="371520" cy="40860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 rot="5400000">
              <a:off x="4333680" y="2053800"/>
              <a:ext cx="106560" cy="110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90920" y="2172960"/>
              <a:ext cx="0" cy="58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82920" y="1431360"/>
              <a:ext cx="0" cy="2487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67720" y="2053440"/>
              <a:ext cx="0" cy="24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 rot="5400000">
              <a:off x="1817640" y="1505880"/>
              <a:ext cx="371520" cy="40860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 flipV="1" rot="5400000">
              <a:off x="2055960" y="1900080"/>
              <a:ext cx="106560" cy="110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13200" y="2013480"/>
              <a:ext cx="0" cy="1317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05560" y="1277640"/>
              <a:ext cx="0" cy="253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90000" y="1899720"/>
              <a:ext cx="0" cy="24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2315520" y="2479680"/>
              <a:ext cx="385920" cy="39348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2707200" y="2522520"/>
              <a:ext cx="110880" cy="106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23120" y="2574000"/>
              <a:ext cx="136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60280" y="2677680"/>
              <a:ext cx="244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05760" y="2788920"/>
              <a:ext cx="2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94160" y="2217960"/>
              <a:ext cx="3471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972840" y="2228040"/>
              <a:ext cx="0" cy="140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0600" y="2118600"/>
              <a:ext cx="2107440" cy="371520"/>
            </a:xfrm>
            <a:custGeom>
              <a:avLst/>
              <a:gdLst/>
              <a:ahLst/>
              <a:rect l="l" t="t" r="r" b="b"/>
              <a:pathLst>
                <a:path w="1387" h="254">
                  <a:moveTo>
                    <a:pt x="1387" y="254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7720" y="2475720"/>
              <a:ext cx="838440" cy="40104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0" y="0"/>
                  </a:moveTo>
                  <a:lnTo>
                    <a:pt x="0" y="274"/>
                  </a:lnTo>
                  <a:cubicBezTo>
                    <a:pt x="184" y="274"/>
                    <a:pt x="368" y="274"/>
                    <a:pt x="552" y="274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5912280" y="1276920"/>
              <a:ext cx="4320" cy="1873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911920" y="3085920"/>
              <a:ext cx="1069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14720" y="2607480"/>
              <a:ext cx="1151640" cy="1063800"/>
            </a:xfrm>
            <a:custGeom>
              <a:avLst/>
              <a:gdLst/>
              <a:ahLst/>
              <a:rect l="l" t="t" r="r" b="b"/>
              <a:pathLst>
                <a:path w="787" h="727">
                  <a:moveTo>
                    <a:pt x="0" y="727"/>
                  </a:moveTo>
                  <a:lnTo>
                    <a:pt x="787" y="727"/>
                  </a:lnTo>
                  <a:lnTo>
                    <a:pt x="787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7440" y="1291680"/>
              <a:ext cx="1774440" cy="842760"/>
            </a:xfrm>
            <a:custGeom>
              <a:avLst/>
              <a:gdLst/>
              <a:ahLst/>
              <a:rect l="l" t="t" r="r" b="b"/>
              <a:pathLst>
                <a:path w="1200" h="576">
                  <a:moveTo>
                    <a:pt x="0" y="576"/>
                  </a:moveTo>
                  <a:lnTo>
                    <a:pt x="1200" y="576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54760" y="1284480"/>
              <a:ext cx="591120" cy="1292400"/>
            </a:xfrm>
            <a:custGeom>
              <a:avLst/>
              <a:gdLst/>
              <a:ahLst/>
              <a:rect l="l" t="t" r="r" b="b"/>
              <a:pathLst>
                <a:path w="389" h="883">
                  <a:moveTo>
                    <a:pt x="389" y="883"/>
                  </a:moveTo>
                  <a:lnTo>
                    <a:pt x="389" y="91"/>
                  </a:lnTo>
                  <a:lnTo>
                    <a:pt x="0" y="9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47200" y="1284480"/>
              <a:ext cx="3209400" cy="132840"/>
            </a:xfrm>
            <a:custGeom>
              <a:avLst/>
              <a:gdLst/>
              <a:ahLst/>
              <a:rect l="l" t="t" r="r" b="b"/>
              <a:pathLst>
                <a:path w="2112" h="91">
                  <a:moveTo>
                    <a:pt x="0" y="91"/>
                  </a:moveTo>
                  <a:lnTo>
                    <a:pt x="2112" y="91"/>
                  </a:lnTo>
                  <a:lnTo>
                    <a:pt x="21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80400" y="1278360"/>
              <a:ext cx="1080" cy="14184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1" y="9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946240" y="1553760"/>
              <a:ext cx="1336680" cy="1236600"/>
            </a:xfrm>
            <a:custGeom>
              <a:avLst/>
              <a:gdLst/>
              <a:ahLst/>
              <a:rect l="l" t="t" r="r" b="b"/>
              <a:pathLst>
                <a:path w="880" h="883">
                  <a:moveTo>
                    <a:pt x="880" y="0"/>
                  </a:moveTo>
                  <a:lnTo>
                    <a:pt x="675" y="0"/>
                  </a:lnTo>
                  <a:lnTo>
                    <a:pt x="675" y="880"/>
                  </a:lnTo>
                  <a:lnTo>
                    <a:pt x="0" y="88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1288080" y="3146040"/>
              <a:ext cx="4442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90000" y="2115720"/>
              <a:ext cx="0" cy="1021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288440" y="2677680"/>
              <a:ext cx="7869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29160" y="294120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39600" y="2482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06480" y="950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89160" y="9608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091760" y="980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07640" y="982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45240" y="9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88120" y="981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26760" y="202356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33240" y="278028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F035-5F13-43F2-8AF2-924257B8D81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Control: observable behavio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710280" y="4094280"/>
            <a:ext cx="7634160" cy="1719720"/>
            <a:chOff x="710280" y="4094280"/>
            <a:chExt cx="7634160" cy="1719720"/>
          </a:xfrm>
        </p:grpSpPr>
        <p:sp>
          <p:nvSpPr>
            <p:cNvPr id="1365" name=""/>
            <p:cNvSpPr/>
            <p:nvPr/>
          </p:nvSpPr>
          <p:spPr>
            <a:xfrm>
              <a:off x="710280" y="45129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53240" y="4101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080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58652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41668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271320" y="5373360"/>
              <a:ext cx="74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39720" y="5373360"/>
              <a:ext cx="74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08480" y="53733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924520" y="5373360"/>
              <a:ext cx="67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33880" y="5373360"/>
              <a:ext cx="67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74756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3420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717320" y="45669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9688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444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76960" y="470196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34440" y="409428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in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26180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923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383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067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9160" y="5574960"/>
              <a:ext cx="376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8936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005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2464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5077440" y="4314600"/>
              <a:ext cx="645480" cy="919800"/>
              <a:chOff x="5077440" y="4314600"/>
              <a:chExt cx="645480" cy="919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5077440" y="4793760"/>
                <a:ext cx="64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37560" y="4314600"/>
                <a:ext cx="532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220640" y="4323960"/>
              <a:ext cx="581400" cy="903960"/>
              <a:chOff x="4220640" y="4323960"/>
              <a:chExt cx="581400" cy="903960"/>
            </a:xfrm>
          </p:grpSpPr>
          <p:sp>
            <p:nvSpPr>
              <p:cNvPr id="1394" name=""/>
              <p:cNvSpPr/>
              <p:nvPr/>
            </p:nvSpPr>
            <p:spPr>
              <a:xfrm>
                <a:off x="4220640" y="4787280"/>
                <a:ext cx="58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5760" y="4323960"/>
                <a:ext cx="532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3540240" y="4555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7380000" y="478116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07000" y="479232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4748040" y="501624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4759200" y="455904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195360" y="479232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5590800" y="4617720"/>
              <a:ext cx="396360" cy="133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621040" y="4873320"/>
              <a:ext cx="406080" cy="160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843000" y="4600440"/>
              <a:ext cx="406080" cy="159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3843000" y="4862160"/>
              <a:ext cx="396720" cy="133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2554200" y="4496760"/>
              <a:ext cx="182160" cy="191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2259000" y="4790880"/>
              <a:ext cx="477360" cy="142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1884240" y="4303440"/>
              <a:ext cx="3376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152000" y="4414680"/>
              <a:ext cx="253800" cy="193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1182600" y="4852800"/>
              <a:ext cx="639360" cy="8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28440" y="4943160"/>
              <a:ext cx="0" cy="436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968960" y="4993920"/>
              <a:ext cx="0" cy="406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023920" y="4240080"/>
              <a:ext cx="132840" cy="13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57280" y="4830480"/>
              <a:ext cx="13284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928800" y="950760"/>
            <a:ext cx="7804800" cy="2970720"/>
            <a:chOff x="928800" y="950760"/>
            <a:chExt cx="7804800" cy="2970720"/>
          </a:xfrm>
        </p:grpSpPr>
        <p:sp>
          <p:nvSpPr>
            <p:cNvPr id="1416" name=""/>
            <p:cNvSpPr/>
            <p:nvPr/>
          </p:nvSpPr>
          <p:spPr>
            <a:xfrm flipV="1">
              <a:off x="7508880" y="293688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386480" y="298296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7238520" y="3038400"/>
              <a:ext cx="142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907040" y="3151080"/>
              <a:ext cx="276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7243560" y="3271680"/>
              <a:ext cx="260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6497280" y="2400480"/>
              <a:ext cx="762120" cy="426960"/>
              <a:chOff x="6497280" y="2400480"/>
              <a:chExt cx="762120" cy="426960"/>
            </a:xfrm>
          </p:grpSpPr>
          <p:sp>
            <p:nvSpPr>
              <p:cNvPr id="1422" name=""/>
              <p:cNvSpPr/>
              <p:nvPr/>
            </p:nvSpPr>
            <p:spPr>
              <a:xfrm flipH="1">
                <a:off x="6684120" y="2400480"/>
                <a:ext cx="427320" cy="4269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6497280" y="2615040"/>
                <a:ext cx="1872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7071840" y="2494080"/>
                <a:ext cx="18756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7067160" y="2751480"/>
                <a:ext cx="1872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6659280" y="2408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5875200" y="3331440"/>
              <a:ext cx="339840" cy="590040"/>
              <a:chOff x="5875200" y="3331440"/>
              <a:chExt cx="339840" cy="590040"/>
            </a:xfrm>
          </p:grpSpPr>
          <p:sp>
            <p:nvSpPr>
              <p:cNvPr id="1428" name=""/>
              <p:cNvSpPr/>
              <p:nvPr/>
            </p:nvSpPr>
            <p:spPr>
              <a:xfrm>
                <a:off x="6037200" y="378360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951520" y="333144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41960" y="333612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 rot="16200000">
                <a:off x="5870520" y="3433680"/>
                <a:ext cx="348840" cy="33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70" y="3182"/>
                      <a:pt x="17739" y="5080"/>
                      <a:pt x="17739" y="10800"/>
                    </a:cubicBezTo>
                    <a:cubicBezTo>
                      <a:pt x="17739" y="16520"/>
                      <a:pt x="19670" y="184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 flipH="1" flipV="1" rot="5400000">
              <a:off x="4231440" y="172800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 rot="5400000">
              <a:off x="4484520" y="214956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46440" y="2276640"/>
              <a:ext cx="0" cy="633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3760" y="1473120"/>
              <a:ext cx="0" cy="2700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13160" y="2147760"/>
              <a:ext cx="0" cy="26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 rot="5400000">
              <a:off x="1851840" y="156132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 rot="5400000">
              <a:off x="2104920" y="198288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66840" y="2102760"/>
              <a:ext cx="0" cy="142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54160" y="1305720"/>
              <a:ext cx="0" cy="274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33560" y="1981080"/>
              <a:ext cx="0" cy="26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 flipV="1">
              <a:off x="2378160" y="261000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2787480" y="26557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08440" y="2711520"/>
              <a:ext cx="142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1400" y="2824200"/>
              <a:ext cx="255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86040" y="2944800"/>
              <a:ext cx="260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9680" y="2325600"/>
              <a:ext cx="3627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7243920" y="2336400"/>
              <a:ext cx="0" cy="152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16400" y="2217600"/>
              <a:ext cx="2201760" cy="403200"/>
            </a:xfrm>
            <a:custGeom>
              <a:avLst/>
              <a:gdLst/>
              <a:ahLst/>
              <a:rect l="l" t="t" r="r" b="b"/>
              <a:pathLst>
                <a:path w="1387" h="254">
                  <a:moveTo>
                    <a:pt x="1387" y="254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81720" y="2604960"/>
              <a:ext cx="876240" cy="43524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0" y="0"/>
                  </a:moveTo>
                  <a:lnTo>
                    <a:pt x="0" y="274"/>
                  </a:lnTo>
                  <a:cubicBezTo>
                    <a:pt x="184" y="274"/>
                    <a:pt x="368" y="274"/>
                    <a:pt x="552" y="274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 flipV="1">
              <a:off x="6135480" y="1305000"/>
              <a:ext cx="4680" cy="2031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35840" y="3267000"/>
              <a:ext cx="1117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33960" y="2747880"/>
              <a:ext cx="1203480" cy="1154160"/>
            </a:xfrm>
            <a:custGeom>
              <a:avLst/>
              <a:gdLst/>
              <a:ahLst/>
              <a:rect l="l" t="t" r="r" b="b"/>
              <a:pathLst>
                <a:path w="787" h="727">
                  <a:moveTo>
                    <a:pt x="0" y="727"/>
                  </a:moveTo>
                  <a:lnTo>
                    <a:pt x="787" y="727"/>
                  </a:lnTo>
                  <a:lnTo>
                    <a:pt x="787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60720" y="1320840"/>
              <a:ext cx="1854000" cy="914400"/>
            </a:xfrm>
            <a:custGeom>
              <a:avLst/>
              <a:gdLst/>
              <a:ahLst/>
              <a:rect l="l" t="t" r="r" b="b"/>
              <a:pathLst>
                <a:path w="1200" h="576">
                  <a:moveTo>
                    <a:pt x="0" y="576"/>
                  </a:moveTo>
                  <a:lnTo>
                    <a:pt x="1200" y="576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19200" y="1312920"/>
              <a:ext cx="617760" cy="1401840"/>
            </a:xfrm>
            <a:custGeom>
              <a:avLst/>
              <a:gdLst/>
              <a:ahLst/>
              <a:rect l="l" t="t" r="r" b="b"/>
              <a:pathLst>
                <a:path w="389" h="883">
                  <a:moveTo>
                    <a:pt x="389" y="883"/>
                  </a:moveTo>
                  <a:lnTo>
                    <a:pt x="389" y="91"/>
                  </a:lnTo>
                  <a:lnTo>
                    <a:pt x="0" y="9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11280" y="1312920"/>
              <a:ext cx="3353040" cy="144360"/>
            </a:xfrm>
            <a:custGeom>
              <a:avLst/>
              <a:gdLst/>
              <a:ahLst/>
              <a:rect l="l" t="t" r="r" b="b"/>
              <a:pathLst>
                <a:path w="2112" h="91">
                  <a:moveTo>
                    <a:pt x="0" y="91"/>
                  </a:moveTo>
                  <a:lnTo>
                    <a:pt x="2112" y="91"/>
                  </a:lnTo>
                  <a:lnTo>
                    <a:pt x="21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430880" y="130644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1" y="9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036960" y="1604880"/>
              <a:ext cx="1396800" cy="1341360"/>
            </a:xfrm>
            <a:custGeom>
              <a:avLst/>
              <a:gdLst/>
              <a:ahLst/>
              <a:rect l="l" t="t" r="r" b="b"/>
              <a:pathLst>
                <a:path w="880" h="883">
                  <a:moveTo>
                    <a:pt x="880" y="0"/>
                  </a:moveTo>
                  <a:lnTo>
                    <a:pt x="675" y="0"/>
                  </a:lnTo>
                  <a:lnTo>
                    <a:pt x="675" y="880"/>
                  </a:lnTo>
                  <a:lnTo>
                    <a:pt x="0" y="88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1305000" y="3332160"/>
              <a:ext cx="4641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3560" y="2214720"/>
              <a:ext cx="0" cy="110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305000" y="2824200"/>
              <a:ext cx="822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28800" y="3110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939960" y="261288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46440" y="950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46400" y="960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33960" y="981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32200" y="985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61240" y="973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589720" y="9842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34920" y="211464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139960" y="293544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6266880" y="2270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3D0C-ACAA-498E-8417-86B722A9C45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What is an asynchronous circuit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 Design Styles (Micropipelines, 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building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ntrol specification and imple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elay models and classes of async circu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Why asynchronous circui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9541-FF4E-4671-BE74-1953B82A16B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Taking delays into accou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836280" y="1403280"/>
            <a:ext cx="3030120" cy="1906200"/>
            <a:chOff x="836280" y="1403280"/>
            <a:chExt cx="3030120" cy="1906200"/>
          </a:xfrm>
        </p:grpSpPr>
        <p:sp>
          <p:nvSpPr>
            <p:cNvPr id="1475" name=""/>
            <p:cNvSpPr/>
            <p:nvPr/>
          </p:nvSpPr>
          <p:spPr>
            <a:xfrm>
              <a:off x="83628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5080" y="1403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5560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55600" y="285120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598040" y="14032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26840" y="20890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1235160" y="1801440"/>
              <a:ext cx="836640" cy="532080"/>
              <a:chOff x="1235160" y="1801440"/>
              <a:chExt cx="836640" cy="532080"/>
            </a:xfrm>
          </p:grpSpPr>
          <p:sp>
            <p:nvSpPr>
              <p:cNvPr id="1482" name=""/>
              <p:cNvSpPr/>
              <p:nvPr/>
            </p:nvSpPr>
            <p:spPr>
              <a:xfrm flipV="1">
                <a:off x="1235160" y="1801440"/>
                <a:ext cx="37800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12920" y="2333520"/>
                <a:ext cx="7588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>
              <a:off x="2151000" y="1647720"/>
              <a:ext cx="5302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2608200" y="1803240"/>
              <a:ext cx="910800" cy="530280"/>
              <a:chOff x="2608200" y="1803240"/>
              <a:chExt cx="910800" cy="530280"/>
            </a:xfrm>
          </p:grpSpPr>
          <p:sp>
            <p:nvSpPr>
              <p:cNvPr id="1486" name=""/>
              <p:cNvSpPr/>
              <p:nvPr/>
            </p:nvSpPr>
            <p:spPr>
              <a:xfrm>
                <a:off x="2989080" y="1803240"/>
                <a:ext cx="52992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608200" y="2333520"/>
                <a:ext cx="8348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 flipH="1">
              <a:off x="2455920" y="2489040"/>
              <a:ext cx="1063440" cy="530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1082160" y="2487600"/>
              <a:ext cx="987480" cy="6062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00120" y="2698560"/>
              <a:ext cx="196920" cy="196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876920" y="1795320"/>
            <a:ext cx="2820240" cy="1007280"/>
            <a:chOff x="4876920" y="1795320"/>
            <a:chExt cx="2820240" cy="1007280"/>
          </a:xfrm>
        </p:grpSpPr>
        <p:grpSp>
          <p:nvGrpSpPr>
            <p:cNvPr id="1492" name=""/>
            <p:cNvGrpSpPr/>
            <p:nvPr/>
          </p:nvGrpSpPr>
          <p:grpSpPr>
            <a:xfrm>
              <a:off x="5986080" y="2055600"/>
              <a:ext cx="1377720" cy="681120"/>
              <a:chOff x="5986080" y="2055600"/>
              <a:chExt cx="1377720" cy="681120"/>
            </a:xfrm>
          </p:grpSpPr>
          <p:sp>
            <p:nvSpPr>
              <p:cNvPr id="1493" name=""/>
              <p:cNvSpPr/>
              <p:nvPr/>
            </p:nvSpPr>
            <p:spPr>
              <a:xfrm>
                <a:off x="6281640" y="2055600"/>
                <a:ext cx="668160" cy="681120"/>
              </a:xfrm>
              <a:prstGeom prst="flowChartDelay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948360" y="2331720"/>
                <a:ext cx="127080" cy="127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5986080" y="218736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5990760" y="261108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7073280" y="239688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5182560" y="2020680"/>
              <a:ext cx="803160" cy="325440"/>
              <a:chOff x="5182560" y="2020680"/>
              <a:chExt cx="803160" cy="325440"/>
            </a:xfrm>
          </p:grpSpPr>
          <p:sp>
            <p:nvSpPr>
              <p:cNvPr id="1499" name=""/>
              <p:cNvSpPr/>
              <p:nvPr/>
            </p:nvSpPr>
            <p:spPr>
              <a:xfrm rot="5400000">
                <a:off x="5379120" y="2049120"/>
                <a:ext cx="325440" cy="26820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684400" y="2146320"/>
                <a:ext cx="74520" cy="74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5182560" y="218592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5763600" y="218592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5187600" y="2444400"/>
              <a:ext cx="803160" cy="325440"/>
              <a:chOff x="5187600" y="2444400"/>
              <a:chExt cx="803160" cy="325440"/>
            </a:xfrm>
          </p:grpSpPr>
          <p:sp>
            <p:nvSpPr>
              <p:cNvPr id="1504" name=""/>
              <p:cNvSpPr/>
              <p:nvPr/>
            </p:nvSpPr>
            <p:spPr>
              <a:xfrm rot="5400000">
                <a:off x="5384160" y="2472840"/>
                <a:ext cx="325440" cy="26820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689440" y="2570040"/>
                <a:ext cx="74520" cy="74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5187600" y="260964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5768640" y="260964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4876920" y="192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89520" y="234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347240" y="208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08240" y="1795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’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807880" y="2233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z’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281520" y="3618000"/>
            <a:ext cx="47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 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nvironment: 3 times un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Gates: 1 time un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5040" y="5067360"/>
            <a:ext cx="73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events: x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’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y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’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’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’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y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94920" y="554976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time: 3        4         5        6        7        9       10       12      13      1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C831-245C-4D2D-8647-C36C6434268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Taking delays into accou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836280" y="1403280"/>
            <a:ext cx="3030120" cy="1906200"/>
            <a:chOff x="836280" y="1403280"/>
            <a:chExt cx="3030120" cy="1906200"/>
          </a:xfrm>
        </p:grpSpPr>
        <p:sp>
          <p:nvSpPr>
            <p:cNvPr id="1518" name=""/>
            <p:cNvSpPr/>
            <p:nvPr/>
          </p:nvSpPr>
          <p:spPr>
            <a:xfrm>
              <a:off x="83628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65080" y="1403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5560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55600" y="285120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598040" y="14032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426840" y="20890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235160" y="1801440"/>
              <a:ext cx="836640" cy="532080"/>
              <a:chOff x="1235160" y="1801440"/>
              <a:chExt cx="836640" cy="53208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1235160" y="1801440"/>
                <a:ext cx="37800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312920" y="2333520"/>
                <a:ext cx="7588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2151000" y="1647720"/>
              <a:ext cx="5302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2608200" y="1803240"/>
              <a:ext cx="910800" cy="530280"/>
              <a:chOff x="2608200" y="1803240"/>
              <a:chExt cx="910800" cy="530280"/>
            </a:xfrm>
          </p:grpSpPr>
          <p:sp>
            <p:nvSpPr>
              <p:cNvPr id="1529" name=""/>
              <p:cNvSpPr/>
              <p:nvPr/>
            </p:nvSpPr>
            <p:spPr>
              <a:xfrm>
                <a:off x="2989080" y="1803240"/>
                <a:ext cx="52992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608200" y="2333520"/>
                <a:ext cx="8348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 flipH="1">
              <a:off x="2455920" y="2489040"/>
              <a:ext cx="1063440" cy="530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flipV="1">
              <a:off x="1082160" y="2487600"/>
              <a:ext cx="987480" cy="6062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00120" y="2698560"/>
              <a:ext cx="196920" cy="196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86080" y="2055960"/>
            <a:ext cx="1377720" cy="680760"/>
            <a:chOff x="5986080" y="2055960"/>
            <a:chExt cx="1377720" cy="680760"/>
          </a:xfrm>
        </p:grpSpPr>
        <p:sp>
          <p:nvSpPr>
            <p:cNvPr id="1535" name=""/>
            <p:cNvSpPr/>
            <p:nvPr/>
          </p:nvSpPr>
          <p:spPr>
            <a:xfrm>
              <a:off x="6281640" y="2055960"/>
              <a:ext cx="668160" cy="6807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948360" y="2331720"/>
              <a:ext cx="127080" cy="126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5986080" y="218736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5990760" y="261108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7073280" y="239688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182920" y="2021040"/>
            <a:ext cx="803160" cy="325440"/>
            <a:chOff x="5182920" y="2021040"/>
            <a:chExt cx="803160" cy="325440"/>
          </a:xfrm>
        </p:grpSpPr>
        <p:sp>
          <p:nvSpPr>
            <p:cNvPr id="1541" name=""/>
            <p:cNvSpPr/>
            <p:nvPr/>
          </p:nvSpPr>
          <p:spPr>
            <a:xfrm rot="5400000">
              <a:off x="5379480" y="2049480"/>
              <a:ext cx="325440" cy="2682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84760" y="2146680"/>
              <a:ext cx="74520" cy="74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5182920" y="218628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5763960" y="218628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187600" y="2444760"/>
            <a:ext cx="803160" cy="325440"/>
            <a:chOff x="5187600" y="2444760"/>
            <a:chExt cx="803160" cy="325440"/>
          </a:xfrm>
        </p:grpSpPr>
        <p:sp>
          <p:nvSpPr>
            <p:cNvPr id="1546" name=""/>
            <p:cNvSpPr/>
            <p:nvPr/>
          </p:nvSpPr>
          <p:spPr>
            <a:xfrm rot="5400000">
              <a:off x="5384160" y="2473200"/>
              <a:ext cx="325440" cy="268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89440" y="25704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5187600" y="261000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5768640" y="261000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4877280" y="19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889520" y="23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347240" y="208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808600" y="179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808240" y="2233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z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3680" y="36180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 assumptions: unbounded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18960" y="4541760"/>
            <a:ext cx="62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vents: x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’-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y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z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-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’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y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1600" y="502596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ime: 3        4         5        6        9       10       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565960" y="3017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ery s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5564160" y="2770200"/>
            <a:ext cx="195120" cy="32400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707160" y="45514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failure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BA58-F291-45E3-BE8D-43D0C7F474BA}" type="slidenum">
              <a:t>41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Gate vs wire delay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Gate delay model: delays in gates, no delays in wir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Wire delay model: delays in gates and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2174400" y="1916280"/>
            <a:ext cx="4845240" cy="1581120"/>
            <a:chOff x="2174400" y="1916280"/>
            <a:chExt cx="4845240" cy="1581120"/>
          </a:xfrm>
        </p:grpSpPr>
        <p:sp>
          <p:nvSpPr>
            <p:cNvPr id="1564" name=""/>
            <p:cNvSpPr/>
            <p:nvPr/>
          </p:nvSpPr>
          <p:spPr>
            <a:xfrm>
              <a:off x="3333600" y="244332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35560" y="297036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311800" y="191628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184480" y="2565360"/>
              <a:ext cx="11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174400" y="28512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184480" y="200520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193840" y="339732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851080" y="21798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5870160" y="323532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71800" y="2320920"/>
              <a:ext cx="1432080" cy="385920"/>
            </a:xfrm>
            <a:custGeom>
              <a:avLst/>
              <a:gdLst/>
              <a:ahLst/>
              <a:rect l="l" t="t" r="r" b="b"/>
              <a:pathLst>
                <a:path w="902" h="192">
                  <a:moveTo>
                    <a:pt x="0" y="192"/>
                  </a:moveTo>
                  <a:lnTo>
                    <a:pt x="640" y="192"/>
                  </a:lnTo>
                  <a:lnTo>
                    <a:pt x="640" y="0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3871800" y="2701800"/>
              <a:ext cx="1432080" cy="385920"/>
            </a:xfrm>
            <a:custGeom>
              <a:avLst/>
              <a:gdLst/>
              <a:ahLst/>
              <a:rect l="l" t="t" r="r" b="b"/>
              <a:pathLst>
                <a:path w="902" h="192">
                  <a:moveTo>
                    <a:pt x="0" y="192"/>
                  </a:moveTo>
                  <a:lnTo>
                    <a:pt x="640" y="192"/>
                  </a:lnTo>
                  <a:lnTo>
                    <a:pt x="640" y="0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4044960" y="2624040"/>
              <a:ext cx="639720" cy="173160"/>
              <a:chOff x="4044960" y="2624040"/>
              <a:chExt cx="639720" cy="173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4044960" y="26240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552920" y="26240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6035760" y="2085840"/>
              <a:ext cx="639720" cy="173160"/>
              <a:chOff x="6035760" y="2085840"/>
              <a:chExt cx="639720" cy="173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6035760" y="20858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543720" y="20858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6054840" y="3152880"/>
              <a:ext cx="639720" cy="172800"/>
              <a:chOff x="6054840" y="3152880"/>
              <a:chExt cx="639720" cy="172800"/>
            </a:xfrm>
          </p:grpSpPr>
          <p:sp>
            <p:nvSpPr>
              <p:cNvPr id="1582" name=""/>
              <p:cNvSpPr/>
              <p:nvPr/>
            </p:nvSpPr>
            <p:spPr>
              <a:xfrm>
                <a:off x="6054840" y="315288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62800" y="315288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4" name=""/>
          <p:cNvGrpSpPr/>
          <p:nvPr/>
        </p:nvGrpSpPr>
        <p:grpSpPr>
          <a:xfrm>
            <a:off x="2174400" y="4632480"/>
            <a:ext cx="4845240" cy="1581120"/>
            <a:chOff x="2174400" y="4632480"/>
            <a:chExt cx="4845240" cy="1581120"/>
          </a:xfrm>
        </p:grpSpPr>
        <p:sp>
          <p:nvSpPr>
            <p:cNvPr id="1585" name=""/>
            <p:cNvSpPr/>
            <p:nvPr/>
          </p:nvSpPr>
          <p:spPr>
            <a:xfrm>
              <a:off x="3333600" y="515952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35560" y="568656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11800" y="463248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184480" y="5281560"/>
              <a:ext cx="11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2174400" y="55674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2184480" y="472140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193840" y="611352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851080" y="48960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5870160" y="595152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871800" y="5037120"/>
              <a:ext cx="1432080" cy="390600"/>
            </a:xfrm>
            <a:custGeom>
              <a:avLst/>
              <a:gdLst/>
              <a:ahLst/>
              <a:rect l="l" t="t" r="r" b="b"/>
              <a:pathLst>
                <a:path w="902" h="246">
                  <a:moveTo>
                    <a:pt x="0" y="243"/>
                  </a:moveTo>
                  <a:lnTo>
                    <a:pt x="211" y="246"/>
                  </a:lnTo>
                  <a:lnTo>
                    <a:pt x="211" y="9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4379760" y="4964040"/>
              <a:ext cx="639720" cy="173160"/>
              <a:chOff x="4379760" y="4964040"/>
              <a:chExt cx="639720" cy="173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4379760" y="49640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887720" y="49640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35760" y="4802400"/>
              <a:ext cx="639720" cy="172800"/>
              <a:chOff x="6035760" y="4802400"/>
              <a:chExt cx="639720" cy="172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35760" y="480240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543720" y="480240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6054840" y="5869080"/>
              <a:ext cx="639720" cy="173160"/>
              <a:chOff x="6054840" y="5869080"/>
              <a:chExt cx="639720" cy="173160"/>
            </a:xfrm>
          </p:grpSpPr>
          <p:sp>
            <p:nvSpPr>
              <p:cNvPr id="1602" name=""/>
              <p:cNvSpPr/>
              <p:nvPr/>
            </p:nvSpPr>
            <p:spPr>
              <a:xfrm>
                <a:off x="6054840" y="586908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62800" y="586908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3191040" y="4638600"/>
              <a:ext cx="639720" cy="173160"/>
              <a:chOff x="3191040" y="4638600"/>
              <a:chExt cx="639720" cy="173160"/>
            </a:xfrm>
          </p:grpSpPr>
          <p:sp>
            <p:nvSpPr>
              <p:cNvPr id="1605" name=""/>
              <p:cNvSpPr/>
              <p:nvPr/>
            </p:nvSpPr>
            <p:spPr>
              <a:xfrm>
                <a:off x="3191040" y="463860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99000" y="463860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191040" y="6029280"/>
              <a:ext cx="639720" cy="173160"/>
              <a:chOff x="3191040" y="6029280"/>
              <a:chExt cx="639720" cy="173160"/>
            </a:xfrm>
          </p:grpSpPr>
          <p:sp>
            <p:nvSpPr>
              <p:cNvPr id="1608" name=""/>
              <p:cNvSpPr/>
              <p:nvPr/>
            </p:nvSpPr>
            <p:spPr>
              <a:xfrm>
                <a:off x="3191040" y="602928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99000" y="602928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2449440" y="5197680"/>
              <a:ext cx="639720" cy="172800"/>
              <a:chOff x="2449440" y="5197680"/>
              <a:chExt cx="639720" cy="172800"/>
            </a:xfrm>
          </p:grpSpPr>
          <p:sp>
            <p:nvSpPr>
              <p:cNvPr id="1611" name=""/>
              <p:cNvSpPr/>
              <p:nvPr/>
            </p:nvSpPr>
            <p:spPr>
              <a:xfrm>
                <a:off x="2449440" y="519768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957400" y="519768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2451240" y="5481720"/>
              <a:ext cx="639720" cy="173160"/>
              <a:chOff x="2451240" y="5481720"/>
              <a:chExt cx="639720" cy="173160"/>
            </a:xfrm>
          </p:grpSpPr>
          <p:sp>
            <p:nvSpPr>
              <p:cNvPr id="1614" name=""/>
              <p:cNvSpPr/>
              <p:nvPr/>
            </p:nvSpPr>
            <p:spPr>
              <a:xfrm>
                <a:off x="2451240" y="548172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959200" y="548172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 flipV="1">
              <a:off x="3871800" y="5418360"/>
              <a:ext cx="1432080" cy="390240"/>
            </a:xfrm>
            <a:custGeom>
              <a:avLst/>
              <a:gdLst/>
              <a:ahLst/>
              <a:rect l="l" t="t" r="r" b="b"/>
              <a:pathLst>
                <a:path w="902" h="246">
                  <a:moveTo>
                    <a:pt x="0" y="243"/>
                  </a:moveTo>
                  <a:lnTo>
                    <a:pt x="211" y="246"/>
                  </a:lnTo>
                  <a:lnTo>
                    <a:pt x="211" y="9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4379760" y="5716800"/>
              <a:ext cx="639720" cy="172800"/>
              <a:chOff x="4379760" y="5716800"/>
              <a:chExt cx="639720" cy="172800"/>
            </a:xfrm>
          </p:grpSpPr>
          <p:sp>
            <p:nvSpPr>
              <p:cNvPr id="1618" name=""/>
              <p:cNvSpPr/>
              <p:nvPr/>
            </p:nvSpPr>
            <p:spPr>
              <a:xfrm>
                <a:off x="4379760" y="571680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887720" y="571680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87C0-81C9-48E4-9130-7F7BFB0707E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3960" y="75960"/>
            <a:ext cx="8004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Delay models for async. circu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298080" y="1219320"/>
            <a:ext cx="6289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Bounded delays (BD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realistic for gates and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Technology mapping is easy, verification is difficult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Speed independent (S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Unbounded (pessimistic) delays for gates and “negligible” (optimistic) delays for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Technology mapping is more difficult, verification is easy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Delay insensitive (D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Unbounded (pessimistic) delays for gates and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I class (built out of basic gates) is almost empty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Quasi-delay insensitive (QD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Delay insensitive except for critical wire forks (</a:t>
            </a:r>
            <a:r>
              <a:rPr b="1" i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isochronic forks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In practice it is the same as speed independ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1846440"/>
            <a:ext cx="1824120" cy="182376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081920" y="2498760"/>
            <a:ext cx="1824120" cy="18241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44960" y="20257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B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337520" y="37036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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QD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8157960" y="2814480"/>
            <a:ext cx="485640" cy="484200"/>
            <a:chOff x="8157960" y="2814480"/>
            <a:chExt cx="485640" cy="484200"/>
          </a:xfrm>
        </p:grpSpPr>
        <p:sp>
          <p:nvSpPr>
            <p:cNvPr id="1627" name=""/>
            <p:cNvSpPr/>
            <p:nvPr/>
          </p:nvSpPr>
          <p:spPr>
            <a:xfrm>
              <a:off x="8157960" y="2814480"/>
              <a:ext cx="484200" cy="48420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57960" y="281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13F6-27F3-4DFE-91E6-D38BD2FEC86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Motivation (designer’s view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Modularity for system-on-chip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Plug-and-play interconne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verage-case pe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No worst-case delay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Many interfaces are asynchron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Buses, networks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62DA-7800-4237-9FC2-521DC4B6F1D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09320" y="75960"/>
            <a:ext cx="8048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Motivation (technology aspects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w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utomatic clock ga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lectromagnetic compati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o peak currents around clock ed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o  ‘electro-magnetic difference’ between logical ‘0’ and ‘1’in dual rail c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obust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High immunity to technology and environment variations (temperature, power supply, 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46E6-865B-42BB-A480-E1922942E54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issua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ncurrent models for 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SP, Petri nets, ...: no more FS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Hazards,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mplex timing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estimate per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No way to stop the cl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709F-BF4F-45B0-A519-8439F4DD2F3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But ... some successful st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6931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Phili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MULET microprocess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har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Intel (RAPPI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tart-up compani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heseus logic, ADD Inc., Self-Timed Solu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ecent blurb: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t's Time for Clockless Chips, by Claire Tris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a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(MIT Technology Review, v. 104, no.8, October 2001: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technologyreview.com/magazine/oct01/tristram.asp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…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C7EA-24BA-436A-BD51-03B455346248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Synchronous circui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320" y="5205240"/>
            <a:ext cx="83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mplicit (global) synchronization between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lock Period  &gt; Max Delay (C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816200"/>
            <a:ext cx="8305920" cy="3137760"/>
            <a:chOff x="609480" y="1816200"/>
            <a:chExt cx="8305920" cy="3137760"/>
          </a:xfrm>
        </p:grpSpPr>
        <p:sp>
          <p:nvSpPr>
            <p:cNvPr id="96" name=""/>
            <p:cNvSpPr/>
            <p:nvPr/>
          </p:nvSpPr>
          <p:spPr>
            <a:xfrm>
              <a:off x="1066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1816200"/>
              <a:ext cx="1079280" cy="199368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1828800"/>
              <a:ext cx="1079280" cy="199404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1841400"/>
              <a:ext cx="1079280" cy="199404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516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468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456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8408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1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7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83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0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2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7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295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81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67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153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5280" y="4191120"/>
              <a:ext cx="6858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19112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5920" y="44942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8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8964-B4B4-43A2-8805-3BE139A180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4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81620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82880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184140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516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468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456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408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1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3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867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153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080" y="5073480"/>
            <a:ext cx="84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Explicit (Local) synchronization: Req/Ack handshak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191120"/>
            <a:ext cx="533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800" y="38847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e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3440" y="17510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555F-28E8-4A2E-90E2-9AAEE6FAF1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Motivation for asynchronou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design is often unavoidab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interfaces, arbiters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odern clocking is multi-phase and distributed – and virtually ‘asynchronous’ (cf. GALS – next slide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sachronous (clock travels together with 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Local (possibly stretchable) clock gene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obust asynchronous design flow is  coming (e.g. VLSI programming from Philips, Balsa from Univ of Manchester, NCL from Theseus Logic …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7F52-3AF9-4863-9C34-94BE3AD155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75960"/>
            <a:ext cx="830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Globally Async Locally Sync (GALS)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51160" y="1379520"/>
            <a:ext cx="5197320" cy="46576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1200" y="1363680"/>
            <a:ext cx="3744720" cy="3716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72840" y="410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cal CL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9200" y="187164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75200" y="187164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85904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768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720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4000" y="2633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2272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800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872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 flipV="1" rot="16200000">
            <a:off x="3850200" y="3882960"/>
            <a:ext cx="1211760" cy="1191600"/>
          </a:xfrm>
          <a:prstGeom prst="bentConnector5">
            <a:avLst>
              <a:gd name="adj1" fmla="val 34977"/>
              <a:gd name="adj2" fmla="val 100664"/>
              <a:gd name="adj3" fmla="val 50044"/>
            </a:avLst>
          </a:prstGeom>
          <a:ln w="28440">
            <a:solidFill>
              <a:srgbClr val="ffffcc"/>
            </a:solidFill>
            <a:miter/>
            <a:tailEnd len="sm" type="triangle" w="sm"/>
          </a:ln>
        </p:spPr>
      </p:cxnSp>
      <p:cxnSp>
        <p:nvCxnSpPr>
          <p:cNvPr id="188" name=""/>
          <p:cNvCxnSpPr>
            <a:endCxn id="178" idx="2"/>
          </p:cNvCxnSpPr>
          <p:nvPr/>
        </p:nvCxnSpPr>
        <p:spPr>
          <a:xfrm flipV="1">
            <a:off x="5036760" y="3852000"/>
            <a:ext cx="1105560" cy="807480"/>
          </a:xfrm>
          <a:prstGeom prst="bentConnector2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</p:cxnSp>
      <p:sp>
        <p:nvSpPr>
          <p:cNvPr id="189" name=""/>
          <p:cNvSpPr/>
          <p:nvPr/>
        </p:nvSpPr>
        <p:spPr>
          <a:xfrm>
            <a:off x="1523880" y="300348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84440" y="2728800"/>
            <a:ext cx="652320" cy="28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99920" y="3700440"/>
            <a:ext cx="609480" cy="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4160" y="5369040"/>
            <a:ext cx="37591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-to-sync Wrap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94336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5480" y="2654280"/>
            <a:ext cx="652680" cy="28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7532280" y="3682800"/>
            <a:ext cx="609480" cy="140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65280" y="481644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97040" y="4556160"/>
            <a:ext cx="652320" cy="28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726920" y="5484600"/>
            <a:ext cx="609480" cy="1404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72240" y="470052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89880" y="4511520"/>
            <a:ext cx="652320" cy="28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561080" y="5452920"/>
            <a:ext cx="609480" cy="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6720" y="236520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435276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29600" y="233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8320" y="41781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28160" y="342252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7680" y="521964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4880" y="52912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4466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30320" y="6400800"/>
            <a:ext cx="714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6120" y="13334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Arial"/>
                <a:ea typeface="Arial"/>
              </a:rPr>
              <a:t>Asynchronous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32200" y="137628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locked Dom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0D77-23A1-4161-92C5-7AC9BA6BA6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Key Design Differenc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Synchronous logic desig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proceeds without taking timing correctness (hazards, signal ack-ing etc.) into accou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Combinational logic and memory latches (registers) are built separate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Static timing analysis of CL is sufficient to determine the Max Delay (clock perio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Fixed set-up and hold conditions for latch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40AA-C4B6-46A1-9A4D-EC4DB65A13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Yakovlev</cp:lastModifiedBy>
  <cp:lastPrinted>2001-10-19T14:00:48Z</cp:lastPrinted>
  <dcterms:modified xsi:type="dcterms:W3CDTF">2001-11-29T16:55:36Z</dcterms:modified>
  <cp:revision>44</cp:revision>
  <dc:subject/>
  <dc:title>Introduction to basic concepts on asynchronous circuit design</dc:title>
</cp:coreProperties>
</file>