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E6C-17E4-486C-9974-961EBD46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EAD-6ECC-445D-8B99-3D0C70C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699-0A52-48E5-9FBD-26AFC802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BB6-B7ED-4A7B-B5D6-F9943C7F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C77-3656-4286-966A-653D80CD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622-0E6D-4135-BF46-EE393D04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2C4-82CA-43DA-B871-350AC70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A8E-0E6D-4AA8-B4BC-49C0BC23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8F0-231C-4D84-9369-2482389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B61-1048-4200-BA9A-4C73CE7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163-115E-4AB7-BD3D-7D5D8D2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7C3-B3F0-4639-94BF-38D4E5D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1AC-753E-4C6F-8DD5-D873BC8CB95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 design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076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 IV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AE3-2D10-471D-82B3-B8C746C027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Asynchronous Microprocess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 (Grenoble) “ASPRO-216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signal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s Research Laboratories 80C5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sized using “Tangram”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us Star-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Null Convention Logic (NC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E6-5AA9-439C-80C8-E45B7995F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 Processor Archite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76360" y="12193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synchronous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comp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e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lide11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8224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14B-9BBF-446C-AE60-85AC308A54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chronous vs. Asynchronous 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MULET looks very like a synchronous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blocks divided by pipeline la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ideas can be ‘copied', some need rein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ynchronous ‘tricks’ don’t work in an asynchronous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local interactions, dependency resolution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lining is too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tation to inefficien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A5E-DA0D-4CD1-AC6F-C0F09F540F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-dependent Tim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 instructions allow a shift before an ALU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are rarely explo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hifter is often by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ecution timing may be adjusted appropri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lide1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0360" cy="30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49E-AAB7-41A7-905F-BA6FFF5B0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-level Parallelis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decode and execute s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threads – many invoked condition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wed pipeline latches (lower power EM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stage delay (e.g. ‘stretch’ for series shif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ing pipeline depths (extra buffer for LDM/ST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al invocation of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lide1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40560" cy="26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D80-B782-400C-9E49-A6C2D75E2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C Pipe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synchronous design non-local values can be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M uses the PC as an oper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e.g. relative bran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ual value is two instructions ‘out’ due to the pipeline depth of the original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lide1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611680" cy="21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97B-9D73-4539-81C8-40312F0AE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C Pipe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asynchronous design only ‘adjacent’ stages can communic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 supplies the PC value with ever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an be adjusted as required in an implementation independent man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lide15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120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E21-A1E4-4C5E-93BD-43F7BB30E2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umb Expan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shaking allows pipeline occupancy to be changed without global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mb instructions normally fetched in pairs but executed individ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scheme applied to (e.g.) ‘Load Multipl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scheme applied to removing ‘surplus’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lide16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6116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CF8-8E3B-4C67-A3D5-A05570CE2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l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unit can impose an arbitrary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peline stage could choose to delay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halt the whole pipeline shortly thereaf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stream stages ‘drain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stream stages ‘back up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ted CMOS circuits use ‘no’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ock power ei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art is instantane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MULET2 and AMULET3 exploit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sy power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62B-0B8B-4C63-A3DC-9381432FE0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lou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anches change the local colour and request a new strea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fetched operations discarded until a new stream arr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lide18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451640" cy="29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295280"/>
            <a:ext cx="807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peline occupancy may be non-determ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BB8-B91D-4EE6-B660-346D477030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Asynchronous Logic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hing when there is nothing to be d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design freedom and component reus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magnetic Interference (EM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s concentrate noise energy at particular frequ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prise the hacker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172-B1E2-4FE7-B7A2-6B35A1FBF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  if pipeline occupancy is variable, what happens if a token is inserted into a ‘full’ pipelin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     Deadloc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nger with the large number of state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voided with careful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ases in AMULET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es when the prefetch pipeline is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conflict between instruction and data fe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were known early and prevented at a higher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191-E75C-4EBD-8AF0-0134863F88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Abor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6479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for MMU to abort or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tch cycle if memory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lide20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43520" cy="30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2ED-B339-4D7F-9007-44618AAFBA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Abor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 on memory not ab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sults returned out of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parallelism =&gt; higher through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lide2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64280" cy="30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483-23F3-4D4C-A1F6-C2F661795C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order Buff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instructions to complete in any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s register depend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register 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s low-overhead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exact page fault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slide2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932440" cy="21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2DD-801F-4A5F-8188-DF3B009993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order Buff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an arrive along any path at any time, providing their targets are mutually exclu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out waits for each register to be filled in turn, then copies out the result (or not, if unwant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out frees the register bu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es not delete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slide2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24044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440-AC06-4AD2-906A-ABD49DA054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i Memory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46479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M is ‘dual-port’ (at this lev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ction bus is simp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it has a higher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slide25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693040" cy="33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F48-8F2D-48DC-8B59-ED8472ACD6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ory Stru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cal RAM is divided into 1 Kbyt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ed RAM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dual-port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50% instruction fetches are from the ‘Ibuffer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slide26a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43600" cy="29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797-216F-47A6-8008-B767281028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2e Cach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l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-dependent 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 line fe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 inclu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-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ti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slide2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5370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2C1-88FD-40C3-B66A-2DB2C8B7C9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thesis vs. Hand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AMULET3i system was designed at schematic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(the DMA controller) was a test of Bal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asynchronous synthesi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sised blocks are more efficient to design but less efficient in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able for (e.g.) peripherals that are rarely invo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iming closure problem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59D-119A-445E-879E-3A5F1F7FD5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7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structures (register banks) in full cus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ynthesised from Balsa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ats slightly by letting a clock into one corne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slide28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4079880" cy="27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40A-9172-4E38-8F14-B9438D840C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synchronous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processo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and opportunities in asynchronous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solutions to a selection of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ies and periph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S and asynchronous inter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D04-9BAA-4C8A-BBAC-5CEB873867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ject to produce a synthesisable ARM core in Bal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3-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its many ‘performance’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dual-rail coding to enhance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rgettable to any process, including dual-rail, 1-of-N codes etc. by recomp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D06-0965-4DEA-9EA5-B6D023A2F5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 vs. SP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lide3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83560" cy="46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E7E-7C55-498E-AAD1-139D66C2A8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 on-chip Interconn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ntrally arbitrated, multi-channel, asynchronous on-chip b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s: 8-, 16- and 32-bit transfers, bus locking, sequential bursts,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parate, decoupled, asynchronous transfer phases for address and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2-bit bundled data pathway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on AMULET3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‘master’ and ‘slave’ interfa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interface to on-chip synchronous bus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A05-0100-4622-BC91-E595F9A89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 on-chip Interconn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 insensitive coding for ‘distance’ trans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more wires per 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it lack of clock to send serial symbols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wires, 2-bit (1-of-4) symb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-to-point unidirectional wi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‘master’ and ‘slave’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easily provide standard synchronous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slide32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321440" cy="107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EB1-3CD2-4442-84ED-A1FC034517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A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ly Asynchronous, Locally Synchronous inter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‘conventional’ synchronous design blocks for S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synchronous interconnection to avoid timing closur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the first big application of asynchronous log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reason why the ‘local’ blocks need to be synchronous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C2F-4266-42A5-B9A2-D4CD08F2D5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MULET3 microprocessor (ARMv4T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 Kbytes RA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6 Kbytes RO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lexible, multi-channel DMAC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grammable memory interf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-chip asynchronous bus (MARBL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ridge to on-chip synchronous bu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figuration registe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ftware debug suppor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slide36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00360" cy="33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446-0B15-41EC-9276-9B0DA83DF3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erience of Large Asynchronous Desig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, but fea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ability (GAL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s, Theseus, ADD, Intel?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8E4-4537-45B9-B07A-9E70E26FDC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 log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ompetitive with ‘conventional’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advantages with low-power and low E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portable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the only solution for some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interconnections on large ch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big systems is a lot of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hard to catch up with the big compan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8C5-0A4B-42E9-B948-806F97E4C7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Microprocessor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 defined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demonstrate correct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conta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tand-alon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obviously suited to asynchronous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d to examine ‘real’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ing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echniques to dev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322-2EB7-450B-9E5A-84E10E2C2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1 (199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6 compatible processor (almo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um 6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d data, two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phase logic hard to work with and interface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mulet1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62908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6E8-591A-4AA0-86F5-68DAC200C3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2e (199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7 compatibl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um 45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d data, four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use, self-contain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mulet2e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354040" cy="22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CC4-A1A0-4D84-8ACA-E240E6D63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3i (2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9 compatibl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: Memory, DMA controller, bus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5um 80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d data, two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 application (DRAC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ies don’t have the resources for such project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RACO" descr=""/>
          <p:cNvPicPr/>
          <p:nvPr/>
        </p:nvPicPr>
        <p:blipFill>
          <a:blip r:embed="rId1"/>
          <a:stretch/>
        </p:blipFill>
        <p:spPr>
          <a:xfrm>
            <a:off x="6248520" y="2133720"/>
            <a:ext cx="253656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0EF-789A-48E5-A3F8-11EF41ACE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 (200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10 compatibl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8um well over 1 million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synth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-rail, four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 smartcard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confirm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895480"/>
            <a:ext cx="838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FE1-35DA-4C0B-8C97-84368E66B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Asynchronous Microprocess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tech Asynchronous Microprocesso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8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asynchronous micr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okyo’s “TITAC-2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tech “MiniMIPS” (R300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95D-B3B9-45C2-B4B3-3B870E5BF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04:17:08Z</dcterms:created>
  <dc:creator>Texas Instruments India</dc:creator>
  <dc:description/>
  <dc:language>en-US</dc:language>
  <cp:lastModifiedBy>amulet</cp:lastModifiedBy>
  <cp:lastPrinted>2001-05-24T02:57:14Z</cp:lastPrinted>
  <dcterms:modified xsi:type="dcterms:W3CDTF">2001-11-30T10:22:18Z</dcterms:modified>
  <cp:revision>66</cp:revision>
  <dc:subject/>
  <dc:title>No Slide Title</dc:title>
</cp:coreProperties>
</file>