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38C-71B1-441A-A2D2-B930453068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56A-4F19-4C10-9A40-AA56076957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5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8806-9ACE-4A9D-953E-8158A016BC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6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9232-09DF-49E8-9D9F-291B343F4B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6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5E2-4BD8-44E1-A5CE-4C53F68BB1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7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C99D-F0C5-48F9-8B2B-8985DF26AD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8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FA8-A302-4369-9DC3-5D33FF4C0E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8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4FE8-B76E-4834-B5CA-C4FAE046FC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9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915A-6568-4A24-8369-70FB14DDDD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9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F3C-C58C-4581-8E2E-0857938673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0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652-85FB-4B45-A35F-AACE7829B9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1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1039-9F6C-403A-B9F9-02ADCC1006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1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75B6-4A26-4CDD-9160-530400D161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2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EC7-E271-4DA1-BE8B-B948328848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2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DA01-0BBA-4659-9CFC-28C9D3B06C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3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FE3-F858-4232-AF92-0D18F60119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4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8FB-814B-4FB1-9A14-1202FB9C75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4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556-E988-41B2-A6FF-82467A4C7D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DF6-EFB4-40CF-80B7-A248621279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5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06D-D1A7-4569-91EC-253028AD82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6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143-F5C4-4500-8839-D6C75AC419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8ED-2541-4FCC-9B2B-E4A901B637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7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BD6-62EE-44E2-8690-147B9F17A5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7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6BD-AF14-4D2E-98DF-F5BFCB0AED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8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4EA-AED7-4275-AC36-91EDCE2F72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8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D5F-5653-4EAC-BB9D-2D1293DEFE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C15-9B8A-48DF-B959-9487D90A1A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0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BE7-306C-4147-8E07-ACD06AF643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0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F96D-86DB-4655-894E-8864823AD5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A0C-E7F1-4EA1-BCBA-CEA0C42BF6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1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497-BEF8-4CDE-85D5-60C3FEEA17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2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082B-DEE2-4F7E-8AF0-42314CA640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2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C9C9-9EE1-4DAF-A0D6-6B79096F71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3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0B0-9DD9-49DE-9742-0F4C54614A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3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578-11A0-4620-BDB3-45F5857FF1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4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4522-328B-423E-B617-7409CF3A6B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4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4A6-8DAF-4464-9675-9169C409C3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5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2E5-1870-4FA1-9ECB-3C54F48BDB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F190-EAB4-4F5E-ADB2-D3A7F2897A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6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2203-EEDD-4D22-BD7D-6E399B7C57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7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D8B9-EFAD-40DB-A04C-43809AEE5B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7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AEC-C22C-492E-A083-349E0D98C8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3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3E64-FF6C-4FDF-BA79-E2410E065B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8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BD44-F9D6-4963-AF0E-D11CDE76CF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9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43D7-96B2-45D4-8435-C9D653026E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9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68C-839E-44F8-A333-244E22025F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3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D724-61B7-40B1-A917-2B9D24D69C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4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EC3-430C-45FD-8251-498CA9CEDA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40AE-2076-4D30-9C96-0A04509B3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72BB-C294-4CE5-A608-8C67D9F0C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E4DA-7255-4C94-89D8-7E77D689C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562F-985E-4F88-8A4D-A5C50796B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EEC2E-2005-49E2-8E0A-C46D3CE8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C413D-6A12-4967-9A9C-8EE53F6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45BE1-72B6-43B8-A8A0-D4C03DA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5F2A7-751F-4030-820E-EBBE4BBE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9E68-7890-4DFD-B813-DCC67D7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11F07-ACCA-4AB7-B7E8-50F47D9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6F76-62FA-4FFA-BCB8-06682A7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6991-E1B7-4253-9E43-5AAA37FA9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021C1-A78C-4AC7-8E1C-6F1D23D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3B5C9-ECF7-4DAC-BE19-91FEB0F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F1D4D-3491-42E4-861B-B59C6A54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DCBF-5F4E-444C-BCAE-C8C01CBE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26ACD-BC8F-4763-BEA4-D42D789F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1BC6-994A-4F52-A9D8-7EA7986CB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32CD-FCF6-467C-A2E0-9A717EC38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3B54-C055-4903-9E52-8C3E2A5EC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11AD-7C96-4C4F-A5F5-954DA5DD6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7300-29ED-4BCD-B4F2-97655446C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8D3D-A6B1-4BE7-BA0E-6565DF37C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40C5-F42D-48E3-9545-B1E188C5F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324480"/>
            <a:ext cx="693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87960" y="6324480"/>
            <a:ext cx="56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48E-CC5C-4964-8750-0AF07F90AE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FDB-7FAA-4B82-85E6-56867D6DF6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dvanced topics on synth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64113-40FC-47B7-AEB3-E2605B3558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74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82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500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638360" y="1409760"/>
            <a:ext cx="457200" cy="3808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22640" y="252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1440" y="29862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2593800"/>
            <a:ext cx="251136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279240" y="2593800"/>
            <a:ext cx="251172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15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549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6399-DA12-46E2-97F1-A81CFE8A5C43}" type="slidenum">
              <a:t>10</a:t>
            </a:fld>
          </a:p>
        </p:txBody>
      </p:sp>
    </p:spTree>
  </p:cSld>
  <p:transition advTm="6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558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491000" y="2743200"/>
                <a:ext cx="1616040" cy="1373040"/>
                <a:chOff x="4491000" y="2743200"/>
                <a:chExt cx="1616040" cy="137304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4491000" y="2743200"/>
                  <a:ext cx="1365120" cy="1373040"/>
                  <a:chOff x="4491000" y="2743200"/>
                  <a:chExt cx="1365120" cy="13730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4497480" y="27496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491000" y="27432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5867280" y="34146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4037040" y="2971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37040" y="38862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037040" y="3429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568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488760" y="3627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887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84000" y="4008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8400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979640" y="4129200"/>
            <a:ext cx="2070000" cy="1373040"/>
            <a:chOff x="1979640" y="4129200"/>
            <a:chExt cx="2070000" cy="1373040"/>
          </a:xfrm>
        </p:grpSpPr>
        <p:grpSp>
          <p:nvGrpSpPr>
            <p:cNvPr id="584" name=""/>
            <p:cNvGrpSpPr/>
            <p:nvPr/>
          </p:nvGrpSpPr>
          <p:grpSpPr>
            <a:xfrm>
              <a:off x="2433600" y="4129200"/>
              <a:ext cx="1616040" cy="1373040"/>
              <a:chOff x="2433600" y="4129200"/>
              <a:chExt cx="1616040" cy="13730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433600" y="4129200"/>
                <a:ext cx="1365120" cy="1373040"/>
                <a:chOff x="2433600" y="4129200"/>
                <a:chExt cx="1365120" cy="1373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440080" y="41353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433600" y="4129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3809880" y="4800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7964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9640" y="5272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822400" y="2746440"/>
            <a:ext cx="2740320" cy="357804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898360" y="2822400"/>
            <a:ext cx="2739960" cy="357840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94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625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628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477F-ABEB-49DB-A4D4-9E11339F58A5}" type="slidenum">
              <a:t>11</a:t>
            </a:fld>
          </a:p>
        </p:txBody>
      </p:sp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637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645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050480" y="3551400"/>
            <a:ext cx="2466000" cy="1570320"/>
            <a:chOff x="1050480" y="3551400"/>
            <a:chExt cx="2466000" cy="1570320"/>
          </a:xfrm>
        </p:grpSpPr>
        <p:sp>
          <p:nvSpPr>
            <p:cNvPr id="657" name=""/>
            <p:cNvSpPr/>
            <p:nvPr/>
          </p:nvSpPr>
          <p:spPr>
            <a:xfrm>
              <a:off x="10504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0480" y="45417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446120" y="3672000"/>
              <a:ext cx="2070360" cy="1373040"/>
              <a:chOff x="1446120" y="3672000"/>
              <a:chExt cx="2070360" cy="137304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1900080" y="3672000"/>
                <a:ext cx="1616400" cy="1373040"/>
                <a:chOff x="1900080" y="3672000"/>
                <a:chExt cx="1616400" cy="137304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1900080" y="3672000"/>
                  <a:ext cx="1365480" cy="1373040"/>
                  <a:chOff x="1900080" y="3672000"/>
                  <a:chExt cx="1365480" cy="13730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1906560" y="3678120"/>
                    <a:ext cx="1359000" cy="13590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900080" y="36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>
                  <a:off x="3276720" y="43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1446120" y="39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46120" y="48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>
            <a:off x="4033800" y="3889440"/>
            <a:ext cx="0" cy="911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494160" y="4343400"/>
            <a:ext cx="539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505320" y="2971800"/>
            <a:ext cx="2744640" cy="1220760"/>
            <a:chOff x="3505320" y="2971800"/>
            <a:chExt cx="2744640" cy="1220760"/>
          </a:xfrm>
        </p:grpSpPr>
        <p:sp>
          <p:nvSpPr>
            <p:cNvPr id="670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43600" y="29718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05320" y="3886200"/>
            <a:ext cx="2744640" cy="1220760"/>
            <a:chOff x="3505320" y="3886200"/>
            <a:chExt cx="2744640" cy="1220760"/>
          </a:xfrm>
        </p:grpSpPr>
        <p:sp>
          <p:nvSpPr>
            <p:cNvPr id="673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43600" y="48006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75" name=""/>
          <p:cNvGraphicFramePr/>
          <p:nvPr/>
        </p:nvGraphicFramePr>
        <p:xfrm>
          <a:off x="7639200" y="3548160"/>
          <a:ext cx="880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9200" y="3548160"/>
                    <a:ext cx="880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6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7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7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F65C-E5F2-4683-B0BD-AFB4DA0D6DD4}" type="slidenum">
              <a:t>12</a:t>
            </a:fld>
          </a:p>
        </p:txBody>
      </p:sp>
    </p:spTree>
  </p:cSld>
  <p:transition advTm="3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rategy for  logic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440" y="158400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ach decomposition defines a new internal signal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thod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sert new internal signals such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resynthesis, some large gates are decompo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specification is hazard-fre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nerate candidates for decomposition using standard logic factorization techniqu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ebraic facto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olean factorization (boolean rela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7DF6-354E-44D1-9D7B-AC084FFD20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6096240" y="1170000"/>
            <a:ext cx="2681640" cy="4493160"/>
            <a:chOff x="6096240" y="1170000"/>
            <a:chExt cx="2681640" cy="4493160"/>
          </a:xfrm>
        </p:grpSpPr>
        <p:sp>
          <p:nvSpPr>
            <p:cNvPr id="723" name=""/>
            <p:cNvSpPr/>
            <p:nvPr/>
          </p:nvSpPr>
          <p:spPr>
            <a:xfrm>
              <a:off x="6702840" y="117000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07480" y="2846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6160" y="284616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56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00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51000" y="5132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56880" y="3989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61120" y="284616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480000" y="1736640"/>
              <a:ext cx="30168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37200" y="1736640"/>
              <a:ext cx="37800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008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152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8000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01352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381880" y="33350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6240" y="3714840"/>
              <a:ext cx="22852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00560" y="1509480"/>
              <a:ext cx="2286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7480" y="189216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200" y="1184400"/>
            <a:ext cx="5167080" cy="4155480"/>
            <a:chOff x="61200" y="1184400"/>
            <a:chExt cx="5167080" cy="4155480"/>
          </a:xfrm>
        </p:grpSpPr>
        <p:sp>
          <p:nvSpPr>
            <p:cNvPr id="742" name=""/>
            <p:cNvSpPr/>
            <p:nvPr/>
          </p:nvSpPr>
          <p:spPr>
            <a:xfrm>
              <a:off x="16232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664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112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0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9948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232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0896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112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9948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232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64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664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441160" y="165744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1450800" y="181296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886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2888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051000" y="35658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137448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136600" y="44802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90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27120" y="44802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892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50800" y="26514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504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12920" y="181296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7840" y="516276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876920" y="356400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876920" y="181116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83840" y="11844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0640" y="2480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03160" y="4080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3840" y="2556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27560" y="225144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22440" y="1717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07520" y="4766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78720" y="16416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60680" y="25560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6280" y="339444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93120" y="25560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31560" y="33944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78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1716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21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8364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A5D0-0F9D-4AD9-8383-25B5825B8419}" type="slidenum">
              <a:t>14</a:t>
            </a:fld>
          </a:p>
        </p:txBody>
      </p:sp>
    </p:spTree>
  </p:cSld>
  <p:transition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114800" y="1352520"/>
            <a:ext cx="1371600" cy="4785840"/>
            <a:chOff x="4114800" y="1352520"/>
            <a:chExt cx="1371600" cy="4785840"/>
          </a:xfrm>
        </p:grpSpPr>
        <p:sp>
          <p:nvSpPr>
            <p:cNvPr id="788" name=""/>
            <p:cNvSpPr/>
            <p:nvPr/>
          </p:nvSpPr>
          <p:spPr>
            <a:xfrm>
              <a:off x="4114800" y="1352520"/>
              <a:ext cx="1371600" cy="4267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03520" y="5680080"/>
              <a:ext cx="837360" cy="45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76320" y="1504800"/>
            <a:ext cx="3887640" cy="4633560"/>
            <a:chOff x="76320" y="1504800"/>
            <a:chExt cx="3887640" cy="4633560"/>
          </a:xfrm>
        </p:grpSpPr>
        <p:sp>
          <p:nvSpPr>
            <p:cNvPr id="791" name=""/>
            <p:cNvSpPr/>
            <p:nvPr/>
          </p:nvSpPr>
          <p:spPr>
            <a:xfrm>
              <a:off x="76320" y="1504800"/>
              <a:ext cx="3887640" cy="3888000"/>
            </a:xfrm>
            <a:custGeom>
              <a:avLst/>
              <a:gdLst/>
              <a:ahLst/>
              <a:rect l="l" t="t" r="r" b="b"/>
              <a:pathLst>
                <a:path w="2449" h="2449">
                  <a:moveTo>
                    <a:pt x="1008" y="0"/>
                  </a:moveTo>
                  <a:lnTo>
                    <a:pt x="0" y="1008"/>
                  </a:lnTo>
                  <a:lnTo>
                    <a:pt x="0" y="1488"/>
                  </a:lnTo>
                  <a:lnTo>
                    <a:pt x="960" y="2448"/>
                  </a:lnTo>
                  <a:lnTo>
                    <a:pt x="1488" y="2448"/>
                  </a:lnTo>
                  <a:lnTo>
                    <a:pt x="2448" y="1488"/>
                  </a:lnTo>
                  <a:lnTo>
                    <a:pt x="2448" y="1056"/>
                  </a:lnTo>
                  <a:lnTo>
                    <a:pt x="1392" y="0"/>
                  </a:lnTo>
                  <a:lnTo>
                    <a:pt x="1008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320" y="5680080"/>
              <a:ext cx="837360" cy="45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795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57240" y="1514520"/>
            <a:ext cx="2611440" cy="2211480"/>
          </a:xfrm>
          <a:custGeom>
            <a:avLst/>
            <a:gdLst/>
            <a:ahLst/>
            <a:rect l="l" t="t" r="r" b="b"/>
            <a:pathLst>
              <a:path w="1645" h="1393">
                <a:moveTo>
                  <a:pt x="1026" y="0"/>
                </a:moveTo>
                <a:lnTo>
                  <a:pt x="0" y="1026"/>
                </a:lnTo>
                <a:lnTo>
                  <a:pt x="0" y="1392"/>
                </a:lnTo>
                <a:lnTo>
                  <a:pt x="504" y="1392"/>
                </a:lnTo>
                <a:lnTo>
                  <a:pt x="1644" y="252"/>
                </a:lnTo>
                <a:lnTo>
                  <a:pt x="1398" y="6"/>
                </a:lnTo>
                <a:lnTo>
                  <a:pt x="1026" y="6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232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899320" y="1174680"/>
            <a:ext cx="2910240" cy="4953960"/>
            <a:chOff x="5899320" y="1174680"/>
            <a:chExt cx="2910240" cy="4953960"/>
          </a:xfrm>
        </p:grpSpPr>
        <p:grpSp>
          <p:nvGrpSpPr>
            <p:cNvPr id="885" name=""/>
            <p:cNvGrpSpPr/>
            <p:nvPr/>
          </p:nvGrpSpPr>
          <p:grpSpPr>
            <a:xfrm>
              <a:off x="6603840" y="1976040"/>
              <a:ext cx="1825920" cy="2057040"/>
              <a:chOff x="6603840" y="1976040"/>
              <a:chExt cx="1825920" cy="205704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6603840" y="1976040"/>
                <a:ext cx="1825920" cy="2057040"/>
                <a:chOff x="6603840" y="1976040"/>
                <a:chExt cx="1825920" cy="2057040"/>
              </a:xfrm>
            </p:grpSpPr>
            <p:grpSp>
              <p:nvGrpSpPr>
                <p:cNvPr id="887" name=""/>
                <p:cNvGrpSpPr/>
                <p:nvPr/>
              </p:nvGrpSpPr>
              <p:grpSpPr>
                <a:xfrm>
                  <a:off x="6710400" y="1976040"/>
                  <a:ext cx="1605240" cy="2057040"/>
                  <a:chOff x="6710400" y="1976040"/>
                  <a:chExt cx="1605240" cy="205704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 rot="10800000">
                    <a:off x="6717240" y="197604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710400" y="266184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407360" y="266364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400880" y="265716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6603840" y="2314440"/>
                  <a:ext cx="905040" cy="687240"/>
                  <a:chOff x="6603840" y="2314440"/>
                  <a:chExt cx="905040" cy="687240"/>
                </a:xfrm>
              </p:grpSpPr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6829560" y="2314440"/>
                    <a:ext cx="679320" cy="687240"/>
                    <a:chOff x="6829560" y="2314440"/>
                    <a:chExt cx="679320" cy="68724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835680" y="23205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6829560" y="23144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6" name=""/>
                  <p:cNvSpPr/>
                  <p:nvPr/>
                </p:nvSpPr>
                <p:spPr>
                  <a:xfrm>
                    <a:off x="6603840" y="24285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603840" y="28857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>
                  <a:off x="8204040" y="3000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289640" y="322884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8207280" y="294948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413120" y="1380960"/>
              <a:ext cx="1041840" cy="687240"/>
              <a:chOff x="7413120" y="1380960"/>
              <a:chExt cx="1041840" cy="68724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7421400" y="1380960"/>
                <a:ext cx="1033560" cy="687240"/>
                <a:chOff x="7421400" y="1380960"/>
                <a:chExt cx="1033560" cy="687240"/>
              </a:xfrm>
            </p:grpSpPr>
            <p:grpSp>
              <p:nvGrpSpPr>
                <p:cNvPr id="903" name=""/>
                <p:cNvGrpSpPr/>
                <p:nvPr/>
              </p:nvGrpSpPr>
              <p:grpSpPr>
                <a:xfrm>
                  <a:off x="7647120" y="1380960"/>
                  <a:ext cx="807840" cy="687240"/>
                  <a:chOff x="7647120" y="1380960"/>
                  <a:chExt cx="807840" cy="687240"/>
                </a:xfrm>
              </p:grpSpPr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7647120" y="1380960"/>
                    <a:ext cx="679320" cy="687240"/>
                    <a:chOff x="7647120" y="1380960"/>
                    <a:chExt cx="679320" cy="6872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7653240" y="1387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7647120" y="1380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" name=""/>
                  <p:cNvSpPr/>
                  <p:nvPr/>
                </p:nvSpPr>
                <p:spPr>
                  <a:xfrm>
                    <a:off x="8335800" y="1717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>
                  <a:off x="7421400" y="1495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421400" y="195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 flipH="1">
                <a:off x="7413120" y="172368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540560" y="144432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6278400" y="5121000"/>
              <a:ext cx="2189520" cy="919080"/>
              <a:chOff x="6278400" y="5121000"/>
              <a:chExt cx="2189520" cy="91908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6278400" y="5352840"/>
                <a:ext cx="1033560" cy="687240"/>
                <a:chOff x="6278400" y="5352840"/>
                <a:chExt cx="1033560" cy="68724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6504120" y="5352840"/>
                  <a:ext cx="807840" cy="687240"/>
                  <a:chOff x="6504120" y="5352840"/>
                  <a:chExt cx="807840" cy="687240"/>
                </a:xfrm>
              </p:grpSpPr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6504120" y="5352840"/>
                    <a:ext cx="679320" cy="687240"/>
                    <a:chOff x="6504120" y="5352840"/>
                    <a:chExt cx="679320" cy="68724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6510240" y="535932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6504120" y="53528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8" name=""/>
                  <p:cNvSpPr/>
                  <p:nvPr/>
                </p:nvSpPr>
                <p:spPr>
                  <a:xfrm>
                    <a:off x="7192800" y="56894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9" name=""/>
                <p:cNvSpPr/>
                <p:nvPr/>
              </p:nvSpPr>
              <p:spPr>
                <a:xfrm>
                  <a:off x="6278400" y="54669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278400" y="592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7327800" y="5121000"/>
                <a:ext cx="1140120" cy="673200"/>
                <a:chOff x="7327800" y="5121000"/>
                <a:chExt cx="1140120" cy="67320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7327800" y="5229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327800" y="5686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559640" y="5121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637040" y="5186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242200" y="5457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6261120" y="3666960"/>
              <a:ext cx="2206800" cy="907920"/>
              <a:chOff x="6261120" y="3666960"/>
              <a:chExt cx="2206800" cy="90792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7327800" y="3901680"/>
                <a:ext cx="1140120" cy="673200"/>
                <a:chOff x="7327800" y="3901680"/>
                <a:chExt cx="1140120" cy="6732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7327800" y="40096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327800" y="44668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559640" y="39016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637040" y="39668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242200" y="4238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6261120" y="3666960"/>
                <a:ext cx="1139760" cy="687240"/>
                <a:chOff x="6261120" y="3666960"/>
                <a:chExt cx="1139760" cy="68724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6486480" y="3666960"/>
                  <a:ext cx="914400" cy="687240"/>
                  <a:chOff x="6486480" y="3666960"/>
                  <a:chExt cx="914400" cy="68724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6486480" y="3666960"/>
                    <a:ext cx="679680" cy="687240"/>
                    <a:chOff x="6486480" y="3666960"/>
                    <a:chExt cx="679680" cy="68724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492960" y="3673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486480" y="3666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7175520" y="400968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7178760" y="395892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1" name=""/>
                <p:cNvSpPr/>
                <p:nvPr/>
              </p:nvSpPr>
              <p:spPr>
                <a:xfrm>
                  <a:off x="6261120" y="37810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261120" y="42382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7502400" y="441612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97492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74920" y="5670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72240" y="2774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7224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04200" y="1479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7224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41960" y="1174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41960" y="147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41960" y="1784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79840" y="2165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79840" y="262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89680" y="300348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7492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99320" y="35366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65640" y="42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41960" y="4984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219720" y="1571760"/>
            <a:ext cx="1676520" cy="1523880"/>
            <a:chOff x="6219720" y="1571760"/>
            <a:chExt cx="1676520" cy="1523880"/>
          </a:xfrm>
        </p:grpSpPr>
        <p:sp>
          <p:nvSpPr>
            <p:cNvPr id="961" name=""/>
            <p:cNvSpPr/>
            <p:nvPr/>
          </p:nvSpPr>
          <p:spPr>
            <a:xfrm>
              <a:off x="6981840" y="1571760"/>
              <a:ext cx="914400" cy="6094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19720" y="2257560"/>
              <a:ext cx="1371600" cy="8380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F310-A862-4CB5-88A6-9E9BFA833745}" type="slidenum">
              <a:t>15</a:t>
            </a:fld>
          </a:p>
        </p:txBody>
      </p:sp>
    </p:spTree>
  </p:cSld>
  <p:transition spd="slow" advTm="13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003720" y="1170000"/>
            <a:ext cx="3139200" cy="4953960"/>
            <a:chOff x="6003720" y="1170000"/>
            <a:chExt cx="3139200" cy="4953960"/>
          </a:xfrm>
        </p:grpSpPr>
        <p:grpSp>
          <p:nvGrpSpPr>
            <p:cNvPr id="1028" name=""/>
            <p:cNvGrpSpPr/>
            <p:nvPr/>
          </p:nvGrpSpPr>
          <p:grpSpPr>
            <a:xfrm>
              <a:off x="7754760" y="1376280"/>
              <a:ext cx="1033560" cy="687240"/>
              <a:chOff x="7754760" y="1376280"/>
              <a:chExt cx="1033560" cy="68724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7980480" y="1376280"/>
                <a:ext cx="807840" cy="687240"/>
                <a:chOff x="7980480" y="1376280"/>
                <a:chExt cx="807840" cy="68724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7980480" y="1376280"/>
                  <a:ext cx="679320" cy="687240"/>
                  <a:chOff x="7980480" y="1376280"/>
                  <a:chExt cx="679320" cy="68724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7986600" y="13824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980480" y="13762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>
                  <a:off x="8669160" y="17128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7754760" y="1490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754760" y="19476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7873920" y="14396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611760" y="5116320"/>
              <a:ext cx="2189520" cy="919080"/>
              <a:chOff x="6611760" y="5116320"/>
              <a:chExt cx="2189520" cy="91908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6611760" y="5348160"/>
                <a:ext cx="1033560" cy="687240"/>
                <a:chOff x="6611760" y="5348160"/>
                <a:chExt cx="1033560" cy="687240"/>
              </a:xfrm>
            </p:grpSpPr>
            <p:grpSp>
              <p:nvGrpSpPr>
                <p:cNvPr id="1039" name=""/>
                <p:cNvGrpSpPr/>
                <p:nvPr/>
              </p:nvGrpSpPr>
              <p:grpSpPr>
                <a:xfrm>
                  <a:off x="6837480" y="5348160"/>
                  <a:ext cx="807840" cy="687240"/>
                  <a:chOff x="6837480" y="5348160"/>
                  <a:chExt cx="807840" cy="687240"/>
                </a:xfrm>
              </p:grpSpPr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6837480" y="5348160"/>
                    <a:ext cx="679320" cy="687240"/>
                    <a:chOff x="6837480" y="5348160"/>
                    <a:chExt cx="679320" cy="68724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6843600" y="53546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6837480" y="53481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3" name=""/>
                  <p:cNvSpPr/>
                  <p:nvPr/>
                </p:nvSpPr>
                <p:spPr>
                  <a:xfrm>
                    <a:off x="7526160" y="56847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4" name=""/>
                <p:cNvSpPr/>
                <p:nvPr/>
              </p:nvSpPr>
              <p:spPr>
                <a:xfrm>
                  <a:off x="6611760" y="546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611760" y="59194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7661160" y="5116320"/>
                <a:ext cx="1140120" cy="673200"/>
                <a:chOff x="7661160" y="5116320"/>
                <a:chExt cx="1140120" cy="6732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7661160" y="5224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661160" y="56815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893000" y="51163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70400" y="51814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575560" y="54529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2" name=""/>
            <p:cNvGrpSpPr/>
            <p:nvPr/>
          </p:nvGrpSpPr>
          <p:grpSpPr>
            <a:xfrm>
              <a:off x="6594480" y="3662280"/>
              <a:ext cx="2206800" cy="907920"/>
              <a:chOff x="6594480" y="3662280"/>
              <a:chExt cx="2206800" cy="90792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7661160" y="3897000"/>
                <a:ext cx="1140120" cy="673200"/>
                <a:chOff x="7661160" y="3897000"/>
                <a:chExt cx="1140120" cy="6732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661160" y="4005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661160" y="4462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893000" y="3897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970400" y="3962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575560" y="4233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6594480" y="3662280"/>
                <a:ext cx="1139760" cy="687240"/>
                <a:chOff x="6594480" y="3662280"/>
                <a:chExt cx="1139760" cy="68724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6819840" y="3662280"/>
                  <a:ext cx="914400" cy="687240"/>
                  <a:chOff x="6819840" y="3662280"/>
                  <a:chExt cx="914400" cy="68724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6819840" y="3662280"/>
                    <a:ext cx="679680" cy="687240"/>
                    <a:chOff x="6819840" y="3662280"/>
                    <a:chExt cx="679680" cy="68724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6826320" y="36684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6819840" y="36622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08880" y="40050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2120" y="39542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6" name=""/>
                <p:cNvSpPr/>
                <p:nvPr/>
              </p:nvSpPr>
              <p:spPr>
                <a:xfrm>
                  <a:off x="6594480" y="3776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594480" y="42336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7835760" y="44114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630828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08280" y="5665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805600" y="27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0560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737560" y="1474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80560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375320" y="1170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03720" y="177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003720" y="223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23040" y="2998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0828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232680" y="3531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299000" y="4217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062840" y="1990440"/>
              <a:ext cx="1719360" cy="2057040"/>
              <a:chOff x="7062840" y="1990440"/>
              <a:chExt cx="1719360" cy="205704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062840" y="1990440"/>
                <a:ext cx="1605240" cy="2057040"/>
                <a:chOff x="7062840" y="1990440"/>
                <a:chExt cx="1605240" cy="2057040"/>
              </a:xfrm>
            </p:grpSpPr>
            <p:sp>
              <p:nvSpPr>
                <p:cNvPr id="1084" name=""/>
                <p:cNvSpPr/>
                <p:nvPr/>
              </p:nvSpPr>
              <p:spPr>
                <a:xfrm rot="10800000">
                  <a:off x="7069680" y="19904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62840" y="26762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9800" y="26780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3320" y="26715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8" name=""/>
              <p:cNvSpPr/>
              <p:nvPr/>
            </p:nvSpPr>
            <p:spPr>
              <a:xfrm>
                <a:off x="8556480" y="30146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553600" y="29638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758000" y="27860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756560" y="32432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383160" y="1909800"/>
              <a:ext cx="1033560" cy="687240"/>
              <a:chOff x="6383160" y="1909800"/>
              <a:chExt cx="1033560" cy="68724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6608880" y="1909800"/>
                <a:ext cx="807840" cy="687240"/>
                <a:chOff x="6608880" y="1909800"/>
                <a:chExt cx="807840" cy="687240"/>
              </a:xfrm>
            </p:grpSpPr>
            <p:grpSp>
              <p:nvGrpSpPr>
                <p:cNvPr id="1094" name=""/>
                <p:cNvGrpSpPr/>
                <p:nvPr/>
              </p:nvGrpSpPr>
              <p:grpSpPr>
                <a:xfrm>
                  <a:off x="6608880" y="1909800"/>
                  <a:ext cx="679320" cy="687240"/>
                  <a:chOff x="6608880" y="1909800"/>
                  <a:chExt cx="679320" cy="68724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6615000" y="19159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608880" y="19098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7297560" y="22460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6383160" y="2023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83160" y="24811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7394400" y="22431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3320" y="19508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75320" y="4979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7298640" y="16462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653E-5993-42DB-808D-D68478E6E9EE}" type="slidenum">
              <a:t>16</a:t>
            </a:fld>
          </a:p>
        </p:txBody>
      </p:sp>
    </p:spTree>
  </p:cSld>
  <p:transition advTm="3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7069680" y="13032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574320" y="2979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442640" y="297972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224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4368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017480" y="5265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523720" y="4122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27600" y="297972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6846840" y="1870200"/>
            <a:ext cx="301680" cy="12160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7676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820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4684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738036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8748720" y="34686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67760" y="164304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73960" y="202572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213680" y="209700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7360" y="503064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5FE2-D247-42A4-8C39-FE7E9B4AE93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232680" y="923760"/>
            <a:ext cx="2910240" cy="4953960"/>
            <a:chOff x="6232680" y="923760"/>
            <a:chExt cx="2910240" cy="4953960"/>
          </a:xfrm>
        </p:grpSpPr>
        <p:grpSp>
          <p:nvGrpSpPr>
            <p:cNvPr id="1198" name=""/>
            <p:cNvGrpSpPr/>
            <p:nvPr/>
          </p:nvGrpSpPr>
          <p:grpSpPr>
            <a:xfrm>
              <a:off x="6937200" y="1725120"/>
              <a:ext cx="1825920" cy="2057040"/>
              <a:chOff x="6937200" y="1725120"/>
              <a:chExt cx="1825920" cy="205704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6937200" y="1725120"/>
                <a:ext cx="1825920" cy="2057040"/>
                <a:chOff x="6937200" y="1725120"/>
                <a:chExt cx="1825920" cy="205704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7043760" y="1725120"/>
                  <a:ext cx="1605240" cy="2057040"/>
                  <a:chOff x="7043760" y="1725120"/>
                  <a:chExt cx="1605240" cy="205704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rot="10800000">
                    <a:off x="7050600" y="172512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043760" y="241092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740720" y="241272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734240" y="240624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6937200" y="2063520"/>
                  <a:ext cx="905040" cy="687240"/>
                  <a:chOff x="6937200" y="2063520"/>
                  <a:chExt cx="905040" cy="687240"/>
                </a:xfrm>
              </p:grpSpPr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7162920" y="2063520"/>
                    <a:ext cx="679320" cy="687240"/>
                    <a:chOff x="7162920" y="2063520"/>
                    <a:chExt cx="679320" cy="68724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7169040" y="206964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7162920" y="20635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9" name=""/>
                  <p:cNvSpPr/>
                  <p:nvPr/>
                </p:nvSpPr>
                <p:spPr>
                  <a:xfrm>
                    <a:off x="6937200" y="21776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937200" y="26348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8537400" y="27493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623000" y="297792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3" name=""/>
              <p:cNvSpPr/>
              <p:nvPr/>
            </p:nvSpPr>
            <p:spPr>
              <a:xfrm>
                <a:off x="8540640" y="269856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7746480" y="1130040"/>
              <a:ext cx="1041840" cy="687240"/>
              <a:chOff x="7746480" y="1130040"/>
              <a:chExt cx="1041840" cy="6872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7754760" y="1130040"/>
                <a:ext cx="1033560" cy="687240"/>
                <a:chOff x="7754760" y="1130040"/>
                <a:chExt cx="1033560" cy="687240"/>
              </a:xfrm>
            </p:grpSpPr>
            <p:grpSp>
              <p:nvGrpSpPr>
                <p:cNvPr id="1216" name=""/>
                <p:cNvGrpSpPr/>
                <p:nvPr/>
              </p:nvGrpSpPr>
              <p:grpSpPr>
                <a:xfrm>
                  <a:off x="7980480" y="1130040"/>
                  <a:ext cx="807840" cy="687240"/>
                  <a:chOff x="7980480" y="1130040"/>
                  <a:chExt cx="807840" cy="687240"/>
                </a:xfrm>
              </p:grpSpPr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7980480" y="1130040"/>
                    <a:ext cx="679320" cy="687240"/>
                    <a:chOff x="7980480" y="1130040"/>
                    <a:chExt cx="679320" cy="687240"/>
                  </a:xfrm>
                </p:grpSpPr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7986600" y="1136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7980480" y="1130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0" name=""/>
                  <p:cNvSpPr/>
                  <p:nvPr/>
                </p:nvSpPr>
                <p:spPr>
                  <a:xfrm>
                    <a:off x="8669160" y="14666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754760" y="124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7754760" y="1701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 flipH="1">
                <a:off x="7746480" y="147276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73920" y="119340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6611760" y="4870080"/>
              <a:ext cx="2189520" cy="919080"/>
              <a:chOff x="6611760" y="4870080"/>
              <a:chExt cx="2189520" cy="919080"/>
            </a:xfrm>
          </p:grpSpPr>
          <p:grpSp>
            <p:nvGrpSpPr>
              <p:cNvPr id="1226" name=""/>
              <p:cNvGrpSpPr/>
              <p:nvPr/>
            </p:nvGrpSpPr>
            <p:grpSpPr>
              <a:xfrm>
                <a:off x="6611760" y="5101920"/>
                <a:ext cx="1033560" cy="687240"/>
                <a:chOff x="6611760" y="5101920"/>
                <a:chExt cx="1033560" cy="687240"/>
              </a:xfrm>
            </p:grpSpPr>
            <p:grpSp>
              <p:nvGrpSpPr>
                <p:cNvPr id="1227" name=""/>
                <p:cNvGrpSpPr/>
                <p:nvPr/>
              </p:nvGrpSpPr>
              <p:grpSpPr>
                <a:xfrm>
                  <a:off x="6837480" y="5101920"/>
                  <a:ext cx="807840" cy="687240"/>
                  <a:chOff x="6837480" y="5101920"/>
                  <a:chExt cx="807840" cy="687240"/>
                </a:xfrm>
              </p:grpSpPr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6837480" y="5101920"/>
                    <a:ext cx="679320" cy="687240"/>
                    <a:chOff x="6837480" y="5101920"/>
                    <a:chExt cx="679320" cy="68724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6843600" y="510840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6837480" y="51019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1" name=""/>
                  <p:cNvSpPr/>
                  <p:nvPr/>
                </p:nvSpPr>
                <p:spPr>
                  <a:xfrm>
                    <a:off x="7526160" y="54385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"/>
                <p:cNvSpPr/>
                <p:nvPr/>
              </p:nvSpPr>
              <p:spPr>
                <a:xfrm>
                  <a:off x="6611760" y="52160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611760" y="5673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7661160" y="4870080"/>
                <a:ext cx="1140120" cy="673200"/>
                <a:chOff x="7661160" y="4870080"/>
                <a:chExt cx="1140120" cy="6732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7661160" y="49780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661160" y="54352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893000" y="48700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970400" y="49352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575560" y="52066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0" name=""/>
            <p:cNvGrpSpPr/>
            <p:nvPr/>
          </p:nvGrpSpPr>
          <p:grpSpPr>
            <a:xfrm>
              <a:off x="6594480" y="3416040"/>
              <a:ext cx="2206800" cy="907920"/>
              <a:chOff x="6594480" y="3416040"/>
              <a:chExt cx="2206800" cy="90792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7661160" y="3650760"/>
                <a:ext cx="1140120" cy="673200"/>
                <a:chOff x="7661160" y="3650760"/>
                <a:chExt cx="1140120" cy="67320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661160" y="37587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661160" y="42159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893000" y="365076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7970400" y="371592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575560" y="3987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6594480" y="3416040"/>
                <a:ext cx="1139760" cy="687240"/>
                <a:chOff x="6594480" y="3416040"/>
                <a:chExt cx="1139760" cy="687240"/>
              </a:xfrm>
            </p:grpSpPr>
            <p:grpSp>
              <p:nvGrpSpPr>
                <p:cNvPr id="1248" name=""/>
                <p:cNvGrpSpPr/>
                <p:nvPr/>
              </p:nvGrpSpPr>
              <p:grpSpPr>
                <a:xfrm>
                  <a:off x="6819840" y="3416040"/>
                  <a:ext cx="914400" cy="687240"/>
                  <a:chOff x="6819840" y="3416040"/>
                  <a:chExt cx="914400" cy="687240"/>
                </a:xfrm>
              </p:grpSpPr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6819840" y="3416040"/>
                    <a:ext cx="679680" cy="687240"/>
                    <a:chOff x="6819840" y="3416040"/>
                    <a:chExt cx="679680" cy="68724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6826320" y="3422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819840" y="3416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2" name=""/>
                  <p:cNvSpPr/>
                  <p:nvPr/>
                </p:nvSpPr>
                <p:spPr>
                  <a:xfrm>
                    <a:off x="7508880" y="375876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7512120" y="370800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" name=""/>
                <p:cNvSpPr/>
                <p:nvPr/>
              </p:nvSpPr>
              <p:spPr>
                <a:xfrm>
                  <a:off x="6594480" y="35301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594480" y="39873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7835760" y="416520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630828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308280" y="5419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805600" y="2523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80560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737560" y="1228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0560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75320" y="923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75320" y="1228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75320" y="1533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13200" y="1914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13200" y="2371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23040" y="2752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0828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32680" y="3285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99000" y="3971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75320" y="4733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6553080" y="1320840"/>
            <a:ext cx="1676520" cy="1523880"/>
            <a:chOff x="6553080" y="1320840"/>
            <a:chExt cx="1676520" cy="1523880"/>
          </a:xfrm>
        </p:grpSpPr>
        <p:sp>
          <p:nvSpPr>
            <p:cNvPr id="1274" name=""/>
            <p:cNvSpPr/>
            <p:nvPr/>
          </p:nvSpPr>
          <p:spPr>
            <a:xfrm>
              <a:off x="7315200" y="1320840"/>
              <a:ext cx="914400" cy="6094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53080" y="2006640"/>
              <a:ext cx="1371600" cy="8380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4114800" y="1352520"/>
            <a:ext cx="1371600" cy="426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03520" y="5680080"/>
            <a:ext cx="837360" cy="45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320" y="1504800"/>
            <a:ext cx="3887640" cy="3888000"/>
          </a:xfrm>
          <a:custGeom>
            <a:avLst/>
            <a:gdLst/>
            <a:ahLst/>
            <a:rect l="l" t="t" r="r" b="b"/>
            <a:pathLst>
              <a:path w="2449" h="2449">
                <a:moveTo>
                  <a:pt x="1008" y="0"/>
                </a:moveTo>
                <a:lnTo>
                  <a:pt x="0" y="1008"/>
                </a:lnTo>
                <a:lnTo>
                  <a:pt x="0" y="1488"/>
                </a:lnTo>
                <a:lnTo>
                  <a:pt x="960" y="2448"/>
                </a:lnTo>
                <a:lnTo>
                  <a:pt x="1488" y="2448"/>
                </a:lnTo>
                <a:lnTo>
                  <a:pt x="2448" y="1488"/>
                </a:lnTo>
                <a:lnTo>
                  <a:pt x="2448" y="1056"/>
                </a:lnTo>
                <a:lnTo>
                  <a:pt x="1392" y="0"/>
                </a:lnTo>
                <a:lnTo>
                  <a:pt x="1008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60320" y="5680080"/>
            <a:ext cx="837360" cy="45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1282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1447920" y="1469880"/>
            <a:ext cx="1144440" cy="458280"/>
            <a:chOff x="1447920" y="1469880"/>
            <a:chExt cx="1144440" cy="458280"/>
          </a:xfrm>
        </p:grpSpPr>
        <p:sp>
          <p:nvSpPr>
            <p:cNvPr id="1370" name=""/>
            <p:cNvSpPr/>
            <p:nvPr/>
          </p:nvSpPr>
          <p:spPr>
            <a:xfrm>
              <a:off x="1447920" y="1558800"/>
              <a:ext cx="1144440" cy="316080"/>
            </a:xfrm>
            <a:custGeom>
              <a:avLst/>
              <a:gdLst/>
              <a:ahLst/>
              <a:rect l="l" t="t" r="r" b="b"/>
              <a:pathLst>
                <a:path w="721" h="199">
                  <a:moveTo>
                    <a:pt x="198" y="0"/>
                  </a:moveTo>
                  <a:lnTo>
                    <a:pt x="0" y="198"/>
                  </a:lnTo>
                  <a:lnTo>
                    <a:pt x="720" y="198"/>
                  </a:lnTo>
                  <a:lnTo>
                    <a:pt x="522" y="0"/>
                  </a:lnTo>
                  <a:lnTo>
                    <a:pt x="19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566000" y="14698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A707-2D6B-4DCC-92DD-ABC716720E7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69680" y="99864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574320" y="2674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42640" y="267480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5224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4368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017480" y="4960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23720" y="3817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427600" y="267480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791400" y="2318400"/>
            <a:ext cx="498960" cy="511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676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820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4684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738036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8748720" y="3163680"/>
            <a:ext cx="0" cy="7585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467760" y="133812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73960" y="1720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7318440" y="1565280"/>
            <a:ext cx="1442880" cy="3652560"/>
            <a:chOff x="7318440" y="1565280"/>
            <a:chExt cx="1442880" cy="3652560"/>
          </a:xfrm>
        </p:grpSpPr>
        <p:sp>
          <p:nvSpPr>
            <p:cNvPr id="1444" name=""/>
            <p:cNvSpPr/>
            <p:nvPr/>
          </p:nvSpPr>
          <p:spPr>
            <a:xfrm flipV="1">
              <a:off x="7602480" y="5182920"/>
              <a:ext cx="406440" cy="349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8612280" y="4307040"/>
              <a:ext cx="149040" cy="6062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318440" y="1565280"/>
              <a:ext cx="111240" cy="434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47040" y="2403360"/>
              <a:ext cx="149040" cy="4255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7242120" y="177336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47360" y="469728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602480" y="518292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8612280" y="4307040"/>
            <a:ext cx="149040" cy="606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318440" y="156528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547040" y="240336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925360" y="5840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z- is delayed by the new transition s-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6E55-13B7-49BD-8E5B-2FD5B64F13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gic decom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zard-free decompos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chnology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timization based on tim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lative tim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ming assumptions and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ther synthesis paradig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HDLs, CSP, burst-mode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963C-30F3-4457-A555-638E8BF75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"/>
          <p:cNvGrpSpPr/>
          <p:nvPr/>
        </p:nvGrpSpPr>
        <p:grpSpPr>
          <a:xfrm>
            <a:off x="6003720" y="847800"/>
            <a:ext cx="3139200" cy="4953960"/>
            <a:chOff x="6003720" y="847800"/>
            <a:chExt cx="3139200" cy="4953960"/>
          </a:xfrm>
        </p:grpSpPr>
        <p:grpSp>
          <p:nvGrpSpPr>
            <p:cNvPr id="1457" name=""/>
            <p:cNvGrpSpPr/>
            <p:nvPr/>
          </p:nvGrpSpPr>
          <p:grpSpPr>
            <a:xfrm>
              <a:off x="7754760" y="1054080"/>
              <a:ext cx="1033560" cy="687240"/>
              <a:chOff x="7754760" y="1054080"/>
              <a:chExt cx="1033560" cy="68724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7980480" y="1054080"/>
                <a:ext cx="807840" cy="687240"/>
                <a:chOff x="7980480" y="1054080"/>
                <a:chExt cx="807840" cy="687240"/>
              </a:xfrm>
            </p:grpSpPr>
            <p:grpSp>
              <p:nvGrpSpPr>
                <p:cNvPr id="1459" name=""/>
                <p:cNvGrpSpPr/>
                <p:nvPr/>
              </p:nvGrpSpPr>
              <p:grpSpPr>
                <a:xfrm>
                  <a:off x="7980480" y="1054080"/>
                  <a:ext cx="679320" cy="687240"/>
                  <a:chOff x="7980480" y="1054080"/>
                  <a:chExt cx="679320" cy="68724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7986600" y="10602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7980480" y="10540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2" name=""/>
                <p:cNvSpPr/>
                <p:nvPr/>
              </p:nvSpPr>
              <p:spPr>
                <a:xfrm>
                  <a:off x="8669160" y="13906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3" name=""/>
              <p:cNvSpPr/>
              <p:nvPr/>
            </p:nvSpPr>
            <p:spPr>
              <a:xfrm>
                <a:off x="7754760" y="11682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754760" y="1625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7873920" y="11174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6611760" y="4794120"/>
              <a:ext cx="2189520" cy="919080"/>
              <a:chOff x="6611760" y="4794120"/>
              <a:chExt cx="2189520" cy="919080"/>
            </a:xfrm>
          </p:grpSpPr>
          <p:grpSp>
            <p:nvGrpSpPr>
              <p:cNvPr id="1467" name=""/>
              <p:cNvGrpSpPr/>
              <p:nvPr/>
            </p:nvGrpSpPr>
            <p:grpSpPr>
              <a:xfrm>
                <a:off x="6611760" y="5025960"/>
                <a:ext cx="1033560" cy="687240"/>
                <a:chOff x="6611760" y="5025960"/>
                <a:chExt cx="1033560" cy="68724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6837480" y="5025960"/>
                  <a:ext cx="807840" cy="687240"/>
                  <a:chOff x="6837480" y="5025960"/>
                  <a:chExt cx="807840" cy="687240"/>
                </a:xfrm>
              </p:grpSpPr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6837480" y="5025960"/>
                    <a:ext cx="679320" cy="687240"/>
                    <a:chOff x="6837480" y="5025960"/>
                    <a:chExt cx="679320" cy="687240"/>
                  </a:xfrm>
                </p:grpSpPr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6843600" y="50324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6837480" y="5025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2" name=""/>
                  <p:cNvSpPr/>
                  <p:nvPr/>
                </p:nvSpPr>
                <p:spPr>
                  <a:xfrm>
                    <a:off x="7526160" y="5362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"/>
                <p:cNvSpPr/>
                <p:nvPr/>
              </p:nvSpPr>
              <p:spPr>
                <a:xfrm>
                  <a:off x="6611760" y="5140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611760" y="5597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7661160" y="4794120"/>
                <a:ext cx="1140120" cy="673200"/>
                <a:chOff x="7661160" y="4794120"/>
                <a:chExt cx="1140120" cy="6732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7661160" y="49021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661160" y="5359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93000" y="47941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970400" y="48592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575560" y="51307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1" name=""/>
            <p:cNvGrpSpPr/>
            <p:nvPr/>
          </p:nvGrpSpPr>
          <p:grpSpPr>
            <a:xfrm>
              <a:off x="6594480" y="3340080"/>
              <a:ext cx="2206800" cy="907920"/>
              <a:chOff x="6594480" y="3340080"/>
              <a:chExt cx="2206800" cy="90792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7661160" y="3574800"/>
                <a:ext cx="1140120" cy="673200"/>
                <a:chOff x="7661160" y="3574800"/>
                <a:chExt cx="1140120" cy="67320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7661160" y="36828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661160" y="4140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893000" y="35748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970400" y="36399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575560" y="39114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594480" y="3340080"/>
                <a:ext cx="1139760" cy="687240"/>
                <a:chOff x="6594480" y="3340080"/>
                <a:chExt cx="1139760" cy="687240"/>
              </a:xfrm>
            </p:grpSpPr>
            <p:grpSp>
              <p:nvGrpSpPr>
                <p:cNvPr id="1489" name=""/>
                <p:cNvGrpSpPr/>
                <p:nvPr/>
              </p:nvGrpSpPr>
              <p:grpSpPr>
                <a:xfrm>
                  <a:off x="6819840" y="3340080"/>
                  <a:ext cx="914400" cy="687240"/>
                  <a:chOff x="6819840" y="3340080"/>
                  <a:chExt cx="914400" cy="687240"/>
                </a:xfrm>
              </p:grpSpPr>
              <p:grpSp>
                <p:nvGrpSpPr>
                  <p:cNvPr id="1490" name=""/>
                  <p:cNvGrpSpPr/>
                  <p:nvPr/>
                </p:nvGrpSpPr>
                <p:grpSpPr>
                  <a:xfrm>
                    <a:off x="6819840" y="3340080"/>
                    <a:ext cx="679680" cy="687240"/>
                    <a:chOff x="6819840" y="3340080"/>
                    <a:chExt cx="679680" cy="687240"/>
                  </a:xfrm>
                </p:grpSpPr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6826320" y="33462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6819840" y="33400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3" name=""/>
                  <p:cNvSpPr/>
                  <p:nvPr/>
                </p:nvSpPr>
                <p:spPr>
                  <a:xfrm>
                    <a:off x="7508880" y="36828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7512120" y="36320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5" name=""/>
                <p:cNvSpPr/>
                <p:nvPr/>
              </p:nvSpPr>
              <p:spPr>
                <a:xfrm>
                  <a:off x="6594480" y="34542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594480" y="3911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7835760" y="40892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"/>
            <p:cNvSpPr/>
            <p:nvPr/>
          </p:nvSpPr>
          <p:spPr>
            <a:xfrm>
              <a:off x="630828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08280" y="534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805600" y="2448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80560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37560" y="11523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80560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75320" y="84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003720" y="1457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03720" y="1914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223040" y="2676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0828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232680" y="32097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99000" y="3895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7062840" y="1668240"/>
              <a:ext cx="1719360" cy="2057040"/>
              <a:chOff x="7062840" y="1668240"/>
              <a:chExt cx="1719360" cy="205704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7062840" y="1668240"/>
                <a:ext cx="1605240" cy="2057040"/>
                <a:chOff x="7062840" y="1668240"/>
                <a:chExt cx="1605240" cy="2057040"/>
              </a:xfrm>
            </p:grpSpPr>
            <p:sp>
              <p:nvSpPr>
                <p:cNvPr id="1513" name=""/>
                <p:cNvSpPr/>
                <p:nvPr/>
              </p:nvSpPr>
              <p:spPr>
                <a:xfrm rot="10800000">
                  <a:off x="7069680" y="16682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062840" y="23540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759800" y="23558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53320" y="23493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7" name=""/>
              <p:cNvSpPr/>
              <p:nvPr/>
            </p:nvSpPr>
            <p:spPr>
              <a:xfrm>
                <a:off x="8556480" y="26924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53600" y="26416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758000" y="24638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756560" y="29210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6383160" y="1587600"/>
              <a:ext cx="1033560" cy="687240"/>
              <a:chOff x="6383160" y="1587600"/>
              <a:chExt cx="1033560" cy="687240"/>
            </a:xfrm>
          </p:grpSpPr>
          <p:grpSp>
            <p:nvGrpSpPr>
              <p:cNvPr id="1522" name=""/>
              <p:cNvGrpSpPr/>
              <p:nvPr/>
            </p:nvGrpSpPr>
            <p:grpSpPr>
              <a:xfrm>
                <a:off x="6608880" y="1587600"/>
                <a:ext cx="807840" cy="687240"/>
                <a:chOff x="6608880" y="1587600"/>
                <a:chExt cx="807840" cy="687240"/>
              </a:xfrm>
            </p:grpSpPr>
            <p:grpSp>
              <p:nvGrpSpPr>
                <p:cNvPr id="1523" name=""/>
                <p:cNvGrpSpPr/>
                <p:nvPr/>
              </p:nvGrpSpPr>
              <p:grpSpPr>
                <a:xfrm>
                  <a:off x="6608880" y="1587600"/>
                  <a:ext cx="679320" cy="687240"/>
                  <a:chOff x="6608880" y="1587600"/>
                  <a:chExt cx="679320" cy="68724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6615000" y="15937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608880" y="15876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6" name=""/>
                <p:cNvSpPr/>
                <p:nvPr/>
              </p:nvSpPr>
              <p:spPr>
                <a:xfrm>
                  <a:off x="7297560" y="19238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"/>
              <p:cNvSpPr/>
              <p:nvPr/>
            </p:nvSpPr>
            <p:spPr>
              <a:xfrm>
                <a:off x="6383160" y="17017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383160" y="2158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7394400" y="19209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753320" y="16286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1" name=""/>
          <p:cNvSpPr/>
          <p:nvPr/>
        </p:nvSpPr>
        <p:spPr>
          <a:xfrm>
            <a:off x="7658280" y="4591080"/>
            <a:ext cx="0" cy="311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rot="10800000">
            <a:off x="6084000" y="3578400"/>
            <a:ext cx="1598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8" y="5433"/>
                </a:moveTo>
                <a:arcTo wR="10800" hR="10800" stAng="-9012068" swAng="3605248"/>
                <a:lnTo>
                  <a:pt x="10800" y="10800"/>
                </a:lnTo>
                <a:close/>
              </a:path>
              <a:path fill="none" w="21600" h="21600">
                <a:moveTo>
                  <a:pt x="1428" y="5433"/>
                </a:moveTo>
                <a:arcTo wR="10800" hR="10800" stAng="-9012068" swAng="3605248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77520" y="42642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821" swAng="3625793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821" swAng="3625793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773760" y="4265640"/>
            <a:ext cx="216000" cy="673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67640" y="4259160"/>
            <a:ext cx="115920" cy="687600"/>
          </a:xfrm>
          <a:custGeom>
            <a:avLst/>
            <a:gdLst/>
            <a:ahLst/>
            <a:rect l="l" t="t" r="r" b="b"/>
            <a:pathLst>
              <a:path w="73" h="433">
                <a:moveTo>
                  <a:pt x="72" y="0"/>
                </a:moveTo>
                <a:lnTo>
                  <a:pt x="0" y="0"/>
                </a:lnTo>
                <a:lnTo>
                  <a:pt x="0" y="432"/>
                </a:lnTo>
                <a:lnTo>
                  <a:pt x="72" y="4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570800" y="4602240"/>
            <a:ext cx="111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72320" y="48308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772320" y="43736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724800" y="4359240"/>
            <a:ext cx="218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6673-0D66-4145-891E-BA84FA8F85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611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613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630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631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4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6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8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90920" y="2437560"/>
            <a:ext cx="1828800" cy="915120"/>
            <a:chOff x="2590920" y="2437560"/>
            <a:chExt cx="1828800" cy="915120"/>
          </a:xfrm>
        </p:grpSpPr>
        <p:grpSp>
          <p:nvGrpSpPr>
            <p:cNvPr id="1640" name=""/>
            <p:cNvGrpSpPr/>
            <p:nvPr/>
          </p:nvGrpSpPr>
          <p:grpSpPr>
            <a:xfrm>
              <a:off x="3276720" y="2552760"/>
              <a:ext cx="1143000" cy="687240"/>
              <a:chOff x="3276720" y="2552760"/>
              <a:chExt cx="1143000" cy="687240"/>
            </a:xfrm>
          </p:grpSpPr>
          <p:grpSp>
            <p:nvGrpSpPr>
              <p:cNvPr id="1641" name=""/>
              <p:cNvGrpSpPr/>
              <p:nvPr/>
            </p:nvGrpSpPr>
            <p:grpSpPr>
              <a:xfrm>
                <a:off x="3505320" y="2552760"/>
                <a:ext cx="914400" cy="687240"/>
                <a:chOff x="3505320" y="2552760"/>
                <a:chExt cx="914400" cy="68724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3505320" y="2552760"/>
                  <a:ext cx="679320" cy="687240"/>
                  <a:chOff x="3505320" y="2552760"/>
                  <a:chExt cx="679320" cy="6872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511440" y="255888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505320" y="255276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5" name=""/>
                <p:cNvSpPr/>
                <p:nvPr/>
              </p:nvSpPr>
              <p:spPr>
                <a:xfrm>
                  <a:off x="4191120" y="2895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197240" y="284472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>
                <a:off x="3276720" y="266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76720" y="3124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 flipH="1" flipV="1" rot="10800000">
              <a:off x="2590920" y="2437200"/>
              <a:ext cx="799920" cy="343080"/>
            </a:xfrm>
            <a:custGeom>
              <a:avLst/>
              <a:gdLst>
                <a:gd name="textAreaLeft" fmla="*/ 175680 w 799920"/>
                <a:gd name="textAreaRight" fmla="*/ 624240 w 799920"/>
                <a:gd name="textAreaTop" fmla="*/ 75240 h 343080"/>
                <a:gd name="textAreaBottom" fmla="*/ 26784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90920" y="3009960"/>
              <a:ext cx="799920" cy="342720"/>
            </a:xfrm>
            <a:prstGeom prst="parallelogram">
              <a:avLst>
                <a:gd name="adj" fmla="val 58340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2063880" y="4114800"/>
            <a:ext cx="3720960" cy="2050920"/>
            <a:chOff x="2063880" y="4114800"/>
            <a:chExt cx="3720960" cy="2050920"/>
          </a:xfrm>
        </p:grpSpPr>
        <p:sp>
          <p:nvSpPr>
            <p:cNvPr id="1652" name=""/>
            <p:cNvSpPr/>
            <p:nvPr/>
          </p:nvSpPr>
          <p:spPr>
            <a:xfrm>
              <a:off x="2063880" y="4883040"/>
              <a:ext cx="3720960" cy="128268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azard-free ?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Event insertion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653" name=""/>
            <p:cNvGraphicFramePr/>
            <p:nvPr/>
          </p:nvGraphicFramePr>
          <p:xfrm>
            <a:off x="2736720" y="4114800"/>
            <a:ext cx="24526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4114800"/>
                      <a:ext cx="2452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55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656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659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661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4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4495680" y="3162240"/>
            <a:ext cx="1828800" cy="1028880"/>
            <a:chOff x="4495680" y="3162240"/>
            <a:chExt cx="1828800" cy="1028880"/>
          </a:xfrm>
        </p:grpSpPr>
        <p:grpSp>
          <p:nvGrpSpPr>
            <p:cNvPr id="1671" name=""/>
            <p:cNvGrpSpPr/>
            <p:nvPr/>
          </p:nvGrpSpPr>
          <p:grpSpPr>
            <a:xfrm>
              <a:off x="5181480" y="3390840"/>
              <a:ext cx="1143000" cy="687600"/>
              <a:chOff x="5181480" y="3390840"/>
              <a:chExt cx="1143000" cy="68760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5410080" y="3390840"/>
                <a:ext cx="914400" cy="687600"/>
                <a:chOff x="5410080" y="3390840"/>
                <a:chExt cx="914400" cy="68760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5410080" y="3390840"/>
                  <a:ext cx="679320" cy="687600"/>
                  <a:chOff x="5410080" y="3390840"/>
                  <a:chExt cx="679320" cy="68760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>
                    <a:off x="5416200" y="33973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410080" y="3390840"/>
                    <a:ext cx="3445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6" name=""/>
                <p:cNvSpPr/>
                <p:nvPr/>
              </p:nvSpPr>
              <p:spPr>
                <a:xfrm>
                  <a:off x="6095880" y="37339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102000" y="368316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>
                <a:off x="5181480" y="35053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181480" y="3962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4495680" y="3162240"/>
              <a:ext cx="799920" cy="4572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5680" y="3733920"/>
              <a:ext cx="685800" cy="457200"/>
            </a:xfrm>
            <a:prstGeom prst="hexagon">
              <a:avLst>
                <a:gd name="adj" fmla="val 37493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683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686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687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688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1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3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4210200" y="2076480"/>
            <a:ext cx="2057400" cy="1028160"/>
            <a:chOff x="4210200" y="2076480"/>
            <a:chExt cx="2057400" cy="1028160"/>
          </a:xfrm>
        </p:grpSpPr>
        <p:grpSp>
          <p:nvGrpSpPr>
            <p:cNvPr id="1698" name=""/>
            <p:cNvGrpSpPr/>
            <p:nvPr/>
          </p:nvGrpSpPr>
          <p:grpSpPr>
            <a:xfrm>
              <a:off x="5124600" y="2196720"/>
              <a:ext cx="1143000" cy="672840"/>
              <a:chOff x="5124600" y="2196720"/>
              <a:chExt cx="1143000" cy="672840"/>
            </a:xfrm>
          </p:grpSpPr>
          <p:sp>
            <p:nvSpPr>
              <p:cNvPr id="1699" name=""/>
              <p:cNvSpPr/>
              <p:nvPr/>
            </p:nvSpPr>
            <p:spPr>
              <a:xfrm>
                <a:off x="5124600" y="23043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124600" y="27615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359320" y="2196720"/>
                <a:ext cx="673200" cy="6728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436720" y="22615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039000" y="25329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4210200" y="2076480"/>
              <a:ext cx="914400" cy="342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2533320"/>
              <a:ext cx="457200" cy="5713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707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666720" y="2343240"/>
            <a:ext cx="1714320" cy="1028520"/>
            <a:chOff x="666720" y="2343240"/>
            <a:chExt cx="1714320" cy="1028520"/>
          </a:xfrm>
        </p:grpSpPr>
        <p:grpSp>
          <p:nvGrpSpPr>
            <p:cNvPr id="1716" name=""/>
            <p:cNvGrpSpPr/>
            <p:nvPr/>
          </p:nvGrpSpPr>
          <p:grpSpPr>
            <a:xfrm>
              <a:off x="1238040" y="2577960"/>
              <a:ext cx="1143000" cy="673200"/>
              <a:chOff x="1238040" y="2577960"/>
              <a:chExt cx="1143000" cy="673200"/>
            </a:xfrm>
          </p:grpSpPr>
          <p:sp>
            <p:nvSpPr>
              <p:cNvPr id="1717" name=""/>
              <p:cNvSpPr/>
              <p:nvPr/>
            </p:nvSpPr>
            <p:spPr>
              <a:xfrm>
                <a:off x="1238040" y="26859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238040" y="31431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473120" y="2577960"/>
                <a:ext cx="673200" cy="6732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550520" y="26431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152440" y="29145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>
              <a:off x="666720" y="2343240"/>
              <a:ext cx="799920" cy="457200"/>
            </a:xfrm>
            <a:prstGeom prst="parallelogram">
              <a:avLst>
                <a:gd name="adj" fmla="val 4373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80840" y="2914560"/>
              <a:ext cx="457200" cy="45720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725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726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33320" y="3359160"/>
            <a:ext cx="1485360" cy="793800"/>
            <a:chOff x="2533320" y="3359160"/>
            <a:chExt cx="1485360" cy="793800"/>
          </a:xfrm>
        </p:grpSpPr>
        <p:grpSp>
          <p:nvGrpSpPr>
            <p:cNvPr id="1734" name=""/>
            <p:cNvGrpSpPr/>
            <p:nvPr/>
          </p:nvGrpSpPr>
          <p:grpSpPr>
            <a:xfrm>
              <a:off x="3105000" y="3359160"/>
              <a:ext cx="913680" cy="673200"/>
              <a:chOff x="3105000" y="3359160"/>
              <a:chExt cx="913680" cy="673200"/>
            </a:xfrm>
          </p:grpSpPr>
          <p:sp>
            <p:nvSpPr>
              <p:cNvPr id="1735" name=""/>
              <p:cNvSpPr/>
              <p:nvPr/>
            </p:nvSpPr>
            <p:spPr>
              <a:xfrm>
                <a:off x="3339720" y="3359160"/>
                <a:ext cx="443880" cy="673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0500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105000" y="39243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79044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 rot="5400000">
              <a:off x="2647440" y="3353040"/>
              <a:ext cx="343080" cy="57132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47800" y="3810240"/>
              <a:ext cx="570960" cy="342720"/>
            </a:xfrm>
            <a:prstGeom prst="parallelogram">
              <a:avLst>
                <a:gd name="adj" fmla="val 41641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742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743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6058080" y="2733840"/>
            <a:ext cx="1600200" cy="856800"/>
            <a:chOff x="6058080" y="2733840"/>
            <a:chExt cx="1600200" cy="856800"/>
          </a:xfrm>
        </p:grpSpPr>
        <p:grpSp>
          <p:nvGrpSpPr>
            <p:cNvPr id="1750" name=""/>
            <p:cNvGrpSpPr/>
            <p:nvPr/>
          </p:nvGrpSpPr>
          <p:grpSpPr>
            <a:xfrm>
              <a:off x="6743880" y="2797200"/>
              <a:ext cx="914400" cy="672480"/>
              <a:chOff x="6743880" y="2797200"/>
              <a:chExt cx="914400" cy="672480"/>
            </a:xfrm>
          </p:grpSpPr>
          <p:sp>
            <p:nvSpPr>
              <p:cNvPr id="1751" name=""/>
              <p:cNvSpPr/>
              <p:nvPr/>
            </p:nvSpPr>
            <p:spPr>
              <a:xfrm>
                <a:off x="6978600" y="2797200"/>
                <a:ext cx="444600" cy="6724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7438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4296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743880" y="33620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>
              <a:off x="6058080" y="273384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72200" y="3247920"/>
              <a:ext cx="571680" cy="3427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758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759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63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625320" y="29196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88000" y="368280"/>
            <a:ext cx="768600" cy="596880"/>
          </a:xfrm>
          <a:prstGeom prst="leftArrow">
            <a:avLst>
              <a:gd name="adj1" fmla="val 50000"/>
              <a:gd name="adj2" fmla="val 6437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806560" y="126684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66CE-379A-424D-BBA9-390977A3A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770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772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789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790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3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5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97" name=""/>
          <p:cNvSpPr/>
          <p:nvPr/>
        </p:nvSpPr>
        <p:spPr>
          <a:xfrm>
            <a:off x="2063880" y="4883040"/>
            <a:ext cx="3720960" cy="128268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-free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nt inser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8" name=""/>
          <p:cNvGraphicFramePr/>
          <p:nvPr/>
        </p:nvGraphicFramePr>
        <p:xfrm>
          <a:off x="2736720" y="4114800"/>
          <a:ext cx="2452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4114800"/>
                    <a:ext cx="2452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0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801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804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805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806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1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3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816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819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4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6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831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832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7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9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840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841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849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850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857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62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864" name=""/>
          <p:cNvGraphicFramePr/>
          <p:nvPr/>
        </p:nvGraphicFramePr>
        <p:xfrm>
          <a:off x="1292400" y="1604880"/>
          <a:ext cx="137448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1604880"/>
                    <a:ext cx="1374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6" name=""/>
          <p:cNvSpPr/>
          <p:nvPr/>
        </p:nvSpPr>
        <p:spPr>
          <a:xfrm>
            <a:off x="2882160" y="2627280"/>
            <a:ext cx="516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until no more progr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5960" y="31104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578640" y="387360"/>
            <a:ext cx="768240" cy="596880"/>
          </a:xfrm>
          <a:prstGeom prst="leftArrow">
            <a:avLst>
              <a:gd name="adj1" fmla="val 50000"/>
              <a:gd name="adj2" fmla="val 6434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797200" y="128592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E294-771E-4EF8-B598-60EB8C621D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al insertion for function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758960" y="2292480"/>
            <a:ext cx="5931000" cy="3111480"/>
          </a:xfrm>
          <a:prstGeom prst="rect">
            <a:avLst/>
          </a:prstGeom>
          <a:solidFill>
            <a:srgbClr val="ffe4c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413520" y="5653080"/>
            <a:ext cx="219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ate Gra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965600" y="2286000"/>
            <a:ext cx="5568120" cy="3125880"/>
            <a:chOff x="1965600" y="2286000"/>
            <a:chExt cx="5568120" cy="3125880"/>
          </a:xfrm>
        </p:grpSpPr>
        <p:sp>
          <p:nvSpPr>
            <p:cNvPr id="1875" name=""/>
            <p:cNvSpPr/>
            <p:nvPr/>
          </p:nvSpPr>
          <p:spPr>
            <a:xfrm>
              <a:off x="4114800" y="2286000"/>
              <a:ext cx="1144440" cy="3125880"/>
            </a:xfrm>
            <a:custGeom>
              <a:avLst/>
              <a:gdLst/>
              <a:ahLst/>
              <a:rect l="l" t="t" r="r" b="b"/>
              <a:pathLst>
                <a:path w="721" h="1969">
                  <a:moveTo>
                    <a:pt x="480" y="0"/>
                  </a:moveTo>
                  <a:lnTo>
                    <a:pt x="0" y="480"/>
                  </a:lnTo>
                  <a:lnTo>
                    <a:pt x="720" y="1200"/>
                  </a:lnTo>
                  <a:lnTo>
                    <a:pt x="720" y="1584"/>
                  </a:lnTo>
                  <a:lnTo>
                    <a:pt x="336" y="1968"/>
                  </a:lnTo>
                </a:path>
              </a:pathLst>
            </a:custGeom>
            <a:noFill/>
            <a:ln cap="rnd" w="10152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6560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0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6164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1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3660480" y="2592000"/>
            <a:ext cx="2054520" cy="2587680"/>
            <a:chOff x="3660480" y="2592000"/>
            <a:chExt cx="2054520" cy="2587680"/>
          </a:xfrm>
        </p:grpSpPr>
        <p:sp>
          <p:nvSpPr>
            <p:cNvPr id="1879" name=""/>
            <p:cNvSpPr/>
            <p:nvPr/>
          </p:nvSpPr>
          <p:spPr>
            <a:xfrm flipH="1" flipV="1">
              <a:off x="3887640" y="2592000"/>
              <a:ext cx="121608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3660480" y="3279600"/>
              <a:ext cx="129204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4575240" y="4118040"/>
              <a:ext cx="1139760" cy="14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 flipV="1">
              <a:off x="4497480" y="5030280"/>
              <a:ext cx="1139760" cy="149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2423160" y="1538280"/>
            <a:ext cx="458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nsertion by input bor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4114800" y="2286000"/>
            <a:ext cx="1373040" cy="3125880"/>
            <a:chOff x="4114800" y="2286000"/>
            <a:chExt cx="1373040" cy="3125880"/>
          </a:xfrm>
        </p:grpSpPr>
        <p:sp>
          <p:nvSpPr>
            <p:cNvPr id="1885" name=""/>
            <p:cNvSpPr/>
            <p:nvPr/>
          </p:nvSpPr>
          <p:spPr>
            <a:xfrm>
              <a:off x="4191120" y="3733920"/>
              <a:ext cx="1068120" cy="1677960"/>
            </a:xfrm>
            <a:custGeom>
              <a:avLst/>
              <a:gdLst/>
              <a:ahLst/>
              <a:rect l="l" t="t" r="r" b="b"/>
              <a:pathLst>
                <a:path w="673" h="1057">
                  <a:moveTo>
                    <a:pt x="384" y="0"/>
                  </a:moveTo>
                  <a:lnTo>
                    <a:pt x="0" y="384"/>
                  </a:lnTo>
                  <a:lnTo>
                    <a:pt x="0" y="1056"/>
                  </a:lnTo>
                  <a:lnTo>
                    <a:pt x="288" y="1056"/>
                  </a:lnTo>
                  <a:lnTo>
                    <a:pt x="672" y="672"/>
                  </a:lnTo>
                  <a:lnTo>
                    <a:pt x="672" y="288"/>
                  </a:lnTo>
                  <a:lnTo>
                    <a:pt x="384" y="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327560" y="4417920"/>
              <a:ext cx="616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-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14800" y="2286000"/>
              <a:ext cx="1373040" cy="114444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240" y="720"/>
                  </a:moveTo>
                  <a:lnTo>
                    <a:pt x="576" y="720"/>
                  </a:lnTo>
                  <a:lnTo>
                    <a:pt x="864" y="432"/>
                  </a:lnTo>
                  <a:lnTo>
                    <a:pt x="864" y="288"/>
                  </a:lnTo>
                  <a:lnTo>
                    <a:pt x="576" y="0"/>
                  </a:lnTo>
                  <a:lnTo>
                    <a:pt x="480" y="0"/>
                  </a:lnTo>
                  <a:lnTo>
                    <a:pt x="0" y="480"/>
                  </a:lnTo>
                  <a:lnTo>
                    <a:pt x="240" y="72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32120" y="2665440"/>
              <a:ext cx="73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6448-6738-449F-B1D9-7AFF0A633E6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893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896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7712-48E9-4F7E-85B6-D1B7AD685D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911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914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3035160" y="122868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333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790440" y="27129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719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419440" y="27273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4289400" y="2495520"/>
            <a:ext cx="7970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0785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1641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2925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27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547520" y="2027160"/>
            <a:ext cx="488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033080" y="1284120"/>
            <a:ext cx="1251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(x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3343320" y="2525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42148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1292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84352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2547360" y="2313000"/>
            <a:ext cx="752760" cy="825480"/>
            <a:chOff x="2547360" y="2313000"/>
            <a:chExt cx="752760" cy="825480"/>
          </a:xfrm>
        </p:grpSpPr>
        <p:sp>
          <p:nvSpPr>
            <p:cNvPr id="1942" name=""/>
            <p:cNvSpPr/>
            <p:nvPr/>
          </p:nvSpPr>
          <p:spPr>
            <a:xfrm flipH="1">
              <a:off x="2560320" y="2513160"/>
              <a:ext cx="739800" cy="625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547360" y="231300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EDB7-E355-4922-984E-9159E937E1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1938240" y="2390760"/>
            <a:ext cx="6858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erties to prese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947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962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3582720" y="1312920"/>
            <a:ext cx="1953000" cy="2042280"/>
            <a:chOff x="3582720" y="1312920"/>
            <a:chExt cx="1953000" cy="2042280"/>
          </a:xfrm>
        </p:grpSpPr>
        <p:sp>
          <p:nvSpPr>
            <p:cNvPr id="1977" name=""/>
            <p:cNvSpPr/>
            <p:nvPr/>
          </p:nvSpPr>
          <p:spPr>
            <a:xfrm flipH="1">
              <a:off x="4238640" y="2638440"/>
              <a:ext cx="1254240" cy="5396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809960" y="2606760"/>
              <a:ext cx="68292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235400" y="135252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366660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23864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66960" y="2610000"/>
              <a:ext cx="568440" cy="568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200480" y="13129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00480" y="20131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76244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95800" y="3151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624120" y="2575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639600" y="18558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673160" y="280368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39880" y="1898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582720" y="2712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46732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849560" y="2151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995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9" name=""/>
          <p:cNvSpPr/>
          <p:nvPr/>
        </p:nvSpPr>
        <p:spPr>
          <a:xfrm rot="2820000">
            <a:off x="1427040" y="4646520"/>
            <a:ext cx="11430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2011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3576240" y="3840120"/>
            <a:ext cx="2220120" cy="2309040"/>
            <a:chOff x="3576240" y="3840120"/>
            <a:chExt cx="2220120" cy="2309040"/>
          </a:xfrm>
        </p:grpSpPr>
        <p:sp>
          <p:nvSpPr>
            <p:cNvPr id="2026" name=""/>
            <p:cNvSpPr/>
            <p:nvPr/>
          </p:nvSpPr>
          <p:spPr>
            <a:xfrm>
              <a:off x="4299120" y="5154480"/>
              <a:ext cx="1349280" cy="3304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727440" y="4583160"/>
              <a:ext cx="1349280" cy="3301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71484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718080" y="45640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7992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679920" y="454032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241880" y="510696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76240" y="46544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517640" y="49068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089680" y="49068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5089680" y="54784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518000" y="54784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051520" y="488304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613480" y="545004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046840" y="60213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475160" y="5445000"/>
              <a:ext cx="6840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795560" y="484992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76520" y="5597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28720" y="48830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33400" y="5583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57280" y="4287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81120" y="47736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6985080" y="4329000"/>
            <a:ext cx="1422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sis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6095880" y="1371600"/>
            <a:ext cx="3048120" cy="2324160"/>
            <a:chOff x="6095880" y="1371600"/>
            <a:chExt cx="3048120" cy="2324160"/>
          </a:xfrm>
        </p:grpSpPr>
        <p:sp>
          <p:nvSpPr>
            <p:cNvPr id="2050" name=""/>
            <p:cNvSpPr/>
            <p:nvPr/>
          </p:nvSpPr>
          <p:spPr>
            <a:xfrm>
              <a:off x="6451560" y="189072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is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disabled by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= hazards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6095880" y="1371600"/>
              <a:ext cx="3048120" cy="2324160"/>
              <a:chOff x="6095880" y="1371600"/>
              <a:chExt cx="3048120" cy="2324160"/>
            </a:xfrm>
          </p:grpSpPr>
          <p:sp>
            <p:nvSpPr>
              <p:cNvPr id="2052" name=""/>
              <p:cNvSpPr/>
              <p:nvPr/>
            </p:nvSpPr>
            <p:spPr>
              <a:xfrm>
                <a:off x="6095880" y="1504800"/>
                <a:ext cx="3048120" cy="203868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>
                <a:off x="6267600" y="1371600"/>
                <a:ext cx="2628720" cy="232416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40C0-31ED-4C9F-BEC5-7B91C748751C}" type="slidenum">
              <a:t>26</a:t>
            </a:fld>
          </a:p>
        </p:txBody>
      </p:sp>
    </p:spTree>
  </p:cSld>
  <p:transition advTm="10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4952880" y="1523880"/>
            <a:ext cx="3429000" cy="1905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Boolean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219960" y="1798560"/>
            <a:ext cx="3261960" cy="1485720"/>
            <a:chOff x="219960" y="1798560"/>
            <a:chExt cx="3261960" cy="1485720"/>
          </a:xfrm>
        </p:grpSpPr>
        <p:sp>
          <p:nvSpPr>
            <p:cNvPr id="2057" name=""/>
            <p:cNvSpPr/>
            <p:nvPr/>
          </p:nvSpPr>
          <p:spPr>
            <a:xfrm>
              <a:off x="1454040" y="1835280"/>
              <a:ext cx="1130400" cy="12826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812240" y="225576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219960" y="1798560"/>
              <a:ext cx="1227960" cy="1485720"/>
              <a:chOff x="219960" y="1798560"/>
              <a:chExt cx="1227960" cy="1485720"/>
            </a:xfrm>
          </p:grpSpPr>
          <p:sp>
            <p:nvSpPr>
              <p:cNvPr id="2060" name=""/>
              <p:cNvSpPr/>
              <p:nvPr/>
            </p:nvSpPr>
            <p:spPr>
              <a:xfrm>
                <a:off x="914400" y="205740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14400" y="289548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19960" y="179856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19960" y="26370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>
              <a:off x="2590920" y="251460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84200" y="225576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3974400" y="1646280"/>
            <a:ext cx="5168520" cy="1713960"/>
            <a:chOff x="3974400" y="1646280"/>
            <a:chExt cx="5168520" cy="1713960"/>
          </a:xfrm>
        </p:grpSpPr>
        <p:sp>
          <p:nvSpPr>
            <p:cNvPr id="2067" name=""/>
            <p:cNvSpPr/>
            <p:nvPr/>
          </p:nvSpPr>
          <p:spPr>
            <a:xfrm>
              <a:off x="5210280" y="1758960"/>
              <a:ext cx="1130040" cy="1434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191360" y="2063880"/>
              <a:ext cx="977760" cy="8254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46800" y="220968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46800" y="274320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175600" y="2438280"/>
              <a:ext cx="533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568480" y="22557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2880" y="2255760"/>
              <a:ext cx="502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3974400" y="1824120"/>
              <a:ext cx="1227960" cy="1485360"/>
              <a:chOff x="3974400" y="1824120"/>
              <a:chExt cx="1227960" cy="14853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668840" y="208296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68840" y="292104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974400" y="182412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974400" y="26622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90800" y="1646280"/>
              <a:ext cx="5418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20240" y="2712960"/>
              <a:ext cx="605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845200" y="217980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455760" y="4084560"/>
            <a:ext cx="2696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F 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721760" y="4084560"/>
            <a:ext cx="3218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G(H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18760" y="5227560"/>
            <a:ext cx="659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ur problem: Given F and G, fi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1957-8E7E-4038-A6F3-85F3E044D3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"/>
          <p:cNvGrpSpPr/>
          <p:nvPr/>
        </p:nvGrpSpPr>
        <p:grpSpPr>
          <a:xfrm>
            <a:off x="2432160" y="673200"/>
            <a:ext cx="1713960" cy="1015920"/>
            <a:chOff x="2432160" y="673200"/>
            <a:chExt cx="1713960" cy="1015920"/>
          </a:xfrm>
        </p:grpSpPr>
        <p:sp>
          <p:nvSpPr>
            <p:cNvPr id="2086" name=""/>
            <p:cNvSpPr/>
            <p:nvPr/>
          </p:nvSpPr>
          <p:spPr>
            <a:xfrm>
              <a:off x="2432160" y="8384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432160" y="15242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781000" y="673200"/>
              <a:ext cx="1015560" cy="10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899440" y="774720"/>
              <a:ext cx="7934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8080" rIns="208080" tIns="103320" bIns="103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629240"/>
                  <a:tab algn="l" pos="9258480"/>
                </a:tabLst>
              </a:pPr>
              <a:r>
                <a:rPr b="0" lang="en-US" sz="41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03400" y="11811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1542960" y="501480"/>
            <a:ext cx="901800" cy="52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542960" y="1339920"/>
            <a:ext cx="90180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079640" y="5716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079640" y="7239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079640" y="8762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079640" y="14860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079640" y="16383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079640" y="17906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63840" y="922320"/>
            <a:ext cx="29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1517760" y="2027160"/>
            <a:ext cx="5873760" cy="3408840"/>
            <a:chOff x="1517760" y="2027160"/>
            <a:chExt cx="5873760" cy="3408840"/>
          </a:xfrm>
        </p:grpSpPr>
        <p:sp>
          <p:nvSpPr>
            <p:cNvPr id="2101" name=""/>
            <p:cNvSpPr/>
            <p:nvPr/>
          </p:nvSpPr>
          <p:spPr>
            <a:xfrm>
              <a:off x="1525320" y="2027160"/>
              <a:ext cx="52326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tate       f     next(f)    (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,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517760" y="2637000"/>
              <a:ext cx="5732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0        (0,-) (-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1        (1,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0        (0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1        (-,1) (1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c         -          -        (-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523880" y="2590920"/>
              <a:ext cx="5867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57800" y="2133720"/>
              <a:ext cx="0" cy="2971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1731960" y="5316480"/>
            <a:ext cx="5356080" cy="5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oolean Re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FCD9-C804-46E6-B49B-DD3353C33A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6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07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165640" y="1351080"/>
            <a:ext cx="169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ff33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14800" y="171468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7" name=""/>
          <p:cNvGrpSpPr/>
          <p:nvPr/>
        </p:nvGrpSpPr>
        <p:grpSpPr>
          <a:xfrm>
            <a:off x="6248520" y="4008600"/>
            <a:ext cx="1765800" cy="1090440"/>
            <a:chOff x="6248520" y="4008600"/>
            <a:chExt cx="1765800" cy="1090440"/>
          </a:xfrm>
        </p:grpSpPr>
        <p:grpSp>
          <p:nvGrpSpPr>
            <p:cNvPr id="2148" name=""/>
            <p:cNvGrpSpPr/>
            <p:nvPr/>
          </p:nvGrpSpPr>
          <p:grpSpPr>
            <a:xfrm>
              <a:off x="6248520" y="4197600"/>
              <a:ext cx="1218960" cy="901440"/>
              <a:chOff x="6248520" y="4197600"/>
              <a:chExt cx="1218960" cy="901440"/>
            </a:xfrm>
          </p:grpSpPr>
          <p:sp>
            <p:nvSpPr>
              <p:cNvPr id="2149" name=""/>
              <p:cNvSpPr/>
              <p:nvPr/>
            </p:nvSpPr>
            <p:spPr>
              <a:xfrm>
                <a:off x="6559560" y="419760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2485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1629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248520" y="495324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7603560" y="400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502160" y="3816360"/>
            <a:ext cx="1739880" cy="1686600"/>
            <a:chOff x="4502160" y="3816360"/>
            <a:chExt cx="1739880" cy="1686600"/>
          </a:xfrm>
        </p:grpSpPr>
        <p:sp>
          <p:nvSpPr>
            <p:cNvPr id="2155" name=""/>
            <p:cNvSpPr/>
            <p:nvPr/>
          </p:nvSpPr>
          <p:spPr>
            <a:xfrm>
              <a:off x="4502160" y="381636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502160" y="480708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088960" y="4923000"/>
              <a:ext cx="47916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89320" y="3856320"/>
              <a:ext cx="45648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419F-19B2-4D21-81D2-02803CD5E1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950C-468A-4774-AD7E-30554228B4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9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60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9" name=""/>
          <p:cNvGrpSpPr/>
          <p:nvPr/>
        </p:nvGrpSpPr>
        <p:grpSpPr>
          <a:xfrm>
            <a:off x="6248520" y="4084560"/>
            <a:ext cx="1765800" cy="1090440"/>
            <a:chOff x="6248520" y="4084560"/>
            <a:chExt cx="1765800" cy="1090440"/>
          </a:xfrm>
        </p:grpSpPr>
        <p:grpSp>
          <p:nvGrpSpPr>
            <p:cNvPr id="2200" name=""/>
            <p:cNvGrpSpPr/>
            <p:nvPr/>
          </p:nvGrpSpPr>
          <p:grpSpPr>
            <a:xfrm>
              <a:off x="6248520" y="4273560"/>
              <a:ext cx="1218960" cy="901440"/>
              <a:chOff x="6248520" y="4273560"/>
              <a:chExt cx="1218960" cy="901440"/>
            </a:xfrm>
          </p:grpSpPr>
          <p:sp>
            <p:nvSpPr>
              <p:cNvPr id="2201" name=""/>
              <p:cNvSpPr/>
              <p:nvPr/>
            </p:nvSpPr>
            <p:spPr>
              <a:xfrm>
                <a:off x="6559560" y="427356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2485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1629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248520" y="50292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7603560" y="4084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4012560" y="3551400"/>
            <a:ext cx="2323080" cy="2332440"/>
            <a:chOff x="4012560" y="3551400"/>
            <a:chExt cx="2323080" cy="2332440"/>
          </a:xfrm>
        </p:grpSpPr>
        <p:grpSp>
          <p:nvGrpSpPr>
            <p:cNvPr id="2207" name=""/>
            <p:cNvGrpSpPr/>
            <p:nvPr/>
          </p:nvGrpSpPr>
          <p:grpSpPr>
            <a:xfrm>
              <a:off x="4456080" y="4800600"/>
              <a:ext cx="1382760" cy="915480"/>
              <a:chOff x="4456080" y="4800600"/>
              <a:chExt cx="1382760" cy="915480"/>
            </a:xfrm>
          </p:grpSpPr>
          <p:grpSp>
            <p:nvGrpSpPr>
              <p:cNvPr id="2208" name=""/>
              <p:cNvGrpSpPr/>
              <p:nvPr/>
            </p:nvGrpSpPr>
            <p:grpSpPr>
              <a:xfrm>
                <a:off x="4761000" y="4800600"/>
                <a:ext cx="1077840" cy="915480"/>
                <a:chOff x="4761000" y="4800600"/>
                <a:chExt cx="1077840" cy="915480"/>
              </a:xfrm>
            </p:grpSpPr>
            <p:grpSp>
              <p:nvGrpSpPr>
                <p:cNvPr id="2209" name=""/>
                <p:cNvGrpSpPr/>
                <p:nvPr/>
              </p:nvGrpSpPr>
              <p:grpSpPr>
                <a:xfrm>
                  <a:off x="4761000" y="4800600"/>
                  <a:ext cx="907920" cy="915480"/>
                  <a:chOff x="4761000" y="4800600"/>
                  <a:chExt cx="907920" cy="915480"/>
                </a:xfrm>
              </p:grpSpPr>
              <p:sp>
                <p:nvSpPr>
                  <p:cNvPr id="2210" name=""/>
                  <p:cNvSpPr/>
                  <p:nvPr/>
                </p:nvSpPr>
                <p:spPr>
                  <a:xfrm>
                    <a:off x="4767120" y="4806360"/>
                    <a:ext cx="901800" cy="901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4761000" y="4800600"/>
                    <a:ext cx="458640" cy="9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77">
                        <a:moveTo>
                          <a:pt x="288" y="0"/>
                        </a:moveTo>
                        <a:lnTo>
                          <a:pt x="0" y="0"/>
                        </a:lnTo>
                        <a:lnTo>
                          <a:pt x="0" y="576"/>
                        </a:lnTo>
                        <a:lnTo>
                          <a:pt x="288" y="57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2" name=""/>
                <p:cNvSpPr/>
                <p:nvPr/>
              </p:nvSpPr>
              <p:spPr>
                <a:xfrm>
                  <a:off x="5676840" y="5247720"/>
                  <a:ext cx="1620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3" name=""/>
              <p:cNvSpPr/>
              <p:nvPr/>
            </p:nvSpPr>
            <p:spPr>
              <a:xfrm>
                <a:off x="4456080" y="495252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456080" y="556200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4438800" y="3733560"/>
              <a:ext cx="1400040" cy="915840"/>
              <a:chOff x="4438800" y="3733560"/>
              <a:chExt cx="1400040" cy="915840"/>
            </a:xfrm>
          </p:grpSpPr>
          <p:grpSp>
            <p:nvGrpSpPr>
              <p:cNvPr id="2216" name=""/>
              <p:cNvGrpSpPr/>
              <p:nvPr/>
            </p:nvGrpSpPr>
            <p:grpSpPr>
              <a:xfrm>
                <a:off x="4456080" y="3733560"/>
                <a:ext cx="1382760" cy="915840"/>
                <a:chOff x="4456080" y="3733560"/>
                <a:chExt cx="1382760" cy="915840"/>
              </a:xfrm>
            </p:grpSpPr>
            <p:grpSp>
              <p:nvGrpSpPr>
                <p:cNvPr id="2217" name=""/>
                <p:cNvGrpSpPr/>
                <p:nvPr/>
              </p:nvGrpSpPr>
              <p:grpSpPr>
                <a:xfrm>
                  <a:off x="4761000" y="3733560"/>
                  <a:ext cx="1077840" cy="915840"/>
                  <a:chOff x="4761000" y="3733560"/>
                  <a:chExt cx="1077840" cy="915840"/>
                </a:xfrm>
              </p:grpSpPr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4761000" y="3733560"/>
                    <a:ext cx="907920" cy="915840"/>
                    <a:chOff x="4761000" y="3733560"/>
                    <a:chExt cx="907920" cy="915840"/>
                  </a:xfrm>
                </p:grpSpPr>
                <p:sp>
                  <p:nvSpPr>
                    <p:cNvPr id="2219" name=""/>
                    <p:cNvSpPr/>
                    <p:nvPr/>
                  </p:nvSpPr>
                  <p:spPr>
                    <a:xfrm>
                      <a:off x="4767120" y="3739680"/>
                      <a:ext cx="901800" cy="9014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/>
                    <p:nvPr/>
                  </p:nvSpPr>
                  <p:spPr>
                    <a:xfrm>
                      <a:off x="4761000" y="3733560"/>
                      <a:ext cx="458640" cy="9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77">
                          <a:moveTo>
                            <a:pt x="288" y="0"/>
                          </a:moveTo>
                          <a:lnTo>
                            <a:pt x="0" y="0"/>
                          </a:lnTo>
                          <a:lnTo>
                            <a:pt x="0" y="576"/>
                          </a:lnTo>
                          <a:lnTo>
                            <a:pt x="288" y="576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21" name=""/>
                  <p:cNvSpPr/>
                  <p:nvPr/>
                </p:nvSpPr>
                <p:spPr>
                  <a:xfrm>
                    <a:off x="5676840" y="4181040"/>
                    <a:ext cx="1620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2" name=""/>
                <p:cNvSpPr/>
                <p:nvPr/>
              </p:nvSpPr>
              <p:spPr>
                <a:xfrm>
                  <a:off x="4456080" y="388584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4456080" y="449532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"/>
              <p:cNvSpPr/>
              <p:nvPr/>
            </p:nvSpPr>
            <p:spPr>
              <a:xfrm>
                <a:off x="4438800" y="4190400"/>
                <a:ext cx="323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4606920" y="4425840"/>
              <a:ext cx="139680" cy="139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838840" y="5029200"/>
              <a:ext cx="496800" cy="220320"/>
            </a:xfrm>
            <a:custGeom>
              <a:avLst/>
              <a:gdLst/>
              <a:ahLst/>
              <a:rect l="l" t="t" r="r" b="b"/>
              <a:pathLst>
                <a:path w="313" h="139">
                  <a:moveTo>
                    <a:pt x="0" y="138"/>
                  </a:moveTo>
                  <a:lnTo>
                    <a:pt x="0" y="0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838840" y="4181400"/>
              <a:ext cx="496800" cy="239400"/>
            </a:xfrm>
            <a:custGeom>
              <a:avLst/>
              <a:gdLst/>
              <a:ahLst/>
              <a:rect l="l" t="t" r="r" b="b"/>
              <a:pathLst>
                <a:path w="313" h="151">
                  <a:moveTo>
                    <a:pt x="0" y="0"/>
                  </a:moveTo>
                  <a:lnTo>
                    <a:pt x="0" y="150"/>
                  </a:lnTo>
                  <a:lnTo>
                    <a:pt x="312" y="15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0222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22280" y="3855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012560" y="423684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022280" y="4618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012560" y="5303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1A59-6074-46EA-84C1-520AA00051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3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234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3" name=""/>
          <p:cNvGrpSpPr/>
          <p:nvPr/>
        </p:nvGrpSpPr>
        <p:grpSpPr>
          <a:xfrm>
            <a:off x="6248520" y="3665520"/>
            <a:ext cx="1765800" cy="1090440"/>
            <a:chOff x="6248520" y="3665520"/>
            <a:chExt cx="1765800" cy="1090440"/>
          </a:xfrm>
        </p:grpSpPr>
        <p:grpSp>
          <p:nvGrpSpPr>
            <p:cNvPr id="2274" name=""/>
            <p:cNvGrpSpPr/>
            <p:nvPr/>
          </p:nvGrpSpPr>
          <p:grpSpPr>
            <a:xfrm>
              <a:off x="6248520" y="3854520"/>
              <a:ext cx="1218960" cy="901440"/>
              <a:chOff x="6248520" y="3854520"/>
              <a:chExt cx="1218960" cy="901440"/>
            </a:xfrm>
          </p:grpSpPr>
          <p:sp>
            <p:nvSpPr>
              <p:cNvPr id="2275" name=""/>
              <p:cNvSpPr/>
              <p:nvPr/>
            </p:nvSpPr>
            <p:spPr>
              <a:xfrm>
                <a:off x="6559560" y="385452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2485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1629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248520" y="46101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7603560" y="36655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4578480" y="4433760"/>
                <a:ext cx="166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81" name=""/>
          <p:cNvSpPr/>
          <p:nvPr/>
        </p:nvSpPr>
        <p:spPr>
          <a:xfrm>
            <a:off x="5774760" y="366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5CBE-C517-4DF8-A776-450FB8163E2A}" type="slidenum">
              <a:t>31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283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10" name=""/>
          <p:cNvSpPr/>
          <p:nvPr/>
        </p:nvSpPr>
        <p:spPr>
          <a:xfrm>
            <a:off x="3816360" y="11239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848720" y="21081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8594280" y="1773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200400" y="1346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200400" y="1803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200400" y="2260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00400" y="27176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727000" y="10112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727000" y="14684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726640" y="192564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00400" y="2108160"/>
            <a:ext cx="4954680" cy="129708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114800" y="16509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2" name=""/>
          <p:cNvGrpSpPr/>
          <p:nvPr/>
        </p:nvGrpSpPr>
        <p:grpSpPr>
          <a:xfrm>
            <a:off x="6248520" y="3703680"/>
            <a:ext cx="1765800" cy="1090440"/>
            <a:chOff x="6248520" y="3703680"/>
            <a:chExt cx="1765800" cy="1090440"/>
          </a:xfrm>
        </p:grpSpPr>
        <p:grpSp>
          <p:nvGrpSpPr>
            <p:cNvPr id="2323" name=""/>
            <p:cNvGrpSpPr/>
            <p:nvPr/>
          </p:nvGrpSpPr>
          <p:grpSpPr>
            <a:xfrm>
              <a:off x="6248520" y="3892680"/>
              <a:ext cx="1218960" cy="901440"/>
              <a:chOff x="6248520" y="3892680"/>
              <a:chExt cx="1218960" cy="901440"/>
            </a:xfrm>
          </p:grpSpPr>
          <p:sp>
            <p:nvSpPr>
              <p:cNvPr id="2324" name=""/>
              <p:cNvSpPr/>
              <p:nvPr/>
            </p:nvSpPr>
            <p:spPr>
              <a:xfrm>
                <a:off x="6559560" y="389268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2485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1629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248520" y="4648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28" name=""/>
            <p:cNvSpPr/>
            <p:nvPr/>
          </p:nvSpPr>
          <p:spPr>
            <a:xfrm>
              <a:off x="7603560" y="37036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5774760" y="3703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30" name=""/>
          <p:cNvGrpSpPr/>
          <p:nvPr/>
        </p:nvGrpSpPr>
        <p:grpSpPr>
          <a:xfrm>
            <a:off x="5105520" y="4502160"/>
            <a:ext cx="1218960" cy="901800"/>
            <a:chOff x="5105520" y="4502160"/>
            <a:chExt cx="1218960" cy="901800"/>
          </a:xfrm>
        </p:grpSpPr>
        <p:sp>
          <p:nvSpPr>
            <p:cNvPr id="2331" name=""/>
            <p:cNvSpPr/>
            <p:nvPr/>
          </p:nvSpPr>
          <p:spPr>
            <a:xfrm>
              <a:off x="5416560" y="4502160"/>
              <a:ext cx="596880" cy="9018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ctr">
              <a:noAutofit/>
            </a:bodyPr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055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199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105520" y="525780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4631760" y="43894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631760" y="49230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5D85-4CC9-4724-BDDC-A6E92DCA99DF}" type="slidenum">
              <a:t>32</a:t>
            </a:fld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chnology mapp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Merg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mall gates into larger gates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ntroduces no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synchronous technique can be applied, e.g. BDD-based boolean 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les sequential gates and combinational feedb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hazards there is no guarantee to find correct mapping (some gates cannot be decompos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decomposition can be applied in these rare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9B46-1AE9-4AC0-9CD4-EBEA84865F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F726-9033-471C-897D-C61D879061F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18680" y="-8244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iming assumptions in design flow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ed-independen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wire delays after a fork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maller than fan-out gate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rst-mod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ircuit stabilizes between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wo changes at the in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d circuit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bsolute bounds on gate / environment delays are know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ori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(before physical desig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1E37-FFAB-4438-8BF8-AAD52C77EE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ve Timing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723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befor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concurrent events: reduces reachable state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ordered events: permits early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th increase don’t care space for logic synthesis =&gt; simplify logic (better area and tim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ssume -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if useful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- guarantee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pproach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 are used by the tool to derive a circuit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quired timing constraint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must be met in physical desig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pplied to design of the Rotating Asynchronous Pentium Processor(TM) Instruction Decoder (K.Stevens, S.Rotem et al. Intel Corpora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666D-2CA0-424A-BEC4-7F74EE2E95D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/>
          <p:nvPr/>
        </p:nvSpPr>
        <p:spPr>
          <a:xfrm>
            <a:off x="590400" y="100332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ed-independent C-ele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81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Relative Timing Asynchronous Circui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628560" y="1974960"/>
            <a:ext cx="8210520" cy="2002680"/>
            <a:chOff x="628560" y="1974960"/>
            <a:chExt cx="8210520" cy="2002680"/>
          </a:xfrm>
        </p:grpSpPr>
        <p:sp>
          <p:nvSpPr>
            <p:cNvPr id="2363" name=""/>
            <p:cNvSpPr/>
            <p:nvPr/>
          </p:nvSpPr>
          <p:spPr>
            <a:xfrm>
              <a:off x="6438960" y="3498840"/>
              <a:ext cx="2400120" cy="45972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28560" y="351792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iming </a:t>
              </a: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assumption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(on environment):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66960" y="197496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6372720" y="1812240"/>
            <a:ext cx="338760" cy="213840"/>
            <a:chOff x="6372720" y="1812240"/>
            <a:chExt cx="338760" cy="213840"/>
          </a:xfrm>
        </p:grpSpPr>
        <p:sp>
          <p:nvSpPr>
            <p:cNvPr id="2367" name=""/>
            <p:cNvSpPr/>
            <p:nvPr/>
          </p:nvSpPr>
          <p:spPr>
            <a:xfrm rot="16093800">
              <a:off x="6374880" y="1893960"/>
              <a:ext cx="52920" cy="55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16093800">
              <a:off x="6456240" y="1769400"/>
              <a:ext cx="204840" cy="2988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6400800" y="2115360"/>
            <a:ext cx="270360" cy="255960"/>
            <a:chOff x="6400800" y="2115360"/>
            <a:chExt cx="270360" cy="255960"/>
          </a:xfrm>
        </p:grpSpPr>
        <p:sp>
          <p:nvSpPr>
            <p:cNvPr id="2370" name=""/>
            <p:cNvSpPr/>
            <p:nvPr/>
          </p:nvSpPr>
          <p:spPr>
            <a:xfrm rot="5314200">
              <a:off x="6616080" y="2221200"/>
              <a:ext cx="64800" cy="43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rot="5314200">
              <a:off x="6397560" y="2124360"/>
              <a:ext cx="250200" cy="2379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5516640" y="1641600"/>
            <a:ext cx="198360" cy="352800"/>
            <a:chOff x="5516640" y="1641600"/>
            <a:chExt cx="198360" cy="352800"/>
          </a:xfrm>
        </p:grpSpPr>
        <p:grpSp>
          <p:nvGrpSpPr>
            <p:cNvPr id="2373" name=""/>
            <p:cNvGrpSpPr/>
            <p:nvPr/>
          </p:nvGrpSpPr>
          <p:grpSpPr>
            <a:xfrm>
              <a:off x="5591160" y="1641600"/>
              <a:ext cx="123840" cy="352800"/>
              <a:chOff x="5591160" y="1641600"/>
              <a:chExt cx="123840" cy="352800"/>
            </a:xfrm>
          </p:grpSpPr>
          <p:grpSp>
            <p:nvGrpSpPr>
              <p:cNvPr id="2374" name=""/>
              <p:cNvGrpSpPr/>
              <p:nvPr/>
            </p:nvGrpSpPr>
            <p:grpSpPr>
              <a:xfrm>
                <a:off x="5638680" y="1641600"/>
                <a:ext cx="76320" cy="352800"/>
                <a:chOff x="5638680" y="1641600"/>
                <a:chExt cx="76320" cy="352800"/>
              </a:xfrm>
            </p:grpSpPr>
            <p:cxnSp>
              <p:nvCxnSpPr>
                <p:cNvPr id="2375" name=""/>
                <p:cNvCxnSpPr/>
                <p:nvPr/>
              </p:nvCxnSpPr>
              <p:spPr>
                <a:xfrm rot="5400000">
                  <a:off x="5557320" y="172260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376" name=""/>
                <p:cNvCxnSpPr/>
                <p:nvPr/>
              </p:nvCxnSpPr>
              <p:spPr>
                <a:xfrm flipH="1" rot="16200000">
                  <a:off x="5572080" y="185112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377" name=""/>
              <p:cNvSpPr/>
              <p:nvPr/>
            </p:nvSpPr>
            <p:spPr>
              <a:xfrm>
                <a:off x="5591160" y="174636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>
              <a:off x="5516640" y="17942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5591160" y="2193840"/>
            <a:ext cx="123840" cy="352800"/>
            <a:chOff x="5591160" y="2193840"/>
            <a:chExt cx="123840" cy="352800"/>
          </a:xfrm>
        </p:grpSpPr>
        <p:grpSp>
          <p:nvGrpSpPr>
            <p:cNvPr id="2380" name=""/>
            <p:cNvGrpSpPr/>
            <p:nvPr/>
          </p:nvGrpSpPr>
          <p:grpSpPr>
            <a:xfrm>
              <a:off x="5638680" y="2193840"/>
              <a:ext cx="76320" cy="352800"/>
              <a:chOff x="5638680" y="2193840"/>
              <a:chExt cx="76320" cy="352800"/>
            </a:xfrm>
          </p:grpSpPr>
          <p:cxnSp>
            <p:nvCxnSpPr>
              <p:cNvPr id="2381" name=""/>
              <p:cNvCxnSpPr/>
              <p:nvPr/>
            </p:nvCxnSpPr>
            <p:spPr>
              <a:xfrm rot="5400000">
                <a:off x="5557320" y="227484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382" name=""/>
              <p:cNvCxnSpPr/>
              <p:nvPr/>
            </p:nvCxnSpPr>
            <p:spPr>
              <a:xfrm flipH="1" rot="16200000">
                <a:off x="5572080" y="240336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383" name=""/>
            <p:cNvSpPr/>
            <p:nvPr/>
          </p:nvSpPr>
          <p:spPr>
            <a:xfrm>
              <a:off x="5591160" y="229860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5591160" y="2460600"/>
            <a:ext cx="123840" cy="352800"/>
            <a:chOff x="5591160" y="2460600"/>
            <a:chExt cx="123840" cy="352800"/>
          </a:xfrm>
        </p:grpSpPr>
        <p:grpSp>
          <p:nvGrpSpPr>
            <p:cNvPr id="2385" name=""/>
            <p:cNvGrpSpPr/>
            <p:nvPr/>
          </p:nvGrpSpPr>
          <p:grpSpPr>
            <a:xfrm>
              <a:off x="5638680" y="2460600"/>
              <a:ext cx="76320" cy="352800"/>
              <a:chOff x="5638680" y="2460600"/>
              <a:chExt cx="76320" cy="352800"/>
            </a:xfrm>
          </p:grpSpPr>
          <p:cxnSp>
            <p:nvCxnSpPr>
              <p:cNvPr id="2386" name=""/>
              <p:cNvCxnSpPr/>
              <p:nvPr/>
            </p:nvCxnSpPr>
            <p:spPr>
              <a:xfrm rot="5400000">
                <a:off x="5557320" y="254160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387" name=""/>
              <p:cNvCxnSpPr/>
              <p:nvPr/>
            </p:nvCxnSpPr>
            <p:spPr>
              <a:xfrm flipH="1" rot="16200000">
                <a:off x="5572080" y="267012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388" name=""/>
            <p:cNvSpPr/>
            <p:nvPr/>
          </p:nvSpPr>
          <p:spPr>
            <a:xfrm>
              <a:off x="5591160" y="256536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9" name=""/>
          <p:cNvGrpSpPr/>
          <p:nvPr/>
        </p:nvGrpSpPr>
        <p:grpSpPr>
          <a:xfrm>
            <a:off x="5516640" y="1917720"/>
            <a:ext cx="198360" cy="352800"/>
            <a:chOff x="5516640" y="1917720"/>
            <a:chExt cx="198360" cy="352800"/>
          </a:xfrm>
        </p:grpSpPr>
        <p:grpSp>
          <p:nvGrpSpPr>
            <p:cNvPr id="2390" name=""/>
            <p:cNvGrpSpPr/>
            <p:nvPr/>
          </p:nvGrpSpPr>
          <p:grpSpPr>
            <a:xfrm>
              <a:off x="5591160" y="1917720"/>
              <a:ext cx="123840" cy="352800"/>
              <a:chOff x="5591160" y="1917720"/>
              <a:chExt cx="123840" cy="35280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5638680" y="1917720"/>
                <a:ext cx="76320" cy="352800"/>
                <a:chOff x="5638680" y="1917720"/>
                <a:chExt cx="76320" cy="352800"/>
              </a:xfrm>
            </p:grpSpPr>
            <p:cxnSp>
              <p:nvCxnSpPr>
                <p:cNvPr id="2392" name=""/>
                <p:cNvCxnSpPr/>
                <p:nvPr/>
              </p:nvCxnSpPr>
              <p:spPr>
                <a:xfrm rot="5400000">
                  <a:off x="5557320" y="199872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393" name=""/>
                <p:cNvCxnSpPr/>
                <p:nvPr/>
              </p:nvCxnSpPr>
              <p:spPr>
                <a:xfrm flipH="1" rot="16200000">
                  <a:off x="5572080" y="212724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394" name=""/>
              <p:cNvSpPr/>
              <p:nvPr/>
            </p:nvSpPr>
            <p:spPr>
              <a:xfrm>
                <a:off x="5591160" y="202248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5516640" y="207036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96" name=""/>
          <p:cNvSpPr/>
          <p:nvPr/>
        </p:nvSpPr>
        <p:spPr>
          <a:xfrm>
            <a:off x="5676840" y="1612800"/>
            <a:ext cx="85680" cy="57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648400" y="2813040"/>
            <a:ext cx="12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715000" y="22320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667560" y="2241720"/>
            <a:ext cx="48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00" name=""/>
          <p:cNvCxnSpPr>
            <a:stCxn id="2368" idx="0"/>
          </p:cNvCxnSpPr>
          <p:nvPr/>
        </p:nvCxnSpPr>
        <p:spPr>
          <a:xfrm flipV="1" rot="10800000">
            <a:off x="6057360" y="1923120"/>
            <a:ext cx="352800" cy="308520"/>
          </a:xfrm>
          <a:prstGeom prst="bentConnector3">
            <a:avLst>
              <a:gd name="adj1" fmla="val 50357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401" name=""/>
          <p:cNvCxnSpPr/>
          <p:nvPr/>
        </p:nvCxnSpPr>
        <p:spPr>
          <a:xfrm>
            <a:off x="6706800" y="1905120"/>
            <a:ext cx="446760" cy="327600"/>
          </a:xfrm>
          <a:prstGeom prst="bentConnector4">
            <a:avLst>
              <a:gd name="adj1" fmla="val 51532"/>
              <a:gd name="adj2" fmla="val 1033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402" name=""/>
          <p:cNvCxnSpPr>
            <a:stCxn id="2395" idx="2"/>
          </p:cNvCxnSpPr>
          <p:nvPr/>
        </p:nvCxnSpPr>
        <p:spPr>
          <a:xfrm flipV="1" rot="10800000">
            <a:off x="5361840" y="2107800"/>
            <a:ext cx="154800" cy="28656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403" name=""/>
          <p:cNvSpPr/>
          <p:nvPr/>
        </p:nvSpPr>
        <p:spPr>
          <a:xfrm>
            <a:off x="5362560" y="2394000"/>
            <a:ext cx="228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04" name=""/>
          <p:cNvCxnSpPr/>
          <p:nvPr/>
        </p:nvCxnSpPr>
        <p:spPr>
          <a:xfrm flipV="1" rot="10800000">
            <a:off x="5247720" y="1821240"/>
            <a:ext cx="268920" cy="8485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405" name=""/>
          <p:cNvSpPr/>
          <p:nvPr/>
        </p:nvSpPr>
        <p:spPr>
          <a:xfrm>
            <a:off x="5248440" y="2660760"/>
            <a:ext cx="342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4762080" y="2232000"/>
            <a:ext cx="6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4743000" y="2422440"/>
            <a:ext cx="505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481280" y="227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471920" y="19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110000" y="202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685800" y="1463760"/>
            <a:ext cx="7581960" cy="4799880"/>
            <a:chOff x="685800" y="1463760"/>
            <a:chExt cx="7581960" cy="4799880"/>
          </a:xfrm>
        </p:grpSpPr>
        <p:grpSp>
          <p:nvGrpSpPr>
            <p:cNvPr id="2412" name=""/>
            <p:cNvGrpSpPr/>
            <p:nvPr/>
          </p:nvGrpSpPr>
          <p:grpSpPr>
            <a:xfrm>
              <a:off x="4235400" y="1463760"/>
              <a:ext cx="3021120" cy="1542960"/>
              <a:chOff x="4235400" y="1463760"/>
              <a:chExt cx="3021120" cy="1542960"/>
            </a:xfrm>
          </p:grpSpPr>
          <p:sp>
            <p:nvSpPr>
              <p:cNvPr id="2413" name=""/>
              <p:cNvSpPr/>
              <p:nvPr/>
            </p:nvSpPr>
            <p:spPr>
              <a:xfrm flipH="1">
                <a:off x="423540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34124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>
              <a:off x="685800" y="542268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T C-element: faster,smaller; correct only under timing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onstraint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: 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866960" y="420372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390840" y="5803920"/>
              <a:ext cx="240048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6420240" y="4325400"/>
              <a:ext cx="339120" cy="213480"/>
              <a:chOff x="6420240" y="4325400"/>
              <a:chExt cx="339120" cy="213480"/>
            </a:xfrm>
          </p:grpSpPr>
          <p:sp>
            <p:nvSpPr>
              <p:cNvPr id="2419" name=""/>
              <p:cNvSpPr/>
              <p:nvPr/>
            </p:nvSpPr>
            <p:spPr>
              <a:xfrm rot="16093800">
                <a:off x="6422400" y="4406760"/>
                <a:ext cx="52920" cy="55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6093800">
                <a:off x="6504120" y="4282200"/>
                <a:ext cx="204480" cy="2991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448320" y="4628160"/>
              <a:ext cx="270360" cy="255960"/>
              <a:chOff x="6448320" y="4628160"/>
              <a:chExt cx="270360" cy="255960"/>
            </a:xfrm>
          </p:grpSpPr>
          <p:sp>
            <p:nvSpPr>
              <p:cNvPr id="2422" name=""/>
              <p:cNvSpPr/>
              <p:nvPr/>
            </p:nvSpPr>
            <p:spPr>
              <a:xfrm rot="5314200">
                <a:off x="6663600" y="4734000"/>
                <a:ext cx="64800" cy="439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rot="5314200">
                <a:off x="6445080" y="4637160"/>
                <a:ext cx="250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5638680" y="4706640"/>
              <a:ext cx="123840" cy="352080"/>
              <a:chOff x="5638680" y="4706640"/>
              <a:chExt cx="123840" cy="352080"/>
            </a:xfrm>
          </p:grpSpPr>
          <p:grpSp>
            <p:nvGrpSpPr>
              <p:cNvPr id="2425" name=""/>
              <p:cNvGrpSpPr/>
              <p:nvPr/>
            </p:nvGrpSpPr>
            <p:grpSpPr>
              <a:xfrm>
                <a:off x="5686200" y="4706640"/>
                <a:ext cx="76320" cy="352080"/>
                <a:chOff x="5686200" y="4706640"/>
                <a:chExt cx="76320" cy="352080"/>
              </a:xfrm>
            </p:grpSpPr>
            <p:cxnSp>
              <p:nvCxnSpPr>
                <p:cNvPr id="2426" name=""/>
                <p:cNvCxnSpPr/>
                <p:nvPr/>
              </p:nvCxnSpPr>
              <p:spPr>
                <a:xfrm rot="5400000">
                  <a:off x="5605200" y="47876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427" name=""/>
                <p:cNvCxnSpPr/>
                <p:nvPr/>
              </p:nvCxnSpPr>
              <p:spPr>
                <a:xfrm flipH="1" rot="16200000">
                  <a:off x="5619600" y="49158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428" name=""/>
              <p:cNvSpPr/>
              <p:nvPr/>
            </p:nvSpPr>
            <p:spPr>
              <a:xfrm>
                <a:off x="5638680" y="48114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5638680" y="4973040"/>
              <a:ext cx="123840" cy="352080"/>
              <a:chOff x="5638680" y="4973040"/>
              <a:chExt cx="123840" cy="352080"/>
            </a:xfrm>
          </p:grpSpPr>
          <p:grpSp>
            <p:nvGrpSpPr>
              <p:cNvPr id="2430" name=""/>
              <p:cNvGrpSpPr/>
              <p:nvPr/>
            </p:nvGrpSpPr>
            <p:grpSpPr>
              <a:xfrm>
                <a:off x="5686200" y="4973040"/>
                <a:ext cx="76320" cy="352080"/>
                <a:chOff x="5686200" y="4973040"/>
                <a:chExt cx="76320" cy="352080"/>
              </a:xfrm>
            </p:grpSpPr>
            <p:cxnSp>
              <p:nvCxnSpPr>
                <p:cNvPr id="2431" name=""/>
                <p:cNvCxnSpPr/>
                <p:nvPr/>
              </p:nvCxnSpPr>
              <p:spPr>
                <a:xfrm rot="5400000">
                  <a:off x="5605200" y="50540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432" name=""/>
                <p:cNvCxnSpPr/>
                <p:nvPr/>
              </p:nvCxnSpPr>
              <p:spPr>
                <a:xfrm flipH="1" rot="16200000">
                  <a:off x="5619600" y="51822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433" name=""/>
              <p:cNvSpPr/>
              <p:nvPr/>
            </p:nvSpPr>
            <p:spPr>
              <a:xfrm>
                <a:off x="5638680" y="50778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4" name=""/>
            <p:cNvGrpSpPr/>
            <p:nvPr/>
          </p:nvGrpSpPr>
          <p:grpSpPr>
            <a:xfrm>
              <a:off x="5564160" y="4430160"/>
              <a:ext cx="198360" cy="352080"/>
              <a:chOff x="5564160" y="4430160"/>
              <a:chExt cx="198360" cy="352080"/>
            </a:xfrm>
          </p:grpSpPr>
          <p:grpSp>
            <p:nvGrpSpPr>
              <p:cNvPr id="2435" name=""/>
              <p:cNvGrpSpPr/>
              <p:nvPr/>
            </p:nvGrpSpPr>
            <p:grpSpPr>
              <a:xfrm>
                <a:off x="5638680" y="4430160"/>
                <a:ext cx="123840" cy="352080"/>
                <a:chOff x="5638680" y="4430160"/>
                <a:chExt cx="123840" cy="352080"/>
              </a:xfrm>
            </p:grpSpPr>
            <p:grpSp>
              <p:nvGrpSpPr>
                <p:cNvPr id="2436" name=""/>
                <p:cNvGrpSpPr/>
                <p:nvPr/>
              </p:nvGrpSpPr>
              <p:grpSpPr>
                <a:xfrm>
                  <a:off x="5686200" y="4430160"/>
                  <a:ext cx="76320" cy="352080"/>
                  <a:chOff x="5686200" y="4430160"/>
                  <a:chExt cx="76320" cy="352080"/>
                </a:xfrm>
              </p:grpSpPr>
              <p:cxnSp>
                <p:nvCxnSpPr>
                  <p:cNvPr id="2437" name=""/>
                  <p:cNvCxnSpPr/>
                  <p:nvPr/>
                </p:nvCxnSpPr>
                <p:spPr>
                  <a:xfrm rot="5400000">
                    <a:off x="5605200" y="4511160"/>
                    <a:ext cx="2386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  <p:cxnSp>
                <p:nvCxnSpPr>
                  <p:cNvPr id="2438" name=""/>
                  <p:cNvCxnSpPr/>
                  <p:nvPr/>
                </p:nvCxnSpPr>
                <p:spPr>
                  <a:xfrm flipH="1" rot="16200000">
                    <a:off x="5619600" y="4639320"/>
                    <a:ext cx="2098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</p:grpSp>
            <p:sp>
              <p:nvSpPr>
                <p:cNvPr id="2439" name=""/>
                <p:cNvSpPr/>
                <p:nvPr/>
              </p:nvSpPr>
              <p:spPr>
                <a:xfrm>
                  <a:off x="5638680" y="453492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0" name=""/>
              <p:cNvSpPr/>
              <p:nvPr/>
            </p:nvSpPr>
            <p:spPr>
              <a:xfrm>
                <a:off x="5564160" y="4582800"/>
                <a:ext cx="74520" cy="7416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1" name=""/>
            <p:cNvSpPr/>
            <p:nvPr/>
          </p:nvSpPr>
          <p:spPr>
            <a:xfrm>
              <a:off x="5724360" y="4392360"/>
              <a:ext cx="86040" cy="5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95920" y="5325840"/>
              <a:ext cx="123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62520" y="474480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715080" y="4754520"/>
              <a:ext cx="486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445" name=""/>
            <p:cNvCxnSpPr>
              <a:stCxn id="2420" idx="0"/>
            </p:cNvCxnSpPr>
            <p:nvPr/>
          </p:nvCxnSpPr>
          <p:spPr>
            <a:xfrm flipV="1" rot="10800000">
              <a:off x="6104880" y="4436640"/>
              <a:ext cx="353160" cy="308160"/>
            </a:xfrm>
            <a:prstGeom prst="bentConnector3">
              <a:avLst>
                <a:gd name="adj1" fmla="val 50408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446" name=""/>
            <p:cNvCxnSpPr/>
            <p:nvPr/>
          </p:nvCxnSpPr>
          <p:spPr>
            <a:xfrm>
              <a:off x="6754680" y="4417560"/>
              <a:ext cx="447120" cy="327240"/>
            </a:xfrm>
            <a:prstGeom prst="bentConnector4">
              <a:avLst>
                <a:gd name="adj1" fmla="val 51571"/>
                <a:gd name="adj2" fmla="val 103303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447" name=""/>
            <p:cNvCxnSpPr>
              <a:stCxn id="2440" idx="2"/>
            </p:cNvCxnSpPr>
            <p:nvPr/>
          </p:nvCxnSpPr>
          <p:spPr>
            <a:xfrm flipV="1" rot="10800000">
              <a:off x="5409360" y="4619880"/>
              <a:ext cx="154800" cy="286200"/>
            </a:xfrm>
            <a:prstGeom prst="bentConnector2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2448" name=""/>
            <p:cNvSpPr/>
            <p:nvPr/>
          </p:nvSpPr>
          <p:spPr>
            <a:xfrm>
              <a:off x="5410080" y="490680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295960" y="51735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4809600" y="4744800"/>
              <a:ext cx="600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4791240" y="4935600"/>
              <a:ext cx="504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529160" y="478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519440" y="449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157520" y="453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295960" y="4946400"/>
              <a:ext cx="0" cy="23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1927-9929-4EBC-B65D-B8C5F3CDDD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Graph (Read cycl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686A-ECF4-4D8E-A062-36A4ACA2CB9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3429000" y="358776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95760" y="3664080"/>
            <a:ext cx="1638360" cy="495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209680" y="257796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657600" y="1454040"/>
            <a:ext cx="200016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azy Transition Syst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570120" y="146700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900800" y="13352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908040" y="39117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722760" y="165276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029200" y="1652760"/>
            <a:ext cx="260280" cy="2696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72276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02920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33564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72276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02920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633564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2276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029200" y="4890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41632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41632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1632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3984480" y="179244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3989520" y="17924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3989520" y="28670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289120" y="395136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3984480" y="3951360"/>
            <a:ext cx="103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2677680" y="504180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3989520" y="504180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470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6564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65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5920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85920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55276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552760" y="40813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42456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1132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744640" y="2044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2660760" y="1873080"/>
            <a:ext cx="1092240" cy="933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5264280" y="4032360"/>
            <a:ext cx="1092240" cy="90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106960" y="31878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8200" y="33591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DTACK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191280" y="2597040"/>
            <a:ext cx="552600" cy="552600"/>
          </a:xfrm>
          <a:prstGeom prst="noSmoking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905880" y="3340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Arial"/>
              </a:rPr>
              <a:t>F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99960" y="5519880"/>
            <a:ext cx="67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is lazy: firing = subset of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28680" y="5437080"/>
            <a:ext cx="6926400" cy="6368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6664-AA3A-4EFA-B969-420ED3F787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960" y="-39600"/>
            <a:ext cx="758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Haz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97640" y="2514600"/>
            <a:ext cx="3255120" cy="1830240"/>
            <a:chOff x="5597640" y="2514600"/>
            <a:chExt cx="3255120" cy="1830240"/>
          </a:xfrm>
        </p:grpSpPr>
        <p:grpSp>
          <p:nvGrpSpPr>
            <p:cNvPr id="114" name=""/>
            <p:cNvGrpSpPr/>
            <p:nvPr/>
          </p:nvGrpSpPr>
          <p:grpSpPr>
            <a:xfrm>
              <a:off x="5597640" y="2514600"/>
              <a:ext cx="2762280" cy="1830240"/>
              <a:chOff x="5597640" y="2514600"/>
              <a:chExt cx="2762280" cy="1830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97640" y="2514600"/>
                <a:ext cx="2762280" cy="1830240"/>
                <a:chOff x="5597640" y="2514600"/>
                <a:chExt cx="2762280" cy="1830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6203880" y="2514600"/>
                  <a:ext cx="2156040" cy="1830240"/>
                  <a:chOff x="6203880" y="2514600"/>
                  <a:chExt cx="2156040" cy="183024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6203880" y="2514600"/>
                    <a:ext cx="1822680" cy="1830240"/>
                    <a:chOff x="6203880" y="2514600"/>
                    <a:chExt cx="1822680" cy="18302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210360" y="2521080"/>
                      <a:ext cx="1816200" cy="1815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203880" y="2514600"/>
                      <a:ext cx="916200" cy="18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7" h="1153">
                          <a:moveTo>
                            <a:pt x="576" y="0"/>
                          </a:moveTo>
                          <a:lnTo>
                            <a:pt x="0" y="0"/>
                          </a:lnTo>
                          <a:lnTo>
                            <a:pt x="0" y="1152"/>
                          </a:lnTo>
                          <a:lnTo>
                            <a:pt x="576" y="115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>
                    <a:off x="8039160" y="3409920"/>
                    <a:ext cx="320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597640" y="281952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597640" y="403848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5641560" y="3429000"/>
                <a:ext cx="5698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31960" y="26370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31960" y="31701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31960" y="37036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79440" y="3116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8442000" y="3149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82920" y="1341360"/>
            <a:ext cx="1089000" cy="1037160"/>
            <a:chOff x="1582920" y="1341360"/>
            <a:chExt cx="1089000" cy="1037160"/>
          </a:xfrm>
        </p:grpSpPr>
        <p:sp>
          <p:nvSpPr>
            <p:cNvPr id="130" name=""/>
            <p:cNvSpPr/>
            <p:nvPr/>
          </p:nvSpPr>
          <p:spPr>
            <a:xfrm>
              <a:off x="1582920" y="1341360"/>
              <a:ext cx="104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abc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4360" y="17985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84360" y="2255760"/>
            <a:ext cx="1333800" cy="1342080"/>
            <a:chOff x="1584360" y="2255760"/>
            <a:chExt cx="1333800" cy="1342080"/>
          </a:xfrm>
        </p:grpSpPr>
        <p:sp>
          <p:nvSpPr>
            <p:cNvPr id="133" name=""/>
            <p:cNvSpPr/>
            <p:nvPr/>
          </p:nvSpPr>
          <p:spPr>
            <a:xfrm>
              <a:off x="1584360" y="30178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8680" y="22892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9800" y="2255760"/>
              <a:ext cx="64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b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84360" y="3584520"/>
            <a:ext cx="1231920" cy="1308600"/>
            <a:chOff x="1584360" y="3584520"/>
            <a:chExt cx="1231920" cy="1308600"/>
          </a:xfrm>
        </p:grpSpPr>
        <p:sp>
          <p:nvSpPr>
            <p:cNvPr id="137" name=""/>
            <p:cNvSpPr/>
            <p:nvPr/>
          </p:nvSpPr>
          <p:spPr>
            <a:xfrm>
              <a:off x="2128680" y="358452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4360" y="43131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70160" y="3627360"/>
              <a:ext cx="54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a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84360" y="4803840"/>
            <a:ext cx="1388520" cy="1308600"/>
            <a:chOff x="1584360" y="4803840"/>
            <a:chExt cx="1388520" cy="1308600"/>
          </a:xfrm>
        </p:grpSpPr>
        <p:sp>
          <p:nvSpPr>
            <p:cNvPr id="141" name=""/>
            <p:cNvSpPr/>
            <p:nvPr/>
          </p:nvSpPr>
          <p:spPr>
            <a:xfrm>
              <a:off x="2128680" y="48038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4360" y="55324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5760" y="4846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c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230360" y="2508120"/>
            <a:ext cx="410760" cy="1824840"/>
            <a:chOff x="4230360" y="2508120"/>
            <a:chExt cx="410760" cy="1824840"/>
          </a:xfrm>
        </p:grpSpPr>
        <p:sp>
          <p:nvSpPr>
            <p:cNvPr id="145" name=""/>
            <p:cNvSpPr/>
            <p:nvPr/>
          </p:nvSpPr>
          <p:spPr>
            <a:xfrm>
              <a:off x="4230360" y="25081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30360" y="3117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0360" y="37530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49360" y="2494080"/>
            <a:ext cx="410760" cy="1824480"/>
            <a:chOff x="5049360" y="2494080"/>
            <a:chExt cx="410760" cy="1824480"/>
          </a:xfrm>
        </p:grpSpPr>
        <p:sp>
          <p:nvSpPr>
            <p:cNvPr id="149" name=""/>
            <p:cNvSpPr/>
            <p:nvPr/>
          </p:nvSpPr>
          <p:spPr>
            <a:xfrm>
              <a:off x="5049360" y="2494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9360" y="3103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9360" y="373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54080" y="2503440"/>
            <a:ext cx="410760" cy="1824840"/>
            <a:chOff x="4654080" y="2503440"/>
            <a:chExt cx="410760" cy="1824840"/>
          </a:xfrm>
        </p:grpSpPr>
        <p:sp>
          <p:nvSpPr>
            <p:cNvPr id="153" name=""/>
            <p:cNvSpPr/>
            <p:nvPr/>
          </p:nvSpPr>
          <p:spPr>
            <a:xfrm>
              <a:off x="4654080" y="25034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54080" y="31132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54080" y="3748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54160" y="2489040"/>
            <a:ext cx="410760" cy="1824840"/>
            <a:chOff x="3854160" y="2489040"/>
            <a:chExt cx="410760" cy="1824840"/>
          </a:xfrm>
        </p:grpSpPr>
        <p:sp>
          <p:nvSpPr>
            <p:cNvPr id="157" name=""/>
            <p:cNvSpPr/>
            <p:nvPr/>
          </p:nvSpPr>
          <p:spPr>
            <a:xfrm>
              <a:off x="3854160" y="24890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4160" y="30988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4160" y="3733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D9A5-C1DE-4967-A831-F12A4108E2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rly enablin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0" y="16765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0A77-CED2-4118-B380-288F110F142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peed-independent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582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583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6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87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590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95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96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98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01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602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6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611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14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640" name=""/>
          <p:cNvCxnSpPr>
            <a:stCxn id="2638" idx="0"/>
            <a:endCxn id="2639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6CEE-D282-4EC6-B324-719E6DC945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666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71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674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679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680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82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3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85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686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90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695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24" name=""/>
          <p:cNvCxnSpPr>
            <a:stCxn id="2722" idx="0"/>
            <a:endCxn id="2723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grpSp>
        <p:nvGrpSpPr>
          <p:cNvPr id="2725" name=""/>
          <p:cNvGrpSpPr/>
          <p:nvPr/>
        </p:nvGrpSpPr>
        <p:grpSpPr>
          <a:xfrm>
            <a:off x="5205240" y="2378160"/>
            <a:ext cx="5153040" cy="2369880"/>
            <a:chOff x="5205240" y="2378160"/>
            <a:chExt cx="5153040" cy="2369880"/>
          </a:xfrm>
        </p:grpSpPr>
        <p:sp>
          <p:nvSpPr>
            <p:cNvPr id="2726" name=""/>
            <p:cNvSpPr/>
            <p:nvPr/>
          </p:nvSpPr>
          <p:spPr>
            <a:xfrm>
              <a:off x="5205240" y="23781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286320" y="31716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0" y="4213080"/>
            <a:ext cx="8697960" cy="1315800"/>
            <a:chOff x="0" y="4213080"/>
            <a:chExt cx="8697960" cy="1315800"/>
          </a:xfrm>
        </p:grpSpPr>
        <p:grpSp>
          <p:nvGrpSpPr>
            <p:cNvPr id="2729" name=""/>
            <p:cNvGrpSpPr/>
            <p:nvPr/>
          </p:nvGrpSpPr>
          <p:grpSpPr>
            <a:xfrm>
              <a:off x="7737480" y="5025600"/>
              <a:ext cx="960480" cy="503280"/>
              <a:chOff x="7737480" y="5025600"/>
              <a:chExt cx="960480" cy="503280"/>
            </a:xfrm>
          </p:grpSpPr>
          <p:sp>
            <p:nvSpPr>
              <p:cNvPr id="2730" name=""/>
              <p:cNvSpPr/>
              <p:nvPr/>
            </p:nvSpPr>
            <p:spPr>
              <a:xfrm>
                <a:off x="7773480" y="506664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FAST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37480" y="5025600"/>
                <a:ext cx="960480" cy="50328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0" y="4213080"/>
              <a:ext cx="1112760" cy="593640"/>
              <a:chOff x="0" y="4213080"/>
              <a:chExt cx="1112760" cy="593640"/>
            </a:xfrm>
          </p:grpSpPr>
          <p:sp>
            <p:nvSpPr>
              <p:cNvPr id="2733" name=""/>
              <p:cNvSpPr/>
              <p:nvPr/>
            </p:nvSpPr>
            <p:spPr>
              <a:xfrm>
                <a:off x="83160" y="43160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SLO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0" y="4213080"/>
                <a:ext cx="1112760" cy="59364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C47E-2C75-442D-9B72-F3695D4B03C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3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73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74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750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751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53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54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757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5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766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95" name=""/>
          <p:cNvCxnSpPr>
            <a:stCxn id="2793" idx="0"/>
            <a:endCxn id="2794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796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5259240" y="2368440"/>
            <a:ext cx="5153040" cy="2370240"/>
            <a:chOff x="5259240" y="2368440"/>
            <a:chExt cx="5153040" cy="2370240"/>
          </a:xfrm>
        </p:grpSpPr>
        <p:sp>
          <p:nvSpPr>
            <p:cNvPr id="2819" name=""/>
            <p:cNvSpPr/>
            <p:nvPr/>
          </p:nvSpPr>
          <p:spPr>
            <a:xfrm>
              <a:off x="5259240" y="236844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40320" y="316224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4A07-8C92-41EB-8A44-2DBD2DF6E77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57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858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60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E101-0007-4C71-9AA1-740E88BAA82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896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4840-92D5-4566-B5C6-E8627507D7D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"/>
          <p:cNvSpPr/>
          <p:nvPr/>
        </p:nvSpPr>
        <p:spPr>
          <a:xfrm>
            <a:off x="4819680" y="2838600"/>
            <a:ext cx="1962000" cy="666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800600" y="1790640"/>
            <a:ext cx="762120" cy="704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931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33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400480" y="56307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wo more unreachable sta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661A-A79B-44B7-BAF4-74C3B60A028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2946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4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2965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AD6E-E16D-4938-9C05-86A66830950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026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3027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5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3046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8748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8199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32440" y="5878440"/>
            <a:ext cx="43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5418720" y="587844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state conflict is remov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3105-C2C7-4A71-8E67-9D5AF4678C1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124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125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126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8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29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3132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36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3137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3138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0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3144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153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56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182" name=""/>
          <p:cNvCxnSpPr>
            <a:stCxn id="3180" idx="0"/>
            <a:endCxn id="3181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83" name=""/>
          <p:cNvSpPr/>
          <p:nvPr/>
        </p:nvSpPr>
        <p:spPr>
          <a:xfrm>
            <a:off x="2476440" y="4514760"/>
            <a:ext cx="2857680" cy="123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EC8B-4251-4813-B34B-0718AC56B64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Decomposition May Lead to Hazar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82920" y="1341360"/>
            <a:ext cx="1389960" cy="4771080"/>
            <a:chOff x="1582920" y="1341360"/>
            <a:chExt cx="1389960" cy="4771080"/>
          </a:xfrm>
        </p:grpSpPr>
        <p:grpSp>
          <p:nvGrpSpPr>
            <p:cNvPr id="163" name=""/>
            <p:cNvGrpSpPr/>
            <p:nvPr/>
          </p:nvGrpSpPr>
          <p:grpSpPr>
            <a:xfrm>
              <a:off x="1582920" y="1341360"/>
              <a:ext cx="1087920" cy="1037160"/>
              <a:chOff x="1582920" y="1341360"/>
              <a:chExt cx="1087920" cy="103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1582920" y="1341360"/>
                <a:ext cx="1044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abc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83640" y="17985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0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83640" y="2255760"/>
              <a:ext cx="1334520" cy="1342080"/>
              <a:chOff x="1583640" y="2255760"/>
              <a:chExt cx="1334520" cy="1342080"/>
            </a:xfrm>
          </p:grpSpPr>
          <p:sp>
            <p:nvSpPr>
              <p:cNvPr id="167" name=""/>
              <p:cNvSpPr/>
              <p:nvPr/>
            </p:nvSpPr>
            <p:spPr>
              <a:xfrm>
                <a:off x="1583640" y="30178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28680" y="22892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69800" y="2255760"/>
                <a:ext cx="64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b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83640" y="3584520"/>
              <a:ext cx="1232640" cy="1308600"/>
              <a:chOff x="1583640" y="3584520"/>
              <a:chExt cx="1232640" cy="130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2128680" y="358452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83640" y="43131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0160" y="3627360"/>
                <a:ext cx="54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a-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583640" y="4803840"/>
              <a:ext cx="1389240" cy="1308600"/>
              <a:chOff x="1583640" y="4803840"/>
              <a:chExt cx="1389240" cy="130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2128680" y="48038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83640" y="55324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1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45760" y="4846680"/>
                <a:ext cx="627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c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037040" y="2303640"/>
            <a:ext cx="4129200" cy="1843560"/>
            <a:chOff x="4037040" y="2303640"/>
            <a:chExt cx="4129200" cy="1843560"/>
          </a:xfrm>
        </p:grpSpPr>
        <p:grpSp>
          <p:nvGrpSpPr>
            <p:cNvPr id="179" name=""/>
            <p:cNvGrpSpPr/>
            <p:nvPr/>
          </p:nvGrpSpPr>
          <p:grpSpPr>
            <a:xfrm>
              <a:off x="4037040" y="2303640"/>
              <a:ext cx="2071800" cy="1437120"/>
              <a:chOff x="4037040" y="2303640"/>
              <a:chExt cx="2071800" cy="14371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37040" y="2303640"/>
                <a:ext cx="2071800" cy="1373040"/>
                <a:chOff x="4037040" y="2303640"/>
                <a:chExt cx="2071800" cy="137304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491000" y="2303640"/>
                  <a:ext cx="1617840" cy="1373040"/>
                  <a:chOff x="4491000" y="2303640"/>
                  <a:chExt cx="1617840" cy="13730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491000" y="2303640"/>
                    <a:ext cx="1365120" cy="1373040"/>
                    <a:chOff x="4491000" y="2303640"/>
                    <a:chExt cx="1365120" cy="13730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497480" y="2309760"/>
                      <a:ext cx="1358640" cy="13590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491000" y="230364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869080" y="297504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4037040" y="25322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37040" y="34466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555800" y="23223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5800" y="31608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3840" y="27097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094440" y="2743200"/>
              <a:ext cx="2071800" cy="1404000"/>
              <a:chOff x="6094440" y="2743200"/>
              <a:chExt cx="2071800" cy="1404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094440" y="2743200"/>
                <a:ext cx="2071800" cy="1373040"/>
                <a:chOff x="6094440" y="2743200"/>
                <a:chExt cx="2071800" cy="1373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548400" y="2743200"/>
                  <a:ext cx="1617840" cy="1373040"/>
                  <a:chOff x="6548400" y="2743200"/>
                  <a:chExt cx="1617840" cy="13730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548400" y="2743200"/>
                    <a:ext cx="1365120" cy="1373040"/>
                    <a:chOff x="6548400" y="2743200"/>
                    <a:chExt cx="1365120" cy="137304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5548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65484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79264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60944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0944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597000" y="356724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77920" y="3200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308040" y="1996920"/>
            <a:ext cx="4906440" cy="2370960"/>
            <a:chOff x="3308040" y="1996920"/>
            <a:chExt cx="4906440" cy="2370960"/>
          </a:xfrm>
        </p:grpSpPr>
        <p:sp>
          <p:nvSpPr>
            <p:cNvPr id="203" name=""/>
            <p:cNvSpPr/>
            <p:nvPr/>
          </p:nvSpPr>
          <p:spPr>
            <a:xfrm>
              <a:off x="33080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80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46320" y="2149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08240" y="3787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037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4200" y="18748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6040" y="30942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35120" y="309420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3894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6088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3733920"/>
            <a:ext cx="992160" cy="687240"/>
          </a:xfrm>
          <a:custGeom>
            <a:avLst/>
            <a:gdLst/>
            <a:ahLst/>
            <a:rect l="l" t="t" r="r" b="b"/>
            <a:pathLst>
              <a:path w="625" h="433">
                <a:moveTo>
                  <a:pt x="0" y="432"/>
                </a:moveTo>
                <a:lnTo>
                  <a:pt x="240" y="432"/>
                </a:lnTo>
                <a:lnTo>
                  <a:pt x="336" y="0"/>
                </a:lnTo>
                <a:lnTo>
                  <a:pt x="432" y="432"/>
                </a:lnTo>
                <a:lnTo>
                  <a:pt x="624" y="432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8120" y="1996920"/>
            <a:ext cx="4906800" cy="2370600"/>
            <a:chOff x="3498120" y="1996920"/>
            <a:chExt cx="4906800" cy="2370600"/>
          </a:xfrm>
        </p:grpSpPr>
        <p:sp>
          <p:nvSpPr>
            <p:cNvPr id="215" name=""/>
            <p:cNvSpPr/>
            <p:nvPr/>
          </p:nvSpPr>
          <p:spPr>
            <a:xfrm>
              <a:off x="34981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81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67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83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41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88560" y="1996920"/>
            <a:ext cx="4906800" cy="2370600"/>
            <a:chOff x="3688560" y="1996920"/>
            <a:chExt cx="4906800" cy="2370600"/>
          </a:xfrm>
        </p:grpSpPr>
        <p:sp>
          <p:nvSpPr>
            <p:cNvPr id="221" name=""/>
            <p:cNvSpPr/>
            <p:nvPr/>
          </p:nvSpPr>
          <p:spPr>
            <a:xfrm>
              <a:off x="3688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8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84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59920" y="1996920"/>
            <a:ext cx="4906800" cy="2370600"/>
            <a:chOff x="3859920" y="1996920"/>
            <a:chExt cx="4906800" cy="2370600"/>
          </a:xfrm>
        </p:grpSpPr>
        <p:sp>
          <p:nvSpPr>
            <p:cNvPr id="227" name=""/>
            <p:cNvSpPr/>
            <p:nvPr/>
          </p:nvSpPr>
          <p:spPr>
            <a:xfrm>
              <a:off x="38599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99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85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01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59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12560" y="1996920"/>
            <a:ext cx="4906800" cy="2370600"/>
            <a:chOff x="4012560" y="1996920"/>
            <a:chExt cx="4906800" cy="2370600"/>
          </a:xfrm>
        </p:grpSpPr>
        <p:sp>
          <p:nvSpPr>
            <p:cNvPr id="233" name=""/>
            <p:cNvSpPr/>
            <p:nvPr/>
          </p:nvSpPr>
          <p:spPr>
            <a:xfrm>
              <a:off x="4012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2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1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2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08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164840" y="1996920"/>
            <a:ext cx="4906800" cy="2370600"/>
            <a:chOff x="4164840" y="1996920"/>
            <a:chExt cx="4906800" cy="2370600"/>
          </a:xfrm>
        </p:grpSpPr>
        <p:sp>
          <p:nvSpPr>
            <p:cNvPr id="239" name=""/>
            <p:cNvSpPr/>
            <p:nvPr/>
          </p:nvSpPr>
          <p:spPr>
            <a:xfrm>
              <a:off x="41648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48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348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6504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6088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7026-0DA7-4CC1-868B-8BD03E129EC1}" type="slidenum">
              <a:t>5</a:t>
            </a:fld>
          </a:p>
        </p:txBody>
      </p:sp>
    </p:spTree>
  </p:cSld>
  <p:transition advTm="65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984600" y="2187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246400" y="21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900240" y="21877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924440" y="2187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6471000" y="2187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639200" y="2187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358240" y="1501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07" name=""/>
          <p:cNvGrpSpPr/>
          <p:nvPr/>
        </p:nvGrpSpPr>
        <p:grpSpPr>
          <a:xfrm>
            <a:off x="579600" y="3352320"/>
            <a:ext cx="7508160" cy="2514960"/>
            <a:chOff x="579600" y="3352320"/>
            <a:chExt cx="7508160" cy="2514960"/>
          </a:xfrm>
        </p:grpSpPr>
        <p:grpSp>
          <p:nvGrpSpPr>
            <p:cNvPr id="3208" name=""/>
            <p:cNvGrpSpPr/>
            <p:nvPr/>
          </p:nvGrpSpPr>
          <p:grpSpPr>
            <a:xfrm>
              <a:off x="4267080" y="4189320"/>
              <a:ext cx="804240" cy="525600"/>
              <a:chOff x="4267080" y="4189320"/>
              <a:chExt cx="804240" cy="525600"/>
            </a:xfrm>
          </p:grpSpPr>
          <p:grpSp>
            <p:nvGrpSpPr>
              <p:cNvPr id="3209" name=""/>
              <p:cNvGrpSpPr/>
              <p:nvPr/>
            </p:nvGrpSpPr>
            <p:grpSpPr>
              <a:xfrm>
                <a:off x="4442760" y="4189320"/>
                <a:ext cx="628560" cy="525600"/>
                <a:chOff x="4442760" y="4189320"/>
                <a:chExt cx="628560" cy="525600"/>
              </a:xfrm>
            </p:grpSpPr>
            <p:grpSp>
              <p:nvGrpSpPr>
                <p:cNvPr id="3210" name=""/>
                <p:cNvGrpSpPr/>
                <p:nvPr/>
              </p:nvGrpSpPr>
              <p:grpSpPr>
                <a:xfrm>
                  <a:off x="4442760" y="4189320"/>
                  <a:ext cx="528480" cy="525600"/>
                  <a:chOff x="4442760" y="4189320"/>
                  <a:chExt cx="528480" cy="52560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>
                    <a:off x="4447440" y="4194000"/>
                    <a:ext cx="523800" cy="514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4442760" y="4189320"/>
                    <a:ext cx="268200" cy="52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3" name=""/>
                <p:cNvSpPr/>
                <p:nvPr/>
              </p:nvSpPr>
              <p:spPr>
                <a:xfrm>
                  <a:off x="4978800" y="444672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4" name=""/>
              <p:cNvSpPr/>
              <p:nvPr/>
            </p:nvSpPr>
            <p:spPr>
              <a:xfrm>
                <a:off x="4267080" y="427644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267080" y="462600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16" name=""/>
            <p:cNvGrpSpPr/>
            <p:nvPr/>
          </p:nvGrpSpPr>
          <p:grpSpPr>
            <a:xfrm>
              <a:off x="5694120" y="4237200"/>
              <a:ext cx="1252080" cy="1575360"/>
              <a:chOff x="5694120" y="4237200"/>
              <a:chExt cx="1252080" cy="1575360"/>
            </a:xfrm>
          </p:grpSpPr>
          <p:sp>
            <p:nvSpPr>
              <p:cNvPr id="3217" name=""/>
              <p:cNvSpPr/>
              <p:nvPr/>
            </p:nvSpPr>
            <p:spPr>
              <a:xfrm rot="10800000">
                <a:off x="5699520" y="4237200"/>
                <a:ext cx="124668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" y="5433"/>
                    </a:moveTo>
                    <a:arcTo wR="10800" hR="10800" stAng="-9012068" swAng="36052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" y="5433"/>
                    </a:moveTo>
                    <a:arcTo wR="10800" hR="10800" stAng="-9012068" swAng="3605248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694120" y="4762440"/>
                <a:ext cx="124812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0"/>
                    </a:moveTo>
                    <a:arcTo wR="10800" hR="10800" stAng="-5406821" swAng="3625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0"/>
                    </a:moveTo>
                    <a:arcTo wR="10800" hR="10800" stAng="-5406821" swAng="362579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237720" y="4763880"/>
                <a:ext cx="168120" cy="515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232680" y="4759200"/>
                <a:ext cx="90360" cy="526680"/>
              </a:xfrm>
              <a:custGeom>
                <a:avLst/>
                <a:gdLst/>
                <a:ahLst/>
                <a:rect l="l" t="t" r="r" b="b"/>
                <a:pathLst>
                  <a:path w="73" h="433">
                    <a:moveTo>
                      <a:pt x="72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2" y="4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21" name=""/>
            <p:cNvGrpSpPr/>
            <p:nvPr/>
          </p:nvGrpSpPr>
          <p:grpSpPr>
            <a:xfrm>
              <a:off x="1711800" y="3651120"/>
              <a:ext cx="452160" cy="305640"/>
              <a:chOff x="1711800" y="3651120"/>
              <a:chExt cx="452160" cy="305640"/>
            </a:xfrm>
          </p:grpSpPr>
          <p:sp>
            <p:nvSpPr>
              <p:cNvPr id="3222" name=""/>
              <p:cNvSpPr/>
              <p:nvPr/>
            </p:nvSpPr>
            <p:spPr>
              <a:xfrm rot="10765200">
                <a:off x="1841040" y="3652200"/>
                <a:ext cx="257760" cy="30312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2099520" y="3800160"/>
                <a:ext cx="64440" cy="3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H="1">
                <a:off x="1711800" y="3804480"/>
                <a:ext cx="12960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>
              <a:off x="6881760" y="5005440"/>
              <a:ext cx="8906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072040" y="4446720"/>
              <a:ext cx="8589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931000" y="4446720"/>
              <a:ext cx="0" cy="461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931000" y="490860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5931000" y="3803760"/>
              <a:ext cx="0" cy="642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H="1">
              <a:off x="2149200" y="3798720"/>
              <a:ext cx="3794040" cy="5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1309680" y="3798720"/>
              <a:ext cx="4017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5931000" y="3352320"/>
              <a:ext cx="0" cy="446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931000" y="520524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H="1">
              <a:off x="2163600" y="5867280"/>
              <a:ext cx="5608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63600" y="4276800"/>
              <a:ext cx="0" cy="1590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163600" y="4276800"/>
              <a:ext cx="2103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79600" y="34448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021720" y="33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09920" y="4789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Sr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298280" y="46623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006320" y="54864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42" name=""/>
            <p:cNvCxnSpPr>
              <a:stCxn id="3233" idx="0"/>
            </p:cNvCxnSpPr>
            <p:nvPr/>
          </p:nvCxnSpPr>
          <p:spPr>
            <a:xfrm flipH="1">
              <a:off x="1237680" y="5204880"/>
              <a:ext cx="4693320" cy="198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  <p:sp>
          <p:nvSpPr>
            <p:cNvPr id="3243" name=""/>
            <p:cNvSpPr/>
            <p:nvPr/>
          </p:nvSpPr>
          <p:spPr>
            <a:xfrm>
              <a:off x="4257720" y="4632480"/>
              <a:ext cx="0" cy="5918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44" name=""/>
          <p:cNvGrpSpPr/>
          <p:nvPr/>
        </p:nvGrpSpPr>
        <p:grpSpPr>
          <a:xfrm>
            <a:off x="6537240" y="3449520"/>
            <a:ext cx="2606760" cy="693720"/>
            <a:chOff x="6537240" y="3449520"/>
            <a:chExt cx="2606760" cy="693720"/>
          </a:xfrm>
        </p:grpSpPr>
        <p:sp>
          <p:nvSpPr>
            <p:cNvPr id="3245" name=""/>
            <p:cNvSpPr/>
            <p:nvPr/>
          </p:nvSpPr>
          <p:spPr>
            <a:xfrm>
              <a:off x="6733800" y="3760920"/>
              <a:ext cx="21909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829920" y="3468600"/>
              <a:ext cx="184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537240" y="3449520"/>
              <a:ext cx="2606760" cy="69372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2531-7839-4F11-BF1B-3666D8C52C6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                       early ena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0" y="27241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995D-3943-46AF-AA59-C864C21AFFD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rdered events: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52" name=""/>
          <p:cNvGrpSpPr/>
          <p:nvPr/>
        </p:nvGrpSpPr>
        <p:grpSpPr>
          <a:xfrm>
            <a:off x="357840" y="1816200"/>
            <a:ext cx="3628440" cy="3188520"/>
            <a:chOff x="357840" y="1816200"/>
            <a:chExt cx="3628440" cy="3188520"/>
          </a:xfrm>
        </p:grpSpPr>
        <p:grpSp>
          <p:nvGrpSpPr>
            <p:cNvPr id="3253" name=""/>
            <p:cNvGrpSpPr/>
            <p:nvPr/>
          </p:nvGrpSpPr>
          <p:grpSpPr>
            <a:xfrm>
              <a:off x="2775240" y="2633400"/>
              <a:ext cx="804240" cy="525240"/>
              <a:chOff x="2775240" y="2633400"/>
              <a:chExt cx="804240" cy="525240"/>
            </a:xfrm>
          </p:grpSpPr>
          <p:grpSp>
            <p:nvGrpSpPr>
              <p:cNvPr id="3254" name=""/>
              <p:cNvGrpSpPr/>
              <p:nvPr/>
            </p:nvGrpSpPr>
            <p:grpSpPr>
              <a:xfrm>
                <a:off x="2950920" y="2633400"/>
                <a:ext cx="628560" cy="525240"/>
                <a:chOff x="2950920" y="2633400"/>
                <a:chExt cx="628560" cy="525240"/>
              </a:xfrm>
            </p:grpSpPr>
            <p:grpSp>
              <p:nvGrpSpPr>
                <p:cNvPr id="3255" name=""/>
                <p:cNvGrpSpPr/>
                <p:nvPr/>
              </p:nvGrpSpPr>
              <p:grpSpPr>
                <a:xfrm>
                  <a:off x="2950920" y="2633400"/>
                  <a:ext cx="528480" cy="525240"/>
                  <a:chOff x="2950920" y="2633400"/>
                  <a:chExt cx="528480" cy="525240"/>
                </a:xfrm>
              </p:grpSpPr>
              <p:sp>
                <p:nvSpPr>
                  <p:cNvPr id="3256" name=""/>
                  <p:cNvSpPr/>
                  <p:nvPr/>
                </p:nvSpPr>
                <p:spPr>
                  <a:xfrm>
                    <a:off x="2955600" y="2638080"/>
                    <a:ext cx="523800" cy="51408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2950920" y="2633400"/>
                    <a:ext cx="268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8" name=""/>
                <p:cNvSpPr/>
                <p:nvPr/>
              </p:nvSpPr>
              <p:spPr>
                <a:xfrm>
                  <a:off x="3486960" y="289044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9" name=""/>
              <p:cNvSpPr/>
              <p:nvPr/>
            </p:nvSpPr>
            <p:spPr>
              <a:xfrm>
                <a:off x="2775240" y="272052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75240" y="307008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1898640" y="1940400"/>
              <a:ext cx="636480" cy="443880"/>
              <a:chOff x="1898640" y="1940400"/>
              <a:chExt cx="636480" cy="443880"/>
            </a:xfrm>
          </p:grpSpPr>
          <p:sp>
            <p:nvSpPr>
              <p:cNvPr id="3262" name=""/>
              <p:cNvSpPr/>
              <p:nvPr/>
            </p:nvSpPr>
            <p:spPr>
              <a:xfrm rot="21540000">
                <a:off x="1989000" y="1943640"/>
                <a:ext cx="363240" cy="437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>
                <a:off x="1898640" y="2169000"/>
                <a:ext cx="907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2352600" y="2159640"/>
                <a:ext cx="1825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357840" y="181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66" name=""/>
            <p:cNvCxnSpPr/>
            <p:nvPr/>
          </p:nvCxnSpPr>
          <p:spPr>
            <a:xfrm>
              <a:off x="463320" y="223452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67" name=""/>
            <p:cNvSpPr/>
            <p:nvPr/>
          </p:nvSpPr>
          <p:spPr>
            <a:xfrm flipH="1">
              <a:off x="798480" y="2162160"/>
              <a:ext cx="1097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551320" y="2162160"/>
              <a:ext cx="1387440" cy="1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551320" y="2162160"/>
              <a:ext cx="15840" cy="57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551320" y="2162160"/>
              <a:ext cx="258840" cy="578880"/>
            </a:xfrm>
            <a:custGeom>
              <a:avLst/>
              <a:gdLst/>
              <a:ahLst/>
              <a:rect l="l" t="t" r="r" b="b"/>
              <a:pathLst>
                <a:path w="163" h="365">
                  <a:moveTo>
                    <a:pt x="0" y="0"/>
                  </a:moveTo>
                  <a:lnTo>
                    <a:pt x="0" y="365"/>
                  </a:lnTo>
                  <a:lnTo>
                    <a:pt x="163" y="356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571920" y="2893680"/>
              <a:ext cx="4129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2779560" y="2923920"/>
              <a:ext cx="1681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09760" y="45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73400" y="403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90640" y="35496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202040" y="40194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021040" y="4539960"/>
              <a:ext cx="1965240" cy="33480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64040" y="34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754760" y="2627280"/>
            <a:ext cx="628560" cy="525600"/>
            <a:chOff x="7754760" y="2627280"/>
            <a:chExt cx="628560" cy="525600"/>
          </a:xfrm>
        </p:grpSpPr>
        <p:grpSp>
          <p:nvGrpSpPr>
            <p:cNvPr id="3280" name=""/>
            <p:cNvGrpSpPr/>
            <p:nvPr/>
          </p:nvGrpSpPr>
          <p:grpSpPr>
            <a:xfrm>
              <a:off x="7754760" y="2627280"/>
              <a:ext cx="528480" cy="525600"/>
              <a:chOff x="7754760" y="2627280"/>
              <a:chExt cx="528480" cy="525600"/>
            </a:xfrm>
          </p:grpSpPr>
          <p:sp>
            <p:nvSpPr>
              <p:cNvPr id="3281" name=""/>
              <p:cNvSpPr/>
              <p:nvPr/>
            </p:nvSpPr>
            <p:spPr>
              <a:xfrm>
                <a:off x="7759440" y="2631960"/>
                <a:ext cx="523800" cy="514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754760" y="2627280"/>
                <a:ext cx="268200" cy="52560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>
              <a:off x="8290800" y="2884680"/>
              <a:ext cx="925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4" name=""/>
          <p:cNvSpPr/>
          <p:nvPr/>
        </p:nvSpPr>
        <p:spPr>
          <a:xfrm>
            <a:off x="7578720" y="2714760"/>
            <a:ext cx="176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6702120" y="1934280"/>
            <a:ext cx="636480" cy="444240"/>
            <a:chOff x="6702120" y="1934280"/>
            <a:chExt cx="636480" cy="444240"/>
          </a:xfrm>
        </p:grpSpPr>
        <p:sp>
          <p:nvSpPr>
            <p:cNvPr id="3286" name=""/>
            <p:cNvSpPr/>
            <p:nvPr/>
          </p:nvSpPr>
          <p:spPr>
            <a:xfrm rot="21540000">
              <a:off x="6792480" y="1937520"/>
              <a:ext cx="362880" cy="43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6702120" y="2163240"/>
              <a:ext cx="9036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V="1">
              <a:off x="7156080" y="2153520"/>
              <a:ext cx="18252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5161320" y="180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90" name=""/>
          <p:cNvCxnSpPr/>
          <p:nvPr/>
        </p:nvCxnSpPr>
        <p:spPr>
          <a:xfrm>
            <a:off x="5266800" y="222840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291" name=""/>
          <p:cNvSpPr/>
          <p:nvPr/>
        </p:nvSpPr>
        <p:spPr>
          <a:xfrm flipH="1">
            <a:off x="5601960" y="2155680"/>
            <a:ext cx="10969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7354800" y="2155680"/>
            <a:ext cx="1387440" cy="1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7354800" y="2155680"/>
            <a:ext cx="158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6440400" y="2155680"/>
            <a:ext cx="258840" cy="579600"/>
          </a:xfrm>
          <a:custGeom>
            <a:avLst/>
            <a:gdLst/>
            <a:ahLst/>
            <a:rect l="l" t="t" r="r" b="b"/>
            <a:pathLst>
              <a:path w="163" h="365">
                <a:moveTo>
                  <a:pt x="0" y="0"/>
                </a:moveTo>
                <a:lnTo>
                  <a:pt x="0" y="365"/>
                </a:lnTo>
                <a:lnTo>
                  <a:pt x="163" y="356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8375760" y="2887560"/>
            <a:ext cx="4125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H="1">
            <a:off x="7583400" y="3051000"/>
            <a:ext cx="168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266080" y="45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277240" y="403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694480" y="35434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005520" y="40132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6332400" y="4533840"/>
            <a:ext cx="1965600" cy="33516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2675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416800" y="174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3646800" y="173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3649680" y="24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8444160" y="24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689880" y="2725560"/>
            <a:ext cx="930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1692360" y="370188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502320" y="3701880"/>
            <a:ext cx="644760" cy="974880"/>
          </a:xfrm>
          <a:custGeom>
            <a:avLst/>
            <a:gdLst/>
            <a:ahLst/>
            <a:rect l="l" t="t" r="r" b="b"/>
            <a:pathLst>
              <a:path w="406" h="614">
                <a:moveTo>
                  <a:pt x="0" y="0"/>
                </a:moveTo>
                <a:cubicBezTo>
                  <a:pt x="36" y="19"/>
                  <a:pt x="146" y="13"/>
                  <a:pt x="214" y="115"/>
                </a:cubicBezTo>
                <a:cubicBezTo>
                  <a:pt x="282" y="217"/>
                  <a:pt x="366" y="510"/>
                  <a:pt x="406" y="61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6492960" y="368604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011320" y="4173480"/>
            <a:ext cx="792360" cy="533520"/>
          </a:xfrm>
          <a:custGeom>
            <a:avLst/>
            <a:gdLst/>
            <a:ahLst/>
            <a:rect l="l" t="t" r="r" b="b"/>
            <a:pathLst>
              <a:path w="499" h="336">
                <a:moveTo>
                  <a:pt x="0" y="0"/>
                </a:moveTo>
                <a:cubicBezTo>
                  <a:pt x="112" y="34"/>
                  <a:pt x="224" y="69"/>
                  <a:pt x="307" y="125"/>
                </a:cubicBezTo>
                <a:cubicBezTo>
                  <a:pt x="390" y="181"/>
                  <a:pt x="444" y="258"/>
                  <a:pt x="499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4282920" y="3579840"/>
            <a:ext cx="594000" cy="579240"/>
          </a:xfrm>
          <a:prstGeom prst="rightArrow">
            <a:avLst>
              <a:gd name="adj1" fmla="val 50000"/>
              <a:gd name="adj2" fmla="val 25637"/>
            </a:avLst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92320" y="2629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792560" y="2638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2448000" y="5257800"/>
            <a:ext cx="4067280" cy="561960"/>
            <a:chOff x="2448000" y="5257800"/>
            <a:chExt cx="4067280" cy="561960"/>
          </a:xfrm>
        </p:grpSpPr>
        <p:sp>
          <p:nvSpPr>
            <p:cNvPr id="3316" name=""/>
            <p:cNvSpPr/>
            <p:nvPr/>
          </p:nvSpPr>
          <p:spPr>
            <a:xfrm>
              <a:off x="2677680" y="5335560"/>
              <a:ext cx="36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Logic for gate 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 may chang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448000" y="5257800"/>
              <a:ext cx="4067280" cy="561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65A6-6C4E-4B14-875C-521E169F1DD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984600" y="2201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246400" y="2201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900240" y="2201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24440" y="2201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4710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7639200" y="2201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358240" y="1515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4267080" y="4189320"/>
            <a:ext cx="804240" cy="525600"/>
            <a:chOff x="4267080" y="4189320"/>
            <a:chExt cx="804240" cy="525600"/>
          </a:xfrm>
        </p:grpSpPr>
        <p:grpSp>
          <p:nvGrpSpPr>
            <p:cNvPr id="3342" name=""/>
            <p:cNvGrpSpPr/>
            <p:nvPr/>
          </p:nvGrpSpPr>
          <p:grpSpPr>
            <a:xfrm>
              <a:off x="4442760" y="4189320"/>
              <a:ext cx="628560" cy="525600"/>
              <a:chOff x="4442760" y="4189320"/>
              <a:chExt cx="628560" cy="525600"/>
            </a:xfrm>
          </p:grpSpPr>
          <p:grpSp>
            <p:nvGrpSpPr>
              <p:cNvPr id="3343" name=""/>
              <p:cNvGrpSpPr/>
              <p:nvPr/>
            </p:nvGrpSpPr>
            <p:grpSpPr>
              <a:xfrm>
                <a:off x="4442760" y="4189320"/>
                <a:ext cx="528480" cy="525600"/>
                <a:chOff x="4442760" y="4189320"/>
                <a:chExt cx="528480" cy="525600"/>
              </a:xfrm>
            </p:grpSpPr>
            <p:sp>
              <p:nvSpPr>
                <p:cNvPr id="3344" name=""/>
                <p:cNvSpPr/>
                <p:nvPr/>
              </p:nvSpPr>
              <p:spPr>
                <a:xfrm>
                  <a:off x="4447440" y="419400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442760" y="418932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6" name=""/>
              <p:cNvSpPr/>
              <p:nvPr/>
            </p:nvSpPr>
            <p:spPr>
              <a:xfrm>
                <a:off x="4978800" y="444672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47" name=""/>
            <p:cNvSpPr/>
            <p:nvPr/>
          </p:nvSpPr>
          <p:spPr>
            <a:xfrm>
              <a:off x="4267080" y="427644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267080" y="462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9" name=""/>
          <p:cNvGrpSpPr/>
          <p:nvPr/>
        </p:nvGrpSpPr>
        <p:grpSpPr>
          <a:xfrm>
            <a:off x="5694120" y="4237200"/>
            <a:ext cx="1252080" cy="1575360"/>
            <a:chOff x="5694120" y="4237200"/>
            <a:chExt cx="1252080" cy="1575360"/>
          </a:xfrm>
        </p:grpSpPr>
        <p:sp>
          <p:nvSpPr>
            <p:cNvPr id="3350" name=""/>
            <p:cNvSpPr/>
            <p:nvPr/>
          </p:nvSpPr>
          <p:spPr>
            <a:xfrm rot="10800000">
              <a:off x="5699520" y="423720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694120" y="476244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237720" y="476388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232680" y="475920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1711800" y="3651120"/>
            <a:ext cx="452160" cy="305640"/>
            <a:chOff x="1711800" y="3651120"/>
            <a:chExt cx="452160" cy="305640"/>
          </a:xfrm>
        </p:grpSpPr>
        <p:sp>
          <p:nvSpPr>
            <p:cNvPr id="3355" name=""/>
            <p:cNvSpPr/>
            <p:nvPr/>
          </p:nvSpPr>
          <p:spPr>
            <a:xfrm rot="10765200">
              <a:off x="1841040" y="365220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2099520" y="380016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1711800" y="380448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58" name=""/>
          <p:cNvSpPr/>
          <p:nvPr/>
        </p:nvSpPr>
        <p:spPr>
          <a:xfrm>
            <a:off x="6881760" y="500544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072040" y="44467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31000" y="4446720"/>
            <a:ext cx="0" cy="461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931000" y="49086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5931000" y="3803760"/>
            <a:ext cx="0" cy="6429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149200" y="379872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1309680" y="379872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5931000" y="335232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5931000" y="520524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2163600" y="586728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2163600" y="427680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2163600" y="427680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9544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602172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694080" y="4759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298280" y="4662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006320" y="54864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75" name=""/>
          <p:cNvCxnSpPr>
            <a:stCxn id="3366" idx="0"/>
          </p:cNvCxnSpPr>
          <p:nvPr/>
        </p:nvCxnSpPr>
        <p:spPr>
          <a:xfrm flipH="1">
            <a:off x="1254960" y="520524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376" name=""/>
          <p:cNvSpPr/>
          <p:nvPr/>
        </p:nvSpPr>
        <p:spPr>
          <a:xfrm>
            <a:off x="4257720" y="4632480"/>
            <a:ext cx="0" cy="59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6165360" y="2554920"/>
            <a:ext cx="1912320" cy="795240"/>
            <a:chOff x="6165360" y="2554920"/>
            <a:chExt cx="1912320" cy="795240"/>
          </a:xfrm>
        </p:grpSpPr>
        <p:sp>
          <p:nvSpPr>
            <p:cNvPr id="3378" name=""/>
            <p:cNvSpPr/>
            <p:nvPr/>
          </p:nvSpPr>
          <p:spPr>
            <a:xfrm flipH="1">
              <a:off x="6205320" y="256860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10831800">
              <a:off x="6168960" y="256356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0" name=""/>
          <p:cNvGrpSpPr/>
          <p:nvPr/>
        </p:nvGrpSpPr>
        <p:grpSpPr>
          <a:xfrm>
            <a:off x="5330880" y="2720880"/>
            <a:ext cx="5153040" cy="2370240"/>
            <a:chOff x="5330880" y="2720880"/>
            <a:chExt cx="5153040" cy="2370240"/>
          </a:xfrm>
        </p:grpSpPr>
        <p:sp>
          <p:nvSpPr>
            <p:cNvPr id="3381" name=""/>
            <p:cNvSpPr/>
            <p:nvPr/>
          </p:nvSpPr>
          <p:spPr>
            <a:xfrm>
              <a:off x="5330880" y="27208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411960" y="35146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C005-376C-4C51-8164-0D8E76A4D1B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4721400" y="3448080"/>
            <a:ext cx="2145960" cy="1790640"/>
          </a:xfrm>
          <a:custGeom>
            <a:avLst/>
            <a:gdLst/>
            <a:ahLst/>
            <a:rect l="l" t="t" r="r" b="b"/>
            <a:pathLst>
              <a:path w="1352" h="1128">
                <a:moveTo>
                  <a:pt x="2" y="108"/>
                </a:moveTo>
                <a:cubicBezTo>
                  <a:pt x="5" y="95"/>
                  <a:pt x="13" y="29"/>
                  <a:pt x="20" y="24"/>
                </a:cubicBezTo>
                <a:cubicBezTo>
                  <a:pt x="35" y="13"/>
                  <a:pt x="56" y="12"/>
                  <a:pt x="74" y="6"/>
                </a:cubicBezTo>
                <a:cubicBezTo>
                  <a:pt x="80" y="4"/>
                  <a:pt x="92" y="0"/>
                  <a:pt x="92" y="0"/>
                </a:cubicBezTo>
                <a:cubicBezTo>
                  <a:pt x="231" y="8"/>
                  <a:pt x="365" y="20"/>
                  <a:pt x="506" y="24"/>
                </a:cubicBezTo>
                <a:cubicBezTo>
                  <a:pt x="690" y="41"/>
                  <a:pt x="885" y="26"/>
                  <a:pt x="1070" y="30"/>
                </a:cubicBezTo>
                <a:cubicBezTo>
                  <a:pt x="1119" y="35"/>
                  <a:pt x="1166" y="40"/>
                  <a:pt x="1214" y="24"/>
                </a:cubicBezTo>
                <a:cubicBezTo>
                  <a:pt x="1337" y="30"/>
                  <a:pt x="1336" y="5"/>
                  <a:pt x="1352" y="102"/>
                </a:cubicBezTo>
                <a:cubicBezTo>
                  <a:pt x="1350" y="224"/>
                  <a:pt x="1351" y="346"/>
                  <a:pt x="1346" y="468"/>
                </a:cubicBezTo>
                <a:cubicBezTo>
                  <a:pt x="1343" y="545"/>
                  <a:pt x="1222" y="629"/>
                  <a:pt x="1160" y="660"/>
                </a:cubicBezTo>
                <a:cubicBezTo>
                  <a:pt x="1128" y="708"/>
                  <a:pt x="1065" y="743"/>
                  <a:pt x="1016" y="774"/>
                </a:cubicBezTo>
                <a:cubicBezTo>
                  <a:pt x="996" y="786"/>
                  <a:pt x="978" y="803"/>
                  <a:pt x="956" y="810"/>
                </a:cubicBezTo>
                <a:cubicBezTo>
                  <a:pt x="944" y="814"/>
                  <a:pt x="920" y="822"/>
                  <a:pt x="920" y="822"/>
                </a:cubicBezTo>
                <a:cubicBezTo>
                  <a:pt x="890" y="852"/>
                  <a:pt x="852" y="875"/>
                  <a:pt x="812" y="888"/>
                </a:cubicBezTo>
                <a:cubicBezTo>
                  <a:pt x="770" y="920"/>
                  <a:pt x="725" y="942"/>
                  <a:pt x="680" y="972"/>
                </a:cubicBezTo>
                <a:cubicBezTo>
                  <a:pt x="575" y="1042"/>
                  <a:pt x="472" y="1112"/>
                  <a:pt x="344" y="1128"/>
                </a:cubicBezTo>
                <a:cubicBezTo>
                  <a:pt x="284" y="1123"/>
                  <a:pt x="239" y="1128"/>
                  <a:pt x="182" y="1110"/>
                </a:cubicBezTo>
                <a:cubicBezTo>
                  <a:pt x="164" y="1104"/>
                  <a:pt x="146" y="1098"/>
                  <a:pt x="128" y="1092"/>
                </a:cubicBezTo>
                <a:cubicBezTo>
                  <a:pt x="122" y="1090"/>
                  <a:pt x="110" y="1086"/>
                  <a:pt x="110" y="1086"/>
                </a:cubicBezTo>
                <a:cubicBezTo>
                  <a:pt x="87" y="1063"/>
                  <a:pt x="92" y="1040"/>
                  <a:pt x="74" y="1014"/>
                </a:cubicBezTo>
                <a:cubicBezTo>
                  <a:pt x="62" y="966"/>
                  <a:pt x="48" y="917"/>
                  <a:pt x="32" y="870"/>
                </a:cubicBezTo>
                <a:cubicBezTo>
                  <a:pt x="20" y="709"/>
                  <a:pt x="23" y="560"/>
                  <a:pt x="26" y="396"/>
                </a:cubicBezTo>
                <a:cubicBezTo>
                  <a:pt x="24" y="357"/>
                  <a:pt x="19" y="131"/>
                  <a:pt x="2" y="96"/>
                </a:cubicBezTo>
                <a:cubicBezTo>
                  <a:pt x="0" y="92"/>
                  <a:pt x="2" y="104"/>
                  <a:pt x="2" y="108"/>
                </a:cubicBezTo>
                <a:close/>
              </a:path>
            </a:pathLst>
          </a:custGeom>
          <a:solidFill>
            <a:srgbClr val="ff9966"/>
          </a:solidFill>
          <a:ln w="1260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819680" y="3533760"/>
            <a:ext cx="1962000" cy="666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722760" y="1589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029200" y="158904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6335640" y="1589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02920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633564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02920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33564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72276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029200" y="482760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416320" y="2668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416320" y="3747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241632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529596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3984480" y="172872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398952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5295960" y="280368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5289120" y="38876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2677680" y="49784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3989520" y="497844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470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470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165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165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55276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552760" y="40179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 flipH="1">
            <a:off x="2660760" y="180972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5264280" y="3968280"/>
            <a:ext cx="1092240" cy="9082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6615000" y="3078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738400" y="4373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402280" y="52498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hable space is unchang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1571400" y="5668920"/>
            <a:ext cx="58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enabling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an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be changed in on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17" name=""/>
          <p:cNvGrpSpPr/>
          <p:nvPr/>
        </p:nvGrpSpPr>
        <p:grpSpPr>
          <a:xfrm>
            <a:off x="-1038240" y="939960"/>
            <a:ext cx="5153040" cy="2369880"/>
            <a:chOff x="-1038240" y="939960"/>
            <a:chExt cx="5153040" cy="2369880"/>
          </a:xfrm>
        </p:grpSpPr>
        <p:sp>
          <p:nvSpPr>
            <p:cNvPr id="3418" name=""/>
            <p:cNvSpPr/>
            <p:nvPr/>
          </p:nvSpPr>
          <p:spPr>
            <a:xfrm>
              <a:off x="-1038240" y="9399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2840" y="17334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20" name=""/>
          <p:cNvGrpSpPr/>
          <p:nvPr/>
        </p:nvGrpSpPr>
        <p:grpSpPr>
          <a:xfrm>
            <a:off x="5275440" y="4695840"/>
            <a:ext cx="2001600" cy="552600"/>
            <a:chOff x="5275440" y="4695840"/>
            <a:chExt cx="2001600" cy="552600"/>
          </a:xfrm>
        </p:grpSpPr>
        <p:sp>
          <p:nvSpPr>
            <p:cNvPr id="3421" name=""/>
            <p:cNvSpPr/>
            <p:nvPr/>
          </p:nvSpPr>
          <p:spPr>
            <a:xfrm>
              <a:off x="6865920" y="4837320"/>
              <a:ext cx="2620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5275440" y="4969080"/>
              <a:ext cx="1591920" cy="0"/>
            </a:xfrm>
            <a:prstGeom prst="line">
              <a:avLst/>
            </a:prstGeom>
            <a:ln w="12600">
              <a:solidFill>
                <a:srgbClr val="ffcc66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724800" y="4695840"/>
              <a:ext cx="552240" cy="552600"/>
            </a:xfrm>
            <a:prstGeom prst="noSmoking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6946560" y="3922560"/>
            <a:ext cx="2216880" cy="642600"/>
            <a:chOff x="6946560" y="3922560"/>
            <a:chExt cx="2216880" cy="642600"/>
          </a:xfrm>
        </p:grpSpPr>
        <p:sp>
          <p:nvSpPr>
            <p:cNvPr id="3425" name=""/>
            <p:cNvSpPr/>
            <p:nvPr/>
          </p:nvSpPr>
          <p:spPr>
            <a:xfrm>
              <a:off x="6953400" y="3933720"/>
              <a:ext cx="2190600" cy="6188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946560" y="3922560"/>
              <a:ext cx="2216880" cy="6426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Potential enabling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for 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7" name=""/>
          <p:cNvSpPr/>
          <p:nvPr/>
        </p:nvSpPr>
        <p:spPr>
          <a:xfrm>
            <a:off x="4030200" y="4586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7424-33A8-4D23-878F-B299E9532EA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"/>
          <p:cNvSpPr/>
          <p:nvPr/>
        </p:nvSpPr>
        <p:spPr>
          <a:xfrm>
            <a:off x="6477120" y="3809880"/>
            <a:ext cx="236196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37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438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457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75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67836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3FEE-B43B-46BA-B575-0B1ED3D76F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"/>
          <p:cNvSpPr/>
          <p:nvPr/>
        </p:nvSpPr>
        <p:spPr>
          <a:xfrm>
            <a:off x="6477120" y="3819600"/>
            <a:ext cx="761760" cy="752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238880" y="3809880"/>
            <a:ext cx="160020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19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520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539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57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678720" y="3836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2294640" y="5421240"/>
            <a:ext cx="50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one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2111040" y="5764320"/>
            <a:ext cx="56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f used: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, otherwise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 + 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61EE-8D73-40B2-82E0-88FFB539590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efore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984600" y="20113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246400" y="20113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900240" y="20113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4924440" y="20113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6471000" y="2011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7639200" y="201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358240" y="1325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61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61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61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2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2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362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630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94080" y="4568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650" name=""/>
          <p:cNvCxnSpPr>
            <a:stCxn id="3641" idx="0"/>
          </p:cNvCxnSpPr>
          <p:nvPr/>
        </p:nvCxnSpPr>
        <p:spPr>
          <a:xfrm flipH="1">
            <a:off x="1254960" y="501480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651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653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98EC-AFD4-4AFC-997A-1C88B792779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two constra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78" name=""/>
          <p:cNvGrpSpPr/>
          <p:nvPr/>
        </p:nvGrpSpPr>
        <p:grpSpPr>
          <a:xfrm>
            <a:off x="6537240" y="3230640"/>
            <a:ext cx="2606760" cy="968400"/>
            <a:chOff x="6537240" y="3230640"/>
            <a:chExt cx="2606760" cy="968400"/>
          </a:xfrm>
        </p:grpSpPr>
        <p:sp>
          <p:nvSpPr>
            <p:cNvPr id="3679" name=""/>
            <p:cNvSpPr/>
            <p:nvPr/>
          </p:nvSpPr>
          <p:spPr>
            <a:xfrm>
              <a:off x="6733800" y="3570480"/>
              <a:ext cx="219096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66"/>
                  </a:solidFill>
                  <a:latin typeface="Arial Black"/>
                </a:rPr>
                <a:t>and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D- before LDS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849360" y="3278160"/>
              <a:ext cx="193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537240" y="3230640"/>
              <a:ext cx="2606760" cy="96840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683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686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688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3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694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97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63840" y="4552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7298280" y="457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711" name=""/>
          <p:cNvCxnSpPr>
            <a:stCxn id="3702" idx="0"/>
          </p:cNvCxnSpPr>
          <p:nvPr/>
        </p:nvCxnSpPr>
        <p:spPr>
          <a:xfrm flipH="1" flipV="1">
            <a:off x="1315440" y="5002920"/>
            <a:ext cx="4615560" cy="1188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712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13" name=""/>
          <p:cNvGrpSpPr/>
          <p:nvPr/>
        </p:nvGrpSpPr>
        <p:grpSpPr>
          <a:xfrm>
            <a:off x="6176880" y="4721760"/>
            <a:ext cx="758520" cy="570960"/>
            <a:chOff x="6176880" y="4721760"/>
            <a:chExt cx="758520" cy="570960"/>
          </a:xfrm>
        </p:grpSpPr>
        <p:sp>
          <p:nvSpPr>
            <p:cNvPr id="3714" name=""/>
            <p:cNvSpPr/>
            <p:nvPr/>
          </p:nvSpPr>
          <p:spPr>
            <a:xfrm rot="12600">
              <a:off x="6284880" y="4722480"/>
              <a:ext cx="432720" cy="5695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 flipV="1">
              <a:off x="6176880" y="5010840"/>
              <a:ext cx="10800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717960" y="5010840"/>
              <a:ext cx="217440" cy="2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717" name=""/>
          <p:cNvCxnSpPr>
            <a:stCxn id="3716" idx="0"/>
          </p:cNvCxnSpPr>
          <p:nvPr/>
        </p:nvCxnSpPr>
        <p:spPr>
          <a:xfrm flipV="1">
            <a:off x="6932160" y="5009760"/>
            <a:ext cx="926280" cy="21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718" name=""/>
          <p:cNvSpPr/>
          <p:nvPr/>
        </p:nvSpPr>
        <p:spPr>
          <a:xfrm>
            <a:off x="384120" y="5840280"/>
            <a:ext cx="93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oth timing assumptions are used for optimization and become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 rot="12600">
            <a:off x="6823080" y="4716360"/>
            <a:ext cx="433440" cy="5698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5"/>
                </a:lnTo>
                <a:lnTo>
                  <a:pt x="115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 flipV="1">
            <a:off x="6713640" y="5005080"/>
            <a:ext cx="108000" cy="7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4D57-066C-430C-A7DF-EBA543F1AF3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lue of Relative Tim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T circuits provides up to 2-3x (1.3-2x) delay&amp;area reduction with respect to SI circuits synthesized without (with) concurrency 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 generation of timing assumptions =&gt; foundation for automatic synthesis of RT circuits with area/performance comparable/better than man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ck-annotation of timing constraints =&gt; minimal required timing information for the back-end tool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state encoding allows significant area/performance optim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074D-DE71-4EB7-813A-0440BE949C7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enerating candid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azard-free signal inser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D0BF-8768-4DF3-96C6-50EEFC32E85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"/>
          <p:cNvSpPr/>
          <p:nvPr/>
        </p:nvSpPr>
        <p:spPr>
          <a:xfrm>
            <a:off x="4594320" y="720720"/>
            <a:ext cx="1600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 +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ser assumptions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265640" y="2101680"/>
            <a:ext cx="21812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594320" y="286560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4594320" y="39322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594320" y="499896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624560" y="609768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58840" y="16509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662800" y="2489040"/>
            <a:ext cx="27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iming-aware 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5660280" y="355608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5689440" y="462276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5661360" y="568944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5356080" y="163188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5356080" y="24400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5356080" y="350676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356080" y="457344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5356080" y="56404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382680" y="-54000"/>
            <a:ext cx="87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Arial"/>
              </a:rPr>
              <a:t>Design Flow with Tim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63640" y="6094440"/>
            <a:ext cx="32544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Required Timing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539640" y="2703600"/>
            <a:ext cx="35593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utomatic Timing Assump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745080" y="3076560"/>
            <a:ext cx="869760" cy="290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3773520" y="2336760"/>
            <a:ext cx="493560" cy="3477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4108320" y="6284880"/>
            <a:ext cx="507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3DC0-E60D-4723-AB62-37A6AD95893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FO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171960" y="2214720"/>
            <a:ext cx="1341360" cy="14619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482280" y="27352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373480" y="2705040"/>
            <a:ext cx="7999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506840" y="268596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4506840" y="325764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2392200" y="3276720"/>
            <a:ext cx="8002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1957680" y="2421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938960" y="299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349960" y="240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330160" y="3030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6" name=""/>
          <p:cNvGrpSpPr/>
          <p:nvPr/>
        </p:nvGrpSpPr>
        <p:grpSpPr>
          <a:xfrm>
            <a:off x="2147040" y="4325760"/>
            <a:ext cx="3445920" cy="1391400"/>
            <a:chOff x="2147040" y="4325760"/>
            <a:chExt cx="3445920" cy="1391400"/>
          </a:xfrm>
        </p:grpSpPr>
        <p:sp>
          <p:nvSpPr>
            <p:cNvPr id="3757" name=""/>
            <p:cNvSpPr/>
            <p:nvPr/>
          </p:nvSpPr>
          <p:spPr>
            <a:xfrm>
              <a:off x="2179800" y="52574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83400" y="43257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12120" y="52574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147040" y="4329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294000" y="48240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>
              <a:off x="2698560" y="55209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253224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20880" y="4495680"/>
              <a:ext cx="398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924360" y="52574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005440" y="4325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66560" y="52574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056840" y="43290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248440" y="47462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4674960" y="548784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435312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619520" y="4495680"/>
              <a:ext cx="432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H="1">
              <a:off x="3439800" y="4701960"/>
              <a:ext cx="615960" cy="555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440160" y="4746240"/>
              <a:ext cx="61596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800600" y="439236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770200" y="437328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A51A-53D2-461F-93A4-1D5BB684040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7" name="fifosi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224600"/>
          </a:xfrm>
          <a:prstGeom prst="rect">
            <a:avLst/>
          </a:prstGeom>
          <a:ln w="0">
            <a:noFill/>
          </a:ln>
        </p:spPr>
      </p:pic>
      <p:sp>
        <p:nvSpPr>
          <p:cNvPr id="3778" name=""/>
          <p:cNvSpPr/>
          <p:nvPr/>
        </p:nvSpPr>
        <p:spPr>
          <a:xfrm>
            <a:off x="685800" y="38160"/>
            <a:ext cx="7728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peed-Independent Implement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972720" y="5942160"/>
            <a:ext cx="72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ithout concurrency reduction 3 state signals are requir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420840" y="1495440"/>
            <a:ext cx="8439120" cy="4275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1C93-1437-4148-9EB1-EE86BBF6C57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I implementation with concurrency reductio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600360" y="2684520"/>
            <a:ext cx="565200" cy="573120"/>
            <a:chOff x="3600360" y="2684520"/>
            <a:chExt cx="565200" cy="573120"/>
          </a:xfrm>
        </p:grpSpPr>
        <p:sp>
          <p:nvSpPr>
            <p:cNvPr id="3783" name=""/>
            <p:cNvSpPr/>
            <p:nvPr/>
          </p:nvSpPr>
          <p:spPr>
            <a:xfrm>
              <a:off x="3606840" y="269100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600360" y="26845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>
            <a:off x="3413160" y="29322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3413160" y="31608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 flipV="1">
            <a:off x="2871720" y="335556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 rot="16203000">
            <a:off x="2676240" y="3670200"/>
            <a:ext cx="8280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89" name=""/>
          <p:cNvGrpSpPr/>
          <p:nvPr/>
        </p:nvGrpSpPr>
        <p:grpSpPr>
          <a:xfrm>
            <a:off x="1581120" y="2682720"/>
            <a:ext cx="565200" cy="573120"/>
            <a:chOff x="1581120" y="2682720"/>
            <a:chExt cx="565200" cy="573120"/>
          </a:xfrm>
        </p:grpSpPr>
        <p:sp>
          <p:nvSpPr>
            <p:cNvPr id="3790" name=""/>
            <p:cNvSpPr/>
            <p:nvPr/>
          </p:nvSpPr>
          <p:spPr>
            <a:xfrm rot="10800000">
              <a:off x="1581120" y="269064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rot="10800000">
              <a:off x="1859040" y="26827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92" name=""/>
          <p:cNvSpPr/>
          <p:nvPr/>
        </p:nvSpPr>
        <p:spPr>
          <a:xfrm flipH="1">
            <a:off x="2146320" y="31622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 flipH="1">
            <a:off x="2146320" y="29624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94" name=""/>
          <p:cNvGrpSpPr/>
          <p:nvPr/>
        </p:nvGrpSpPr>
        <p:grpSpPr>
          <a:xfrm>
            <a:off x="4110840" y="2078280"/>
            <a:ext cx="387000" cy="254880"/>
            <a:chOff x="4110840" y="2078280"/>
            <a:chExt cx="387000" cy="254880"/>
          </a:xfrm>
        </p:grpSpPr>
        <p:sp>
          <p:nvSpPr>
            <p:cNvPr id="3795" name=""/>
            <p:cNvSpPr/>
            <p:nvPr/>
          </p:nvSpPr>
          <p:spPr>
            <a:xfrm rot="16093800">
              <a:off x="4111560" y="217620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rot="16093800">
              <a:off x="4200840" y="203508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797" name=""/>
          <p:cNvCxnSpPr/>
          <p:nvPr/>
        </p:nvCxnSpPr>
        <p:spPr>
          <a:xfrm>
            <a:off x="752040" y="2209320"/>
            <a:ext cx="1105560" cy="252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798" name=""/>
          <p:cNvSpPr/>
          <p:nvPr/>
        </p:nvSpPr>
        <p:spPr>
          <a:xfrm flipH="1">
            <a:off x="3470040" y="2214720"/>
            <a:ext cx="623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835280" y="221472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0" name=""/>
          <p:cNvCxnSpPr>
            <a:stCxn id="3799" idx="0"/>
            <a:endCxn id="3785" idx="0"/>
          </p:cNvCxnSpPr>
          <p:nvPr/>
        </p:nvCxnSpPr>
        <p:spPr>
          <a:xfrm>
            <a:off x="2333160" y="2214360"/>
            <a:ext cx="1080360" cy="71784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01" name=""/>
          <p:cNvCxnSpPr>
            <a:stCxn id="3792" idx="0"/>
            <a:endCxn id="3786" idx="0"/>
          </p:cNvCxnSpPr>
          <p:nvPr/>
        </p:nvCxnSpPr>
        <p:spPr>
          <a:xfrm flipV="1">
            <a:off x="2333160" y="316044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2" name=""/>
          <p:cNvSpPr/>
          <p:nvPr/>
        </p:nvSpPr>
        <p:spPr>
          <a:xfrm flipV="1">
            <a:off x="2876400" y="317304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3" name=""/>
          <p:cNvCxnSpPr>
            <a:stCxn id="3783" idx="6"/>
          </p:cNvCxnSpPr>
          <p:nvPr/>
        </p:nvCxnSpPr>
        <p:spPr>
          <a:xfrm>
            <a:off x="4165200" y="297000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804" name=""/>
          <p:cNvCxnSpPr>
            <a:endCxn id="3790" idx="6"/>
          </p:cNvCxnSpPr>
          <p:nvPr/>
        </p:nvCxnSpPr>
        <p:spPr>
          <a:xfrm>
            <a:off x="752040" y="296064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805" name=""/>
          <p:cNvCxnSpPr>
            <a:stCxn id="3796" idx="3"/>
          </p:cNvCxnSpPr>
          <p:nvPr/>
        </p:nvCxnSpPr>
        <p:spPr>
          <a:xfrm>
            <a:off x="4490640" y="219996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6" name=""/>
          <p:cNvSpPr/>
          <p:nvPr/>
        </p:nvSpPr>
        <p:spPr>
          <a:xfrm>
            <a:off x="4456080" y="298620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997360" y="4013280"/>
            <a:ext cx="0" cy="331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8" name=""/>
          <p:cNvCxnSpPr>
            <a:stCxn id="3807" idx="0"/>
            <a:endCxn id="3806" idx="0"/>
          </p:cNvCxnSpPr>
          <p:nvPr/>
        </p:nvCxnSpPr>
        <p:spPr>
          <a:xfrm>
            <a:off x="2997360" y="4343400"/>
            <a:ext cx="145944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9" name=""/>
          <p:cNvSpPr/>
          <p:nvPr/>
        </p:nvSpPr>
        <p:spPr>
          <a:xfrm>
            <a:off x="600480" y="2144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70600" y="2938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728960" y="293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743000" y="2120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70396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 flipH="1">
            <a:off x="5848200" y="3273480"/>
            <a:ext cx="3542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 flipV="1">
            <a:off x="559764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919840" y="2314440"/>
            <a:ext cx="398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8736120" y="2513160"/>
            <a:ext cx="0" cy="5112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8062560" y="3273480"/>
            <a:ext cx="35388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8074080" y="2314440"/>
            <a:ext cx="43164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6683400" y="2523960"/>
            <a:ext cx="771480" cy="633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822168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97852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5384880" y="3024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288480" y="209232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6217200" y="30243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352120" y="2095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7407000" y="3024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8488080" y="2092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8449560" y="302436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539840" y="20955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6886800" y="1638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691848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6531120" y="3378240"/>
            <a:ext cx="453960" cy="18396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 flipV="1">
            <a:off x="773748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142040" y="2038320"/>
            <a:ext cx="465120" cy="98604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211880" y="233676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5624640" y="1879560"/>
            <a:ext cx="1317600" cy="303120"/>
          </a:xfrm>
          <a:custGeom>
            <a:avLst/>
            <a:gdLst/>
            <a:ahLst/>
            <a:rect l="l" t="t" r="r" b="b"/>
            <a:pathLst>
              <a:path w="830" h="191">
                <a:moveTo>
                  <a:pt x="0" y="191"/>
                </a:moveTo>
                <a:cubicBezTo>
                  <a:pt x="25" y="125"/>
                  <a:pt x="51" y="60"/>
                  <a:pt x="189" y="30"/>
                </a:cubicBezTo>
                <a:cubicBezTo>
                  <a:pt x="327" y="0"/>
                  <a:pt x="799" y="2"/>
                  <a:pt x="830" y="1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342200" y="1895400"/>
            <a:ext cx="1373040" cy="287280"/>
          </a:xfrm>
          <a:custGeom>
            <a:avLst/>
            <a:gdLst/>
            <a:ahLst/>
            <a:rect l="l" t="t" r="r" b="b"/>
            <a:pathLst>
              <a:path w="865" h="181">
                <a:moveTo>
                  <a:pt x="865" y="181"/>
                </a:moveTo>
                <a:cubicBezTo>
                  <a:pt x="863" y="122"/>
                  <a:pt x="862" y="64"/>
                  <a:pt x="718" y="34"/>
                </a:cubicBezTo>
                <a:cubicBezTo>
                  <a:pt x="574" y="4"/>
                  <a:pt x="120" y="7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H="1">
            <a:off x="6934320" y="3273480"/>
            <a:ext cx="4492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5734080" y="2508120"/>
            <a:ext cx="1200240" cy="1136880"/>
          </a:xfrm>
          <a:custGeom>
            <a:avLst/>
            <a:gdLst/>
            <a:ahLst/>
            <a:rect l="l" t="t" r="r" b="b"/>
            <a:pathLst>
              <a:path w="756" h="716">
                <a:moveTo>
                  <a:pt x="756" y="696"/>
                </a:moveTo>
                <a:cubicBezTo>
                  <a:pt x="576" y="706"/>
                  <a:pt x="396" y="716"/>
                  <a:pt x="270" y="600"/>
                </a:cubicBezTo>
                <a:cubicBezTo>
                  <a:pt x="144" y="484"/>
                  <a:pt x="72" y="242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7334280" y="2508120"/>
            <a:ext cx="1266840" cy="1177920"/>
          </a:xfrm>
          <a:custGeom>
            <a:avLst/>
            <a:gdLst/>
            <a:ahLst/>
            <a:rect l="l" t="t" r="r" b="b"/>
            <a:pathLst>
              <a:path w="774" h="748">
                <a:moveTo>
                  <a:pt x="0" y="708"/>
                </a:moveTo>
                <a:cubicBezTo>
                  <a:pt x="127" y="728"/>
                  <a:pt x="255" y="748"/>
                  <a:pt x="384" y="630"/>
                </a:cubicBezTo>
                <a:cubicBezTo>
                  <a:pt x="513" y="512"/>
                  <a:pt x="643" y="256"/>
                  <a:pt x="774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508920" y="2747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3476520" y="2212920"/>
            <a:ext cx="0" cy="542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76520" y="2746440"/>
            <a:ext cx="1429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682080" y="2754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46" name=""/>
          <p:cNvCxnSpPr>
            <a:stCxn id="3806" idx="0"/>
          </p:cNvCxnSpPr>
          <p:nvPr/>
        </p:nvCxnSpPr>
        <p:spPr>
          <a:xfrm flipV="1" rot="16200000">
            <a:off x="3131640" y="1661400"/>
            <a:ext cx="564480" cy="20851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47" name=""/>
          <p:cNvSpPr/>
          <p:nvPr/>
        </p:nvSpPr>
        <p:spPr>
          <a:xfrm>
            <a:off x="2352600" y="242244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4419720" y="2927520"/>
            <a:ext cx="74520" cy="74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1556280" y="2773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1905840" y="277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2228760" y="221292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2133720" y="2765520"/>
            <a:ext cx="85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934640" y="2548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rot="14400">
            <a:off x="2619000" y="3487320"/>
            <a:ext cx="511200" cy="5526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rot="16203000">
            <a:off x="2952720" y="404136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 flipH="1">
            <a:off x="1314360" y="3708360"/>
            <a:ext cx="1362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1314360" y="2974680"/>
            <a:ext cx="0" cy="723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3221-7DE4-4669-8288-AA44BEF61B0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9" name=""/>
          <p:cNvGrpSpPr/>
          <p:nvPr/>
        </p:nvGrpSpPr>
        <p:grpSpPr>
          <a:xfrm>
            <a:off x="3413160" y="2030400"/>
            <a:ext cx="752400" cy="573120"/>
            <a:chOff x="3413160" y="2030400"/>
            <a:chExt cx="752400" cy="573120"/>
          </a:xfrm>
        </p:grpSpPr>
        <p:grpSp>
          <p:nvGrpSpPr>
            <p:cNvPr id="3860" name=""/>
            <p:cNvGrpSpPr/>
            <p:nvPr/>
          </p:nvGrpSpPr>
          <p:grpSpPr>
            <a:xfrm>
              <a:off x="3600360" y="2030400"/>
              <a:ext cx="565200" cy="573120"/>
              <a:chOff x="3600360" y="2030400"/>
              <a:chExt cx="565200" cy="573120"/>
            </a:xfrm>
          </p:grpSpPr>
          <p:sp>
            <p:nvSpPr>
              <p:cNvPr id="3861" name=""/>
              <p:cNvSpPr/>
              <p:nvPr/>
            </p:nvSpPr>
            <p:spPr>
              <a:xfrm>
                <a:off x="3606840" y="203688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360036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63" name=""/>
            <p:cNvSpPr/>
            <p:nvPr/>
          </p:nvSpPr>
          <p:spPr>
            <a:xfrm>
              <a:off x="3413160" y="212580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3413160" y="250668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65" name=""/>
          <p:cNvGrpSpPr/>
          <p:nvPr/>
        </p:nvGrpSpPr>
        <p:grpSpPr>
          <a:xfrm>
            <a:off x="2017080" y="2793600"/>
            <a:ext cx="1715400" cy="1337040"/>
            <a:chOff x="2017080" y="2793600"/>
            <a:chExt cx="1715400" cy="1337040"/>
          </a:xfrm>
        </p:grpSpPr>
        <p:sp>
          <p:nvSpPr>
            <p:cNvPr id="3866" name=""/>
            <p:cNvSpPr/>
            <p:nvPr/>
          </p:nvSpPr>
          <p:spPr>
            <a:xfrm rot="5403000">
              <a:off x="1920960" y="2890440"/>
              <a:ext cx="133596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8" y="5416"/>
                  </a:moveTo>
                  <a:arcTo wR="10800" hR="10800" stAng="-9005713" swAng="3597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8" y="5416"/>
                  </a:moveTo>
                  <a:arcTo wR="10800" hR="10800" stAng="-9005713" swAng="3597547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rot="16203000">
              <a:off x="2494080" y="2890800"/>
              <a:ext cx="133272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185" swAng="36299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185" swAng="362992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rot="16203000">
              <a:off x="2780640" y="3184200"/>
              <a:ext cx="177840" cy="55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rot="16203000">
              <a:off x="2822040" y="3223800"/>
              <a:ext cx="96840" cy="57312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6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60" y="3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70" name=""/>
          <p:cNvSpPr/>
          <p:nvPr/>
        </p:nvSpPr>
        <p:spPr>
          <a:xfrm flipV="1">
            <a:off x="2871720" y="270144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 rot="16203000">
            <a:off x="2830680" y="280332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2" name=""/>
          <p:cNvGrpSpPr/>
          <p:nvPr/>
        </p:nvGrpSpPr>
        <p:grpSpPr>
          <a:xfrm>
            <a:off x="1582560" y="2030400"/>
            <a:ext cx="752400" cy="573120"/>
            <a:chOff x="1582560" y="2030400"/>
            <a:chExt cx="752400" cy="573120"/>
          </a:xfrm>
        </p:grpSpPr>
        <p:grpSp>
          <p:nvGrpSpPr>
            <p:cNvPr id="3873" name=""/>
            <p:cNvGrpSpPr/>
            <p:nvPr/>
          </p:nvGrpSpPr>
          <p:grpSpPr>
            <a:xfrm>
              <a:off x="1582560" y="2030400"/>
              <a:ext cx="565200" cy="573120"/>
              <a:chOff x="1582560" y="2030400"/>
              <a:chExt cx="565200" cy="573120"/>
            </a:xfrm>
          </p:grpSpPr>
          <p:sp>
            <p:nvSpPr>
              <p:cNvPr id="3874" name=""/>
              <p:cNvSpPr/>
              <p:nvPr/>
            </p:nvSpPr>
            <p:spPr>
              <a:xfrm rot="10800000">
                <a:off x="1582560" y="203832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0800000">
                <a:off x="186048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 flipH="1">
              <a:off x="2147760" y="250812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2147760" y="212724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4110840" y="1424160"/>
            <a:ext cx="387000" cy="254880"/>
            <a:chOff x="4110840" y="1424160"/>
            <a:chExt cx="387000" cy="254880"/>
          </a:xfrm>
        </p:grpSpPr>
        <p:sp>
          <p:nvSpPr>
            <p:cNvPr id="3879" name=""/>
            <p:cNvSpPr/>
            <p:nvPr/>
          </p:nvSpPr>
          <p:spPr>
            <a:xfrm rot="16093800">
              <a:off x="4111560" y="152208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rot="16093800">
              <a:off x="4200840" y="138096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881" name=""/>
          <p:cNvCxnSpPr/>
          <p:nvPr/>
        </p:nvCxnSpPr>
        <p:spPr>
          <a:xfrm>
            <a:off x="752040" y="1555920"/>
            <a:ext cx="110556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2" name=""/>
          <p:cNvCxnSpPr>
            <a:endCxn id="3875" idx="0"/>
          </p:cNvCxnSpPr>
          <p:nvPr/>
        </p:nvCxnSpPr>
        <p:spPr>
          <a:xfrm>
            <a:off x="1856880" y="156024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83" name=""/>
          <p:cNvSpPr/>
          <p:nvPr/>
        </p:nvSpPr>
        <p:spPr>
          <a:xfrm flipH="1">
            <a:off x="3375000" y="1560600"/>
            <a:ext cx="719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835280" y="156060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85" name=""/>
          <p:cNvCxnSpPr>
            <a:stCxn id="3884" idx="0"/>
            <a:endCxn id="3863" idx="0"/>
          </p:cNvCxnSpPr>
          <p:nvPr/>
        </p:nvCxnSpPr>
        <p:spPr>
          <a:xfrm>
            <a:off x="2333160" y="1560600"/>
            <a:ext cx="1080360" cy="5659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6" name=""/>
          <p:cNvCxnSpPr>
            <a:stCxn id="3877" idx="0"/>
            <a:endCxn id="3883" idx="0"/>
          </p:cNvCxnSpPr>
          <p:nvPr/>
        </p:nvCxnSpPr>
        <p:spPr>
          <a:xfrm flipV="1">
            <a:off x="2333160" y="1560240"/>
            <a:ext cx="1043640" cy="5673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7" name=""/>
          <p:cNvCxnSpPr>
            <a:stCxn id="3876" idx="0"/>
            <a:endCxn id="3864" idx="0"/>
          </p:cNvCxnSpPr>
          <p:nvPr/>
        </p:nvCxnSpPr>
        <p:spPr>
          <a:xfrm flipV="1">
            <a:off x="2333160" y="250632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88" name=""/>
          <p:cNvSpPr/>
          <p:nvPr/>
        </p:nvSpPr>
        <p:spPr>
          <a:xfrm flipV="1">
            <a:off x="2876400" y="251892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89" name=""/>
          <p:cNvCxnSpPr/>
          <p:nvPr/>
        </p:nvCxnSpPr>
        <p:spPr>
          <a:xfrm>
            <a:off x="3885840" y="155232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90" name=""/>
          <p:cNvCxnSpPr>
            <a:stCxn id="3861" idx="6"/>
          </p:cNvCxnSpPr>
          <p:nvPr/>
        </p:nvCxnSpPr>
        <p:spPr>
          <a:xfrm>
            <a:off x="4165200" y="231588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891" name=""/>
          <p:cNvCxnSpPr>
            <a:endCxn id="3874" idx="6"/>
          </p:cNvCxnSpPr>
          <p:nvPr/>
        </p:nvCxnSpPr>
        <p:spPr>
          <a:xfrm>
            <a:off x="752040" y="230652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892" name=""/>
          <p:cNvCxnSpPr>
            <a:stCxn id="3880" idx="3"/>
          </p:cNvCxnSpPr>
          <p:nvPr/>
        </p:nvCxnSpPr>
        <p:spPr>
          <a:xfrm>
            <a:off x="4490640" y="154584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93" name=""/>
          <p:cNvSpPr/>
          <p:nvPr/>
        </p:nvSpPr>
        <p:spPr>
          <a:xfrm>
            <a:off x="1214280" y="2322360"/>
            <a:ext cx="0" cy="1360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456080" y="233208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997360" y="335916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760840" y="335592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97" name=""/>
          <p:cNvCxnSpPr>
            <a:stCxn id="3893" idx="0"/>
            <a:endCxn id="3896" idx="0"/>
          </p:cNvCxnSpPr>
          <p:nvPr/>
        </p:nvCxnSpPr>
        <p:spPr>
          <a:xfrm>
            <a:off x="1214280" y="3681000"/>
            <a:ext cx="1547280" cy="540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98" name=""/>
          <p:cNvCxnSpPr>
            <a:stCxn id="3895" idx="0"/>
            <a:endCxn id="3894" idx="0"/>
          </p:cNvCxnSpPr>
          <p:nvPr/>
        </p:nvCxnSpPr>
        <p:spPr>
          <a:xfrm>
            <a:off x="2997360" y="3688920"/>
            <a:ext cx="1459440" cy="2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99" name=""/>
          <p:cNvSpPr/>
          <p:nvPr/>
        </p:nvSpPr>
        <p:spPr>
          <a:xfrm>
            <a:off x="600480" y="14907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570600" y="2284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47289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4743000" y="1467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03960" y="2111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04" name=""/>
          <p:cNvGrpSpPr/>
          <p:nvPr/>
        </p:nvGrpSpPr>
        <p:grpSpPr>
          <a:xfrm>
            <a:off x="5352120" y="984240"/>
            <a:ext cx="3723480" cy="2627280"/>
            <a:chOff x="5352120" y="984240"/>
            <a:chExt cx="3723480" cy="2627280"/>
          </a:xfrm>
        </p:grpSpPr>
        <p:sp>
          <p:nvSpPr>
            <p:cNvPr id="3905" name=""/>
            <p:cNvSpPr/>
            <p:nvPr/>
          </p:nvSpPr>
          <p:spPr>
            <a:xfrm>
              <a:off x="6491160" y="19368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>
              <a:off x="588600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55972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919840" y="16606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8735760" y="18590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H="1">
              <a:off x="806256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8074080" y="16606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H="1">
              <a:off x="6816240" y="18478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683400" y="18702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822168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97852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84880" y="2370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288480" y="14382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217200" y="23702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5352120" y="14414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407000" y="23702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8488080" y="14382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8449200" y="23702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539840" y="144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6886800" y="984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6918480" y="2713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6958080" y="33022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7097760" y="31017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6521400" y="28130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7219800" y="28353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77374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6643440" y="14065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7142040" y="13845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72118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67690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624280" y="12258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342200" y="12416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7108920" y="13842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5194440" y="3741840"/>
            <a:ext cx="3916080" cy="2426760"/>
            <a:chOff x="5194440" y="3741840"/>
            <a:chExt cx="3916080" cy="2426760"/>
          </a:xfrm>
        </p:grpSpPr>
        <p:sp>
          <p:nvSpPr>
            <p:cNvPr id="3939" name=""/>
            <p:cNvSpPr/>
            <p:nvPr/>
          </p:nvSpPr>
          <p:spPr>
            <a:xfrm>
              <a:off x="5418000" y="5127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321240" y="419544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250320" y="512748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85240" y="4198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440120" y="512748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521200" y="4195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482680" y="5127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572960" y="41986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919560" y="3741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6951240" y="5470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49" name=""/>
            <p:cNvCxnSpPr>
              <a:stCxn id="3943" idx="2"/>
              <a:endCxn id="3948" idx="3"/>
            </p:cNvCxnSpPr>
            <p:nvPr/>
          </p:nvCxnSpPr>
          <p:spPr>
            <a:xfrm rot="5400000">
              <a:off x="7531200" y="5458320"/>
              <a:ext cx="114480" cy="36720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0" name=""/>
            <p:cNvCxnSpPr>
              <a:stCxn id="3941" idx="2"/>
              <a:endCxn id="3948" idx="1"/>
            </p:cNvCxnSpPr>
            <p:nvPr/>
          </p:nvCxnSpPr>
          <p:spPr>
            <a:xfrm flipH="1" rot="16200000">
              <a:off x="6700680" y="5449320"/>
              <a:ext cx="114480" cy="3844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1" name=""/>
            <p:cNvCxnSpPr>
              <a:stCxn id="3943" idx="2"/>
              <a:endCxn id="3939" idx="2"/>
            </p:cNvCxnSpPr>
            <p:nvPr/>
          </p:nvCxnSpPr>
          <p:spPr>
            <a:xfrm rot="5400000">
              <a:off x="6707520" y="4521600"/>
              <a:ext cx="1800" cy="2127600"/>
            </a:xfrm>
            <a:prstGeom prst="curvedConnector5">
              <a:avLst>
                <a:gd name="adj1" fmla="val 33075000"/>
                <a:gd name="adj2" fmla="val 49991"/>
                <a:gd name="adj3" fmla="val 33075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2" name=""/>
            <p:cNvCxnSpPr>
              <a:stCxn id="3948" idx="0"/>
              <a:endCxn id="3940" idx="3"/>
            </p:cNvCxnSpPr>
            <p:nvPr/>
          </p:nvCxnSpPr>
          <p:spPr>
            <a:xfrm flipV="1" rot="16200000">
              <a:off x="6491160" y="4782960"/>
              <a:ext cx="1046520" cy="32724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3" name=""/>
            <p:cNvCxnSpPr>
              <a:stCxn id="3948" idx="0"/>
              <a:endCxn id="3945" idx="0"/>
            </p:cNvCxnSpPr>
            <p:nvPr/>
          </p:nvCxnSpPr>
          <p:spPr>
            <a:xfrm flipH="1" flipV="1" rot="5400000">
              <a:off x="7799760" y="4505040"/>
              <a:ext cx="342720" cy="1586520"/>
            </a:xfrm>
            <a:prstGeom prst="curvedConnector5">
              <a:avLst>
                <a:gd name="adj1" fmla="val 166771"/>
                <a:gd name="adj2" fmla="val 50000"/>
                <a:gd name="adj3" fmla="val 166771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954" name=""/>
            <p:cNvSpPr/>
            <p:nvPr/>
          </p:nvSpPr>
          <p:spPr>
            <a:xfrm>
              <a:off x="5194440" y="3841560"/>
              <a:ext cx="3916080" cy="23270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36FA-F918-40DF-843B-99BEC2B3BE0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570600" y="1411560"/>
            <a:ext cx="4644000" cy="2706480"/>
            <a:chOff x="570600" y="1411560"/>
            <a:chExt cx="4644000" cy="2706480"/>
          </a:xfrm>
        </p:grpSpPr>
        <p:grpSp>
          <p:nvGrpSpPr>
            <p:cNvPr id="3957" name=""/>
            <p:cNvGrpSpPr/>
            <p:nvPr/>
          </p:nvGrpSpPr>
          <p:grpSpPr>
            <a:xfrm>
              <a:off x="3413160" y="2017440"/>
              <a:ext cx="752400" cy="573120"/>
              <a:chOff x="3413160" y="2017440"/>
              <a:chExt cx="752400" cy="573120"/>
            </a:xfrm>
          </p:grpSpPr>
          <p:grpSp>
            <p:nvGrpSpPr>
              <p:cNvPr id="3958" name=""/>
              <p:cNvGrpSpPr/>
              <p:nvPr/>
            </p:nvGrpSpPr>
            <p:grpSpPr>
              <a:xfrm>
                <a:off x="3600360" y="2017440"/>
                <a:ext cx="565200" cy="573120"/>
                <a:chOff x="3600360" y="2017440"/>
                <a:chExt cx="565200" cy="573120"/>
              </a:xfrm>
            </p:grpSpPr>
            <p:sp>
              <p:nvSpPr>
                <p:cNvPr id="3959" name=""/>
                <p:cNvSpPr/>
                <p:nvPr/>
              </p:nvSpPr>
              <p:spPr>
                <a:xfrm>
                  <a:off x="3606840" y="202392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360036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1" name=""/>
              <p:cNvSpPr/>
              <p:nvPr/>
            </p:nvSpPr>
            <p:spPr>
              <a:xfrm>
                <a:off x="3413160" y="211284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3413160" y="249372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2017080" y="2781000"/>
              <a:ext cx="1715400" cy="1337040"/>
              <a:chOff x="2017080" y="2781000"/>
              <a:chExt cx="1715400" cy="1337040"/>
            </a:xfrm>
          </p:grpSpPr>
          <p:sp>
            <p:nvSpPr>
              <p:cNvPr id="3964" name=""/>
              <p:cNvSpPr/>
              <p:nvPr/>
            </p:nvSpPr>
            <p:spPr>
              <a:xfrm rot="5403000">
                <a:off x="1920960" y="2877840"/>
                <a:ext cx="133596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8" y="5416"/>
                    </a:moveTo>
                    <a:arcTo wR="10800" hR="10800" stAng="-9005713" swAng="359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8" y="5416"/>
                    </a:moveTo>
                    <a:arcTo wR="10800" hR="10800" stAng="-9005713" swAng="3597547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rot="16203000">
                <a:off x="2494080" y="2878200"/>
                <a:ext cx="133272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4" y="0"/>
                    </a:moveTo>
                    <a:arcTo wR="10800" hR="10800" stAng="-5408185" swAng="36299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4" y="0"/>
                    </a:moveTo>
                    <a:arcTo wR="10800" hR="10800" stAng="-5408185" swAng="362992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rot="16203000">
                <a:off x="2780640" y="3171600"/>
                <a:ext cx="177840" cy="55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rot="16203000">
                <a:off x="2822040" y="3211200"/>
                <a:ext cx="96840" cy="57312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6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6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V="1">
              <a:off x="2871720" y="2689200"/>
              <a:ext cx="0" cy="18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rot="16203000">
              <a:off x="2830680" y="2790360"/>
              <a:ext cx="82440" cy="82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70" name=""/>
            <p:cNvGrpSpPr/>
            <p:nvPr/>
          </p:nvGrpSpPr>
          <p:grpSpPr>
            <a:xfrm>
              <a:off x="1582560" y="2017440"/>
              <a:ext cx="752400" cy="573120"/>
              <a:chOff x="1582560" y="2017440"/>
              <a:chExt cx="752400" cy="573120"/>
            </a:xfrm>
          </p:grpSpPr>
          <p:grpSp>
            <p:nvGrpSpPr>
              <p:cNvPr id="3971" name=""/>
              <p:cNvGrpSpPr/>
              <p:nvPr/>
            </p:nvGrpSpPr>
            <p:grpSpPr>
              <a:xfrm>
                <a:off x="1582560" y="2017440"/>
                <a:ext cx="565200" cy="573120"/>
                <a:chOff x="1582560" y="2017440"/>
                <a:chExt cx="565200" cy="573120"/>
              </a:xfrm>
            </p:grpSpPr>
            <p:sp>
              <p:nvSpPr>
                <p:cNvPr id="3972" name=""/>
                <p:cNvSpPr/>
                <p:nvPr/>
              </p:nvSpPr>
              <p:spPr>
                <a:xfrm rot="10800000">
                  <a:off x="1582560" y="202536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0800000">
                  <a:off x="186048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4" name=""/>
              <p:cNvSpPr/>
              <p:nvPr/>
            </p:nvSpPr>
            <p:spPr>
              <a:xfrm flipH="1">
                <a:off x="2147760" y="249516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H="1">
                <a:off x="2147760" y="211428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76" name=""/>
            <p:cNvGrpSpPr/>
            <p:nvPr/>
          </p:nvGrpSpPr>
          <p:grpSpPr>
            <a:xfrm>
              <a:off x="4110840" y="1411560"/>
              <a:ext cx="387000" cy="254880"/>
              <a:chOff x="4110840" y="1411560"/>
              <a:chExt cx="387000" cy="254880"/>
            </a:xfrm>
          </p:grpSpPr>
          <p:sp>
            <p:nvSpPr>
              <p:cNvPr id="3977" name=""/>
              <p:cNvSpPr/>
              <p:nvPr/>
            </p:nvSpPr>
            <p:spPr>
              <a:xfrm rot="16093800">
                <a:off x="4111560" y="1509480"/>
                <a:ext cx="63360" cy="633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rot="16093800">
                <a:off x="4200840" y="1368360"/>
                <a:ext cx="244440" cy="34128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cxnSp>
          <p:nvCxnSpPr>
            <p:cNvPr id="3979" name=""/>
            <p:cNvCxnSpPr/>
            <p:nvPr/>
          </p:nvCxnSpPr>
          <p:spPr>
            <a:xfrm>
              <a:off x="752040" y="1542960"/>
              <a:ext cx="110556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0" name=""/>
            <p:cNvCxnSpPr>
              <a:endCxn id="3973" idx="0"/>
            </p:cNvCxnSpPr>
            <p:nvPr/>
          </p:nvCxnSpPr>
          <p:spPr>
            <a:xfrm>
              <a:off x="1856880" y="154728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81" name=""/>
            <p:cNvSpPr/>
            <p:nvPr/>
          </p:nvSpPr>
          <p:spPr>
            <a:xfrm flipH="1">
              <a:off x="3375000" y="1547640"/>
              <a:ext cx="719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835280" y="1547640"/>
              <a:ext cx="498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83" name=""/>
            <p:cNvCxnSpPr>
              <a:stCxn id="3982" idx="0"/>
              <a:endCxn id="3961" idx="0"/>
            </p:cNvCxnSpPr>
            <p:nvPr/>
          </p:nvCxnSpPr>
          <p:spPr>
            <a:xfrm>
              <a:off x="2333160" y="1547640"/>
              <a:ext cx="1080360" cy="5659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4" name=""/>
            <p:cNvCxnSpPr>
              <a:stCxn id="3975" idx="0"/>
              <a:endCxn id="3981" idx="0"/>
            </p:cNvCxnSpPr>
            <p:nvPr/>
          </p:nvCxnSpPr>
          <p:spPr>
            <a:xfrm flipV="1">
              <a:off x="2333160" y="1547280"/>
              <a:ext cx="1043640" cy="5673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5" name=""/>
            <p:cNvCxnSpPr>
              <a:stCxn id="3974" idx="0"/>
              <a:endCxn id="3962" idx="0"/>
            </p:cNvCxnSpPr>
            <p:nvPr/>
          </p:nvCxnSpPr>
          <p:spPr>
            <a:xfrm flipV="1">
              <a:off x="2333160" y="2493000"/>
              <a:ext cx="1080360" cy="2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86" name=""/>
            <p:cNvSpPr/>
            <p:nvPr/>
          </p:nvSpPr>
          <p:spPr>
            <a:xfrm flipV="1">
              <a:off x="2876400" y="2506680"/>
              <a:ext cx="0" cy="188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87" name=""/>
            <p:cNvCxnSpPr/>
            <p:nvPr/>
          </p:nvCxnSpPr>
          <p:spPr>
            <a:xfrm>
              <a:off x="3885840" y="153936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8" name=""/>
            <p:cNvCxnSpPr>
              <a:stCxn id="3959" idx="6"/>
            </p:cNvCxnSpPr>
            <p:nvPr/>
          </p:nvCxnSpPr>
          <p:spPr>
            <a:xfrm>
              <a:off x="4165200" y="2303280"/>
              <a:ext cx="926280" cy="72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989" name=""/>
            <p:cNvCxnSpPr>
              <a:endCxn id="3972" idx="6"/>
            </p:cNvCxnSpPr>
            <p:nvPr/>
          </p:nvCxnSpPr>
          <p:spPr>
            <a:xfrm>
              <a:off x="752040" y="2293920"/>
              <a:ext cx="826200" cy="864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</p:cxnSp>
        <p:cxnSp>
          <p:nvCxnSpPr>
            <p:cNvPr id="3990" name=""/>
            <p:cNvCxnSpPr>
              <a:stCxn id="3978" idx="3"/>
            </p:cNvCxnSpPr>
            <p:nvPr/>
          </p:nvCxnSpPr>
          <p:spPr>
            <a:xfrm>
              <a:off x="4490640" y="1533600"/>
              <a:ext cx="578520" cy="36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91" name=""/>
            <p:cNvSpPr/>
            <p:nvPr/>
          </p:nvSpPr>
          <p:spPr>
            <a:xfrm>
              <a:off x="1214280" y="230976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456080" y="231912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997360" y="3346200"/>
              <a:ext cx="0" cy="331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760840" y="3343320"/>
              <a:ext cx="0" cy="331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95" name=""/>
            <p:cNvCxnSpPr>
              <a:stCxn id="3991" idx="0"/>
              <a:endCxn id="3994" idx="0"/>
            </p:cNvCxnSpPr>
            <p:nvPr/>
          </p:nvCxnSpPr>
          <p:spPr>
            <a:xfrm>
              <a:off x="1214280" y="3668400"/>
              <a:ext cx="1547280" cy="54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96" name=""/>
            <p:cNvCxnSpPr>
              <a:stCxn id="3993" idx="0"/>
              <a:endCxn id="3992" idx="0"/>
            </p:cNvCxnSpPr>
            <p:nvPr/>
          </p:nvCxnSpPr>
          <p:spPr>
            <a:xfrm>
              <a:off x="2997360" y="3676680"/>
              <a:ext cx="1459440" cy="21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97" name=""/>
            <p:cNvSpPr/>
            <p:nvPr/>
          </p:nvSpPr>
          <p:spPr>
            <a:xfrm>
              <a:off x="600480" y="14778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70600" y="2271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728960" y="2263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743000" y="14540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703960" y="209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5352120" y="971640"/>
            <a:ext cx="3723480" cy="2627280"/>
            <a:chOff x="5352120" y="971640"/>
            <a:chExt cx="3723480" cy="2627280"/>
          </a:xfrm>
        </p:grpSpPr>
        <p:sp>
          <p:nvSpPr>
            <p:cNvPr id="4003" name=""/>
            <p:cNvSpPr/>
            <p:nvPr/>
          </p:nvSpPr>
          <p:spPr>
            <a:xfrm>
              <a:off x="6491160" y="19242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588600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V="1">
              <a:off x="55972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919840" y="16480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8735760" y="18464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806256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8074080" y="16480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6816240" y="18352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683400" y="18576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822168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97852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384880" y="23576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288480" y="14256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217200" y="23576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352120" y="14288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407000" y="23576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488080" y="1425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449200" y="23576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539840" y="14288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6886800" y="971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918480" y="2700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958080" y="32896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7097760" y="30891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521400" y="28004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7219800" y="28227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77374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6643440" y="13939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142040" y="13719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2118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7690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624280" y="12132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342200" y="12290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V="1">
              <a:off x="7108920" y="13716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36" name=""/>
          <p:cNvSpPr/>
          <p:nvPr/>
        </p:nvSpPr>
        <p:spPr>
          <a:xfrm>
            <a:off x="5418360" y="51148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321600" y="418320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6250680" y="5114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5385600" y="4186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7440480" y="51148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8521560" y="4183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8482680" y="51148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7573320" y="4186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6920280" y="372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951600" y="5457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046" name=""/>
          <p:cNvCxnSpPr>
            <a:stCxn id="4045" idx="0"/>
            <a:endCxn id="4042" idx="0"/>
          </p:cNvCxnSpPr>
          <p:nvPr/>
        </p:nvCxnSpPr>
        <p:spPr>
          <a:xfrm flipH="1" flipV="1" rot="5400000">
            <a:off x="7799760" y="4492800"/>
            <a:ext cx="343800" cy="1586520"/>
          </a:xfrm>
          <a:prstGeom prst="curvedConnector5">
            <a:avLst>
              <a:gd name="adj1" fmla="val 166666"/>
              <a:gd name="adj2" fmla="val 50000"/>
              <a:gd name="adj3" fmla="val 16666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47" name=""/>
          <p:cNvSpPr/>
          <p:nvPr/>
        </p:nvSpPr>
        <p:spPr>
          <a:xfrm>
            <a:off x="5194440" y="3828960"/>
            <a:ext cx="3916080" cy="2327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-34920" y="4194000"/>
            <a:ext cx="275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satisfy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-36360" y="482616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l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) + 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+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0" y="5465880"/>
            <a:ext cx="540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ll constraints are either satisfied by default 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asy to satisfy by sizing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3BE6-7C0A-4DC4-ADBB-53C437A024E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Other synthesis paradigms: outlin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HDL (Verilog) [Lavagno et al, Async00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set for asynchronous 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ata-path/control partitio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ircuit architecture. Control gener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asynchronous HDL (CSP, Tan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SP for control generation [A. Martin et al, 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ngram for silicon compilation [K. van Berkel et al, 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synthesis using FSMs [K. Yun, S. Nowick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urst-mode mach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ison with ST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C463-359A-4A9F-A1C9-20578A690C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anguage-based design key enabler to synchronous logic su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HDL as single language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gic simulation and debug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t-layout sim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DL must support multiple levels of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4395-CAA2-4B6B-8DE4-554A03C106E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"/>
          <p:cNvSpPr/>
          <p:nvPr/>
        </p:nvSpPr>
        <p:spPr>
          <a:xfrm>
            <a:off x="685800" y="1219320"/>
            <a:ext cx="77724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litting of asynchronous control and synchronous data pa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omated insertion of bundling del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828800" y="3181320"/>
            <a:ext cx="129528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5638680" y="3181320"/>
            <a:ext cx="129564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5791320" y="4933800"/>
            <a:ext cx="990360" cy="5335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3562200"/>
            <a:ext cx="25146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4648320" y="3562200"/>
            <a:ext cx="0" cy="1676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648320" y="5238720"/>
            <a:ext cx="1143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781680" y="523872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 flipH="1">
            <a:off x="3733560" y="5772240"/>
            <a:ext cx="37335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3733920" y="4324320"/>
            <a:ext cx="0" cy="1447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 flipH="1">
            <a:off x="3124080" y="43243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 flipV="1">
            <a:off x="7467480" y="5238720"/>
            <a:ext cx="0" cy="533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3660120" y="3180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4651560" y="57718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knowled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rol-data partitio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CB1B-CDD3-4BEE-A963-2F7EB074F1C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743200" y="228600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/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lit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04920" y="32767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ro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88620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H="1">
            <a:off x="1676160" y="2666880"/>
            <a:ext cx="1066680" cy="609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175248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2438280" y="91440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5867280" y="21337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z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 (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etrif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4876920" y="259092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248520" y="4648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ing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739152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943600" y="57913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6248520" y="3505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7391520" y="3048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739152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5715000" y="4952880"/>
            <a:ext cx="533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04920" y="57913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175248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3581280" y="5867280"/>
            <a:ext cx="19051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3657600" y="4495680"/>
            <a:ext cx="20574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548640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12408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06C2-3CA0-4041-86BE-F6DBAD3FAF1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294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249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5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2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4DB6-039A-4875-A233-34E34BCA837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synchronous Verilog subset by exampl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4057560" y="12574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lway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 = SMP * 3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ES = SMP * 4 + 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7] == 1) RES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lse 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6] == 1) RES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!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3716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27432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13716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2057400" y="2666880"/>
            <a:ext cx="304920" cy="304920"/>
          </a:xfrm>
          <a:prstGeom prst="flowChartOr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20574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2209680" y="2057400"/>
            <a:ext cx="0" cy="6094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523880" y="2057400"/>
            <a:ext cx="0" cy="4572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2096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16765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 flipH="1">
            <a:off x="990720" y="1447920"/>
            <a:ext cx="12189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1219320" y="1295280"/>
            <a:ext cx="1981080" cy="2971800"/>
          </a:xfrm>
          <a:prstGeom prst="rect">
            <a:avLst/>
          </a:prstGeom>
          <a:noFill/>
          <a:ln w="2844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 flipV="1">
            <a:off x="838080" y="3657600"/>
            <a:ext cx="106704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2514600" y="3657600"/>
            <a:ext cx="106668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382320" y="12949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M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505320" y="3504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28600" y="350496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506040" y="266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1905120" y="3352680"/>
            <a:ext cx="609480" cy="68580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C.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28954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 flipV="1">
            <a:off x="15238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2514600" y="350532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1523880" y="3505320"/>
            <a:ext cx="38124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875880" y="5524560"/>
            <a:ext cx="7658280" cy="549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begin-end for sequencing, fork-join for concurrency, if-else for input choi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nly structured mix of sequencing, concurrency and choice can be specifie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2726-946A-46EF-B59D-B795DA40FAC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ynthesis from asynchronous HD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based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= communicating sequential processes [Hoare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synthesis techn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program transformations [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direct compilation [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 are more mature than for asynchronous synthesis from standard 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shift in design methodology is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8468-C6F8-4C92-A4D9-345D27A8804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3698640" y="1128240"/>
            <a:ext cx="514332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li goes high do full handshake at the right, then complete handshake at the left and iter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10699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1366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32036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42703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53370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64040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74707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593640" y="2909880"/>
            <a:ext cx="55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1584360" y="2909880"/>
            <a:ext cx="70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651040" y="2909880"/>
            <a:ext cx="59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3718080" y="2909880"/>
            <a:ext cx="62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4784400" y="2909880"/>
            <a:ext cx="50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927760" y="2909880"/>
            <a:ext cx="66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6918480" y="2909880"/>
            <a:ext cx="46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8061480" y="290988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41" name=""/>
          <p:cNvGrpSpPr/>
          <p:nvPr/>
        </p:nvGrpSpPr>
        <p:grpSpPr>
          <a:xfrm>
            <a:off x="231840" y="3147840"/>
            <a:ext cx="763560" cy="609480"/>
            <a:chOff x="231840" y="3147840"/>
            <a:chExt cx="763560" cy="609480"/>
          </a:xfrm>
        </p:grpSpPr>
        <p:sp>
          <p:nvSpPr>
            <p:cNvPr id="4142" name=""/>
            <p:cNvSpPr/>
            <p:nvPr/>
          </p:nvSpPr>
          <p:spPr>
            <a:xfrm>
              <a:off x="233280" y="3147840"/>
              <a:ext cx="762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10800000">
              <a:off x="231840" y="3147840"/>
              <a:ext cx="7617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44" name=""/>
          <p:cNvGrpSpPr/>
          <p:nvPr/>
        </p:nvGrpSpPr>
        <p:grpSpPr>
          <a:xfrm>
            <a:off x="8154000" y="3147840"/>
            <a:ext cx="766080" cy="609480"/>
            <a:chOff x="8154000" y="3147840"/>
            <a:chExt cx="766080" cy="609480"/>
          </a:xfrm>
        </p:grpSpPr>
        <p:sp>
          <p:nvSpPr>
            <p:cNvPr id="4145" name=""/>
            <p:cNvSpPr/>
            <p:nvPr/>
          </p:nvSpPr>
          <p:spPr>
            <a:xfrm>
              <a:off x="8154000" y="314784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 rot="10800000">
              <a:off x="8158680" y="3147840"/>
              <a:ext cx="761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47" name=""/>
          <p:cNvSpPr/>
          <p:nvPr/>
        </p:nvSpPr>
        <p:spPr>
          <a:xfrm>
            <a:off x="127080" y="3333600"/>
            <a:ext cx="216000" cy="216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65428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55872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478800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690876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1560600" y="143352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018960" y="1467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3055680" y="192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 flipH="1">
            <a:off x="2597040" y="2238480"/>
            <a:ext cx="663840" cy="1908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2597040" y="1757520"/>
            <a:ext cx="66384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1216080" y="1757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 flipH="1">
            <a:off x="1215720" y="225756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765360" y="15573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753840" y="20574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1583640" y="17668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 flipH="1">
            <a:off x="590400" y="3746520"/>
            <a:ext cx="79632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5092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1632600" y="387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441360" y="451944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” = sequencing op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+ = ro goes high; ro- = ro goe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li] = wait until li is high; [not li] = wait until li i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252720" y="3894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290880" y="2560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1914480" y="2252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5683-8AAC-4D7A-81C7-980D4404DB1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1632600" y="1365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441360" y="442440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lict: ro+ and ro- are not mutually exclusive (since ri+ and li+ are no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iminate conflict by state signal insertion (= CS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185400" y="234648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i -&gt; ro+; r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ri -&gt; lo+; not l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6502320" y="241128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6502320" y="3116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426360" y="2563920"/>
            <a:ext cx="75960" cy="7596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6845400" y="2957400"/>
            <a:ext cx="6350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6743880" y="36846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0" name=""/>
          <p:cNvGrpSpPr/>
          <p:nvPr/>
        </p:nvGrpSpPr>
        <p:grpSpPr>
          <a:xfrm>
            <a:off x="6807240" y="2030400"/>
            <a:ext cx="152280" cy="152280"/>
            <a:chOff x="6807240" y="2030400"/>
            <a:chExt cx="152280" cy="152280"/>
          </a:xfrm>
        </p:grpSpPr>
        <p:sp>
          <p:nvSpPr>
            <p:cNvPr id="4181" name=""/>
            <p:cNvSpPr/>
            <p:nvPr/>
          </p:nvSpPr>
          <p:spPr>
            <a:xfrm>
              <a:off x="6807240" y="210672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883200" y="203040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83" name=""/>
          <p:cNvSpPr/>
          <p:nvPr/>
        </p:nvSpPr>
        <p:spPr>
          <a:xfrm flipH="1">
            <a:off x="6216480" y="3324240"/>
            <a:ext cx="28584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 flipH="1">
            <a:off x="6121080" y="260352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5" name=""/>
          <p:cNvGrpSpPr/>
          <p:nvPr/>
        </p:nvGrpSpPr>
        <p:grpSpPr>
          <a:xfrm>
            <a:off x="7461360" y="2781360"/>
            <a:ext cx="806040" cy="328680"/>
            <a:chOff x="7461360" y="2781360"/>
            <a:chExt cx="806040" cy="328680"/>
          </a:xfrm>
        </p:grpSpPr>
        <p:sp>
          <p:nvSpPr>
            <p:cNvPr id="4186" name=""/>
            <p:cNvSpPr/>
            <p:nvPr/>
          </p:nvSpPr>
          <p:spPr>
            <a:xfrm rot="5400000">
              <a:off x="7632360" y="2784960"/>
              <a:ext cx="328680" cy="321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979400" y="2901960"/>
              <a:ext cx="10260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8089200" y="2954520"/>
              <a:ext cx="17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7461360" y="2954520"/>
              <a:ext cx="178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0" name=""/>
          <p:cNvSpPr/>
          <p:nvPr/>
        </p:nvSpPr>
        <p:spPr>
          <a:xfrm>
            <a:off x="5337720" y="215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91" name=""/>
          <p:cNvGrpSpPr/>
          <p:nvPr/>
        </p:nvGrpSpPr>
        <p:grpSpPr>
          <a:xfrm>
            <a:off x="7467120" y="2304720"/>
            <a:ext cx="723960" cy="328680"/>
            <a:chOff x="7467120" y="2304720"/>
            <a:chExt cx="723960" cy="328680"/>
          </a:xfrm>
        </p:grpSpPr>
        <p:sp>
          <p:nvSpPr>
            <p:cNvPr id="4192" name=""/>
            <p:cNvSpPr/>
            <p:nvPr/>
          </p:nvSpPr>
          <p:spPr>
            <a:xfrm rot="16199400">
              <a:off x="7724880" y="232452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 rot="10799400">
              <a:off x="7633440" y="2420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H="1">
              <a:off x="7467120" y="24602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8030520" y="24602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6" name=""/>
          <p:cNvSpPr/>
          <p:nvPr/>
        </p:nvSpPr>
        <p:spPr>
          <a:xfrm>
            <a:off x="8178840" y="2944800"/>
            <a:ext cx="660240" cy="12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8191440" y="243828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7448400" y="245736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718600" y="3070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8443800" y="2500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7529400" y="1908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43360" y="2647800"/>
            <a:ext cx="60984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4" name=""/>
          <p:cNvGrpSpPr/>
          <p:nvPr/>
        </p:nvGrpSpPr>
        <p:grpSpPr>
          <a:xfrm>
            <a:off x="5543640" y="2438280"/>
            <a:ext cx="723960" cy="328680"/>
            <a:chOff x="5543640" y="2438280"/>
            <a:chExt cx="723960" cy="328680"/>
          </a:xfrm>
        </p:grpSpPr>
        <p:sp>
          <p:nvSpPr>
            <p:cNvPr id="4205" name=""/>
            <p:cNvSpPr/>
            <p:nvPr/>
          </p:nvSpPr>
          <p:spPr>
            <a:xfrm rot="5400000">
              <a:off x="5680800" y="24580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008760" y="25588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07400" y="26114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543640" y="26114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 flipV="1">
            <a:off x="6591240" y="3130560"/>
            <a:ext cx="0" cy="357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 flipV="1">
            <a:off x="6842160" y="2777760"/>
            <a:ext cx="3240" cy="358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 flipV="1">
            <a:off x="6591240" y="2428560"/>
            <a:ext cx="0" cy="352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6591240" y="3127320"/>
            <a:ext cx="25416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 flipV="1">
            <a:off x="6591240" y="3486240"/>
            <a:ext cx="2383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6591240" y="2782800"/>
            <a:ext cx="2541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6591240" y="2430360"/>
            <a:ext cx="257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 flipH="1">
            <a:off x="6813720" y="3473280"/>
            <a:ext cx="2880" cy="203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6845400" y="2235240"/>
            <a:ext cx="3240" cy="209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DA9A-9131-42B3-A1B1-469C09A97E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flict elimin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963720" y="136512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x+;[x];ro-;[not ri];lo+;[not li];x-;[not x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84680" y="2346480"/>
            <a:ext cx="606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x and li -&gt; ro+; x or not l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x and not ri -&gt; lo+; not x or r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i -&gt; x+; not li -&gt; 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3762360" y="4273560"/>
            <a:ext cx="609480" cy="65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521480" y="3956040"/>
            <a:ext cx="542880" cy="588960"/>
          </a:xfrm>
          <a:prstGeom prst="flowChartDelay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7365960" y="4440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27" name=""/>
          <p:cNvGrpSpPr/>
          <p:nvPr/>
        </p:nvGrpSpPr>
        <p:grpSpPr>
          <a:xfrm>
            <a:off x="5567400" y="5222880"/>
            <a:ext cx="658800" cy="588960"/>
            <a:chOff x="5567400" y="5222880"/>
            <a:chExt cx="658800" cy="588960"/>
          </a:xfrm>
        </p:grpSpPr>
        <p:sp>
          <p:nvSpPr>
            <p:cNvPr id="4228" name=""/>
            <p:cNvSpPr/>
            <p:nvPr/>
          </p:nvSpPr>
          <p:spPr>
            <a:xfrm rot="10800000">
              <a:off x="5567400" y="52228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 rot="10800000">
              <a:off x="6110280" y="55926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30" name=""/>
          <p:cNvSpPr/>
          <p:nvPr/>
        </p:nvSpPr>
        <p:spPr>
          <a:xfrm flipH="1" flipV="1">
            <a:off x="5403600" y="5535720"/>
            <a:ext cx="1681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7365960" y="4116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6505560" y="4572000"/>
            <a:ext cx="600120" cy="7430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233" name=""/>
          <p:cNvCxnSpPr>
            <a:stCxn id="4232" idx="3"/>
            <a:endCxn id="4226" idx="0"/>
          </p:cNvCxnSpPr>
          <p:nvPr/>
        </p:nvCxnSpPr>
        <p:spPr>
          <a:xfrm flipV="1">
            <a:off x="7105320" y="4430520"/>
            <a:ext cx="261000" cy="513360"/>
          </a:xfrm>
          <a:prstGeom prst="bentConnector4">
            <a:avLst>
              <a:gd name="adj1" fmla="val 93232"/>
              <a:gd name="adj2" fmla="val 97824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4234" name=""/>
          <p:cNvSpPr/>
          <p:nvPr/>
        </p:nvSpPr>
        <p:spPr>
          <a:xfrm>
            <a:off x="6105600" y="53830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6315120" y="49546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305400" y="4962600"/>
            <a:ext cx="0" cy="411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210360" y="5648400"/>
            <a:ext cx="24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5477040" y="4105440"/>
            <a:ext cx="1914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048520" y="4260960"/>
            <a:ext cx="552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819840" y="410544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6810480" y="5326200"/>
            <a:ext cx="0" cy="322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606276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7309800" y="45752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204160" y="4013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76440" y="5051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8287560" y="5191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8288280" y="3849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3626-4141-490D-9182-176EC36A45F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ffer example in Tan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233960" y="1028880"/>
            <a:ext cx="362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(a?byte &amp; b!byt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x0: var by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| forever 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?x0 ; b!x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179360" y="114768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V="1">
            <a:off x="2216160" y="1700280"/>
            <a:ext cx="419040" cy="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835200" y="171468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334880" y="1530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54" name=""/>
          <p:cNvGrpSpPr/>
          <p:nvPr/>
        </p:nvGrpSpPr>
        <p:grpSpPr>
          <a:xfrm>
            <a:off x="1900080" y="3600360"/>
            <a:ext cx="409680" cy="459720"/>
            <a:chOff x="1900080" y="3600360"/>
            <a:chExt cx="409680" cy="459720"/>
          </a:xfrm>
        </p:grpSpPr>
        <p:sp>
          <p:nvSpPr>
            <p:cNvPr id="4255" name=""/>
            <p:cNvSpPr/>
            <p:nvPr/>
          </p:nvSpPr>
          <p:spPr>
            <a:xfrm flipV="1">
              <a:off x="1900080" y="36003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970280" y="3600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1922400" y="5366520"/>
            <a:ext cx="409680" cy="410400"/>
            <a:chOff x="1922400" y="5366520"/>
            <a:chExt cx="409680" cy="410400"/>
          </a:xfrm>
        </p:grpSpPr>
        <p:sp>
          <p:nvSpPr>
            <p:cNvPr id="4258" name=""/>
            <p:cNvSpPr/>
            <p:nvPr/>
          </p:nvSpPr>
          <p:spPr>
            <a:xfrm flipV="1">
              <a:off x="192240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998720" y="536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60" name=""/>
          <p:cNvSpPr/>
          <p:nvPr/>
        </p:nvSpPr>
        <p:spPr>
          <a:xfrm>
            <a:off x="393840" y="5338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3595680" y="53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62" name=""/>
          <p:cNvGrpSpPr/>
          <p:nvPr/>
        </p:nvGrpSpPr>
        <p:grpSpPr>
          <a:xfrm>
            <a:off x="1139760" y="5367240"/>
            <a:ext cx="436320" cy="459720"/>
            <a:chOff x="1139760" y="5367240"/>
            <a:chExt cx="436320" cy="459720"/>
          </a:xfrm>
        </p:grpSpPr>
        <p:sp>
          <p:nvSpPr>
            <p:cNvPr id="4263" name=""/>
            <p:cNvSpPr/>
            <p:nvPr/>
          </p:nvSpPr>
          <p:spPr>
            <a:xfrm flipV="1">
              <a:off x="113976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209600" y="5367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65" name=""/>
          <p:cNvSpPr/>
          <p:nvPr/>
        </p:nvSpPr>
        <p:spPr>
          <a:xfrm flipV="1">
            <a:off x="1908000" y="4438080"/>
            <a:ext cx="409680" cy="4093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971360" y="4381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67" name=""/>
          <p:cNvGrpSpPr/>
          <p:nvPr/>
        </p:nvGrpSpPr>
        <p:grpSpPr>
          <a:xfrm>
            <a:off x="2727360" y="5376960"/>
            <a:ext cx="436320" cy="459720"/>
            <a:chOff x="2727360" y="5376960"/>
            <a:chExt cx="436320" cy="459720"/>
          </a:xfrm>
        </p:grpSpPr>
        <p:sp>
          <p:nvSpPr>
            <p:cNvPr id="4268" name=""/>
            <p:cNvSpPr/>
            <p:nvPr/>
          </p:nvSpPr>
          <p:spPr>
            <a:xfrm flipV="1">
              <a:off x="2727360" y="53769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797200" y="5376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70" name=""/>
          <p:cNvSpPr/>
          <p:nvPr/>
        </p:nvSpPr>
        <p:spPr>
          <a:xfrm>
            <a:off x="714240" y="558972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3160800" y="5582880"/>
            <a:ext cx="41904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444600" y="1468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646360" y="1504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106720" y="4006800"/>
            <a:ext cx="0" cy="3794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544760" y="5573880"/>
            <a:ext cx="303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411280" y="5568840"/>
            <a:ext cx="236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101680" y="3135240"/>
            <a:ext cx="0" cy="370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 flipH="1">
            <a:off x="1447560" y="4800600"/>
            <a:ext cx="561960" cy="5097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2236680" y="4805280"/>
            <a:ext cx="554040" cy="54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05740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2048040" y="351792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371600" y="52992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71360" y="363204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752560" y="5327640"/>
            <a:ext cx="10512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048040" y="43527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15336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2638440" y="552456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31338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2219400" y="47847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2324160" y="55278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1809720" y="55371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1895400" y="4794120"/>
            <a:ext cx="95400" cy="101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1038240" y="554688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17136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305640" y="3452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ss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297360" y="3833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t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3276720" y="1609560"/>
            <a:ext cx="428400" cy="381240"/>
          </a:xfrm>
          <a:prstGeom prst="rightArrow">
            <a:avLst>
              <a:gd name="adj1" fmla="val 50000"/>
              <a:gd name="adj2" fmla="val 2809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 rot="19200000">
            <a:off x="3323880" y="3165480"/>
            <a:ext cx="466560" cy="339840"/>
          </a:xfrm>
          <a:prstGeom prst="leftArrow">
            <a:avLst>
              <a:gd name="adj1" fmla="val 50000"/>
              <a:gd name="adj2" fmla="val 3432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4029120" y="4410000"/>
            <a:ext cx="428760" cy="381240"/>
          </a:xfrm>
          <a:prstGeom prst="rightArrow">
            <a:avLst>
              <a:gd name="adj1" fmla="val 50000"/>
              <a:gd name="adj2" fmla="val 28116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2550600" y="37782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circle mapped to a netli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1450800" y="593712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ta pa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6170760" y="441180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7225920" y="4729320"/>
            <a:ext cx="460440" cy="187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238880" y="5222520"/>
            <a:ext cx="126072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5826240" y="473544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H="1">
            <a:off x="5825880" y="523548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6193800" y="48211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 flipH="1">
            <a:off x="6461280" y="524844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 flipH="1">
            <a:off x="7988040" y="4716360"/>
            <a:ext cx="460440" cy="19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 flipH="1" flipV="1">
            <a:off x="7657920" y="4006440"/>
            <a:ext cx="12600" cy="7225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7988400" y="4006440"/>
            <a:ext cx="0" cy="7225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5994360" y="4375080"/>
            <a:ext cx="2247840" cy="1244520"/>
          </a:xfrm>
          <a:prstGeom prst="rect">
            <a:avLst/>
          </a:prstGeom>
          <a:noFill/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977760" y="5133960"/>
            <a:ext cx="2324160" cy="866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4406-F657-47AF-B52D-9109A0A712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185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ngram program is partitioned into data path an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path is implemented as dual or single rai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is mapped to composition of standard elements (“;” “||”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standard element is mapped to a circ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-optimization is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osing islands of control elements and re-synthesis with STG can give more aggressive optim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ilips made a few chips using Tangram, including a product: 8051 micro-controller in low-power pager Muna (25 wks battery life from one AAA batter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milar approach used in Balsa (Manchester Univ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91F2-0AB5-4F98-BC0E-A43325E983D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rst mode F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236360" y="2467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4898520" y="28098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+b+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6181560" y="31273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-/x+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5991120" y="39020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+/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4467240" y="38768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to synchronous FSMs with binary encoded I/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 in burs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 signals chan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ly limited to fundamental mode: next input burst cannot arrive before stabilization at the out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522D-3F6C-4A0E-ABDD-66EC27F92E9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tended Burst mo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ed don’t cares (b*): some concurrency is allowed for input transitions that do not influence an output bur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itional guards &lt;b+&gt; = “if b=1 then …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D2F7-04A8-472B-95D6-6686A33043D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 of XB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139680" y="12193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xt state and output functions free of functional and logic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quential feedbacks should not introduce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g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state of the BM spec to one layer of Karnaugh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tible layers are mer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compatible if merging does not introduce CSC violations or haza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encoded using race free en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EA4E-9AFF-477D-A891-ED49D7DB7C9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320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350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81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F2B1-E5F7-48A1-9137-8EBA5891959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XBM and ST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32120" y="15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1652400" y="2227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65000" y="29304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 flipH="1">
            <a:off x="1802880" y="1852560"/>
            <a:ext cx="241560" cy="4446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108160" y="1866960"/>
            <a:ext cx="241200" cy="431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1866960" y="2565360"/>
            <a:ext cx="0" cy="4572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1968480" y="396252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809720" y="1943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74640" y="3949560"/>
            <a:ext cx="254160" cy="4194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2261880" y="2239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114640" y="1930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349360" y="316224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1676520" y="346716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1253160" y="4792680"/>
            <a:ext cx="547920" cy="3682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2579760" y="540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13352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1995120" y="4297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247840" y="457200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363760" y="495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833200" y="5796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144080" y="5440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602000" y="542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1386000" y="594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H="1">
            <a:off x="1625400" y="3543480"/>
            <a:ext cx="787320" cy="12445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577960" y="3606840"/>
            <a:ext cx="0" cy="140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1447920" y="454644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308240" y="5218200"/>
            <a:ext cx="12672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1638360" y="5192640"/>
            <a:ext cx="11412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1346040" y="5751360"/>
            <a:ext cx="11448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>
            <a:off x="1587240" y="5764320"/>
            <a:ext cx="12708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2590920" y="5218200"/>
            <a:ext cx="126720" cy="277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819520" y="5700600"/>
            <a:ext cx="101520" cy="214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1892160" y="32385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2502000" y="2525760"/>
            <a:ext cx="0" cy="674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108160" y="3657600"/>
            <a:ext cx="1066680" cy="2158920"/>
          </a:xfrm>
          <a:custGeom>
            <a:avLst/>
            <a:gdLst/>
            <a:ahLst/>
            <a:rect l="l" t="t" r="r" b="b"/>
            <a:pathLst>
              <a:path w="672" h="1360">
                <a:moveTo>
                  <a:pt x="576" y="1360"/>
                </a:moveTo>
                <a:cubicBezTo>
                  <a:pt x="624" y="957"/>
                  <a:pt x="672" y="555"/>
                  <a:pt x="576" y="328"/>
                </a:cubicBezTo>
                <a:cubicBezTo>
                  <a:pt x="480" y="101"/>
                  <a:pt x="240" y="50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2793960" y="3479760"/>
            <a:ext cx="762120" cy="2311560"/>
          </a:xfrm>
          <a:custGeom>
            <a:avLst/>
            <a:gdLst/>
            <a:ahLst/>
            <a:rect l="l" t="t" r="r" b="b"/>
            <a:pathLst>
              <a:path w="480" h="1456">
                <a:moveTo>
                  <a:pt x="144" y="1456"/>
                </a:moveTo>
                <a:cubicBezTo>
                  <a:pt x="312" y="1053"/>
                  <a:pt x="480" y="651"/>
                  <a:pt x="456" y="408"/>
                </a:cubicBezTo>
                <a:cubicBezTo>
                  <a:pt x="432" y="165"/>
                  <a:pt x="216" y="8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730080" y="1314360"/>
            <a:ext cx="1263960" cy="5072040"/>
          </a:xfrm>
          <a:custGeom>
            <a:avLst/>
            <a:gdLst/>
            <a:ahLst/>
            <a:rect l="l" t="t" r="r" b="b"/>
            <a:pathLst>
              <a:path w="796" h="3195">
                <a:moveTo>
                  <a:pt x="436" y="3092"/>
                </a:moveTo>
                <a:cubicBezTo>
                  <a:pt x="294" y="3143"/>
                  <a:pt x="153" y="3195"/>
                  <a:pt x="100" y="2748"/>
                </a:cubicBezTo>
                <a:cubicBezTo>
                  <a:pt x="47" y="2301"/>
                  <a:pt x="0" y="824"/>
                  <a:pt x="116" y="412"/>
                </a:cubicBezTo>
                <a:cubicBezTo>
                  <a:pt x="232" y="0"/>
                  <a:pt x="514" y="138"/>
                  <a:pt x="796" y="27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3898800" y="3803760"/>
            <a:ext cx="596880" cy="577800"/>
          </a:xfrm>
          <a:prstGeom prst="leftArrow">
            <a:avLst>
              <a:gd name="adj1" fmla="val 50000"/>
              <a:gd name="adj2" fmla="val 2582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A327-2092-4A37-B9C2-99B5F9150C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392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00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418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426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460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826160" y="2006640"/>
            <a:ext cx="2616120" cy="330120"/>
          </a:xfrm>
          <a:prstGeom prst="rect">
            <a:avLst/>
          </a:prstGeom>
          <a:noFill/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9625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25909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436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A7B0-71B9-4F4D-BF44-F40D9F985DB2}" type="slidenum">
              <a:t>9</a:t>
            </a:fld>
          </a:p>
        </p:txBody>
      </p:sp>
    </p:spTree>
  </p:cSld>
  <p:transition advTm="6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0-02-20T09:30:11Z</cp:lastPrinted>
  <dcterms:modified xsi:type="dcterms:W3CDTF">2001-10-19T13:54:26Z</dcterms:modified>
  <cp:revision>104</cp:revision>
  <dc:subject/>
  <dc:title>Introduction to basic concepts on asynchronous circuit design</dc:title>
</cp:coreProperties>
</file>