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42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404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289A-2596-4B9E-982A-435A11D57C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6F82-8B78-4497-860A-A097ED992B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3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32B5-4162-4CB4-A506-78995A1F626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3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2842-3328-4982-B4D0-00AF1526F7A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4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E52A-AF1E-4699-9FD9-1A87D73578E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4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59B9-6170-470C-9C05-5B72F234AF8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5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E443-2D94-45AC-A7E4-4DC32024B8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6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2C42-C423-446D-A828-54C1219F2F7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6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3582-24D3-4EA7-ACC9-E8EED53062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7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0001-64FE-4525-AC86-8F6A1876D7C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7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6E71-2AF0-4CD7-B331-C52BCE3BFA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8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7E1C-6E62-42AE-8D1A-4E7E590989B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9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C4C4-4D01-4C38-A22F-C452BEAA1C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9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A8F4-AAAF-4D71-B2E3-3F4282B446C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0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AC7E-BE73-4161-AC8C-48698917AD6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0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F32C-4FD2-456C-8722-224130F02FB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1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A9CD-3406-491F-9F94-35DFB4A7A7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2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C51E-C8E5-4147-AFD0-D88137420C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2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7ECE-F6D8-42CD-9736-6BC926998A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3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8353-7B91-4D26-89AA-4CABDCE5BA0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3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D41D-C83F-4616-A27D-ED128703CA3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89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285C-524F-4EB1-B77D-1A53F94FFA7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4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EA7B-4FAD-4B7E-93BC-9B70691B7A0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5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B219-0270-462C-9BB3-E8D5526EFA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5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6CF0-F222-446C-BC1B-8143A9FB4C0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6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4398-B24B-4A22-A973-772C90EE71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6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3E75-3EFD-49ED-938B-87167EC981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7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B266-B960-49B0-AA0A-C396774DC3A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8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5003-8814-493A-B253-0DB48EE8E9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8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3EA8-D498-42E3-87B7-0D56D167F1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9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4B36-9679-40DA-BAC0-3B79C3F2BE4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9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EA8F-068A-4EDB-97FD-A503B3E4A2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0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4648-53B8-4B9D-B159-67C843B7DE3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10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F62C-A4BE-4A1A-B1E4-CF798D101B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11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0FA3-6821-42CE-A8D5-0FCE08642D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11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3951-3BD7-473F-8AB3-1481D4C186D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12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3174-CE60-466F-9CFD-6B1BE96A663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0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EC87-530A-44F8-8AB2-809BC0B1FD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1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A6C6-050B-440D-AF1B-E45674BFDFA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1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DCBE-4250-4F13-92F7-4430716FFEE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2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0A43E-E003-4C2D-AD37-8BC9732CD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A194-0313-4F63-AF15-F9AE580BF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92CB-495E-4648-9277-D37B12031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1A81-FC9E-4CC4-9FF5-950433FF7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B6F81-7DA6-4CD0-970E-A0975A70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68C97-F372-43F8-B3B4-82492ADB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AEB06-1613-40AA-B8A5-2FAEDA84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A93B3-3CDB-4690-BA83-B656C239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66213-DF67-4D26-92F9-66F4947A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0414B-766B-4C32-B89F-1A19C4D9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2499E-9D39-45EA-B415-66D8DF05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2A0C4-F846-4E1E-9E8D-14DDBBDD5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A8D03-15CA-4D9F-AE8C-984750D2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A13BD-7900-448E-A6D4-6203958F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19B46-9BB6-4C90-BADE-DEFCDA21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15328-4A5E-45C7-8755-E7E6776B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83537-C0F3-4009-B995-A91D7AED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4ADA-41E7-4771-8A4D-5063BD59F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677C-17B5-45A3-BE82-978EB8FEE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088E7-3F5F-41B2-8FEF-BE6E3508E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E6C8-F9F3-49FC-BBB7-5F8515D1D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3EC4A-E74C-4AD9-AFFF-B2F114459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7D87-C269-48C6-983E-E4E7D2396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A36E-DC5D-465F-AED5-DCFA19CFC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7918560" cy="1652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011240" y="6324480"/>
            <a:ext cx="693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SPDAC / VLSI 2002 - Tutorial on Logic Design of Asynchronous Circu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87960" y="6324480"/>
            <a:ext cx="56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9469-2CF9-46A8-9B92-DB6650A529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4880" y="6327720"/>
            <a:ext cx="7745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07980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DA26-D8AA-4342-93EA-1BA204BF34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ogic design of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synchronous circu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73392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t II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dvanced topics on synthe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288BE-72DA-4232-BC8F-F583EA6F84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4037040" y="2743200"/>
            <a:ext cx="2070000" cy="1373040"/>
            <a:chOff x="4037040" y="2743200"/>
            <a:chExt cx="2070000" cy="1373040"/>
          </a:xfrm>
        </p:grpSpPr>
        <p:grpSp>
          <p:nvGrpSpPr>
            <p:cNvPr id="483" name=""/>
            <p:cNvGrpSpPr/>
            <p:nvPr/>
          </p:nvGrpSpPr>
          <p:grpSpPr>
            <a:xfrm>
              <a:off x="4491000" y="2743200"/>
              <a:ext cx="1616040" cy="1373040"/>
              <a:chOff x="4491000" y="2743200"/>
              <a:chExt cx="1616040" cy="137304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4491000" y="2743200"/>
                <a:ext cx="1365120" cy="1373040"/>
                <a:chOff x="4491000" y="2743200"/>
                <a:chExt cx="1365120" cy="13730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497480" y="27496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491000" y="27432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5867280" y="34146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4037040" y="2971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37040" y="38862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037040" y="4572000"/>
            <a:ext cx="2070000" cy="1373040"/>
            <a:chOff x="4037040" y="4572000"/>
            <a:chExt cx="2070000" cy="1373040"/>
          </a:xfrm>
        </p:grpSpPr>
        <p:grpSp>
          <p:nvGrpSpPr>
            <p:cNvPr id="491" name=""/>
            <p:cNvGrpSpPr/>
            <p:nvPr/>
          </p:nvGrpSpPr>
          <p:grpSpPr>
            <a:xfrm>
              <a:off x="4491000" y="4572000"/>
              <a:ext cx="1616040" cy="1373040"/>
              <a:chOff x="4491000" y="4572000"/>
              <a:chExt cx="1616040" cy="137304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4491000" y="4572000"/>
                <a:ext cx="1365120" cy="1373040"/>
                <a:chOff x="4491000" y="4572000"/>
                <a:chExt cx="1365120" cy="13730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497480" y="45784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491000" y="45720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5867280" y="52434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4037040" y="48006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7040" y="57150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3488760" y="2637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31960" y="30942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488760" y="5456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07920" y="4923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050480" y="3551400"/>
            <a:ext cx="2466000" cy="1570320"/>
            <a:chOff x="1050480" y="3551400"/>
            <a:chExt cx="2466000" cy="1570320"/>
          </a:xfrm>
        </p:grpSpPr>
        <p:sp>
          <p:nvSpPr>
            <p:cNvPr id="503" name=""/>
            <p:cNvSpPr/>
            <p:nvPr/>
          </p:nvSpPr>
          <p:spPr>
            <a:xfrm>
              <a:off x="1050480" y="35514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50480" y="45417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1446120" y="3672000"/>
              <a:ext cx="2070360" cy="1373040"/>
              <a:chOff x="1446120" y="3672000"/>
              <a:chExt cx="2070360" cy="13730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1900080" y="3672000"/>
                <a:ext cx="1616400" cy="1373040"/>
                <a:chOff x="1900080" y="3672000"/>
                <a:chExt cx="1616400" cy="1373040"/>
              </a:xfrm>
            </p:grpSpPr>
            <p:grpSp>
              <p:nvGrpSpPr>
                <p:cNvPr id="507" name=""/>
                <p:cNvGrpSpPr/>
                <p:nvPr/>
              </p:nvGrpSpPr>
              <p:grpSpPr>
                <a:xfrm>
                  <a:off x="1900080" y="3672000"/>
                  <a:ext cx="1365480" cy="1373040"/>
                  <a:chOff x="1900080" y="3672000"/>
                  <a:chExt cx="1365480" cy="137304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1906560" y="3678120"/>
                    <a:ext cx="1359000" cy="13590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1900080" y="3672000"/>
                    <a:ext cx="687600" cy="13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865">
                        <a:moveTo>
                          <a:pt x="432" y="0"/>
                        </a:moveTo>
                        <a:lnTo>
                          <a:pt x="0" y="0"/>
                        </a:lnTo>
                        <a:lnTo>
                          <a:pt x="0" y="864"/>
                        </a:lnTo>
                        <a:lnTo>
                          <a:pt x="432" y="864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0" name=""/>
                <p:cNvSpPr/>
                <p:nvPr/>
              </p:nvSpPr>
              <p:spPr>
                <a:xfrm>
                  <a:off x="3276720" y="4343400"/>
                  <a:ext cx="2397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1" name=""/>
              <p:cNvSpPr/>
              <p:nvPr/>
            </p:nvSpPr>
            <p:spPr>
              <a:xfrm>
                <a:off x="1446120" y="39006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446120" y="48150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3" name=""/>
          <p:cNvSpPr/>
          <p:nvPr/>
        </p:nvSpPr>
        <p:spPr>
          <a:xfrm>
            <a:off x="4033800" y="3889440"/>
            <a:ext cx="0" cy="9111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94160" y="4343400"/>
            <a:ext cx="5396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505320" y="2971800"/>
            <a:ext cx="2744640" cy="1220760"/>
            <a:chOff x="3505320" y="2971800"/>
            <a:chExt cx="2744640" cy="1220760"/>
          </a:xfrm>
        </p:grpSpPr>
        <p:sp>
          <p:nvSpPr>
            <p:cNvPr id="516" name=""/>
            <p:cNvSpPr/>
            <p:nvPr/>
          </p:nvSpPr>
          <p:spPr>
            <a:xfrm>
              <a:off x="3505320" y="388620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43600" y="297180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505320" y="3886200"/>
            <a:ext cx="2744640" cy="1220760"/>
            <a:chOff x="3505320" y="3886200"/>
            <a:chExt cx="2744640" cy="1220760"/>
          </a:xfrm>
        </p:grpSpPr>
        <p:sp>
          <p:nvSpPr>
            <p:cNvPr id="519" name=""/>
            <p:cNvSpPr/>
            <p:nvPr/>
          </p:nvSpPr>
          <p:spPr>
            <a:xfrm>
              <a:off x="3505320" y="388620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43600" y="480060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521" name=""/>
          <p:cNvGraphicFramePr/>
          <p:nvPr/>
        </p:nvGraphicFramePr>
        <p:xfrm>
          <a:off x="7639200" y="3548160"/>
          <a:ext cx="88092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9200" y="3548160"/>
                    <a:ext cx="8809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524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555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558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2826360" y="158760"/>
            <a:ext cx="560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w about 2-input gates 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3192-F631-4431-8906-CDD44C3C8A7D}" type="slidenum">
              <a:t>10</a:t>
            </a:fld>
          </a:p>
        </p:txBody>
      </p:sp>
    </p:spTree>
  </p:cSld>
  <p:transition advTm="39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rategy for  logic decompos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58400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ach decomposition defines a new internal signal 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thod: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sert new internal signals such th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resynthesis, some large gates are decompos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new specification is hazard-free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nerate candidates for decomposition using standard logic factorization techniqu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gebraic factor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olean factorization (boolean relation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767E-CC7D-45E6-AAE3-FE0733214E9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6096240" y="1170000"/>
            <a:ext cx="2681640" cy="4493160"/>
            <a:chOff x="6096240" y="1170000"/>
            <a:chExt cx="2681640" cy="4493160"/>
          </a:xfrm>
        </p:grpSpPr>
        <p:sp>
          <p:nvSpPr>
            <p:cNvPr id="569" name=""/>
            <p:cNvSpPr/>
            <p:nvPr/>
          </p:nvSpPr>
          <p:spPr>
            <a:xfrm>
              <a:off x="6702840" y="117000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y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07480" y="284616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z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76160" y="2846160"/>
              <a:ext cx="61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w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155640" y="398916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y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70040" y="398916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x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51000" y="513216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z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156880" y="398916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x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061120" y="2846160"/>
              <a:ext cx="71676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w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480000" y="1736640"/>
              <a:ext cx="301680" cy="12160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937200" y="1736640"/>
              <a:ext cx="378000" cy="12160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400800" y="3336840"/>
              <a:ext cx="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15200" y="3336840"/>
              <a:ext cx="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80000" y="4479840"/>
              <a:ext cx="30168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7013520" y="4479840"/>
              <a:ext cx="30168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381880" y="3335040"/>
              <a:ext cx="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96240" y="3714840"/>
              <a:ext cx="228528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00560" y="1509480"/>
              <a:ext cx="228600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5" y="0"/>
                  </a:moveTo>
                  <a:arcTo wR="10800" hR="10800" stAng="-5404774" swAng="54047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5" y="0"/>
                  </a:moveTo>
                  <a:arcTo wR="10800" hR="10800" stAng="-5404774" swAng="5404774"/>
                </a:path>
              </a:pathLst>
            </a:custGeom>
            <a:noFill/>
            <a:ln cap="rnd" w="1260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07480" y="1892160"/>
              <a:ext cx="21564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200" y="1184400"/>
            <a:ext cx="5167080" cy="4155480"/>
            <a:chOff x="61200" y="1184400"/>
            <a:chExt cx="5167080" cy="4155480"/>
          </a:xfrm>
        </p:grpSpPr>
        <p:sp>
          <p:nvSpPr>
            <p:cNvPr id="588" name=""/>
            <p:cNvSpPr/>
            <p:nvPr/>
          </p:nvSpPr>
          <p:spPr>
            <a:xfrm>
              <a:off x="1623240" y="1451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366440" y="1451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61120" y="22514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200" y="31276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499480" y="22514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23240" y="31276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08960" y="31276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61120" y="40420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99480" y="40420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23240" y="49183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366440" y="49183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66440" y="31276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441160" y="1657440"/>
              <a:ext cx="190188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450800" y="1812960"/>
              <a:ext cx="45432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688680" y="26514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2288880" y="26514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3051000" y="356580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1374480" y="35658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2136600" y="448020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9040" y="35658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27120" y="44802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289240" y="35658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50800" y="265140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975040" y="26514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212920" y="1812960"/>
              <a:ext cx="45396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17840" y="5162760"/>
              <a:ext cx="182556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4876920" y="3564000"/>
              <a:ext cx="0" cy="13687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4876920" y="1811160"/>
              <a:ext cx="0" cy="13683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83840" y="118440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0640" y="248004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03160" y="40802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83840" y="2556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327560" y="2251440"/>
              <a:ext cx="582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22440" y="171792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07520" y="476604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78720" y="164160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60680" y="255600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6280" y="339444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93120" y="255600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031560" y="33944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78720" y="339444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17160" y="4232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421720" y="339444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83640" y="4232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-38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B3248-D3E7-4498-8C9F-2D21FD8BE9EF}" type="slidenum">
              <a:t>12</a:t>
            </a:fld>
          </a:p>
        </p:txBody>
      </p:sp>
    </p:spTree>
  </p:cSld>
  <p:transition advTm="15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4114800" y="1352520"/>
            <a:ext cx="1371600" cy="4785840"/>
            <a:chOff x="4114800" y="1352520"/>
            <a:chExt cx="1371600" cy="4785840"/>
          </a:xfrm>
        </p:grpSpPr>
        <p:sp>
          <p:nvSpPr>
            <p:cNvPr id="634" name=""/>
            <p:cNvSpPr/>
            <p:nvPr/>
          </p:nvSpPr>
          <p:spPr>
            <a:xfrm>
              <a:off x="4114800" y="1352520"/>
              <a:ext cx="1371600" cy="42670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03520" y="5680080"/>
              <a:ext cx="837360" cy="45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z=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6320" y="1504800"/>
            <a:ext cx="3887640" cy="4633560"/>
            <a:chOff x="76320" y="1504800"/>
            <a:chExt cx="3887640" cy="4633560"/>
          </a:xfrm>
        </p:grpSpPr>
        <p:sp>
          <p:nvSpPr>
            <p:cNvPr id="637" name=""/>
            <p:cNvSpPr/>
            <p:nvPr/>
          </p:nvSpPr>
          <p:spPr>
            <a:xfrm>
              <a:off x="76320" y="1504800"/>
              <a:ext cx="3887640" cy="3888000"/>
            </a:xfrm>
            <a:custGeom>
              <a:avLst/>
              <a:gdLst/>
              <a:ahLst/>
              <a:rect l="l" t="t" r="r" b="b"/>
              <a:pathLst>
                <a:path w="2449" h="2449">
                  <a:moveTo>
                    <a:pt x="1008" y="0"/>
                  </a:moveTo>
                  <a:lnTo>
                    <a:pt x="0" y="1008"/>
                  </a:lnTo>
                  <a:lnTo>
                    <a:pt x="0" y="1488"/>
                  </a:lnTo>
                  <a:lnTo>
                    <a:pt x="960" y="2448"/>
                  </a:lnTo>
                  <a:lnTo>
                    <a:pt x="1488" y="2448"/>
                  </a:lnTo>
                  <a:lnTo>
                    <a:pt x="2448" y="1488"/>
                  </a:lnTo>
                  <a:lnTo>
                    <a:pt x="2448" y="1056"/>
                  </a:lnTo>
                  <a:lnTo>
                    <a:pt x="1392" y="0"/>
                  </a:lnTo>
                  <a:lnTo>
                    <a:pt x="1008" y="0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60320" y="5680080"/>
              <a:ext cx="837360" cy="45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z=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4257720" y="4971960"/>
            <a:ext cx="108576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0480" y="1260360"/>
            <a:ext cx="5167080" cy="4192200"/>
            <a:chOff x="60480" y="1260360"/>
            <a:chExt cx="5167080" cy="4192200"/>
          </a:xfrm>
        </p:grpSpPr>
        <p:sp>
          <p:nvSpPr>
            <p:cNvPr id="641" name=""/>
            <p:cNvSpPr/>
            <p:nvPr/>
          </p:nvSpPr>
          <p:spPr>
            <a:xfrm>
              <a:off x="1622520" y="152712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65720" y="152712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60400" y="232740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8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98760" y="232740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2252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0824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60400" y="41180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498760" y="41180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22520" y="49942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65720" y="49942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6572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2441160" y="1733400"/>
              <a:ext cx="190188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1450800" y="1888920"/>
              <a:ext cx="45432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68868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28888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3051000" y="36417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37448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2136600" y="45561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904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27120" y="45561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8924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50800" y="27273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7504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12920" y="1888920"/>
              <a:ext cx="45396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517840" y="5238720"/>
              <a:ext cx="182556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876920" y="3639960"/>
              <a:ext cx="0" cy="13687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4876920" y="1887120"/>
              <a:ext cx="0" cy="13683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83840" y="12603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0640" y="2556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03160" y="41562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83840" y="26319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327560" y="2327400"/>
              <a:ext cx="582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22440" y="179388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07520" y="4842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78720" y="17175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60680" y="263196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6280" y="347040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93120" y="2631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031560" y="34704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278720" y="34704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17160" y="43084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21720" y="34704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583640" y="43084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57240" y="1514520"/>
            <a:ext cx="2611440" cy="2211480"/>
          </a:xfrm>
          <a:custGeom>
            <a:avLst/>
            <a:gdLst/>
            <a:ahLst/>
            <a:rect l="l" t="t" r="r" b="b"/>
            <a:pathLst>
              <a:path w="1645" h="1393">
                <a:moveTo>
                  <a:pt x="1026" y="0"/>
                </a:moveTo>
                <a:lnTo>
                  <a:pt x="0" y="1026"/>
                </a:lnTo>
                <a:lnTo>
                  <a:pt x="0" y="1392"/>
                </a:lnTo>
                <a:lnTo>
                  <a:pt x="504" y="1392"/>
                </a:lnTo>
                <a:lnTo>
                  <a:pt x="1644" y="252"/>
                </a:lnTo>
                <a:lnTo>
                  <a:pt x="1398" y="6"/>
                </a:lnTo>
                <a:lnTo>
                  <a:pt x="1026" y="6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23240" y="15271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66440" y="15271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61120" y="23274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120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99480" y="23274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2324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0896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61120" y="4118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99480" y="4118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23240" y="4994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366440" y="4994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6644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2441160" y="1733400"/>
            <a:ext cx="1901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1450800" y="188928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8868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228888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3051000" y="36417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37448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2136600" y="45561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904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7120" y="45561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924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450800" y="27273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97504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12920" y="188928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17840" y="5238720"/>
            <a:ext cx="1825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876920" y="3639960"/>
            <a:ext cx="0" cy="1368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876920" y="188712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83840" y="12603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0640" y="25560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403160" y="41562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83840" y="263196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27560" y="2327400"/>
            <a:ext cx="58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22440" y="179388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07520" y="48420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78720" y="1717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60680" y="263196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46280" y="347040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193120" y="26319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31560" y="34704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78720" y="34704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117160" y="4308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421720" y="34704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583640" y="4308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5899320" y="1174680"/>
            <a:ext cx="2910240" cy="4953960"/>
            <a:chOff x="5899320" y="1174680"/>
            <a:chExt cx="2910240" cy="4953960"/>
          </a:xfrm>
        </p:grpSpPr>
        <p:grpSp>
          <p:nvGrpSpPr>
            <p:cNvPr id="731" name=""/>
            <p:cNvGrpSpPr/>
            <p:nvPr/>
          </p:nvGrpSpPr>
          <p:grpSpPr>
            <a:xfrm>
              <a:off x="6603840" y="1976040"/>
              <a:ext cx="1825920" cy="2057040"/>
              <a:chOff x="6603840" y="1976040"/>
              <a:chExt cx="1825920" cy="205704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6603840" y="1976040"/>
                <a:ext cx="1825920" cy="2057040"/>
                <a:chOff x="6603840" y="1976040"/>
                <a:chExt cx="1825920" cy="2057040"/>
              </a:xfrm>
            </p:grpSpPr>
            <p:grpSp>
              <p:nvGrpSpPr>
                <p:cNvPr id="733" name=""/>
                <p:cNvGrpSpPr/>
                <p:nvPr/>
              </p:nvGrpSpPr>
              <p:grpSpPr>
                <a:xfrm>
                  <a:off x="6710400" y="1976040"/>
                  <a:ext cx="1605240" cy="2057040"/>
                  <a:chOff x="6710400" y="1976040"/>
                  <a:chExt cx="1605240" cy="205704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 rot="10800000">
                    <a:off x="6717240" y="1976040"/>
                    <a:ext cx="15984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28" y="5433"/>
                        </a:moveTo>
                        <a:arcTo wR="10800" hR="10800" stAng="-9012068" swAng="36052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28" y="5433"/>
                        </a:moveTo>
                        <a:arcTo wR="10800" hR="10800" stAng="-9012068" swAng="3605248"/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6710400" y="2661840"/>
                    <a:ext cx="16002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9" y="0"/>
                        </a:moveTo>
                        <a:arcTo wR="10800" hR="10800" stAng="-5406821" swAng="36257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9" y="0"/>
                        </a:moveTo>
                        <a:arcTo wR="10800" hR="10800" stAng="-5406821" swAng="3625793"/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7407360" y="2663640"/>
                    <a:ext cx="216000" cy="673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7400880" y="2657160"/>
                    <a:ext cx="115920" cy="687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33">
                        <a:moveTo>
                          <a:pt x="72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72" y="43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6603840" y="2314440"/>
                  <a:ext cx="905040" cy="687240"/>
                  <a:chOff x="6603840" y="2314440"/>
                  <a:chExt cx="905040" cy="687240"/>
                </a:xfrm>
              </p:grpSpPr>
              <p:grpSp>
                <p:nvGrpSpPr>
                  <p:cNvPr id="739" name=""/>
                  <p:cNvGrpSpPr/>
                  <p:nvPr/>
                </p:nvGrpSpPr>
                <p:grpSpPr>
                  <a:xfrm>
                    <a:off x="6829560" y="2314440"/>
                    <a:ext cx="679320" cy="687240"/>
                    <a:chOff x="6829560" y="2314440"/>
                    <a:chExt cx="679320" cy="687240"/>
                  </a:xfrm>
                </p:grpSpPr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6835680" y="232056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6829560" y="231444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42" name=""/>
                  <p:cNvSpPr/>
                  <p:nvPr/>
                </p:nvSpPr>
                <p:spPr>
                  <a:xfrm>
                    <a:off x="6603840" y="2428560"/>
                    <a:ext cx="22572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6603840" y="2885760"/>
                    <a:ext cx="22572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4" name=""/>
                <p:cNvSpPr/>
                <p:nvPr/>
              </p:nvSpPr>
              <p:spPr>
                <a:xfrm>
                  <a:off x="8204040" y="300024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289640" y="3228840"/>
                  <a:ext cx="3114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6" name=""/>
              <p:cNvSpPr/>
              <p:nvPr/>
            </p:nvSpPr>
            <p:spPr>
              <a:xfrm>
                <a:off x="8207280" y="294948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7413120" y="1380960"/>
              <a:ext cx="1041840" cy="687240"/>
              <a:chOff x="7413120" y="1380960"/>
              <a:chExt cx="1041840" cy="687240"/>
            </a:xfrm>
          </p:grpSpPr>
          <p:grpSp>
            <p:nvGrpSpPr>
              <p:cNvPr id="748" name=""/>
              <p:cNvGrpSpPr/>
              <p:nvPr/>
            </p:nvGrpSpPr>
            <p:grpSpPr>
              <a:xfrm>
                <a:off x="7421400" y="1380960"/>
                <a:ext cx="1033560" cy="687240"/>
                <a:chOff x="7421400" y="1380960"/>
                <a:chExt cx="1033560" cy="687240"/>
              </a:xfrm>
            </p:grpSpPr>
            <p:grpSp>
              <p:nvGrpSpPr>
                <p:cNvPr id="749" name=""/>
                <p:cNvGrpSpPr/>
                <p:nvPr/>
              </p:nvGrpSpPr>
              <p:grpSpPr>
                <a:xfrm>
                  <a:off x="7647120" y="1380960"/>
                  <a:ext cx="807840" cy="687240"/>
                  <a:chOff x="7647120" y="1380960"/>
                  <a:chExt cx="807840" cy="687240"/>
                </a:xfrm>
              </p:grpSpPr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7647120" y="1380960"/>
                    <a:ext cx="679320" cy="687240"/>
                    <a:chOff x="7647120" y="1380960"/>
                    <a:chExt cx="679320" cy="68724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7653240" y="138708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7647120" y="138096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3" name=""/>
                  <p:cNvSpPr/>
                  <p:nvPr/>
                </p:nvSpPr>
                <p:spPr>
                  <a:xfrm>
                    <a:off x="8335800" y="171756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4" name=""/>
                <p:cNvSpPr/>
                <p:nvPr/>
              </p:nvSpPr>
              <p:spPr>
                <a:xfrm>
                  <a:off x="7421400" y="14950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21400" y="19522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6" name=""/>
              <p:cNvSpPr/>
              <p:nvPr/>
            </p:nvSpPr>
            <p:spPr>
              <a:xfrm flipH="1">
                <a:off x="7413120" y="172368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540560" y="1444320"/>
                <a:ext cx="10152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278400" y="5121000"/>
              <a:ext cx="2189520" cy="919080"/>
              <a:chOff x="6278400" y="5121000"/>
              <a:chExt cx="2189520" cy="91908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6278400" y="5352840"/>
                <a:ext cx="1033560" cy="687240"/>
                <a:chOff x="6278400" y="5352840"/>
                <a:chExt cx="1033560" cy="687240"/>
              </a:xfrm>
            </p:grpSpPr>
            <p:grpSp>
              <p:nvGrpSpPr>
                <p:cNvPr id="760" name=""/>
                <p:cNvGrpSpPr/>
                <p:nvPr/>
              </p:nvGrpSpPr>
              <p:grpSpPr>
                <a:xfrm>
                  <a:off x="6504120" y="5352840"/>
                  <a:ext cx="807840" cy="687240"/>
                  <a:chOff x="6504120" y="5352840"/>
                  <a:chExt cx="807840" cy="687240"/>
                </a:xfrm>
              </p:grpSpPr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6504120" y="5352840"/>
                    <a:ext cx="679320" cy="687240"/>
                    <a:chOff x="6504120" y="5352840"/>
                    <a:chExt cx="679320" cy="687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>
                      <a:off x="6510240" y="5359320"/>
                      <a:ext cx="673200" cy="672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>
                      <a:off x="6504120" y="535284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4" name=""/>
                  <p:cNvSpPr/>
                  <p:nvPr/>
                </p:nvSpPr>
                <p:spPr>
                  <a:xfrm>
                    <a:off x="7192800" y="568944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5" name=""/>
                <p:cNvSpPr/>
                <p:nvPr/>
              </p:nvSpPr>
              <p:spPr>
                <a:xfrm>
                  <a:off x="6278400" y="54669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278400" y="59241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7327800" y="5121000"/>
                <a:ext cx="1140120" cy="673200"/>
                <a:chOff x="7327800" y="5121000"/>
                <a:chExt cx="1140120" cy="67320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7327800" y="52290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7327800" y="56862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7559640" y="512100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7637040" y="518616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8242200" y="545760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"/>
            <p:cNvGrpSpPr/>
            <p:nvPr/>
          </p:nvGrpSpPr>
          <p:grpSpPr>
            <a:xfrm>
              <a:off x="6261120" y="3666960"/>
              <a:ext cx="2206800" cy="907920"/>
              <a:chOff x="6261120" y="3666960"/>
              <a:chExt cx="2206800" cy="907920"/>
            </a:xfrm>
          </p:grpSpPr>
          <p:grpSp>
            <p:nvGrpSpPr>
              <p:cNvPr id="774" name=""/>
              <p:cNvGrpSpPr/>
              <p:nvPr/>
            </p:nvGrpSpPr>
            <p:grpSpPr>
              <a:xfrm>
                <a:off x="7327800" y="3901680"/>
                <a:ext cx="1140120" cy="673200"/>
                <a:chOff x="7327800" y="3901680"/>
                <a:chExt cx="1140120" cy="6732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7327800" y="400968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7327800" y="446688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7559640" y="390168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637040" y="396684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242200" y="42382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6261120" y="3666960"/>
                <a:ext cx="1139760" cy="687240"/>
                <a:chOff x="6261120" y="3666960"/>
                <a:chExt cx="1139760" cy="687240"/>
              </a:xfrm>
            </p:grpSpPr>
            <p:grpSp>
              <p:nvGrpSpPr>
                <p:cNvPr id="781" name=""/>
                <p:cNvGrpSpPr/>
                <p:nvPr/>
              </p:nvGrpSpPr>
              <p:grpSpPr>
                <a:xfrm>
                  <a:off x="6486480" y="3666960"/>
                  <a:ext cx="914400" cy="687240"/>
                  <a:chOff x="6486480" y="3666960"/>
                  <a:chExt cx="914400" cy="687240"/>
                </a:xfrm>
              </p:grpSpPr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6486480" y="3666960"/>
                    <a:ext cx="679680" cy="687240"/>
                    <a:chOff x="6486480" y="3666960"/>
                    <a:chExt cx="679680" cy="68724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>
                      <a:off x="6492960" y="367308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>
                      <a:off x="6486480" y="366696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5" name=""/>
                  <p:cNvSpPr/>
                  <p:nvPr/>
                </p:nvSpPr>
                <p:spPr>
                  <a:xfrm>
                    <a:off x="7175520" y="4009680"/>
                    <a:ext cx="2253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7178760" y="3958920"/>
                    <a:ext cx="101520" cy="1015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7" name=""/>
                <p:cNvSpPr/>
                <p:nvPr/>
              </p:nvSpPr>
              <p:spPr>
                <a:xfrm>
                  <a:off x="6261120" y="378108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261120" y="423828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9" name=""/>
              <p:cNvSpPr/>
              <p:nvPr/>
            </p:nvSpPr>
            <p:spPr>
              <a:xfrm>
                <a:off x="7502400" y="441612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5974920" y="5213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74920" y="5670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472240" y="2774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472240" y="39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404200" y="14792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472240" y="5213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41960" y="1174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1960" y="1479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41960" y="1784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279840" y="2165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279840" y="2622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89680" y="300348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74920" y="39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99320" y="35366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965640" y="4222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041960" y="4984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D09BD-6AE6-4CBF-B544-4A91495E757D}" type="slidenum">
              <a:t>13</a:t>
            </a:fld>
          </a:p>
        </p:txBody>
      </p:sp>
    </p:spTree>
  </p:cSld>
  <p:transition spd="slow" advTm="136000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2302200" y="195588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835520" y="5068800"/>
            <a:ext cx="50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05160" y="267984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09920" y="347652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36680" y="2332080"/>
            <a:ext cx="5284800" cy="3840120"/>
          </a:xfrm>
          <a:custGeom>
            <a:avLst/>
            <a:gdLst/>
            <a:ahLst/>
            <a:rect l="l" t="t" r="r" b="b"/>
            <a:pathLst>
              <a:path w="3329" h="2419">
                <a:moveTo>
                  <a:pt x="1686" y="0"/>
                </a:moveTo>
                <a:lnTo>
                  <a:pt x="2644" y="958"/>
                </a:lnTo>
                <a:lnTo>
                  <a:pt x="2644" y="2007"/>
                </a:lnTo>
                <a:lnTo>
                  <a:pt x="3328" y="2007"/>
                </a:lnTo>
                <a:lnTo>
                  <a:pt x="3328" y="2418"/>
                </a:lnTo>
                <a:lnTo>
                  <a:pt x="1094" y="2418"/>
                </a:lnTo>
                <a:lnTo>
                  <a:pt x="0" y="1323"/>
                </a:lnTo>
                <a:lnTo>
                  <a:pt x="1322" y="0"/>
                </a:lnTo>
                <a:lnTo>
                  <a:pt x="168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4520" y="1681200"/>
            <a:ext cx="5719680" cy="3405240"/>
          </a:xfrm>
          <a:custGeom>
            <a:avLst/>
            <a:gdLst/>
            <a:ahLst/>
            <a:rect l="l" t="t" r="r" b="b"/>
            <a:pathLst>
              <a:path w="3603" h="2145">
                <a:moveTo>
                  <a:pt x="273" y="1368"/>
                </a:moveTo>
                <a:lnTo>
                  <a:pt x="1413" y="228"/>
                </a:lnTo>
                <a:lnTo>
                  <a:pt x="2963" y="228"/>
                </a:lnTo>
                <a:lnTo>
                  <a:pt x="2963" y="2144"/>
                </a:lnTo>
                <a:lnTo>
                  <a:pt x="3602" y="2144"/>
                </a:lnTo>
                <a:lnTo>
                  <a:pt x="3602" y="0"/>
                </a:lnTo>
                <a:lnTo>
                  <a:pt x="866" y="0"/>
                </a:lnTo>
                <a:lnTo>
                  <a:pt x="0" y="866"/>
                </a:lnTo>
                <a:lnTo>
                  <a:pt x="0" y="1368"/>
                </a:lnTo>
                <a:lnTo>
                  <a:pt x="273" y="1368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55400" y="115560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6120" y="535932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37200" y="17161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866120" y="17161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813240" y="2476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920" y="3308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866120" y="56610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866120" y="30909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2317320" y="1911240"/>
            <a:ext cx="2530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1376280" y="205884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652320" y="2855880"/>
            <a:ext cx="4320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114720" y="5892840"/>
            <a:ext cx="173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354640" y="3506760"/>
            <a:ext cx="0" cy="936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5354640" y="2128320"/>
            <a:ext cx="0" cy="938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6520" y="26938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904640" y="370692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759560" y="2403360"/>
            <a:ext cx="55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674160" y="55166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13560" y="18972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092760" y="3200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26116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67236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537200" y="4900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92760" y="4900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61160" y="57326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2895120" y="357984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61908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202680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2750760" y="5316480"/>
            <a:ext cx="4302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376280" y="444816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71880" y="5316480"/>
            <a:ext cx="4302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89548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100240" y="357984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548160" y="357984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824200" y="278280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745440" y="34894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021480" y="269388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99320" y="348948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429200" y="428616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805840" y="348948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01080" y="428616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937160" y="42861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732760" y="50817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021480" y="42861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26240" y="50817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261160" y="24400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537200" y="3200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7652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2100240" y="278280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1376280" y="357984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40480" y="34164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937520" y="26208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00240" y="205884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376280" y="2855880"/>
            <a:ext cx="4320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79600" y="3651120"/>
            <a:ext cx="4302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66120" y="44672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5354640" y="488160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6003720" y="1170000"/>
            <a:ext cx="3139200" cy="4953960"/>
            <a:chOff x="6003720" y="1170000"/>
            <a:chExt cx="3139200" cy="4953960"/>
          </a:xfrm>
        </p:grpSpPr>
        <p:grpSp>
          <p:nvGrpSpPr>
            <p:cNvPr id="871" name=""/>
            <p:cNvGrpSpPr/>
            <p:nvPr/>
          </p:nvGrpSpPr>
          <p:grpSpPr>
            <a:xfrm>
              <a:off x="7754760" y="1376280"/>
              <a:ext cx="1033560" cy="687240"/>
              <a:chOff x="7754760" y="1376280"/>
              <a:chExt cx="1033560" cy="687240"/>
            </a:xfrm>
          </p:grpSpPr>
          <p:grpSp>
            <p:nvGrpSpPr>
              <p:cNvPr id="872" name=""/>
              <p:cNvGrpSpPr/>
              <p:nvPr/>
            </p:nvGrpSpPr>
            <p:grpSpPr>
              <a:xfrm>
                <a:off x="7980480" y="1376280"/>
                <a:ext cx="807840" cy="687240"/>
                <a:chOff x="7980480" y="1376280"/>
                <a:chExt cx="807840" cy="687240"/>
              </a:xfrm>
            </p:grpSpPr>
            <p:grpSp>
              <p:nvGrpSpPr>
                <p:cNvPr id="873" name=""/>
                <p:cNvGrpSpPr/>
                <p:nvPr/>
              </p:nvGrpSpPr>
              <p:grpSpPr>
                <a:xfrm>
                  <a:off x="7980480" y="1376280"/>
                  <a:ext cx="679320" cy="687240"/>
                  <a:chOff x="7980480" y="1376280"/>
                  <a:chExt cx="679320" cy="68724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7986600" y="138240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7980480" y="137628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6" name=""/>
                <p:cNvSpPr/>
                <p:nvPr/>
              </p:nvSpPr>
              <p:spPr>
                <a:xfrm>
                  <a:off x="8669160" y="1712880"/>
                  <a:ext cx="1191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7754760" y="149040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754760" y="194760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7873920" y="1439640"/>
              <a:ext cx="101520" cy="101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6611760" y="5116320"/>
              <a:ext cx="2189520" cy="919080"/>
              <a:chOff x="6611760" y="5116320"/>
              <a:chExt cx="2189520" cy="919080"/>
            </a:xfrm>
          </p:grpSpPr>
          <p:grpSp>
            <p:nvGrpSpPr>
              <p:cNvPr id="881" name=""/>
              <p:cNvGrpSpPr/>
              <p:nvPr/>
            </p:nvGrpSpPr>
            <p:grpSpPr>
              <a:xfrm>
                <a:off x="6611760" y="5348160"/>
                <a:ext cx="1033560" cy="687240"/>
                <a:chOff x="6611760" y="5348160"/>
                <a:chExt cx="1033560" cy="687240"/>
              </a:xfrm>
            </p:grpSpPr>
            <p:grpSp>
              <p:nvGrpSpPr>
                <p:cNvPr id="882" name=""/>
                <p:cNvGrpSpPr/>
                <p:nvPr/>
              </p:nvGrpSpPr>
              <p:grpSpPr>
                <a:xfrm>
                  <a:off x="6837480" y="5348160"/>
                  <a:ext cx="807840" cy="687240"/>
                  <a:chOff x="6837480" y="5348160"/>
                  <a:chExt cx="807840" cy="687240"/>
                </a:xfrm>
              </p:grpSpPr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6837480" y="5348160"/>
                    <a:ext cx="679320" cy="687240"/>
                    <a:chOff x="6837480" y="5348160"/>
                    <a:chExt cx="679320" cy="687240"/>
                  </a:xfrm>
                </p:grpSpPr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6843600" y="5354640"/>
                      <a:ext cx="673200" cy="672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6837480" y="534816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6" name=""/>
                  <p:cNvSpPr/>
                  <p:nvPr/>
                </p:nvSpPr>
                <p:spPr>
                  <a:xfrm>
                    <a:off x="7526160" y="568476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7" name=""/>
                <p:cNvSpPr/>
                <p:nvPr/>
              </p:nvSpPr>
              <p:spPr>
                <a:xfrm>
                  <a:off x="6611760" y="54622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611760" y="59194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7661160" y="5116320"/>
                <a:ext cx="1140120" cy="673200"/>
                <a:chOff x="7661160" y="5116320"/>
                <a:chExt cx="1140120" cy="67320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7661160" y="522432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661160" y="568152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893000" y="511632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7970400" y="518148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8575560" y="545292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5" name=""/>
            <p:cNvGrpSpPr/>
            <p:nvPr/>
          </p:nvGrpSpPr>
          <p:grpSpPr>
            <a:xfrm>
              <a:off x="6594480" y="3662280"/>
              <a:ext cx="2206800" cy="907920"/>
              <a:chOff x="6594480" y="3662280"/>
              <a:chExt cx="2206800" cy="907920"/>
            </a:xfrm>
          </p:grpSpPr>
          <p:grpSp>
            <p:nvGrpSpPr>
              <p:cNvPr id="896" name=""/>
              <p:cNvGrpSpPr/>
              <p:nvPr/>
            </p:nvGrpSpPr>
            <p:grpSpPr>
              <a:xfrm>
                <a:off x="7661160" y="3897000"/>
                <a:ext cx="1140120" cy="673200"/>
                <a:chOff x="7661160" y="3897000"/>
                <a:chExt cx="1140120" cy="67320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7661160" y="40050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7661160" y="44622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893000" y="389700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970400" y="396216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8575560" y="423360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6594480" y="3662280"/>
                <a:ext cx="1139760" cy="687240"/>
                <a:chOff x="6594480" y="3662280"/>
                <a:chExt cx="1139760" cy="687240"/>
              </a:xfrm>
            </p:grpSpPr>
            <p:grpSp>
              <p:nvGrpSpPr>
                <p:cNvPr id="903" name=""/>
                <p:cNvGrpSpPr/>
                <p:nvPr/>
              </p:nvGrpSpPr>
              <p:grpSpPr>
                <a:xfrm>
                  <a:off x="6819840" y="3662280"/>
                  <a:ext cx="914400" cy="687240"/>
                  <a:chOff x="6819840" y="3662280"/>
                  <a:chExt cx="914400" cy="687240"/>
                </a:xfrm>
              </p:grpSpPr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6819840" y="3662280"/>
                    <a:ext cx="679680" cy="687240"/>
                    <a:chOff x="6819840" y="3662280"/>
                    <a:chExt cx="679680" cy="687240"/>
                  </a:xfrm>
                </p:grpSpPr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6826320" y="366840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6819840" y="366228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7" name=""/>
                  <p:cNvSpPr/>
                  <p:nvPr/>
                </p:nvSpPr>
                <p:spPr>
                  <a:xfrm>
                    <a:off x="7508880" y="4005000"/>
                    <a:ext cx="2253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7512120" y="3954240"/>
                    <a:ext cx="101520" cy="1015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9" name=""/>
                <p:cNvSpPr/>
                <p:nvPr/>
              </p:nvSpPr>
              <p:spPr>
                <a:xfrm>
                  <a:off x="6594480" y="377640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594480" y="423360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1" name=""/>
              <p:cNvSpPr/>
              <p:nvPr/>
            </p:nvSpPr>
            <p:spPr>
              <a:xfrm>
                <a:off x="7835760" y="441144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6308280" y="5208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08280" y="5665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805600" y="27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805600" y="398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737560" y="14745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805600" y="5208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75320" y="1170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003720" y="1779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003720" y="223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23040" y="29988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08280" y="398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232680" y="35319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99000" y="42177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7062840" y="1990440"/>
              <a:ext cx="1719360" cy="2057040"/>
              <a:chOff x="7062840" y="1990440"/>
              <a:chExt cx="1719360" cy="20570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7062840" y="1990440"/>
                <a:ext cx="1605240" cy="2057040"/>
                <a:chOff x="7062840" y="1990440"/>
                <a:chExt cx="1605240" cy="2057040"/>
              </a:xfrm>
            </p:grpSpPr>
            <p:sp>
              <p:nvSpPr>
                <p:cNvPr id="927" name=""/>
                <p:cNvSpPr/>
                <p:nvPr/>
              </p:nvSpPr>
              <p:spPr>
                <a:xfrm rot="10800000">
                  <a:off x="7069680" y="1990440"/>
                  <a:ext cx="159840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8" y="5433"/>
                      </a:moveTo>
                      <a:arcTo wR="10800" hR="10800" stAng="-9012068" swAng="360524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8" y="5433"/>
                      </a:moveTo>
                      <a:arcTo wR="10800" hR="10800" stAng="-9012068" swAng="3605248"/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062840" y="2676240"/>
                  <a:ext cx="160020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9" y="0"/>
                      </a:moveTo>
                      <a:arcTo wR="10800" hR="10800" stAng="-5406821" swAng="36257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9" y="0"/>
                      </a:moveTo>
                      <a:arcTo wR="10800" hR="10800" stAng="-5406821" swAng="3625793"/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759800" y="2678040"/>
                  <a:ext cx="215640" cy="673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753320" y="2671560"/>
                  <a:ext cx="115920" cy="687600"/>
                </a:xfrm>
                <a:custGeom>
                  <a:avLst/>
                  <a:gdLst/>
                  <a:ahLst/>
                  <a:rect l="l" t="t" r="r" b="b"/>
                  <a:pathLst>
                    <a:path w="73" h="433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72" y="432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1" name=""/>
              <p:cNvSpPr/>
              <p:nvPr/>
            </p:nvSpPr>
            <p:spPr>
              <a:xfrm>
                <a:off x="8556480" y="301464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553600" y="2963880"/>
                <a:ext cx="10152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758000" y="2786040"/>
                <a:ext cx="1904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756560" y="3243240"/>
                <a:ext cx="1969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6383160" y="1909800"/>
              <a:ext cx="1033560" cy="687240"/>
              <a:chOff x="6383160" y="1909800"/>
              <a:chExt cx="1033560" cy="68724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6608880" y="1909800"/>
                <a:ext cx="807840" cy="687240"/>
                <a:chOff x="6608880" y="1909800"/>
                <a:chExt cx="807840" cy="687240"/>
              </a:xfrm>
            </p:grpSpPr>
            <p:grpSp>
              <p:nvGrpSpPr>
                <p:cNvPr id="937" name=""/>
                <p:cNvGrpSpPr/>
                <p:nvPr/>
              </p:nvGrpSpPr>
              <p:grpSpPr>
                <a:xfrm>
                  <a:off x="6608880" y="1909800"/>
                  <a:ext cx="679320" cy="687240"/>
                  <a:chOff x="6608880" y="1909800"/>
                  <a:chExt cx="679320" cy="687240"/>
                </a:xfrm>
              </p:grpSpPr>
              <p:sp>
                <p:nvSpPr>
                  <p:cNvPr id="938" name=""/>
                  <p:cNvSpPr/>
                  <p:nvPr/>
                </p:nvSpPr>
                <p:spPr>
                  <a:xfrm>
                    <a:off x="6615000" y="191592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6608880" y="190980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0" name=""/>
                <p:cNvSpPr/>
                <p:nvPr/>
              </p:nvSpPr>
              <p:spPr>
                <a:xfrm>
                  <a:off x="7297560" y="2246040"/>
                  <a:ext cx="1191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1" name=""/>
              <p:cNvSpPr/>
              <p:nvPr/>
            </p:nvSpPr>
            <p:spPr>
              <a:xfrm>
                <a:off x="6383160" y="202392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383160" y="248112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7394400" y="2243160"/>
              <a:ext cx="3589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753320" y="1950840"/>
              <a:ext cx="0" cy="835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375320" y="4979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7298640" y="164628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412440" y="14079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FBB94-CC11-41E1-8786-ECF805A972BC}" type="slidenum">
              <a:t>14</a:t>
            </a:fld>
          </a:p>
        </p:txBody>
      </p:sp>
    </p:spTree>
  </p:cSld>
  <p:transition advTm="31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7069680" y="130320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y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574320" y="297972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442640" y="2979720"/>
            <a:ext cx="61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522480" y="412272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y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436880" y="412272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x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017480" y="526572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523720" y="412272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x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427600" y="2979720"/>
            <a:ext cx="71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6846840" y="1870200"/>
            <a:ext cx="301680" cy="12160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767640" y="347040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682040" y="347040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46840" y="4613400"/>
            <a:ext cx="30168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7380360" y="4613400"/>
            <a:ext cx="30168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8748720" y="346860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467760" y="1643040"/>
            <a:ext cx="22852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774" swAng="54047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774" swAng="5404774"/>
              </a:path>
            </a:pathLst>
          </a:custGeom>
          <a:noFill/>
          <a:ln cap="rnd" w="1260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373960" y="202572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7602480" y="5487480"/>
            <a:ext cx="406440" cy="34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8612280" y="4611240"/>
            <a:ext cx="149040" cy="606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18440" y="1870200"/>
            <a:ext cx="111240" cy="4348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547040" y="2708280"/>
            <a:ext cx="149040" cy="4255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213680" y="209700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47360" y="5030640"/>
            <a:ext cx="762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7602480" y="5487480"/>
            <a:ext cx="406440" cy="34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8612280" y="4611240"/>
            <a:ext cx="149040" cy="606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18440" y="1870200"/>
            <a:ext cx="111240" cy="4348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547040" y="2708280"/>
            <a:ext cx="149040" cy="4255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302200" y="195588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835520" y="5068800"/>
            <a:ext cx="50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505160" y="267984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09920" y="347652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36680" y="2332080"/>
            <a:ext cx="5284800" cy="3840120"/>
          </a:xfrm>
          <a:custGeom>
            <a:avLst/>
            <a:gdLst/>
            <a:ahLst/>
            <a:rect l="l" t="t" r="r" b="b"/>
            <a:pathLst>
              <a:path w="3329" h="2419">
                <a:moveTo>
                  <a:pt x="1686" y="0"/>
                </a:moveTo>
                <a:lnTo>
                  <a:pt x="2644" y="958"/>
                </a:lnTo>
                <a:lnTo>
                  <a:pt x="2644" y="2007"/>
                </a:lnTo>
                <a:lnTo>
                  <a:pt x="3328" y="2007"/>
                </a:lnTo>
                <a:lnTo>
                  <a:pt x="3328" y="2418"/>
                </a:lnTo>
                <a:lnTo>
                  <a:pt x="1094" y="2418"/>
                </a:lnTo>
                <a:lnTo>
                  <a:pt x="0" y="1323"/>
                </a:lnTo>
                <a:lnTo>
                  <a:pt x="1322" y="0"/>
                </a:lnTo>
                <a:lnTo>
                  <a:pt x="168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4520" y="1681200"/>
            <a:ext cx="5719680" cy="3405240"/>
          </a:xfrm>
          <a:custGeom>
            <a:avLst/>
            <a:gdLst/>
            <a:ahLst/>
            <a:rect l="l" t="t" r="r" b="b"/>
            <a:pathLst>
              <a:path w="3603" h="2145">
                <a:moveTo>
                  <a:pt x="273" y="1368"/>
                </a:moveTo>
                <a:lnTo>
                  <a:pt x="1413" y="228"/>
                </a:lnTo>
                <a:lnTo>
                  <a:pt x="2963" y="228"/>
                </a:lnTo>
                <a:lnTo>
                  <a:pt x="2963" y="2144"/>
                </a:lnTo>
                <a:lnTo>
                  <a:pt x="3602" y="2144"/>
                </a:lnTo>
                <a:lnTo>
                  <a:pt x="3602" y="0"/>
                </a:lnTo>
                <a:lnTo>
                  <a:pt x="866" y="0"/>
                </a:lnTo>
                <a:lnTo>
                  <a:pt x="0" y="866"/>
                </a:lnTo>
                <a:lnTo>
                  <a:pt x="0" y="1368"/>
                </a:lnTo>
                <a:lnTo>
                  <a:pt x="273" y="1368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255400" y="115560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6120" y="535932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537200" y="17161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866120" y="17161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13240" y="2476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2920" y="3308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866120" y="56610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866120" y="30909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2317320" y="1911240"/>
            <a:ext cx="2530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376280" y="205884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652320" y="2855880"/>
            <a:ext cx="4320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114720" y="5892840"/>
            <a:ext cx="173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5354640" y="3506760"/>
            <a:ext cx="0" cy="936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5354640" y="2128320"/>
            <a:ext cx="0" cy="938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16520" y="26938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904640" y="370692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59560" y="2403360"/>
            <a:ext cx="55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674160" y="55166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13560" y="18972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92760" y="3200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26116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67236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537200" y="4900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092760" y="4900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261160" y="57326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2895120" y="357984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361908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202680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2750760" y="5316480"/>
            <a:ext cx="4302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376280" y="444816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171880" y="5316480"/>
            <a:ext cx="4302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9548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100240" y="357984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548160" y="357984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824200" y="278280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45440" y="34894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21480" y="269388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299320" y="348948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429200" y="428616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805840" y="348948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601080" y="428616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37160" y="42861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732760" y="50817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021480" y="42861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226240" y="50817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261160" y="24400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37200" y="3200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7652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2100240" y="278280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1376280" y="357984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140480" y="34164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937520" y="26208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100240" y="205884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376280" y="2855880"/>
            <a:ext cx="4320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79600" y="3651120"/>
            <a:ext cx="4302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866120" y="44672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354640" y="488160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412440" y="14079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A279F-AB02-4674-A270-0A857C88E97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6232680" y="923760"/>
            <a:ext cx="2910240" cy="4953960"/>
            <a:chOff x="6232680" y="923760"/>
            <a:chExt cx="2910240" cy="4953960"/>
          </a:xfrm>
        </p:grpSpPr>
        <p:grpSp>
          <p:nvGrpSpPr>
            <p:cNvPr id="1041" name=""/>
            <p:cNvGrpSpPr/>
            <p:nvPr/>
          </p:nvGrpSpPr>
          <p:grpSpPr>
            <a:xfrm>
              <a:off x="6937200" y="1725120"/>
              <a:ext cx="1825920" cy="2057040"/>
              <a:chOff x="6937200" y="1725120"/>
              <a:chExt cx="1825920" cy="205704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6937200" y="1725120"/>
                <a:ext cx="1825920" cy="2057040"/>
                <a:chOff x="6937200" y="1725120"/>
                <a:chExt cx="1825920" cy="2057040"/>
              </a:xfrm>
            </p:grpSpPr>
            <p:grpSp>
              <p:nvGrpSpPr>
                <p:cNvPr id="1043" name=""/>
                <p:cNvGrpSpPr/>
                <p:nvPr/>
              </p:nvGrpSpPr>
              <p:grpSpPr>
                <a:xfrm>
                  <a:off x="7043760" y="1725120"/>
                  <a:ext cx="1605240" cy="2057040"/>
                  <a:chOff x="7043760" y="1725120"/>
                  <a:chExt cx="1605240" cy="2057040"/>
                </a:xfrm>
              </p:grpSpPr>
              <p:sp>
                <p:nvSpPr>
                  <p:cNvPr id="1044" name=""/>
                  <p:cNvSpPr/>
                  <p:nvPr/>
                </p:nvSpPr>
                <p:spPr>
                  <a:xfrm rot="10800000">
                    <a:off x="7050600" y="1725120"/>
                    <a:ext cx="15984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28" y="5433"/>
                        </a:moveTo>
                        <a:arcTo wR="10800" hR="10800" stAng="-9012068" swAng="36052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28" y="5433"/>
                        </a:moveTo>
                        <a:arcTo wR="10800" hR="10800" stAng="-9012068" swAng="3605248"/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7043760" y="2410920"/>
                    <a:ext cx="16002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9" y="0"/>
                        </a:moveTo>
                        <a:arcTo wR="10800" hR="10800" stAng="-5406821" swAng="36257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9" y="0"/>
                        </a:moveTo>
                        <a:arcTo wR="10800" hR="10800" stAng="-5406821" swAng="3625793"/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7740720" y="2412720"/>
                    <a:ext cx="216000" cy="673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7734240" y="2406240"/>
                    <a:ext cx="115920" cy="687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33">
                        <a:moveTo>
                          <a:pt x="72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72" y="43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6937200" y="2063520"/>
                  <a:ext cx="905040" cy="687240"/>
                  <a:chOff x="6937200" y="2063520"/>
                  <a:chExt cx="905040" cy="687240"/>
                </a:xfrm>
              </p:grpSpPr>
              <p:grpSp>
                <p:nvGrpSpPr>
                  <p:cNvPr id="1049" name=""/>
                  <p:cNvGrpSpPr/>
                  <p:nvPr/>
                </p:nvGrpSpPr>
                <p:grpSpPr>
                  <a:xfrm>
                    <a:off x="7162920" y="2063520"/>
                    <a:ext cx="679320" cy="687240"/>
                    <a:chOff x="7162920" y="2063520"/>
                    <a:chExt cx="679320" cy="687240"/>
                  </a:xfrm>
                </p:grpSpPr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7169040" y="206964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7162920" y="206352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2" name=""/>
                  <p:cNvSpPr/>
                  <p:nvPr/>
                </p:nvSpPr>
                <p:spPr>
                  <a:xfrm>
                    <a:off x="6937200" y="2177640"/>
                    <a:ext cx="22572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6937200" y="2634840"/>
                    <a:ext cx="22572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4" name=""/>
                <p:cNvSpPr/>
                <p:nvPr/>
              </p:nvSpPr>
              <p:spPr>
                <a:xfrm>
                  <a:off x="8537400" y="274932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623000" y="2977920"/>
                  <a:ext cx="3114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6" name=""/>
              <p:cNvSpPr/>
              <p:nvPr/>
            </p:nvSpPr>
            <p:spPr>
              <a:xfrm>
                <a:off x="8540640" y="269856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7746480" y="1130040"/>
              <a:ext cx="1041840" cy="687240"/>
              <a:chOff x="7746480" y="1130040"/>
              <a:chExt cx="1041840" cy="68724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7754760" y="1130040"/>
                <a:ext cx="1033560" cy="687240"/>
                <a:chOff x="7754760" y="1130040"/>
                <a:chExt cx="1033560" cy="68724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7980480" y="1130040"/>
                  <a:ext cx="807840" cy="687240"/>
                  <a:chOff x="7980480" y="1130040"/>
                  <a:chExt cx="807840" cy="687240"/>
                </a:xfrm>
              </p:grpSpPr>
              <p:grpSp>
                <p:nvGrpSpPr>
                  <p:cNvPr id="1060" name=""/>
                  <p:cNvGrpSpPr/>
                  <p:nvPr/>
                </p:nvGrpSpPr>
                <p:grpSpPr>
                  <a:xfrm>
                    <a:off x="7980480" y="1130040"/>
                    <a:ext cx="679320" cy="687240"/>
                    <a:chOff x="7980480" y="1130040"/>
                    <a:chExt cx="679320" cy="687240"/>
                  </a:xfrm>
                </p:grpSpPr>
                <p:sp>
                  <p:nvSpPr>
                    <p:cNvPr id="1061" name=""/>
                    <p:cNvSpPr/>
                    <p:nvPr/>
                  </p:nvSpPr>
                  <p:spPr>
                    <a:xfrm>
                      <a:off x="7986600" y="113616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7980480" y="113004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3" name=""/>
                  <p:cNvSpPr/>
                  <p:nvPr/>
                </p:nvSpPr>
                <p:spPr>
                  <a:xfrm>
                    <a:off x="8669160" y="146664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4" name=""/>
                <p:cNvSpPr/>
                <p:nvPr/>
              </p:nvSpPr>
              <p:spPr>
                <a:xfrm>
                  <a:off x="7754760" y="12441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754760" y="17013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"/>
              <p:cNvSpPr/>
              <p:nvPr/>
            </p:nvSpPr>
            <p:spPr>
              <a:xfrm flipH="1">
                <a:off x="7746480" y="147276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873920" y="1193400"/>
                <a:ext cx="10152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6611760" y="4870080"/>
              <a:ext cx="2189520" cy="919080"/>
              <a:chOff x="6611760" y="4870080"/>
              <a:chExt cx="2189520" cy="919080"/>
            </a:xfrm>
          </p:grpSpPr>
          <p:grpSp>
            <p:nvGrpSpPr>
              <p:cNvPr id="1069" name=""/>
              <p:cNvGrpSpPr/>
              <p:nvPr/>
            </p:nvGrpSpPr>
            <p:grpSpPr>
              <a:xfrm>
                <a:off x="6611760" y="5101920"/>
                <a:ext cx="1033560" cy="687240"/>
                <a:chOff x="6611760" y="5101920"/>
                <a:chExt cx="1033560" cy="687240"/>
              </a:xfrm>
            </p:grpSpPr>
            <p:grpSp>
              <p:nvGrpSpPr>
                <p:cNvPr id="1070" name=""/>
                <p:cNvGrpSpPr/>
                <p:nvPr/>
              </p:nvGrpSpPr>
              <p:grpSpPr>
                <a:xfrm>
                  <a:off x="6837480" y="5101920"/>
                  <a:ext cx="807840" cy="687240"/>
                  <a:chOff x="6837480" y="5101920"/>
                  <a:chExt cx="807840" cy="687240"/>
                </a:xfrm>
              </p:grpSpPr>
              <p:grpSp>
                <p:nvGrpSpPr>
                  <p:cNvPr id="1071" name=""/>
                  <p:cNvGrpSpPr/>
                  <p:nvPr/>
                </p:nvGrpSpPr>
                <p:grpSpPr>
                  <a:xfrm>
                    <a:off x="6837480" y="5101920"/>
                    <a:ext cx="679320" cy="687240"/>
                    <a:chOff x="6837480" y="5101920"/>
                    <a:chExt cx="679320" cy="687240"/>
                  </a:xfrm>
                </p:grpSpPr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6843600" y="5108400"/>
                      <a:ext cx="673200" cy="672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>
                      <a:off x="6837480" y="510192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4" name=""/>
                  <p:cNvSpPr/>
                  <p:nvPr/>
                </p:nvSpPr>
                <p:spPr>
                  <a:xfrm>
                    <a:off x="7526160" y="543852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5" name=""/>
                <p:cNvSpPr/>
                <p:nvPr/>
              </p:nvSpPr>
              <p:spPr>
                <a:xfrm>
                  <a:off x="6611760" y="521604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6611760" y="567324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7661160" y="4870080"/>
                <a:ext cx="1140120" cy="673200"/>
                <a:chOff x="7661160" y="4870080"/>
                <a:chExt cx="1140120" cy="6732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7661160" y="497808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7661160" y="543528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7893000" y="487008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7970400" y="493524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8575560" y="52066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3" name=""/>
            <p:cNvGrpSpPr/>
            <p:nvPr/>
          </p:nvGrpSpPr>
          <p:grpSpPr>
            <a:xfrm>
              <a:off x="6594480" y="3416040"/>
              <a:ext cx="2206800" cy="907920"/>
              <a:chOff x="6594480" y="3416040"/>
              <a:chExt cx="2206800" cy="907920"/>
            </a:xfrm>
          </p:grpSpPr>
          <p:grpSp>
            <p:nvGrpSpPr>
              <p:cNvPr id="1084" name=""/>
              <p:cNvGrpSpPr/>
              <p:nvPr/>
            </p:nvGrpSpPr>
            <p:grpSpPr>
              <a:xfrm>
                <a:off x="7661160" y="3650760"/>
                <a:ext cx="1140120" cy="673200"/>
                <a:chOff x="7661160" y="3650760"/>
                <a:chExt cx="1140120" cy="67320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7661160" y="375876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661160" y="421596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893000" y="365076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970400" y="371592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8575560" y="39873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6594480" y="3416040"/>
                <a:ext cx="1139760" cy="687240"/>
                <a:chOff x="6594480" y="3416040"/>
                <a:chExt cx="1139760" cy="687240"/>
              </a:xfrm>
            </p:grpSpPr>
            <p:grpSp>
              <p:nvGrpSpPr>
                <p:cNvPr id="1091" name=""/>
                <p:cNvGrpSpPr/>
                <p:nvPr/>
              </p:nvGrpSpPr>
              <p:grpSpPr>
                <a:xfrm>
                  <a:off x="6819840" y="3416040"/>
                  <a:ext cx="914400" cy="687240"/>
                  <a:chOff x="6819840" y="3416040"/>
                  <a:chExt cx="914400" cy="687240"/>
                </a:xfrm>
              </p:grpSpPr>
              <p:grpSp>
                <p:nvGrpSpPr>
                  <p:cNvPr id="1092" name=""/>
                  <p:cNvGrpSpPr/>
                  <p:nvPr/>
                </p:nvGrpSpPr>
                <p:grpSpPr>
                  <a:xfrm>
                    <a:off x="6819840" y="3416040"/>
                    <a:ext cx="679680" cy="687240"/>
                    <a:chOff x="6819840" y="3416040"/>
                    <a:chExt cx="679680" cy="687240"/>
                  </a:xfrm>
                </p:grpSpPr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6826320" y="342216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6819840" y="341604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95" name=""/>
                  <p:cNvSpPr/>
                  <p:nvPr/>
                </p:nvSpPr>
                <p:spPr>
                  <a:xfrm>
                    <a:off x="7508880" y="3758760"/>
                    <a:ext cx="2253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7512120" y="3708000"/>
                    <a:ext cx="101520" cy="1015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7" name=""/>
                <p:cNvSpPr/>
                <p:nvPr/>
              </p:nvSpPr>
              <p:spPr>
                <a:xfrm>
                  <a:off x="6594480" y="353016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6594480" y="398736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7835760" y="416520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00" name=""/>
            <p:cNvSpPr/>
            <p:nvPr/>
          </p:nvSpPr>
          <p:spPr>
            <a:xfrm>
              <a:off x="6308280" y="4962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308280" y="5419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805600" y="2523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805600" y="37429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737560" y="12283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805600" y="4962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375320" y="9237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75320" y="1228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75320" y="1533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613200" y="19141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613200" y="2371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223040" y="27525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308280" y="37429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232680" y="3285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299000" y="3971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375320" y="4733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4114800" y="1352520"/>
            <a:ext cx="1371600" cy="426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403520" y="5680080"/>
            <a:ext cx="837360" cy="458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6320" y="1504800"/>
            <a:ext cx="3887640" cy="3888000"/>
          </a:xfrm>
          <a:custGeom>
            <a:avLst/>
            <a:gdLst/>
            <a:ahLst/>
            <a:rect l="l" t="t" r="r" b="b"/>
            <a:pathLst>
              <a:path w="2449" h="2449">
                <a:moveTo>
                  <a:pt x="1008" y="0"/>
                </a:moveTo>
                <a:lnTo>
                  <a:pt x="0" y="1008"/>
                </a:lnTo>
                <a:lnTo>
                  <a:pt x="0" y="1488"/>
                </a:lnTo>
                <a:lnTo>
                  <a:pt x="960" y="2448"/>
                </a:lnTo>
                <a:lnTo>
                  <a:pt x="1488" y="2448"/>
                </a:lnTo>
                <a:lnTo>
                  <a:pt x="2448" y="1488"/>
                </a:lnTo>
                <a:lnTo>
                  <a:pt x="2448" y="1056"/>
                </a:lnTo>
                <a:lnTo>
                  <a:pt x="1392" y="0"/>
                </a:lnTo>
                <a:lnTo>
                  <a:pt x="1008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660320" y="5680080"/>
            <a:ext cx="837360" cy="45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57720" y="4971960"/>
            <a:ext cx="108576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60480" y="1260360"/>
            <a:ext cx="5167080" cy="4192200"/>
            <a:chOff x="60480" y="1260360"/>
            <a:chExt cx="5167080" cy="4192200"/>
          </a:xfrm>
        </p:grpSpPr>
        <p:sp>
          <p:nvSpPr>
            <p:cNvPr id="1122" name=""/>
            <p:cNvSpPr/>
            <p:nvPr/>
          </p:nvSpPr>
          <p:spPr>
            <a:xfrm>
              <a:off x="1622520" y="152712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365720" y="152712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60400" y="232740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048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498760" y="232740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62252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10824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60400" y="41180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98760" y="41180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622520" y="49942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365720" y="49942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36572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2441160" y="1733400"/>
              <a:ext cx="190188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1450800" y="1888920"/>
              <a:ext cx="45432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68868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228888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051000" y="36417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137448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2136600" y="45561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904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27120" y="45561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28924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450800" y="27273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97504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212920" y="1888920"/>
              <a:ext cx="45396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17840" y="5238720"/>
              <a:ext cx="182556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4876920" y="3639960"/>
              <a:ext cx="0" cy="13687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876920" y="1887120"/>
              <a:ext cx="0" cy="13683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183840" y="12603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40640" y="2556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403160" y="41562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183840" y="26319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327560" y="2327400"/>
              <a:ext cx="582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422440" y="179388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107520" y="4842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278720" y="17175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60680" y="263196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46280" y="347040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93120" y="2631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031560" y="34704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278720" y="34704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117160" y="43084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421720" y="34704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583640" y="43084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4366440" y="15271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861120" y="23274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120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499480" y="23274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62324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10896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61120" y="4118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499480" y="4118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623240" y="4994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366440" y="4994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36644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2441160" y="1733400"/>
            <a:ext cx="1901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1450800" y="188928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68868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228888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3051000" y="36417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137448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136600" y="45561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8904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527120" y="45561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28924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450800" y="27273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97504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212920" y="188928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517840" y="5238720"/>
            <a:ext cx="1825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876920" y="3639960"/>
            <a:ext cx="0" cy="1368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876920" y="188712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183840" y="12603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40640" y="25560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03160" y="41562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183840" y="263196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327560" y="2327400"/>
            <a:ext cx="58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422440" y="179388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107520" y="48420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278720" y="1717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660680" y="263196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46280" y="347040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193120" y="26319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031560" y="34704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278720" y="34704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117160" y="4308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421720" y="34704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583640" y="4308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1447920" y="1469880"/>
            <a:ext cx="1144440" cy="458280"/>
            <a:chOff x="1447920" y="1469880"/>
            <a:chExt cx="1144440" cy="458280"/>
          </a:xfrm>
        </p:grpSpPr>
        <p:sp>
          <p:nvSpPr>
            <p:cNvPr id="1210" name=""/>
            <p:cNvSpPr/>
            <p:nvPr/>
          </p:nvSpPr>
          <p:spPr>
            <a:xfrm>
              <a:off x="1447920" y="1558800"/>
              <a:ext cx="1144440" cy="316080"/>
            </a:xfrm>
            <a:custGeom>
              <a:avLst/>
              <a:gdLst/>
              <a:ahLst/>
              <a:rect l="l" t="t" r="r" b="b"/>
              <a:pathLst>
                <a:path w="721" h="199">
                  <a:moveTo>
                    <a:pt x="198" y="0"/>
                  </a:moveTo>
                  <a:lnTo>
                    <a:pt x="0" y="198"/>
                  </a:lnTo>
                  <a:lnTo>
                    <a:pt x="720" y="198"/>
                  </a:lnTo>
                  <a:lnTo>
                    <a:pt x="522" y="0"/>
                  </a:lnTo>
                  <a:lnTo>
                    <a:pt x="198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566000" y="14698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017CD-2841-4530-ACBD-8939AE3C97A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2301840" y="1133640"/>
            <a:ext cx="3490920" cy="3403440"/>
          </a:xfrm>
          <a:custGeom>
            <a:avLst/>
            <a:gdLst/>
            <a:ahLst/>
            <a:rect l="l" t="t" r="r" b="b"/>
            <a:pathLst>
              <a:path w="2199" h="2144">
                <a:moveTo>
                  <a:pt x="0" y="222"/>
                </a:moveTo>
                <a:lnTo>
                  <a:pt x="9" y="222"/>
                </a:lnTo>
                <a:lnTo>
                  <a:pt x="1560" y="228"/>
                </a:lnTo>
                <a:lnTo>
                  <a:pt x="1560" y="2144"/>
                </a:lnTo>
                <a:lnTo>
                  <a:pt x="2199" y="2144"/>
                </a:lnTo>
                <a:lnTo>
                  <a:pt x="2199" y="0"/>
                </a:lnTo>
                <a:lnTo>
                  <a:pt x="9" y="1"/>
                </a:lnTo>
                <a:lnTo>
                  <a:pt x="9" y="107"/>
                </a:lnTo>
                <a:lnTo>
                  <a:pt x="28" y="232"/>
                </a:lnTo>
                <a:lnTo>
                  <a:pt x="19" y="222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818080" y="143496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835520" y="4521240"/>
            <a:ext cx="50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36680" y="1784520"/>
            <a:ext cx="5284800" cy="3840120"/>
          </a:xfrm>
          <a:custGeom>
            <a:avLst/>
            <a:gdLst/>
            <a:ahLst/>
            <a:rect l="l" t="t" r="r" b="b"/>
            <a:pathLst>
              <a:path w="3329" h="2419">
                <a:moveTo>
                  <a:pt x="1686" y="0"/>
                </a:moveTo>
                <a:lnTo>
                  <a:pt x="2644" y="958"/>
                </a:lnTo>
                <a:lnTo>
                  <a:pt x="2644" y="2007"/>
                </a:lnTo>
                <a:lnTo>
                  <a:pt x="3328" y="2007"/>
                </a:lnTo>
                <a:lnTo>
                  <a:pt x="3328" y="2418"/>
                </a:lnTo>
                <a:lnTo>
                  <a:pt x="1094" y="2418"/>
                </a:lnTo>
                <a:lnTo>
                  <a:pt x="0" y="1323"/>
                </a:lnTo>
                <a:lnTo>
                  <a:pt x="1322" y="0"/>
                </a:lnTo>
                <a:lnTo>
                  <a:pt x="168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607760" y="110340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36120" y="481176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335680" y="11383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810680" y="11685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810680" y="5113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810680" y="25430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3281400" y="1363680"/>
            <a:ext cx="1511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059280" y="5345280"/>
            <a:ext cx="173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5299200" y="2958840"/>
            <a:ext cx="0" cy="93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299200" y="1581120"/>
            <a:ext cx="0" cy="938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848840" y="31590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704120" y="1855800"/>
            <a:ext cx="55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18360" y="496872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037320" y="26528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20536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61656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481400" y="43527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037320" y="43527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05360" y="51847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2839680" y="303228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356364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197136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2695320" y="476892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320840" y="390060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116080" y="476892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84004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044800" y="303228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492360" y="303228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68760" y="223524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690000" y="29415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966040" y="214632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243520" y="294156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373760" y="373860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50400" y="294156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545640" y="37386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881720" y="37386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76960" y="45338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966040" y="37386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170800" y="45338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205360" y="18921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481400" y="26528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2108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2044440" y="223524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1320480" y="303228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084680" y="28684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882080" y="207324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690280" y="1526760"/>
            <a:ext cx="360" cy="42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810680" y="3919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5299200" y="433404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412440" y="8604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069680" y="99864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y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574320" y="267480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442640" y="2674800"/>
            <a:ext cx="61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522480" y="38178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y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436880" y="38178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x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017480" y="49608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523720" y="381780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x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427600" y="2674800"/>
            <a:ext cx="71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6791400" y="2318400"/>
            <a:ext cx="498960" cy="5115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767640" y="316548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682040" y="316548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846840" y="4308480"/>
            <a:ext cx="30168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7380360" y="4308480"/>
            <a:ext cx="30168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8748720" y="3163680"/>
            <a:ext cx="0" cy="75852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467760" y="1338120"/>
            <a:ext cx="22852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774" swAng="54047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774" swAng="5404774"/>
              </a:path>
            </a:pathLst>
          </a:custGeom>
          <a:noFill/>
          <a:ln cap="rnd" w="1260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373960" y="172080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7318440" y="1565280"/>
            <a:ext cx="1442880" cy="3652560"/>
            <a:chOff x="7318440" y="1565280"/>
            <a:chExt cx="1442880" cy="3652560"/>
          </a:xfrm>
        </p:grpSpPr>
        <p:sp>
          <p:nvSpPr>
            <p:cNvPr id="1284" name=""/>
            <p:cNvSpPr/>
            <p:nvPr/>
          </p:nvSpPr>
          <p:spPr>
            <a:xfrm flipV="1">
              <a:off x="7602480" y="5182920"/>
              <a:ext cx="406440" cy="349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8612280" y="4307040"/>
              <a:ext cx="149040" cy="6062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318440" y="1565280"/>
              <a:ext cx="111240" cy="4348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547040" y="2403360"/>
              <a:ext cx="149040" cy="4255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7242120" y="177336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947360" y="4697280"/>
            <a:ext cx="762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7602480" y="5182920"/>
            <a:ext cx="406440" cy="34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8612280" y="4307040"/>
            <a:ext cx="149040" cy="6062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318440" y="1565280"/>
            <a:ext cx="111240" cy="4348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547040" y="2403360"/>
            <a:ext cx="149040" cy="4255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925360" y="584028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z- is delayed by the new transition s- 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6181-929D-4780-B417-AC806A5BBCF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6" name=""/>
          <p:cNvGrpSpPr/>
          <p:nvPr/>
        </p:nvGrpSpPr>
        <p:grpSpPr>
          <a:xfrm>
            <a:off x="6003720" y="847800"/>
            <a:ext cx="3139200" cy="4953960"/>
            <a:chOff x="6003720" y="847800"/>
            <a:chExt cx="3139200" cy="4953960"/>
          </a:xfrm>
        </p:grpSpPr>
        <p:grpSp>
          <p:nvGrpSpPr>
            <p:cNvPr id="1297" name=""/>
            <p:cNvGrpSpPr/>
            <p:nvPr/>
          </p:nvGrpSpPr>
          <p:grpSpPr>
            <a:xfrm>
              <a:off x="7754760" y="1054080"/>
              <a:ext cx="1033560" cy="687240"/>
              <a:chOff x="7754760" y="1054080"/>
              <a:chExt cx="1033560" cy="687240"/>
            </a:xfrm>
          </p:grpSpPr>
          <p:grpSp>
            <p:nvGrpSpPr>
              <p:cNvPr id="1298" name=""/>
              <p:cNvGrpSpPr/>
              <p:nvPr/>
            </p:nvGrpSpPr>
            <p:grpSpPr>
              <a:xfrm>
                <a:off x="7980480" y="1054080"/>
                <a:ext cx="807840" cy="687240"/>
                <a:chOff x="7980480" y="1054080"/>
                <a:chExt cx="807840" cy="687240"/>
              </a:xfrm>
            </p:grpSpPr>
            <p:grpSp>
              <p:nvGrpSpPr>
                <p:cNvPr id="1299" name=""/>
                <p:cNvGrpSpPr/>
                <p:nvPr/>
              </p:nvGrpSpPr>
              <p:grpSpPr>
                <a:xfrm>
                  <a:off x="7980480" y="1054080"/>
                  <a:ext cx="679320" cy="687240"/>
                  <a:chOff x="7980480" y="1054080"/>
                  <a:chExt cx="679320" cy="68724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>
                    <a:off x="7986600" y="106020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7980480" y="105408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2" name=""/>
                <p:cNvSpPr/>
                <p:nvPr/>
              </p:nvSpPr>
              <p:spPr>
                <a:xfrm>
                  <a:off x="8669160" y="1390680"/>
                  <a:ext cx="1191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3" name=""/>
              <p:cNvSpPr/>
              <p:nvPr/>
            </p:nvSpPr>
            <p:spPr>
              <a:xfrm>
                <a:off x="7754760" y="116820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754760" y="162540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7873920" y="1117440"/>
              <a:ext cx="101520" cy="101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6611760" y="4794120"/>
              <a:ext cx="2189520" cy="919080"/>
              <a:chOff x="6611760" y="4794120"/>
              <a:chExt cx="2189520" cy="919080"/>
            </a:xfrm>
          </p:grpSpPr>
          <p:grpSp>
            <p:nvGrpSpPr>
              <p:cNvPr id="1307" name=""/>
              <p:cNvGrpSpPr/>
              <p:nvPr/>
            </p:nvGrpSpPr>
            <p:grpSpPr>
              <a:xfrm>
                <a:off x="6611760" y="5025960"/>
                <a:ext cx="1033560" cy="687240"/>
                <a:chOff x="6611760" y="5025960"/>
                <a:chExt cx="1033560" cy="687240"/>
              </a:xfrm>
            </p:grpSpPr>
            <p:grpSp>
              <p:nvGrpSpPr>
                <p:cNvPr id="1308" name=""/>
                <p:cNvGrpSpPr/>
                <p:nvPr/>
              </p:nvGrpSpPr>
              <p:grpSpPr>
                <a:xfrm>
                  <a:off x="6837480" y="5025960"/>
                  <a:ext cx="807840" cy="687240"/>
                  <a:chOff x="6837480" y="5025960"/>
                  <a:chExt cx="807840" cy="687240"/>
                </a:xfrm>
              </p:grpSpPr>
              <p:grpSp>
                <p:nvGrpSpPr>
                  <p:cNvPr id="1309" name=""/>
                  <p:cNvGrpSpPr/>
                  <p:nvPr/>
                </p:nvGrpSpPr>
                <p:grpSpPr>
                  <a:xfrm>
                    <a:off x="6837480" y="5025960"/>
                    <a:ext cx="679320" cy="687240"/>
                    <a:chOff x="6837480" y="5025960"/>
                    <a:chExt cx="679320" cy="687240"/>
                  </a:xfrm>
                </p:grpSpPr>
                <p:sp>
                  <p:nvSpPr>
                    <p:cNvPr id="1310" name=""/>
                    <p:cNvSpPr/>
                    <p:nvPr/>
                  </p:nvSpPr>
                  <p:spPr>
                    <a:xfrm>
                      <a:off x="6843600" y="5032440"/>
                      <a:ext cx="673200" cy="672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1" name=""/>
                    <p:cNvSpPr/>
                    <p:nvPr/>
                  </p:nvSpPr>
                  <p:spPr>
                    <a:xfrm>
                      <a:off x="6837480" y="502596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12" name=""/>
                  <p:cNvSpPr/>
                  <p:nvPr/>
                </p:nvSpPr>
                <p:spPr>
                  <a:xfrm>
                    <a:off x="7526160" y="536256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3" name=""/>
                <p:cNvSpPr/>
                <p:nvPr/>
              </p:nvSpPr>
              <p:spPr>
                <a:xfrm>
                  <a:off x="6611760" y="51400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611760" y="55972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7661160" y="4794120"/>
                <a:ext cx="1140120" cy="673200"/>
                <a:chOff x="7661160" y="4794120"/>
                <a:chExt cx="1140120" cy="67320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7661160" y="490212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661160" y="535932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7893000" y="479412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7970400" y="485928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8575560" y="513072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1" name=""/>
            <p:cNvGrpSpPr/>
            <p:nvPr/>
          </p:nvGrpSpPr>
          <p:grpSpPr>
            <a:xfrm>
              <a:off x="6594480" y="3340080"/>
              <a:ext cx="2206800" cy="907920"/>
              <a:chOff x="6594480" y="3340080"/>
              <a:chExt cx="2206800" cy="907920"/>
            </a:xfrm>
          </p:grpSpPr>
          <p:grpSp>
            <p:nvGrpSpPr>
              <p:cNvPr id="1322" name=""/>
              <p:cNvGrpSpPr/>
              <p:nvPr/>
            </p:nvGrpSpPr>
            <p:grpSpPr>
              <a:xfrm>
                <a:off x="7661160" y="3574800"/>
                <a:ext cx="1140120" cy="673200"/>
                <a:chOff x="7661160" y="3574800"/>
                <a:chExt cx="1140120" cy="67320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7661160" y="36828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7661160" y="41400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7893000" y="357480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7970400" y="363996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8575560" y="391140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6594480" y="3340080"/>
                <a:ext cx="1139760" cy="687240"/>
                <a:chOff x="6594480" y="3340080"/>
                <a:chExt cx="1139760" cy="687240"/>
              </a:xfrm>
            </p:grpSpPr>
            <p:grpSp>
              <p:nvGrpSpPr>
                <p:cNvPr id="1329" name=""/>
                <p:cNvGrpSpPr/>
                <p:nvPr/>
              </p:nvGrpSpPr>
              <p:grpSpPr>
                <a:xfrm>
                  <a:off x="6819840" y="3340080"/>
                  <a:ext cx="914400" cy="687240"/>
                  <a:chOff x="6819840" y="3340080"/>
                  <a:chExt cx="914400" cy="687240"/>
                </a:xfrm>
              </p:grpSpPr>
              <p:grpSp>
                <p:nvGrpSpPr>
                  <p:cNvPr id="1330" name=""/>
                  <p:cNvGrpSpPr/>
                  <p:nvPr/>
                </p:nvGrpSpPr>
                <p:grpSpPr>
                  <a:xfrm>
                    <a:off x="6819840" y="3340080"/>
                    <a:ext cx="679680" cy="687240"/>
                    <a:chOff x="6819840" y="3340080"/>
                    <a:chExt cx="679680" cy="687240"/>
                  </a:xfrm>
                </p:grpSpPr>
                <p:sp>
                  <p:nvSpPr>
                    <p:cNvPr id="1331" name=""/>
                    <p:cNvSpPr/>
                    <p:nvPr/>
                  </p:nvSpPr>
                  <p:spPr>
                    <a:xfrm>
                      <a:off x="6826320" y="334620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2" name=""/>
                    <p:cNvSpPr/>
                    <p:nvPr/>
                  </p:nvSpPr>
                  <p:spPr>
                    <a:xfrm>
                      <a:off x="6819840" y="334008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33" name=""/>
                  <p:cNvSpPr/>
                  <p:nvPr/>
                </p:nvSpPr>
                <p:spPr>
                  <a:xfrm>
                    <a:off x="7508880" y="3682800"/>
                    <a:ext cx="2253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7512120" y="3632040"/>
                    <a:ext cx="101520" cy="1015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5" name=""/>
                <p:cNvSpPr/>
                <p:nvPr/>
              </p:nvSpPr>
              <p:spPr>
                <a:xfrm>
                  <a:off x="6594480" y="345420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594480" y="391140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7" name=""/>
              <p:cNvSpPr/>
              <p:nvPr/>
            </p:nvSpPr>
            <p:spPr>
              <a:xfrm>
                <a:off x="7835760" y="408924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>
              <a:off x="6308280" y="4886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08280" y="5343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805600" y="2448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805600" y="3666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37560" y="11523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805600" y="4886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375320" y="8478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003720" y="1457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003720" y="1914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23040" y="26766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08280" y="3666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232680" y="32097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99000" y="3895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51" name=""/>
            <p:cNvGrpSpPr/>
            <p:nvPr/>
          </p:nvGrpSpPr>
          <p:grpSpPr>
            <a:xfrm>
              <a:off x="7062840" y="1668240"/>
              <a:ext cx="1719360" cy="2057040"/>
              <a:chOff x="7062840" y="1668240"/>
              <a:chExt cx="1719360" cy="2057040"/>
            </a:xfrm>
          </p:grpSpPr>
          <p:grpSp>
            <p:nvGrpSpPr>
              <p:cNvPr id="1352" name=""/>
              <p:cNvGrpSpPr/>
              <p:nvPr/>
            </p:nvGrpSpPr>
            <p:grpSpPr>
              <a:xfrm>
                <a:off x="7062840" y="1668240"/>
                <a:ext cx="1605240" cy="2057040"/>
                <a:chOff x="7062840" y="1668240"/>
                <a:chExt cx="1605240" cy="2057040"/>
              </a:xfrm>
            </p:grpSpPr>
            <p:sp>
              <p:nvSpPr>
                <p:cNvPr id="1353" name=""/>
                <p:cNvSpPr/>
                <p:nvPr/>
              </p:nvSpPr>
              <p:spPr>
                <a:xfrm rot="10800000">
                  <a:off x="7069680" y="1668240"/>
                  <a:ext cx="159840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8" y="5433"/>
                      </a:moveTo>
                      <a:arcTo wR="10800" hR="10800" stAng="-9012068" swAng="360524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8" y="5433"/>
                      </a:moveTo>
                      <a:arcTo wR="10800" hR="10800" stAng="-9012068" swAng="3605248"/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062840" y="2354040"/>
                  <a:ext cx="160020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9" y="0"/>
                      </a:moveTo>
                      <a:arcTo wR="10800" hR="10800" stAng="-5406821" swAng="36257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9" y="0"/>
                      </a:moveTo>
                      <a:arcTo wR="10800" hR="10800" stAng="-5406821" swAng="3625793"/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7759800" y="2355840"/>
                  <a:ext cx="215640" cy="673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7753320" y="2349360"/>
                  <a:ext cx="115920" cy="687600"/>
                </a:xfrm>
                <a:custGeom>
                  <a:avLst/>
                  <a:gdLst/>
                  <a:ahLst/>
                  <a:rect l="l" t="t" r="r" b="b"/>
                  <a:pathLst>
                    <a:path w="73" h="433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72" y="432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8556480" y="269244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553600" y="2641680"/>
                <a:ext cx="10152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758000" y="2463840"/>
                <a:ext cx="1904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756560" y="2921040"/>
                <a:ext cx="1969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6383160" y="1587600"/>
              <a:ext cx="1033560" cy="687240"/>
              <a:chOff x="6383160" y="1587600"/>
              <a:chExt cx="1033560" cy="68724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6608880" y="1587600"/>
                <a:ext cx="807840" cy="687240"/>
                <a:chOff x="6608880" y="1587600"/>
                <a:chExt cx="807840" cy="687240"/>
              </a:xfrm>
            </p:grpSpPr>
            <p:grpSp>
              <p:nvGrpSpPr>
                <p:cNvPr id="1363" name=""/>
                <p:cNvGrpSpPr/>
                <p:nvPr/>
              </p:nvGrpSpPr>
              <p:grpSpPr>
                <a:xfrm>
                  <a:off x="6608880" y="1587600"/>
                  <a:ext cx="679320" cy="687240"/>
                  <a:chOff x="6608880" y="1587600"/>
                  <a:chExt cx="679320" cy="68724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6615000" y="159372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6608880" y="158760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6" name=""/>
                <p:cNvSpPr/>
                <p:nvPr/>
              </p:nvSpPr>
              <p:spPr>
                <a:xfrm>
                  <a:off x="7297560" y="1923840"/>
                  <a:ext cx="1191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7" name=""/>
              <p:cNvSpPr/>
              <p:nvPr/>
            </p:nvSpPr>
            <p:spPr>
              <a:xfrm>
                <a:off x="6383160" y="170172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383160" y="215892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69" name=""/>
            <p:cNvSpPr/>
            <p:nvPr/>
          </p:nvSpPr>
          <p:spPr>
            <a:xfrm>
              <a:off x="7394400" y="1920960"/>
              <a:ext cx="3589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753320" y="1628640"/>
              <a:ext cx="0" cy="835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7658280" y="4591080"/>
            <a:ext cx="0" cy="311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rot="10800000">
            <a:off x="6084000" y="3578400"/>
            <a:ext cx="15984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8" y="5433"/>
                </a:moveTo>
                <a:arcTo wR="10800" hR="10800" stAng="-9012068" swAng="3605248"/>
                <a:lnTo>
                  <a:pt x="10800" y="10800"/>
                </a:lnTo>
                <a:close/>
              </a:path>
              <a:path fill="none" w="21600" h="21600">
                <a:moveTo>
                  <a:pt x="1428" y="5433"/>
                </a:moveTo>
                <a:arcTo wR="10800" hR="10800" stAng="-9012068" swAng="3605248"/>
              </a:path>
            </a:pathLst>
          </a:custGeom>
          <a:solidFill>
            <a:srgbClr val="ff3300"/>
          </a:solidFill>
          <a:ln cap="rnd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77520" y="4264200"/>
            <a:ext cx="1599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821" swAng="3625793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821" swAng="3625793"/>
              </a:path>
            </a:pathLst>
          </a:custGeom>
          <a:solidFill>
            <a:srgbClr val="ff3300"/>
          </a:solidFill>
          <a:ln cap="rnd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73760" y="4265640"/>
            <a:ext cx="216000" cy="673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767640" y="4259160"/>
            <a:ext cx="115920" cy="687600"/>
          </a:xfrm>
          <a:custGeom>
            <a:avLst/>
            <a:gdLst/>
            <a:ahLst/>
            <a:rect l="l" t="t" r="r" b="b"/>
            <a:pathLst>
              <a:path w="73" h="433">
                <a:moveTo>
                  <a:pt x="72" y="0"/>
                </a:moveTo>
                <a:lnTo>
                  <a:pt x="0" y="0"/>
                </a:lnTo>
                <a:lnTo>
                  <a:pt x="0" y="432"/>
                </a:lnTo>
                <a:lnTo>
                  <a:pt x="72" y="43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70800" y="4602240"/>
            <a:ext cx="111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772320" y="4830840"/>
            <a:ext cx="19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772320" y="4373640"/>
            <a:ext cx="19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724800" y="4359240"/>
            <a:ext cx="218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301840" y="1133640"/>
            <a:ext cx="3490920" cy="3403440"/>
          </a:xfrm>
          <a:custGeom>
            <a:avLst/>
            <a:gdLst/>
            <a:ahLst/>
            <a:rect l="l" t="t" r="r" b="b"/>
            <a:pathLst>
              <a:path w="2199" h="2144">
                <a:moveTo>
                  <a:pt x="0" y="222"/>
                </a:moveTo>
                <a:lnTo>
                  <a:pt x="9" y="222"/>
                </a:lnTo>
                <a:lnTo>
                  <a:pt x="1560" y="228"/>
                </a:lnTo>
                <a:lnTo>
                  <a:pt x="1560" y="2144"/>
                </a:lnTo>
                <a:lnTo>
                  <a:pt x="2199" y="2144"/>
                </a:lnTo>
                <a:lnTo>
                  <a:pt x="2199" y="0"/>
                </a:lnTo>
                <a:lnTo>
                  <a:pt x="9" y="1"/>
                </a:lnTo>
                <a:lnTo>
                  <a:pt x="9" y="107"/>
                </a:lnTo>
                <a:lnTo>
                  <a:pt x="28" y="232"/>
                </a:lnTo>
                <a:lnTo>
                  <a:pt x="19" y="222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818080" y="143496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35520" y="4521240"/>
            <a:ext cx="50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36680" y="1784520"/>
            <a:ext cx="5284800" cy="3840120"/>
          </a:xfrm>
          <a:custGeom>
            <a:avLst/>
            <a:gdLst/>
            <a:ahLst/>
            <a:rect l="l" t="t" r="r" b="b"/>
            <a:pathLst>
              <a:path w="3329" h="2419">
                <a:moveTo>
                  <a:pt x="1686" y="0"/>
                </a:moveTo>
                <a:lnTo>
                  <a:pt x="2644" y="958"/>
                </a:lnTo>
                <a:lnTo>
                  <a:pt x="2644" y="2007"/>
                </a:lnTo>
                <a:lnTo>
                  <a:pt x="3328" y="2007"/>
                </a:lnTo>
                <a:lnTo>
                  <a:pt x="3328" y="2418"/>
                </a:lnTo>
                <a:lnTo>
                  <a:pt x="1094" y="2418"/>
                </a:lnTo>
                <a:lnTo>
                  <a:pt x="0" y="1323"/>
                </a:lnTo>
                <a:lnTo>
                  <a:pt x="1322" y="0"/>
                </a:lnTo>
                <a:lnTo>
                  <a:pt x="168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7760" y="110340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36120" y="481176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335680" y="11383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810680" y="11685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810680" y="5113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810680" y="25430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3281400" y="1363680"/>
            <a:ext cx="1511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059280" y="5345280"/>
            <a:ext cx="173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5299200" y="2958840"/>
            <a:ext cx="0" cy="93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5299200" y="1581120"/>
            <a:ext cx="0" cy="938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848840" y="31590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704120" y="1855800"/>
            <a:ext cx="55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618360" y="496872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037320" y="26528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0536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61656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481400" y="43527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037320" y="43527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205360" y="51847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2839680" y="303228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356364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197136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2695320" y="476892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320840" y="390060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116080" y="476892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84004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044800" y="303228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492360" y="303228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768760" y="223524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690000" y="29415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66040" y="214632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243520" y="294156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373760" y="373860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750400" y="294156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545640" y="37386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881720" y="37386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676960" y="45338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966040" y="37386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170800" y="45338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205360" y="18921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481400" y="26528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2108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2044440" y="223524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1320480" y="303228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084680" y="28684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882080" y="207324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690280" y="1526760"/>
            <a:ext cx="360" cy="42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810680" y="3919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5299200" y="433404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412440" y="8604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BB940-1A01-4081-8908-DF5B29E4D35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60480" y="243000"/>
            <a:ext cx="1082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ff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7319880" y="6480"/>
            <a:ext cx="1816200" cy="1434960"/>
            <a:chOff x="7319880" y="6480"/>
            <a:chExt cx="1816200" cy="1434960"/>
          </a:xfrm>
        </p:grpSpPr>
        <p:sp>
          <p:nvSpPr>
            <p:cNvPr id="1451" name=""/>
            <p:cNvSpPr/>
            <p:nvPr/>
          </p:nvSpPr>
          <p:spPr>
            <a:xfrm>
              <a:off x="7319880" y="6480"/>
              <a:ext cx="1816200" cy="143496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7466040" y="228600"/>
              <a:ext cx="1523880" cy="1060560"/>
              <a:chOff x="7466040" y="228600"/>
              <a:chExt cx="1523880" cy="1060560"/>
            </a:xfrm>
          </p:grpSpPr>
          <p:grpSp>
            <p:nvGrpSpPr>
              <p:cNvPr id="1453" name=""/>
              <p:cNvGrpSpPr/>
              <p:nvPr/>
            </p:nvGrpSpPr>
            <p:grpSpPr>
              <a:xfrm>
                <a:off x="7466040" y="844560"/>
                <a:ext cx="762120" cy="444600"/>
                <a:chOff x="7466040" y="844560"/>
                <a:chExt cx="762120" cy="44460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7466040" y="91440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7466040" y="121932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624800" y="844560"/>
                  <a:ext cx="444600" cy="444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7673760" y="885960"/>
                  <a:ext cx="337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8075520" y="1066680"/>
                  <a:ext cx="1526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9" name=""/>
              <p:cNvGrpSpPr/>
              <p:nvPr/>
            </p:nvGrpSpPr>
            <p:grpSpPr>
              <a:xfrm>
                <a:off x="8380440" y="235080"/>
                <a:ext cx="609480" cy="444240"/>
                <a:chOff x="8380440" y="235080"/>
                <a:chExt cx="609480" cy="44424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8539200" y="235080"/>
                  <a:ext cx="291960" cy="44424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Sr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83804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8380440" y="60948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88376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4" name=""/>
              <p:cNvGrpSpPr/>
              <p:nvPr/>
            </p:nvGrpSpPr>
            <p:grpSpPr>
              <a:xfrm>
                <a:off x="8380440" y="844560"/>
                <a:ext cx="609480" cy="444600"/>
                <a:chOff x="8380440" y="844560"/>
                <a:chExt cx="609480" cy="44460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8539200" y="844560"/>
                  <a:ext cx="291960" cy="44460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D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8380440" y="9144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8837640" y="9144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8380440" y="1219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7466040" y="228600"/>
                <a:ext cx="762120" cy="458640"/>
                <a:chOff x="7466040" y="228600"/>
                <a:chExt cx="762120" cy="458640"/>
              </a:xfrm>
            </p:grpSpPr>
            <p:grpSp>
              <p:nvGrpSpPr>
                <p:cNvPr id="1470" name=""/>
                <p:cNvGrpSpPr/>
                <p:nvPr/>
              </p:nvGrpSpPr>
              <p:grpSpPr>
                <a:xfrm>
                  <a:off x="7618320" y="228600"/>
                  <a:ext cx="609840" cy="458640"/>
                  <a:chOff x="7618320" y="228600"/>
                  <a:chExt cx="609840" cy="458640"/>
                </a:xfrm>
              </p:grpSpPr>
              <p:grpSp>
                <p:nvGrpSpPr>
                  <p:cNvPr id="1471" name=""/>
                  <p:cNvGrpSpPr/>
                  <p:nvPr/>
                </p:nvGrpSpPr>
                <p:grpSpPr>
                  <a:xfrm>
                    <a:off x="7618320" y="228600"/>
                    <a:ext cx="451080" cy="458640"/>
                    <a:chOff x="7618320" y="228600"/>
                    <a:chExt cx="451080" cy="458640"/>
                  </a:xfrm>
                </p:grpSpPr>
                <p:sp>
                  <p:nvSpPr>
                    <p:cNvPr id="1472" name=""/>
                    <p:cNvSpPr/>
                    <p:nvPr/>
                  </p:nvSpPr>
                  <p:spPr>
                    <a:xfrm>
                      <a:off x="7624800" y="235080"/>
                      <a:ext cx="444600" cy="4442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3" name=""/>
                    <p:cNvSpPr/>
                    <p:nvPr/>
                  </p:nvSpPr>
                  <p:spPr>
                    <a:xfrm>
                      <a:off x="7618320" y="228600"/>
                      <a:ext cx="230400" cy="45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289">
                          <a:moveTo>
                            <a:pt x="144" y="0"/>
                          </a:moveTo>
                          <a:lnTo>
                            <a:pt x="0" y="0"/>
                          </a:lnTo>
                          <a:lnTo>
                            <a:pt x="0" y="288"/>
                          </a:lnTo>
                          <a:lnTo>
                            <a:pt x="144" y="288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4" name=""/>
                  <p:cNvSpPr/>
                  <p:nvPr/>
                </p:nvSpPr>
                <p:spPr>
                  <a:xfrm>
                    <a:off x="8075520" y="457200"/>
                    <a:ext cx="15264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8082000" y="425520"/>
                    <a:ext cx="63360" cy="6336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6" name=""/>
                <p:cNvSpPr/>
                <p:nvPr/>
              </p:nvSpPr>
              <p:spPr>
                <a:xfrm>
                  <a:off x="74660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466040" y="60948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78" name=""/>
          <p:cNvSpPr/>
          <p:nvPr/>
        </p:nvSpPr>
        <p:spPr>
          <a:xfrm>
            <a:off x="1282680" y="6480"/>
            <a:ext cx="5302440" cy="1244520"/>
          </a:xfrm>
          <a:prstGeom prst="roundRect">
            <a:avLst>
              <a:gd name="adj" fmla="val 12495"/>
            </a:avLst>
          </a:prstGeom>
          <a:solidFill>
            <a:srgbClr val="80808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mpos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gebraic, Boolean relation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79" name=""/>
          <p:cNvGrpSpPr/>
          <p:nvPr/>
        </p:nvGrpSpPr>
        <p:grpSpPr>
          <a:xfrm>
            <a:off x="2590920" y="2437560"/>
            <a:ext cx="1828800" cy="915120"/>
            <a:chOff x="2590920" y="2437560"/>
            <a:chExt cx="1828800" cy="915120"/>
          </a:xfrm>
        </p:grpSpPr>
        <p:grpSp>
          <p:nvGrpSpPr>
            <p:cNvPr id="1480" name=""/>
            <p:cNvGrpSpPr/>
            <p:nvPr/>
          </p:nvGrpSpPr>
          <p:grpSpPr>
            <a:xfrm>
              <a:off x="3276720" y="2552760"/>
              <a:ext cx="1143000" cy="687240"/>
              <a:chOff x="3276720" y="2552760"/>
              <a:chExt cx="1143000" cy="687240"/>
            </a:xfrm>
          </p:grpSpPr>
          <p:grpSp>
            <p:nvGrpSpPr>
              <p:cNvPr id="1481" name=""/>
              <p:cNvGrpSpPr/>
              <p:nvPr/>
            </p:nvGrpSpPr>
            <p:grpSpPr>
              <a:xfrm>
                <a:off x="3505320" y="2552760"/>
                <a:ext cx="914400" cy="687240"/>
                <a:chOff x="3505320" y="2552760"/>
                <a:chExt cx="914400" cy="687240"/>
              </a:xfrm>
            </p:grpSpPr>
            <p:grpSp>
              <p:nvGrpSpPr>
                <p:cNvPr id="1482" name=""/>
                <p:cNvGrpSpPr/>
                <p:nvPr/>
              </p:nvGrpSpPr>
              <p:grpSpPr>
                <a:xfrm>
                  <a:off x="3505320" y="2552760"/>
                  <a:ext cx="679320" cy="687240"/>
                  <a:chOff x="3505320" y="2552760"/>
                  <a:chExt cx="679320" cy="687240"/>
                </a:xfrm>
              </p:grpSpPr>
              <p:sp>
                <p:nvSpPr>
                  <p:cNvPr id="1483" name=""/>
                  <p:cNvSpPr/>
                  <p:nvPr/>
                </p:nvSpPr>
                <p:spPr>
                  <a:xfrm>
                    <a:off x="3511440" y="255888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3505320" y="255276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5" name=""/>
                <p:cNvSpPr/>
                <p:nvPr/>
              </p:nvSpPr>
              <p:spPr>
                <a:xfrm>
                  <a:off x="4191120" y="2895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4197240" y="2844720"/>
                  <a:ext cx="101880" cy="1015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" name=""/>
              <p:cNvSpPr/>
              <p:nvPr/>
            </p:nvSpPr>
            <p:spPr>
              <a:xfrm>
                <a:off x="3276720" y="26668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276720" y="31240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89" name=""/>
            <p:cNvSpPr/>
            <p:nvPr/>
          </p:nvSpPr>
          <p:spPr>
            <a:xfrm flipH="1" flipV="1" rot="10800000">
              <a:off x="2590920" y="2437200"/>
              <a:ext cx="799920" cy="343080"/>
            </a:xfrm>
            <a:custGeom>
              <a:avLst/>
              <a:gdLst>
                <a:gd name="textAreaLeft" fmla="*/ 175680 w 799920"/>
                <a:gd name="textAreaRight" fmla="*/ 624240 w 799920"/>
                <a:gd name="textAreaTop" fmla="*/ 75240 h 343080"/>
                <a:gd name="textAreaBottom" fmla="*/ 267840 h 34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33"/>
                </a:gs>
                <a:gs pos="100000">
                  <a:srgbClr val="2346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590920" y="3009960"/>
              <a:ext cx="799920" cy="342720"/>
            </a:xfrm>
            <a:prstGeom prst="parallelogram">
              <a:avLst>
                <a:gd name="adj" fmla="val 58340"/>
              </a:avLst>
            </a:prstGeom>
            <a:gradFill rotWithShape="0">
              <a:gsLst>
                <a:gs pos="0">
                  <a:srgbClr val="ffe4c9"/>
                </a:gs>
                <a:gs pos="100000">
                  <a:srgbClr val="b19e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2063880" y="4114800"/>
            <a:ext cx="3720960" cy="2050920"/>
            <a:chOff x="2063880" y="4114800"/>
            <a:chExt cx="3720960" cy="2050920"/>
          </a:xfrm>
        </p:grpSpPr>
        <p:sp>
          <p:nvSpPr>
            <p:cNvPr id="1492" name=""/>
            <p:cNvSpPr/>
            <p:nvPr/>
          </p:nvSpPr>
          <p:spPr>
            <a:xfrm>
              <a:off x="2063880" y="4883040"/>
              <a:ext cx="3720960" cy="1282680"/>
            </a:xfrm>
            <a:prstGeom prst="roundRect">
              <a:avLst>
                <a:gd name="adj" fmla="val 12495"/>
              </a:avLst>
            </a:prstGeom>
            <a:solidFill>
              <a:srgbClr val="80808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Hazard-free ?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Event insertion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1493" name=""/>
            <p:cNvGraphicFramePr/>
            <p:nvPr/>
          </p:nvGraphicFramePr>
          <p:xfrm>
            <a:off x="2736720" y="4114800"/>
            <a:ext cx="24526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36720" y="4114800"/>
                      <a:ext cx="24526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95" name=""/>
          <p:cNvGrpSpPr/>
          <p:nvPr/>
        </p:nvGrpSpPr>
        <p:grpSpPr>
          <a:xfrm>
            <a:off x="365400" y="5187960"/>
            <a:ext cx="1685520" cy="1640160"/>
            <a:chOff x="365400" y="5187960"/>
            <a:chExt cx="1685520" cy="1640160"/>
          </a:xfrm>
        </p:grpSpPr>
        <p:sp>
          <p:nvSpPr>
            <p:cNvPr id="1496" name=""/>
            <p:cNvSpPr/>
            <p:nvPr/>
          </p:nvSpPr>
          <p:spPr>
            <a:xfrm>
              <a:off x="1530360" y="5187960"/>
              <a:ext cx="520560" cy="749160"/>
            </a:xfrm>
            <a:prstGeom prst="leftArrow">
              <a:avLst>
                <a:gd name="adj1" fmla="val 75009"/>
                <a:gd name="adj2" fmla="val 4999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18d4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65400" y="6126120"/>
              <a:ext cx="945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ff33"/>
                  </a:solidFill>
                  <a:latin typeface="Arial"/>
                </a:rPr>
                <a:t>NO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0" y="5485680"/>
            <a:ext cx="1219320" cy="610200"/>
            <a:chOff x="0" y="5485680"/>
            <a:chExt cx="1219320" cy="610200"/>
          </a:xfrm>
        </p:grpSpPr>
        <p:grpSp>
          <p:nvGrpSpPr>
            <p:cNvPr id="1499" name=""/>
            <p:cNvGrpSpPr/>
            <p:nvPr/>
          </p:nvGrpSpPr>
          <p:grpSpPr>
            <a:xfrm>
              <a:off x="457200" y="5562720"/>
              <a:ext cx="762120" cy="458640"/>
              <a:chOff x="457200" y="5562720"/>
              <a:chExt cx="762120" cy="458640"/>
            </a:xfrm>
          </p:grpSpPr>
          <p:grpSp>
            <p:nvGrpSpPr>
              <p:cNvPr id="1500" name=""/>
              <p:cNvGrpSpPr/>
              <p:nvPr/>
            </p:nvGrpSpPr>
            <p:grpSpPr>
              <a:xfrm>
                <a:off x="609480" y="5562720"/>
                <a:ext cx="609840" cy="458640"/>
                <a:chOff x="609480" y="5562720"/>
                <a:chExt cx="609840" cy="458640"/>
              </a:xfrm>
            </p:grpSpPr>
            <p:grpSp>
              <p:nvGrpSpPr>
                <p:cNvPr id="1501" name=""/>
                <p:cNvGrpSpPr/>
                <p:nvPr/>
              </p:nvGrpSpPr>
              <p:grpSpPr>
                <a:xfrm>
                  <a:off x="609480" y="5562720"/>
                  <a:ext cx="451080" cy="458640"/>
                  <a:chOff x="609480" y="5562720"/>
                  <a:chExt cx="451080" cy="458640"/>
                </a:xfrm>
              </p:grpSpPr>
              <p:sp>
                <p:nvSpPr>
                  <p:cNvPr id="1502" name=""/>
                  <p:cNvSpPr/>
                  <p:nvPr/>
                </p:nvSpPr>
                <p:spPr>
                  <a:xfrm>
                    <a:off x="615960" y="5568840"/>
                    <a:ext cx="444600" cy="4446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609480" y="5562720"/>
                    <a:ext cx="23040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89">
                        <a:moveTo>
                          <a:pt x="144" y="0"/>
                        </a:moveTo>
                        <a:lnTo>
                          <a:pt x="0" y="0"/>
                        </a:lnTo>
                        <a:lnTo>
                          <a:pt x="0" y="288"/>
                        </a:lnTo>
                        <a:lnTo>
                          <a:pt x="144" y="28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4" name=""/>
                <p:cNvSpPr/>
                <p:nvPr/>
              </p:nvSpPr>
              <p:spPr>
                <a:xfrm>
                  <a:off x="1066680" y="5791320"/>
                  <a:ext cx="1526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1073160" y="5759280"/>
                  <a:ext cx="63360" cy="637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6" name=""/>
              <p:cNvSpPr/>
              <p:nvPr/>
            </p:nvSpPr>
            <p:spPr>
              <a:xfrm>
                <a:off x="457200" y="56386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57200" y="59436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08" name=""/>
            <p:cNvSpPr/>
            <p:nvPr/>
          </p:nvSpPr>
          <p:spPr>
            <a:xfrm flipH="1" flipV="1" rot="10800000">
              <a:off x="0" y="5485320"/>
              <a:ext cx="533520" cy="22860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33"/>
                </a:gs>
                <a:gs pos="100000">
                  <a:srgbClr val="2346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0" y="5867280"/>
              <a:ext cx="533520" cy="228600"/>
            </a:xfrm>
            <a:prstGeom prst="parallelogram">
              <a:avLst>
                <a:gd name="adj" fmla="val 58335"/>
              </a:avLst>
            </a:prstGeom>
            <a:gradFill rotWithShape="0">
              <a:gsLst>
                <a:gs pos="0">
                  <a:srgbClr val="ffe4c9"/>
                </a:gs>
                <a:gs pos="100000">
                  <a:srgbClr val="b19e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4495680" y="3162240"/>
            <a:ext cx="1828800" cy="1028880"/>
            <a:chOff x="4495680" y="3162240"/>
            <a:chExt cx="1828800" cy="1028880"/>
          </a:xfrm>
        </p:grpSpPr>
        <p:grpSp>
          <p:nvGrpSpPr>
            <p:cNvPr id="1511" name=""/>
            <p:cNvGrpSpPr/>
            <p:nvPr/>
          </p:nvGrpSpPr>
          <p:grpSpPr>
            <a:xfrm>
              <a:off x="5181480" y="3390840"/>
              <a:ext cx="1143000" cy="687600"/>
              <a:chOff x="5181480" y="3390840"/>
              <a:chExt cx="1143000" cy="687600"/>
            </a:xfrm>
          </p:grpSpPr>
          <p:grpSp>
            <p:nvGrpSpPr>
              <p:cNvPr id="1512" name=""/>
              <p:cNvGrpSpPr/>
              <p:nvPr/>
            </p:nvGrpSpPr>
            <p:grpSpPr>
              <a:xfrm>
                <a:off x="5410080" y="3390840"/>
                <a:ext cx="914400" cy="687600"/>
                <a:chOff x="5410080" y="3390840"/>
                <a:chExt cx="914400" cy="687600"/>
              </a:xfrm>
            </p:grpSpPr>
            <p:grpSp>
              <p:nvGrpSpPr>
                <p:cNvPr id="1513" name=""/>
                <p:cNvGrpSpPr/>
                <p:nvPr/>
              </p:nvGrpSpPr>
              <p:grpSpPr>
                <a:xfrm>
                  <a:off x="5410080" y="3390840"/>
                  <a:ext cx="679320" cy="687600"/>
                  <a:chOff x="5410080" y="3390840"/>
                  <a:chExt cx="679320" cy="687600"/>
                </a:xfrm>
              </p:grpSpPr>
              <p:sp>
                <p:nvSpPr>
                  <p:cNvPr id="1514" name=""/>
                  <p:cNvSpPr/>
                  <p:nvPr/>
                </p:nvSpPr>
                <p:spPr>
                  <a:xfrm>
                    <a:off x="5416200" y="339732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5410080" y="3390840"/>
                    <a:ext cx="344520" cy="68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6" name=""/>
                <p:cNvSpPr/>
                <p:nvPr/>
              </p:nvSpPr>
              <p:spPr>
                <a:xfrm>
                  <a:off x="6095880" y="373392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102000" y="3683160"/>
                  <a:ext cx="101880" cy="1015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8" name=""/>
              <p:cNvSpPr/>
              <p:nvPr/>
            </p:nvSpPr>
            <p:spPr>
              <a:xfrm>
                <a:off x="5181480" y="35053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181480" y="39625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>
              <a:off x="4495680" y="3162240"/>
              <a:ext cx="799920" cy="45720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36ab1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495680" y="3733920"/>
              <a:ext cx="685800" cy="457200"/>
            </a:xfrm>
            <a:prstGeom prst="hexagon">
              <a:avLst>
                <a:gd name="adj" fmla="val 37493"/>
                <a:gd name="vf" fmla="val 115470"/>
              </a:avLst>
            </a:prstGeom>
            <a:gradFill rotWithShape="0">
              <a:gsLst>
                <a:gs pos="0">
                  <a:srgbClr val="6ab123"/>
                </a:gs>
                <a:gs pos="50000">
                  <a:srgbClr val="99ff33"/>
                </a:gs>
                <a:gs pos="100000">
                  <a:srgbClr val="6a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5797440" y="5187960"/>
            <a:ext cx="2625480" cy="1643400"/>
            <a:chOff x="5797440" y="5187960"/>
            <a:chExt cx="2625480" cy="1643400"/>
          </a:xfrm>
        </p:grpSpPr>
        <p:sp>
          <p:nvSpPr>
            <p:cNvPr id="1523" name=""/>
            <p:cNvSpPr/>
            <p:nvPr/>
          </p:nvSpPr>
          <p:spPr>
            <a:xfrm>
              <a:off x="5797440" y="5187960"/>
              <a:ext cx="520920" cy="749160"/>
            </a:xfrm>
            <a:prstGeom prst="rightArrow">
              <a:avLst>
                <a:gd name="adj1" fmla="val 75009"/>
                <a:gd name="adj2" fmla="val 5000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18d4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223040" y="6129360"/>
              <a:ext cx="11998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ff33"/>
                  </a:solidFill>
                  <a:latin typeface="Arial"/>
                </a:rPr>
                <a:t>YE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6553080" y="5334120"/>
            <a:ext cx="1219320" cy="685800"/>
            <a:chOff x="6553080" y="5334120"/>
            <a:chExt cx="1219320" cy="685800"/>
          </a:xfrm>
        </p:grpSpPr>
        <p:grpSp>
          <p:nvGrpSpPr>
            <p:cNvPr id="1526" name=""/>
            <p:cNvGrpSpPr/>
            <p:nvPr/>
          </p:nvGrpSpPr>
          <p:grpSpPr>
            <a:xfrm>
              <a:off x="7010280" y="5486400"/>
              <a:ext cx="762120" cy="458640"/>
              <a:chOff x="7010280" y="5486400"/>
              <a:chExt cx="762120" cy="458640"/>
            </a:xfrm>
          </p:grpSpPr>
          <p:grpSp>
            <p:nvGrpSpPr>
              <p:cNvPr id="1527" name=""/>
              <p:cNvGrpSpPr/>
              <p:nvPr/>
            </p:nvGrpSpPr>
            <p:grpSpPr>
              <a:xfrm>
                <a:off x="7162920" y="5486400"/>
                <a:ext cx="609480" cy="458640"/>
                <a:chOff x="7162920" y="5486400"/>
                <a:chExt cx="609480" cy="458640"/>
              </a:xfrm>
            </p:grpSpPr>
            <p:grpSp>
              <p:nvGrpSpPr>
                <p:cNvPr id="1528" name=""/>
                <p:cNvGrpSpPr/>
                <p:nvPr/>
              </p:nvGrpSpPr>
              <p:grpSpPr>
                <a:xfrm>
                  <a:off x="7162920" y="5486400"/>
                  <a:ext cx="450720" cy="458640"/>
                  <a:chOff x="7162920" y="5486400"/>
                  <a:chExt cx="450720" cy="45864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7169040" y="5492880"/>
                    <a:ext cx="444600" cy="4442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7162920" y="5486400"/>
                    <a:ext cx="23004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89">
                        <a:moveTo>
                          <a:pt x="144" y="0"/>
                        </a:moveTo>
                        <a:lnTo>
                          <a:pt x="0" y="0"/>
                        </a:lnTo>
                        <a:lnTo>
                          <a:pt x="0" y="288"/>
                        </a:lnTo>
                        <a:lnTo>
                          <a:pt x="144" y="28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1" name=""/>
                <p:cNvSpPr/>
                <p:nvPr/>
              </p:nvSpPr>
              <p:spPr>
                <a:xfrm>
                  <a:off x="7620120" y="57150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7626240" y="5683320"/>
                  <a:ext cx="63720" cy="6336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3" name=""/>
              <p:cNvSpPr/>
              <p:nvPr/>
            </p:nvSpPr>
            <p:spPr>
              <a:xfrm>
                <a:off x="7010280" y="556272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010280" y="5867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6553080" y="5334120"/>
              <a:ext cx="533520" cy="30456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36ab1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553080" y="5715000"/>
              <a:ext cx="457200" cy="304920"/>
            </a:xfrm>
            <a:prstGeom prst="hexagon">
              <a:avLst>
                <a:gd name="adj" fmla="val 37478"/>
                <a:gd name="vf" fmla="val 115470"/>
              </a:avLst>
            </a:prstGeom>
            <a:gradFill rotWithShape="0">
              <a:gsLst>
                <a:gs pos="0">
                  <a:srgbClr val="6ab123"/>
                </a:gs>
                <a:gs pos="50000">
                  <a:srgbClr val="99ff33"/>
                </a:gs>
                <a:gs pos="100000">
                  <a:srgbClr val="6a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4210200" y="2076480"/>
            <a:ext cx="2057400" cy="1028160"/>
            <a:chOff x="4210200" y="2076480"/>
            <a:chExt cx="2057400" cy="1028160"/>
          </a:xfrm>
        </p:grpSpPr>
        <p:grpSp>
          <p:nvGrpSpPr>
            <p:cNvPr id="1538" name=""/>
            <p:cNvGrpSpPr/>
            <p:nvPr/>
          </p:nvGrpSpPr>
          <p:grpSpPr>
            <a:xfrm>
              <a:off x="5124600" y="2196720"/>
              <a:ext cx="1143000" cy="672840"/>
              <a:chOff x="5124600" y="2196720"/>
              <a:chExt cx="1143000" cy="672840"/>
            </a:xfrm>
          </p:grpSpPr>
          <p:sp>
            <p:nvSpPr>
              <p:cNvPr id="1539" name=""/>
              <p:cNvSpPr/>
              <p:nvPr/>
            </p:nvSpPr>
            <p:spPr>
              <a:xfrm>
                <a:off x="5124600" y="2304360"/>
                <a:ext cx="342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124600" y="2761560"/>
                <a:ext cx="342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359320" y="2196720"/>
                <a:ext cx="673200" cy="6728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436720" y="2261520"/>
                <a:ext cx="505800" cy="55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240" rIns="138240" tIns="69840" bIns="69840" anchor="t">
                <a:spAutoFit/>
              </a:bodyPr>
              <a:p>
                <a:pPr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0" lang="en-US" sz="27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039000" y="253296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44" name=""/>
            <p:cNvSpPr/>
            <p:nvPr/>
          </p:nvSpPr>
          <p:spPr>
            <a:xfrm>
              <a:off x="4210200" y="2076480"/>
              <a:ext cx="914400" cy="342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46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667400" y="2533320"/>
              <a:ext cx="457200" cy="571320"/>
            </a:xfrm>
            <a:prstGeom prst="rect">
              <a:avLst/>
            </a:prstGeom>
            <a:gradFill rotWithShape="0">
              <a:gsLst>
                <a:gs pos="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7696080" y="4952880"/>
            <a:ext cx="1371600" cy="685800"/>
            <a:chOff x="7696080" y="4952880"/>
            <a:chExt cx="1371600" cy="685800"/>
          </a:xfrm>
        </p:grpSpPr>
        <p:grpSp>
          <p:nvGrpSpPr>
            <p:cNvPr id="1547" name=""/>
            <p:cNvGrpSpPr/>
            <p:nvPr/>
          </p:nvGrpSpPr>
          <p:grpSpPr>
            <a:xfrm>
              <a:off x="8305920" y="5035680"/>
              <a:ext cx="761760" cy="444240"/>
              <a:chOff x="8305920" y="5035680"/>
              <a:chExt cx="761760" cy="444240"/>
            </a:xfrm>
          </p:grpSpPr>
          <p:sp>
            <p:nvSpPr>
              <p:cNvPr id="1548" name=""/>
              <p:cNvSpPr/>
              <p:nvPr/>
            </p:nvSpPr>
            <p:spPr>
              <a:xfrm>
                <a:off x="8305920" y="51055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8305920" y="54100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8464680" y="5035680"/>
                <a:ext cx="444240" cy="444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8513280" y="507672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8915400" y="52578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53" name=""/>
            <p:cNvSpPr/>
            <p:nvPr/>
          </p:nvSpPr>
          <p:spPr>
            <a:xfrm>
              <a:off x="7696080" y="4952880"/>
              <a:ext cx="609840" cy="22860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46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001000" y="525780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666720" y="2343240"/>
            <a:ext cx="1714320" cy="1028520"/>
            <a:chOff x="666720" y="2343240"/>
            <a:chExt cx="1714320" cy="1028520"/>
          </a:xfrm>
        </p:grpSpPr>
        <p:grpSp>
          <p:nvGrpSpPr>
            <p:cNvPr id="1556" name=""/>
            <p:cNvGrpSpPr/>
            <p:nvPr/>
          </p:nvGrpSpPr>
          <p:grpSpPr>
            <a:xfrm>
              <a:off x="1238040" y="2577960"/>
              <a:ext cx="1143000" cy="673200"/>
              <a:chOff x="1238040" y="2577960"/>
              <a:chExt cx="1143000" cy="673200"/>
            </a:xfrm>
          </p:grpSpPr>
          <p:sp>
            <p:nvSpPr>
              <p:cNvPr id="1557" name=""/>
              <p:cNvSpPr/>
              <p:nvPr/>
            </p:nvSpPr>
            <p:spPr>
              <a:xfrm>
                <a:off x="1238040" y="2685960"/>
                <a:ext cx="3430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238040" y="3143160"/>
                <a:ext cx="3430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473120" y="2577960"/>
                <a:ext cx="673200" cy="6732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550520" y="2643120"/>
                <a:ext cx="505800" cy="55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240" rIns="138240" tIns="69840" bIns="69840" anchor="t">
                <a:spAutoFit/>
              </a:bodyPr>
              <a:p>
                <a:pPr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0" lang="en-US" sz="27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52440" y="291456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62" name=""/>
            <p:cNvSpPr/>
            <p:nvPr/>
          </p:nvSpPr>
          <p:spPr>
            <a:xfrm>
              <a:off x="666720" y="2343240"/>
              <a:ext cx="799920" cy="457200"/>
            </a:xfrm>
            <a:prstGeom prst="parallelogram">
              <a:avLst>
                <a:gd name="adj" fmla="val 43732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80840" y="2914560"/>
              <a:ext cx="457200" cy="457200"/>
            </a:xfrm>
            <a:prstGeom prst="diamond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b1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33520" y="4648320"/>
            <a:ext cx="1143000" cy="685800"/>
            <a:chOff x="533520" y="4648320"/>
            <a:chExt cx="1143000" cy="685800"/>
          </a:xfrm>
        </p:grpSpPr>
        <p:grpSp>
          <p:nvGrpSpPr>
            <p:cNvPr id="1565" name=""/>
            <p:cNvGrpSpPr/>
            <p:nvPr/>
          </p:nvGrpSpPr>
          <p:grpSpPr>
            <a:xfrm>
              <a:off x="914400" y="4807080"/>
              <a:ext cx="762120" cy="444240"/>
              <a:chOff x="914400" y="4807080"/>
              <a:chExt cx="762120" cy="444240"/>
            </a:xfrm>
          </p:grpSpPr>
          <p:sp>
            <p:nvSpPr>
              <p:cNvPr id="1566" name=""/>
              <p:cNvSpPr/>
              <p:nvPr/>
            </p:nvSpPr>
            <p:spPr>
              <a:xfrm>
                <a:off x="914400" y="48769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914400" y="51814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073160" y="4807080"/>
                <a:ext cx="444600" cy="444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122120" y="484812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523880" y="502920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71" name=""/>
            <p:cNvSpPr/>
            <p:nvPr/>
          </p:nvSpPr>
          <p:spPr>
            <a:xfrm>
              <a:off x="533520" y="4648320"/>
              <a:ext cx="533160" cy="304560"/>
            </a:xfrm>
            <a:prstGeom prst="parallelogram">
              <a:avLst>
                <a:gd name="adj" fmla="val 4375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09480" y="5029200"/>
              <a:ext cx="304920" cy="304920"/>
            </a:xfrm>
            <a:prstGeom prst="diamond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b1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2533320" y="3359160"/>
            <a:ext cx="1485360" cy="793800"/>
            <a:chOff x="2533320" y="3359160"/>
            <a:chExt cx="1485360" cy="793800"/>
          </a:xfrm>
        </p:grpSpPr>
        <p:grpSp>
          <p:nvGrpSpPr>
            <p:cNvPr id="1574" name=""/>
            <p:cNvGrpSpPr/>
            <p:nvPr/>
          </p:nvGrpSpPr>
          <p:grpSpPr>
            <a:xfrm>
              <a:off x="3105000" y="3359160"/>
              <a:ext cx="913680" cy="673200"/>
              <a:chOff x="3105000" y="3359160"/>
              <a:chExt cx="913680" cy="673200"/>
            </a:xfrm>
          </p:grpSpPr>
          <p:sp>
            <p:nvSpPr>
              <p:cNvPr id="1575" name=""/>
              <p:cNvSpPr/>
              <p:nvPr/>
            </p:nvSpPr>
            <p:spPr>
              <a:xfrm>
                <a:off x="3339720" y="3359160"/>
                <a:ext cx="443880" cy="6732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240" rIns="138240" tIns="69840" bIns="69840" anchor="ctr">
                <a:noAutofit/>
              </a:bodyPr>
              <a:p>
                <a:pPr algn="ctr"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0" lang="en-US" sz="2700" spc="-1" strike="noStrike">
                    <a:solidFill>
                      <a:srgbClr val="ffffcc"/>
                    </a:solidFill>
                    <a:latin typeface="Times New Roman"/>
                  </a:rPr>
                  <a:t>Sr</a:t>
                </a:r>
                <a:endParaRPr b="0" lang="en-US" sz="2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105000" y="3467160"/>
                <a:ext cx="2282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105000" y="3924360"/>
                <a:ext cx="2282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790440" y="3467160"/>
                <a:ext cx="2282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 rot="5400000">
              <a:off x="2647440" y="3353040"/>
              <a:ext cx="343080" cy="571320"/>
            </a:xfrm>
            <a:prstGeom prst="rtTriangle">
              <a:avLst/>
            </a:prstGeom>
            <a:gradFill rotWithShape="0">
              <a:gsLst>
                <a:gs pos="0">
                  <a:srgbClr val="ffe4c9"/>
                </a:gs>
                <a:gs pos="50000">
                  <a:srgbClr val="b19e8b"/>
                </a:gs>
                <a:gs pos="100000">
                  <a:srgbClr val="ffe4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647800" y="3810240"/>
              <a:ext cx="570960" cy="342720"/>
            </a:xfrm>
            <a:prstGeom prst="parallelogram">
              <a:avLst>
                <a:gd name="adj" fmla="val 41641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76320" y="3968640"/>
            <a:ext cx="990360" cy="527040"/>
            <a:chOff x="76320" y="3968640"/>
            <a:chExt cx="990360" cy="527040"/>
          </a:xfrm>
        </p:grpSpPr>
        <p:grpSp>
          <p:nvGrpSpPr>
            <p:cNvPr id="1582" name=""/>
            <p:cNvGrpSpPr/>
            <p:nvPr/>
          </p:nvGrpSpPr>
          <p:grpSpPr>
            <a:xfrm>
              <a:off x="457200" y="3968640"/>
              <a:ext cx="609480" cy="444600"/>
              <a:chOff x="457200" y="3968640"/>
              <a:chExt cx="609480" cy="444600"/>
            </a:xfrm>
          </p:grpSpPr>
          <p:sp>
            <p:nvSpPr>
              <p:cNvPr id="1583" name=""/>
              <p:cNvSpPr/>
              <p:nvPr/>
            </p:nvSpPr>
            <p:spPr>
              <a:xfrm>
                <a:off x="615960" y="3968640"/>
                <a:ext cx="291960" cy="444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Sr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57200" y="40384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57200" y="43434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914400" y="40384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 rot="5400000">
              <a:off x="152280" y="3962160"/>
              <a:ext cx="228600" cy="380880"/>
            </a:xfrm>
            <a:prstGeom prst="rtTriangle">
              <a:avLst/>
            </a:prstGeom>
            <a:gradFill rotWithShape="0">
              <a:gsLst>
                <a:gs pos="0">
                  <a:srgbClr val="ffe4c9"/>
                </a:gs>
                <a:gs pos="50000">
                  <a:srgbClr val="b19e8b"/>
                </a:gs>
                <a:gs pos="100000">
                  <a:srgbClr val="ffe4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52280" y="4267080"/>
              <a:ext cx="381240" cy="228600"/>
            </a:xfrm>
            <a:prstGeom prst="parallelogram">
              <a:avLst>
                <a:gd name="adj" fmla="val 4168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6058080" y="2733840"/>
            <a:ext cx="1600200" cy="856800"/>
            <a:chOff x="6058080" y="2733840"/>
            <a:chExt cx="1600200" cy="856800"/>
          </a:xfrm>
        </p:grpSpPr>
        <p:grpSp>
          <p:nvGrpSpPr>
            <p:cNvPr id="1590" name=""/>
            <p:cNvGrpSpPr/>
            <p:nvPr/>
          </p:nvGrpSpPr>
          <p:grpSpPr>
            <a:xfrm>
              <a:off x="6743880" y="2797200"/>
              <a:ext cx="914400" cy="672480"/>
              <a:chOff x="6743880" y="2797200"/>
              <a:chExt cx="914400" cy="672480"/>
            </a:xfrm>
          </p:grpSpPr>
          <p:sp>
            <p:nvSpPr>
              <p:cNvPr id="1591" name=""/>
              <p:cNvSpPr/>
              <p:nvPr/>
            </p:nvSpPr>
            <p:spPr>
              <a:xfrm>
                <a:off x="6978600" y="2797200"/>
                <a:ext cx="444600" cy="6724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240" rIns="138240" tIns="69840" bIns="69840" anchor="ctr">
                <a:noAutofit/>
              </a:bodyPr>
              <a:p>
                <a:pPr algn="ctr"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0" lang="en-US" sz="27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2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743880" y="29048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429680" y="29048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743880" y="33620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95" name=""/>
            <p:cNvSpPr/>
            <p:nvPr/>
          </p:nvSpPr>
          <p:spPr>
            <a:xfrm>
              <a:off x="6058080" y="2733840"/>
              <a:ext cx="685800" cy="342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8d0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172200" y="3247920"/>
              <a:ext cx="571680" cy="3427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6553080" y="4610160"/>
            <a:ext cx="1067040" cy="571320"/>
            <a:chOff x="6553080" y="4610160"/>
            <a:chExt cx="1067040" cy="571320"/>
          </a:xfrm>
        </p:grpSpPr>
        <p:grpSp>
          <p:nvGrpSpPr>
            <p:cNvPr id="1598" name=""/>
            <p:cNvGrpSpPr/>
            <p:nvPr/>
          </p:nvGrpSpPr>
          <p:grpSpPr>
            <a:xfrm>
              <a:off x="7010280" y="4654440"/>
              <a:ext cx="609840" cy="444600"/>
              <a:chOff x="7010280" y="4654440"/>
              <a:chExt cx="609840" cy="444600"/>
            </a:xfrm>
          </p:grpSpPr>
          <p:sp>
            <p:nvSpPr>
              <p:cNvPr id="1599" name=""/>
              <p:cNvSpPr/>
              <p:nvPr/>
            </p:nvSpPr>
            <p:spPr>
              <a:xfrm>
                <a:off x="7169040" y="4654440"/>
                <a:ext cx="292320" cy="444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10280" y="4724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467480" y="4724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10280" y="502920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6553080" y="461016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8d0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629400" y="4952880"/>
              <a:ext cx="380880" cy="228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05" name=""/>
          <p:cNvSpPr/>
          <p:nvPr/>
        </p:nvSpPr>
        <p:spPr>
          <a:xfrm>
            <a:off x="625320" y="291960"/>
            <a:ext cx="654120" cy="520920"/>
          </a:xfrm>
          <a:prstGeom prst="rightArrow">
            <a:avLst>
              <a:gd name="adj1" fmla="val 50000"/>
              <a:gd name="adj2" fmla="val 62791"/>
            </a:avLst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588000" y="368280"/>
            <a:ext cx="768600" cy="596880"/>
          </a:xfrm>
          <a:prstGeom prst="leftArrow">
            <a:avLst>
              <a:gd name="adj1" fmla="val 50000"/>
              <a:gd name="adj2" fmla="val 64379"/>
            </a:avLst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806560" y="1266840"/>
            <a:ext cx="2176560" cy="696960"/>
          </a:xfrm>
          <a:custGeom>
            <a:avLst/>
            <a:gdLst/>
            <a:ahLst/>
            <a:rect l="l" t="t" r="r" b="b"/>
            <a:pathLst>
              <a:path w="1371" h="439">
                <a:moveTo>
                  <a:pt x="5" y="291"/>
                </a:moveTo>
                <a:lnTo>
                  <a:pt x="0" y="385"/>
                </a:lnTo>
                <a:lnTo>
                  <a:pt x="295" y="354"/>
                </a:lnTo>
                <a:lnTo>
                  <a:pt x="231" y="337"/>
                </a:lnTo>
                <a:lnTo>
                  <a:pt x="297" y="315"/>
                </a:lnTo>
                <a:lnTo>
                  <a:pt x="363" y="287"/>
                </a:lnTo>
                <a:lnTo>
                  <a:pt x="416" y="266"/>
                </a:lnTo>
                <a:lnTo>
                  <a:pt x="474" y="240"/>
                </a:lnTo>
                <a:lnTo>
                  <a:pt x="535" y="207"/>
                </a:lnTo>
                <a:lnTo>
                  <a:pt x="584" y="171"/>
                </a:lnTo>
                <a:lnTo>
                  <a:pt x="585" y="361"/>
                </a:lnTo>
                <a:lnTo>
                  <a:pt x="505" y="361"/>
                </a:lnTo>
                <a:lnTo>
                  <a:pt x="682" y="438"/>
                </a:lnTo>
                <a:lnTo>
                  <a:pt x="858" y="361"/>
                </a:lnTo>
                <a:lnTo>
                  <a:pt x="781" y="362"/>
                </a:lnTo>
                <a:lnTo>
                  <a:pt x="781" y="169"/>
                </a:lnTo>
                <a:lnTo>
                  <a:pt x="832" y="205"/>
                </a:lnTo>
                <a:lnTo>
                  <a:pt x="881" y="234"/>
                </a:lnTo>
                <a:lnTo>
                  <a:pt x="939" y="261"/>
                </a:lnTo>
                <a:lnTo>
                  <a:pt x="1007" y="288"/>
                </a:lnTo>
                <a:lnTo>
                  <a:pt x="1057" y="310"/>
                </a:lnTo>
                <a:lnTo>
                  <a:pt x="1133" y="337"/>
                </a:lnTo>
                <a:lnTo>
                  <a:pt x="1075" y="354"/>
                </a:lnTo>
                <a:lnTo>
                  <a:pt x="1370" y="386"/>
                </a:lnTo>
                <a:lnTo>
                  <a:pt x="1362" y="291"/>
                </a:lnTo>
                <a:lnTo>
                  <a:pt x="1289" y="305"/>
                </a:lnTo>
                <a:lnTo>
                  <a:pt x="1232" y="278"/>
                </a:lnTo>
                <a:lnTo>
                  <a:pt x="1164" y="249"/>
                </a:lnTo>
                <a:lnTo>
                  <a:pt x="1110" y="223"/>
                </a:lnTo>
                <a:lnTo>
                  <a:pt x="1060" y="199"/>
                </a:lnTo>
                <a:lnTo>
                  <a:pt x="1019" y="176"/>
                </a:lnTo>
                <a:lnTo>
                  <a:pt x="979" y="152"/>
                </a:lnTo>
                <a:lnTo>
                  <a:pt x="936" y="122"/>
                </a:lnTo>
                <a:lnTo>
                  <a:pt x="916" y="92"/>
                </a:lnTo>
                <a:lnTo>
                  <a:pt x="915" y="0"/>
                </a:lnTo>
                <a:lnTo>
                  <a:pt x="457" y="0"/>
                </a:lnTo>
                <a:lnTo>
                  <a:pt x="457" y="91"/>
                </a:lnTo>
                <a:lnTo>
                  <a:pt x="436" y="122"/>
                </a:lnTo>
                <a:lnTo>
                  <a:pt x="382" y="159"/>
                </a:lnTo>
                <a:lnTo>
                  <a:pt x="337" y="183"/>
                </a:lnTo>
                <a:lnTo>
                  <a:pt x="298" y="204"/>
                </a:lnTo>
                <a:lnTo>
                  <a:pt x="250" y="228"/>
                </a:lnTo>
                <a:lnTo>
                  <a:pt x="201" y="251"/>
                </a:lnTo>
                <a:lnTo>
                  <a:pt x="144" y="276"/>
                </a:lnTo>
                <a:lnTo>
                  <a:pt x="78" y="306"/>
                </a:lnTo>
                <a:lnTo>
                  <a:pt x="5" y="291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A9FF-D7FD-4D9D-8956-7B6A9BFD5F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Outli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ogic decompos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Hazard-free decomposi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gnal inse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echnology mapp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Optimization based on timing inform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elative tim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ming assumptions and constrai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Other synthesis paradig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HDLs, CSP, burst-mode, 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30E0-5D74-4689-9271-6BC1BE8AA5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/>
          <p:nvPr/>
        </p:nvSpPr>
        <p:spPr>
          <a:xfrm>
            <a:off x="60480" y="243000"/>
            <a:ext cx="1082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ff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7319880" y="6480"/>
            <a:ext cx="1816200" cy="1434960"/>
            <a:chOff x="7319880" y="6480"/>
            <a:chExt cx="1816200" cy="1434960"/>
          </a:xfrm>
        </p:grpSpPr>
        <p:sp>
          <p:nvSpPr>
            <p:cNvPr id="1610" name=""/>
            <p:cNvSpPr/>
            <p:nvPr/>
          </p:nvSpPr>
          <p:spPr>
            <a:xfrm>
              <a:off x="7319880" y="6480"/>
              <a:ext cx="1816200" cy="143496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7466040" y="228600"/>
              <a:ext cx="1523880" cy="1060560"/>
              <a:chOff x="7466040" y="228600"/>
              <a:chExt cx="1523880" cy="1060560"/>
            </a:xfrm>
          </p:grpSpPr>
          <p:grpSp>
            <p:nvGrpSpPr>
              <p:cNvPr id="1612" name=""/>
              <p:cNvGrpSpPr/>
              <p:nvPr/>
            </p:nvGrpSpPr>
            <p:grpSpPr>
              <a:xfrm>
                <a:off x="7466040" y="844560"/>
                <a:ext cx="762120" cy="444600"/>
                <a:chOff x="7466040" y="844560"/>
                <a:chExt cx="762120" cy="44460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7466040" y="91440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7466040" y="121932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7624800" y="844560"/>
                  <a:ext cx="444600" cy="444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673760" y="885960"/>
                  <a:ext cx="337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8075520" y="1066680"/>
                  <a:ext cx="1526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8" name=""/>
              <p:cNvGrpSpPr/>
              <p:nvPr/>
            </p:nvGrpSpPr>
            <p:grpSpPr>
              <a:xfrm>
                <a:off x="8380440" y="235080"/>
                <a:ext cx="609480" cy="444240"/>
                <a:chOff x="8380440" y="235080"/>
                <a:chExt cx="609480" cy="444240"/>
              </a:xfrm>
            </p:grpSpPr>
            <p:sp>
              <p:nvSpPr>
                <p:cNvPr id="1619" name=""/>
                <p:cNvSpPr/>
                <p:nvPr/>
              </p:nvSpPr>
              <p:spPr>
                <a:xfrm>
                  <a:off x="8539200" y="235080"/>
                  <a:ext cx="291960" cy="44424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Sr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3804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380440" y="60948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88376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8380440" y="844560"/>
                <a:ext cx="609480" cy="444600"/>
                <a:chOff x="8380440" y="844560"/>
                <a:chExt cx="609480" cy="44460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8539200" y="844560"/>
                  <a:ext cx="291960" cy="44460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D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380440" y="9144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8837640" y="9144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8380440" y="1219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8" name=""/>
              <p:cNvGrpSpPr/>
              <p:nvPr/>
            </p:nvGrpSpPr>
            <p:grpSpPr>
              <a:xfrm>
                <a:off x="7466040" y="228600"/>
                <a:ext cx="762120" cy="458640"/>
                <a:chOff x="7466040" y="228600"/>
                <a:chExt cx="762120" cy="458640"/>
              </a:xfrm>
            </p:grpSpPr>
            <p:grpSp>
              <p:nvGrpSpPr>
                <p:cNvPr id="1629" name=""/>
                <p:cNvGrpSpPr/>
                <p:nvPr/>
              </p:nvGrpSpPr>
              <p:grpSpPr>
                <a:xfrm>
                  <a:off x="7618320" y="228600"/>
                  <a:ext cx="609840" cy="458640"/>
                  <a:chOff x="7618320" y="228600"/>
                  <a:chExt cx="609840" cy="458640"/>
                </a:xfrm>
              </p:grpSpPr>
              <p:grpSp>
                <p:nvGrpSpPr>
                  <p:cNvPr id="1630" name=""/>
                  <p:cNvGrpSpPr/>
                  <p:nvPr/>
                </p:nvGrpSpPr>
                <p:grpSpPr>
                  <a:xfrm>
                    <a:off x="7618320" y="228600"/>
                    <a:ext cx="451080" cy="458640"/>
                    <a:chOff x="7618320" y="228600"/>
                    <a:chExt cx="451080" cy="458640"/>
                  </a:xfrm>
                </p:grpSpPr>
                <p:sp>
                  <p:nvSpPr>
                    <p:cNvPr id="1631" name=""/>
                    <p:cNvSpPr/>
                    <p:nvPr/>
                  </p:nvSpPr>
                  <p:spPr>
                    <a:xfrm>
                      <a:off x="7624800" y="235080"/>
                      <a:ext cx="444600" cy="4442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2" name=""/>
                    <p:cNvSpPr/>
                    <p:nvPr/>
                  </p:nvSpPr>
                  <p:spPr>
                    <a:xfrm>
                      <a:off x="7618320" y="228600"/>
                      <a:ext cx="230400" cy="45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289">
                          <a:moveTo>
                            <a:pt x="144" y="0"/>
                          </a:moveTo>
                          <a:lnTo>
                            <a:pt x="0" y="0"/>
                          </a:lnTo>
                          <a:lnTo>
                            <a:pt x="0" y="288"/>
                          </a:lnTo>
                          <a:lnTo>
                            <a:pt x="144" y="288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3" name=""/>
                  <p:cNvSpPr/>
                  <p:nvPr/>
                </p:nvSpPr>
                <p:spPr>
                  <a:xfrm>
                    <a:off x="8075520" y="457200"/>
                    <a:ext cx="15264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8082000" y="425520"/>
                    <a:ext cx="63360" cy="6336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35" name=""/>
                <p:cNvSpPr/>
                <p:nvPr/>
              </p:nvSpPr>
              <p:spPr>
                <a:xfrm>
                  <a:off x="74660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7466040" y="60948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37" name=""/>
          <p:cNvSpPr/>
          <p:nvPr/>
        </p:nvSpPr>
        <p:spPr>
          <a:xfrm>
            <a:off x="2063880" y="4883040"/>
            <a:ext cx="3720960" cy="1282680"/>
          </a:xfrm>
          <a:prstGeom prst="roundRect">
            <a:avLst>
              <a:gd name="adj" fmla="val 12495"/>
            </a:avLst>
          </a:prstGeom>
          <a:solidFill>
            <a:srgbClr val="80808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zard-free 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vent inser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38" name=""/>
          <p:cNvGraphicFramePr/>
          <p:nvPr/>
        </p:nvGraphicFramePr>
        <p:xfrm>
          <a:off x="2736720" y="4114800"/>
          <a:ext cx="245268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4114800"/>
                    <a:ext cx="24526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0" name=""/>
          <p:cNvGrpSpPr/>
          <p:nvPr/>
        </p:nvGrpSpPr>
        <p:grpSpPr>
          <a:xfrm>
            <a:off x="365400" y="5187960"/>
            <a:ext cx="1685520" cy="1640160"/>
            <a:chOff x="365400" y="5187960"/>
            <a:chExt cx="1685520" cy="1640160"/>
          </a:xfrm>
        </p:grpSpPr>
        <p:sp>
          <p:nvSpPr>
            <p:cNvPr id="1641" name=""/>
            <p:cNvSpPr/>
            <p:nvPr/>
          </p:nvSpPr>
          <p:spPr>
            <a:xfrm>
              <a:off x="1530360" y="5187960"/>
              <a:ext cx="520560" cy="749160"/>
            </a:xfrm>
            <a:prstGeom prst="leftArrow">
              <a:avLst>
                <a:gd name="adj1" fmla="val 75009"/>
                <a:gd name="adj2" fmla="val 4999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18d4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65400" y="6126120"/>
              <a:ext cx="945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ff33"/>
                  </a:solidFill>
                  <a:latin typeface="Arial"/>
                </a:rPr>
                <a:t>NO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0" y="5485680"/>
            <a:ext cx="1219320" cy="610200"/>
            <a:chOff x="0" y="5485680"/>
            <a:chExt cx="1219320" cy="610200"/>
          </a:xfrm>
        </p:grpSpPr>
        <p:grpSp>
          <p:nvGrpSpPr>
            <p:cNvPr id="1644" name=""/>
            <p:cNvGrpSpPr/>
            <p:nvPr/>
          </p:nvGrpSpPr>
          <p:grpSpPr>
            <a:xfrm>
              <a:off x="457200" y="5562720"/>
              <a:ext cx="762120" cy="458640"/>
              <a:chOff x="457200" y="5562720"/>
              <a:chExt cx="762120" cy="458640"/>
            </a:xfrm>
          </p:grpSpPr>
          <p:grpSp>
            <p:nvGrpSpPr>
              <p:cNvPr id="1645" name=""/>
              <p:cNvGrpSpPr/>
              <p:nvPr/>
            </p:nvGrpSpPr>
            <p:grpSpPr>
              <a:xfrm>
                <a:off x="609480" y="5562720"/>
                <a:ext cx="609840" cy="458640"/>
                <a:chOff x="609480" y="5562720"/>
                <a:chExt cx="609840" cy="458640"/>
              </a:xfrm>
            </p:grpSpPr>
            <p:grpSp>
              <p:nvGrpSpPr>
                <p:cNvPr id="1646" name=""/>
                <p:cNvGrpSpPr/>
                <p:nvPr/>
              </p:nvGrpSpPr>
              <p:grpSpPr>
                <a:xfrm>
                  <a:off x="609480" y="5562720"/>
                  <a:ext cx="451080" cy="458640"/>
                  <a:chOff x="609480" y="5562720"/>
                  <a:chExt cx="451080" cy="458640"/>
                </a:xfrm>
              </p:grpSpPr>
              <p:sp>
                <p:nvSpPr>
                  <p:cNvPr id="1647" name=""/>
                  <p:cNvSpPr/>
                  <p:nvPr/>
                </p:nvSpPr>
                <p:spPr>
                  <a:xfrm>
                    <a:off x="615960" y="5568840"/>
                    <a:ext cx="444600" cy="4446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609480" y="5562720"/>
                    <a:ext cx="23040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89">
                        <a:moveTo>
                          <a:pt x="144" y="0"/>
                        </a:moveTo>
                        <a:lnTo>
                          <a:pt x="0" y="0"/>
                        </a:lnTo>
                        <a:lnTo>
                          <a:pt x="0" y="288"/>
                        </a:lnTo>
                        <a:lnTo>
                          <a:pt x="144" y="28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9" name=""/>
                <p:cNvSpPr/>
                <p:nvPr/>
              </p:nvSpPr>
              <p:spPr>
                <a:xfrm>
                  <a:off x="1066680" y="5791320"/>
                  <a:ext cx="1526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1073160" y="5759280"/>
                  <a:ext cx="63360" cy="637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1" name=""/>
              <p:cNvSpPr/>
              <p:nvPr/>
            </p:nvSpPr>
            <p:spPr>
              <a:xfrm>
                <a:off x="457200" y="56386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57200" y="59436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53" name=""/>
            <p:cNvSpPr/>
            <p:nvPr/>
          </p:nvSpPr>
          <p:spPr>
            <a:xfrm flipH="1" flipV="1" rot="10800000">
              <a:off x="0" y="5485320"/>
              <a:ext cx="533520" cy="22860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33"/>
                </a:gs>
                <a:gs pos="100000">
                  <a:srgbClr val="2346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0" y="5867280"/>
              <a:ext cx="533520" cy="228600"/>
            </a:xfrm>
            <a:prstGeom prst="parallelogram">
              <a:avLst>
                <a:gd name="adj" fmla="val 58335"/>
              </a:avLst>
            </a:prstGeom>
            <a:gradFill rotWithShape="0">
              <a:gsLst>
                <a:gs pos="0">
                  <a:srgbClr val="ffe4c9"/>
                </a:gs>
                <a:gs pos="100000">
                  <a:srgbClr val="b19e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5797440" y="5187960"/>
            <a:ext cx="2625480" cy="1643400"/>
            <a:chOff x="5797440" y="5187960"/>
            <a:chExt cx="2625480" cy="1643400"/>
          </a:xfrm>
        </p:grpSpPr>
        <p:sp>
          <p:nvSpPr>
            <p:cNvPr id="1656" name=""/>
            <p:cNvSpPr/>
            <p:nvPr/>
          </p:nvSpPr>
          <p:spPr>
            <a:xfrm>
              <a:off x="5797440" y="5187960"/>
              <a:ext cx="520920" cy="749160"/>
            </a:xfrm>
            <a:prstGeom prst="rightArrow">
              <a:avLst>
                <a:gd name="adj1" fmla="val 75009"/>
                <a:gd name="adj2" fmla="val 5000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18d4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223040" y="6129360"/>
              <a:ext cx="11998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ff33"/>
                  </a:solidFill>
                  <a:latin typeface="Arial"/>
                </a:rPr>
                <a:t>YE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6553080" y="5334120"/>
            <a:ext cx="1219320" cy="685800"/>
            <a:chOff x="6553080" y="5334120"/>
            <a:chExt cx="1219320" cy="685800"/>
          </a:xfrm>
        </p:grpSpPr>
        <p:grpSp>
          <p:nvGrpSpPr>
            <p:cNvPr id="1659" name=""/>
            <p:cNvGrpSpPr/>
            <p:nvPr/>
          </p:nvGrpSpPr>
          <p:grpSpPr>
            <a:xfrm>
              <a:off x="7010280" y="5486400"/>
              <a:ext cx="762120" cy="458640"/>
              <a:chOff x="7010280" y="5486400"/>
              <a:chExt cx="762120" cy="458640"/>
            </a:xfrm>
          </p:grpSpPr>
          <p:grpSp>
            <p:nvGrpSpPr>
              <p:cNvPr id="1660" name=""/>
              <p:cNvGrpSpPr/>
              <p:nvPr/>
            </p:nvGrpSpPr>
            <p:grpSpPr>
              <a:xfrm>
                <a:off x="7162920" y="5486400"/>
                <a:ext cx="609480" cy="458640"/>
                <a:chOff x="7162920" y="5486400"/>
                <a:chExt cx="609480" cy="458640"/>
              </a:xfrm>
            </p:grpSpPr>
            <p:grpSp>
              <p:nvGrpSpPr>
                <p:cNvPr id="1661" name=""/>
                <p:cNvGrpSpPr/>
                <p:nvPr/>
              </p:nvGrpSpPr>
              <p:grpSpPr>
                <a:xfrm>
                  <a:off x="7162920" y="5486400"/>
                  <a:ext cx="450720" cy="458640"/>
                  <a:chOff x="7162920" y="5486400"/>
                  <a:chExt cx="450720" cy="458640"/>
                </a:xfrm>
              </p:grpSpPr>
              <p:sp>
                <p:nvSpPr>
                  <p:cNvPr id="1662" name=""/>
                  <p:cNvSpPr/>
                  <p:nvPr/>
                </p:nvSpPr>
                <p:spPr>
                  <a:xfrm>
                    <a:off x="7169040" y="5492880"/>
                    <a:ext cx="444600" cy="4442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>
                    <a:off x="7162920" y="5486400"/>
                    <a:ext cx="23004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89">
                        <a:moveTo>
                          <a:pt x="144" y="0"/>
                        </a:moveTo>
                        <a:lnTo>
                          <a:pt x="0" y="0"/>
                        </a:lnTo>
                        <a:lnTo>
                          <a:pt x="0" y="288"/>
                        </a:lnTo>
                        <a:lnTo>
                          <a:pt x="144" y="28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4" name=""/>
                <p:cNvSpPr/>
                <p:nvPr/>
              </p:nvSpPr>
              <p:spPr>
                <a:xfrm>
                  <a:off x="7620120" y="57150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7626240" y="5683320"/>
                  <a:ext cx="63720" cy="6336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6" name=""/>
              <p:cNvSpPr/>
              <p:nvPr/>
            </p:nvSpPr>
            <p:spPr>
              <a:xfrm>
                <a:off x="7010280" y="556272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010280" y="5867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6553080" y="5334120"/>
              <a:ext cx="533520" cy="30456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36ab1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553080" y="5715000"/>
              <a:ext cx="457200" cy="304920"/>
            </a:xfrm>
            <a:prstGeom prst="hexagon">
              <a:avLst>
                <a:gd name="adj" fmla="val 37478"/>
                <a:gd name="vf" fmla="val 115470"/>
              </a:avLst>
            </a:prstGeom>
            <a:gradFill rotWithShape="0">
              <a:gsLst>
                <a:gs pos="0">
                  <a:srgbClr val="6ab123"/>
                </a:gs>
                <a:gs pos="50000">
                  <a:srgbClr val="99ff33"/>
                </a:gs>
                <a:gs pos="100000">
                  <a:srgbClr val="6a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7696080" y="4952880"/>
            <a:ext cx="1371600" cy="685800"/>
            <a:chOff x="7696080" y="4952880"/>
            <a:chExt cx="1371600" cy="685800"/>
          </a:xfrm>
        </p:grpSpPr>
        <p:grpSp>
          <p:nvGrpSpPr>
            <p:cNvPr id="1671" name=""/>
            <p:cNvGrpSpPr/>
            <p:nvPr/>
          </p:nvGrpSpPr>
          <p:grpSpPr>
            <a:xfrm>
              <a:off x="8305920" y="5035680"/>
              <a:ext cx="761760" cy="444240"/>
              <a:chOff x="8305920" y="5035680"/>
              <a:chExt cx="761760" cy="444240"/>
            </a:xfrm>
          </p:grpSpPr>
          <p:sp>
            <p:nvSpPr>
              <p:cNvPr id="1672" name=""/>
              <p:cNvSpPr/>
              <p:nvPr/>
            </p:nvSpPr>
            <p:spPr>
              <a:xfrm>
                <a:off x="8305920" y="51055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8305920" y="54100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8464680" y="5035680"/>
                <a:ext cx="444240" cy="444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8513280" y="507672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8915400" y="52578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77" name=""/>
            <p:cNvSpPr/>
            <p:nvPr/>
          </p:nvSpPr>
          <p:spPr>
            <a:xfrm>
              <a:off x="7696080" y="4952880"/>
              <a:ext cx="609840" cy="22860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46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001000" y="525780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79" name=""/>
          <p:cNvGrpSpPr/>
          <p:nvPr/>
        </p:nvGrpSpPr>
        <p:grpSpPr>
          <a:xfrm>
            <a:off x="533520" y="4648320"/>
            <a:ext cx="1143000" cy="685800"/>
            <a:chOff x="533520" y="4648320"/>
            <a:chExt cx="1143000" cy="685800"/>
          </a:xfrm>
        </p:grpSpPr>
        <p:grpSp>
          <p:nvGrpSpPr>
            <p:cNvPr id="1680" name=""/>
            <p:cNvGrpSpPr/>
            <p:nvPr/>
          </p:nvGrpSpPr>
          <p:grpSpPr>
            <a:xfrm>
              <a:off x="914400" y="4807080"/>
              <a:ext cx="762120" cy="444240"/>
              <a:chOff x="914400" y="4807080"/>
              <a:chExt cx="762120" cy="444240"/>
            </a:xfrm>
          </p:grpSpPr>
          <p:sp>
            <p:nvSpPr>
              <p:cNvPr id="1681" name=""/>
              <p:cNvSpPr/>
              <p:nvPr/>
            </p:nvSpPr>
            <p:spPr>
              <a:xfrm>
                <a:off x="914400" y="48769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914400" y="51814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73160" y="4807080"/>
                <a:ext cx="444600" cy="444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122120" y="484812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523880" y="502920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86" name=""/>
            <p:cNvSpPr/>
            <p:nvPr/>
          </p:nvSpPr>
          <p:spPr>
            <a:xfrm>
              <a:off x="533520" y="4648320"/>
              <a:ext cx="533160" cy="304560"/>
            </a:xfrm>
            <a:prstGeom prst="parallelogram">
              <a:avLst>
                <a:gd name="adj" fmla="val 4375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09480" y="5029200"/>
              <a:ext cx="304920" cy="304920"/>
            </a:xfrm>
            <a:prstGeom prst="diamond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b1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76320" y="3968640"/>
            <a:ext cx="990360" cy="527040"/>
            <a:chOff x="76320" y="3968640"/>
            <a:chExt cx="990360" cy="527040"/>
          </a:xfrm>
        </p:grpSpPr>
        <p:grpSp>
          <p:nvGrpSpPr>
            <p:cNvPr id="1689" name=""/>
            <p:cNvGrpSpPr/>
            <p:nvPr/>
          </p:nvGrpSpPr>
          <p:grpSpPr>
            <a:xfrm>
              <a:off x="457200" y="3968640"/>
              <a:ext cx="609480" cy="444600"/>
              <a:chOff x="457200" y="3968640"/>
              <a:chExt cx="609480" cy="444600"/>
            </a:xfrm>
          </p:grpSpPr>
          <p:sp>
            <p:nvSpPr>
              <p:cNvPr id="1690" name=""/>
              <p:cNvSpPr/>
              <p:nvPr/>
            </p:nvSpPr>
            <p:spPr>
              <a:xfrm>
                <a:off x="615960" y="3968640"/>
                <a:ext cx="291960" cy="444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Sr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57200" y="40384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57200" y="43434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914400" y="40384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94" name=""/>
            <p:cNvSpPr/>
            <p:nvPr/>
          </p:nvSpPr>
          <p:spPr>
            <a:xfrm rot="5400000">
              <a:off x="152280" y="3962160"/>
              <a:ext cx="228600" cy="380880"/>
            </a:xfrm>
            <a:prstGeom prst="rtTriangle">
              <a:avLst/>
            </a:prstGeom>
            <a:gradFill rotWithShape="0">
              <a:gsLst>
                <a:gs pos="0">
                  <a:srgbClr val="ffe4c9"/>
                </a:gs>
                <a:gs pos="50000">
                  <a:srgbClr val="b19e8b"/>
                </a:gs>
                <a:gs pos="100000">
                  <a:srgbClr val="ffe4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52280" y="4267080"/>
              <a:ext cx="381240" cy="228600"/>
            </a:xfrm>
            <a:prstGeom prst="parallelogram">
              <a:avLst>
                <a:gd name="adj" fmla="val 4168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6553080" y="4610160"/>
            <a:ext cx="1067040" cy="571320"/>
            <a:chOff x="6553080" y="4610160"/>
            <a:chExt cx="1067040" cy="571320"/>
          </a:xfrm>
        </p:grpSpPr>
        <p:grpSp>
          <p:nvGrpSpPr>
            <p:cNvPr id="1697" name=""/>
            <p:cNvGrpSpPr/>
            <p:nvPr/>
          </p:nvGrpSpPr>
          <p:grpSpPr>
            <a:xfrm>
              <a:off x="7010280" y="4654440"/>
              <a:ext cx="609840" cy="444600"/>
              <a:chOff x="7010280" y="4654440"/>
              <a:chExt cx="609840" cy="444600"/>
            </a:xfrm>
          </p:grpSpPr>
          <p:sp>
            <p:nvSpPr>
              <p:cNvPr id="1698" name=""/>
              <p:cNvSpPr/>
              <p:nvPr/>
            </p:nvSpPr>
            <p:spPr>
              <a:xfrm>
                <a:off x="7169040" y="4654440"/>
                <a:ext cx="292320" cy="444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010280" y="4724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467480" y="4724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010280" y="502920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02" name=""/>
            <p:cNvSpPr/>
            <p:nvPr/>
          </p:nvSpPr>
          <p:spPr>
            <a:xfrm>
              <a:off x="6553080" y="461016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8d0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629400" y="4952880"/>
              <a:ext cx="380880" cy="228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1704" name=""/>
          <p:cNvGraphicFramePr/>
          <p:nvPr/>
        </p:nvGraphicFramePr>
        <p:xfrm>
          <a:off x="1292400" y="1604880"/>
          <a:ext cx="1374480" cy="24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2400" y="1604880"/>
                    <a:ext cx="137448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6" name=""/>
          <p:cNvSpPr/>
          <p:nvPr/>
        </p:nvSpPr>
        <p:spPr>
          <a:xfrm>
            <a:off x="2882160" y="2627280"/>
            <a:ext cx="5160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until no more progre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282680" y="6480"/>
            <a:ext cx="5302440" cy="1244520"/>
          </a:xfrm>
          <a:prstGeom prst="roundRect">
            <a:avLst>
              <a:gd name="adj" fmla="val 12495"/>
            </a:avLst>
          </a:prstGeom>
          <a:solidFill>
            <a:srgbClr val="80808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mpos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gebraic, Boolean relation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5960" y="311040"/>
            <a:ext cx="654120" cy="520920"/>
          </a:xfrm>
          <a:prstGeom prst="rightArrow">
            <a:avLst>
              <a:gd name="adj1" fmla="val 50000"/>
              <a:gd name="adj2" fmla="val 62791"/>
            </a:avLst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578640" y="387360"/>
            <a:ext cx="768240" cy="596880"/>
          </a:xfrm>
          <a:prstGeom prst="leftArrow">
            <a:avLst>
              <a:gd name="adj1" fmla="val 50000"/>
              <a:gd name="adj2" fmla="val 64349"/>
            </a:avLst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797200" y="1285920"/>
            <a:ext cx="2176560" cy="696960"/>
          </a:xfrm>
          <a:custGeom>
            <a:avLst/>
            <a:gdLst/>
            <a:ahLst/>
            <a:rect l="l" t="t" r="r" b="b"/>
            <a:pathLst>
              <a:path w="1371" h="439">
                <a:moveTo>
                  <a:pt x="5" y="291"/>
                </a:moveTo>
                <a:lnTo>
                  <a:pt x="0" y="385"/>
                </a:lnTo>
                <a:lnTo>
                  <a:pt x="295" y="354"/>
                </a:lnTo>
                <a:lnTo>
                  <a:pt x="231" y="337"/>
                </a:lnTo>
                <a:lnTo>
                  <a:pt x="297" y="315"/>
                </a:lnTo>
                <a:lnTo>
                  <a:pt x="363" y="287"/>
                </a:lnTo>
                <a:lnTo>
                  <a:pt x="416" y="266"/>
                </a:lnTo>
                <a:lnTo>
                  <a:pt x="474" y="240"/>
                </a:lnTo>
                <a:lnTo>
                  <a:pt x="535" y="207"/>
                </a:lnTo>
                <a:lnTo>
                  <a:pt x="584" y="171"/>
                </a:lnTo>
                <a:lnTo>
                  <a:pt x="585" y="361"/>
                </a:lnTo>
                <a:lnTo>
                  <a:pt x="505" y="361"/>
                </a:lnTo>
                <a:lnTo>
                  <a:pt x="682" y="438"/>
                </a:lnTo>
                <a:lnTo>
                  <a:pt x="858" y="361"/>
                </a:lnTo>
                <a:lnTo>
                  <a:pt x="781" y="362"/>
                </a:lnTo>
                <a:lnTo>
                  <a:pt x="781" y="169"/>
                </a:lnTo>
                <a:lnTo>
                  <a:pt x="832" y="205"/>
                </a:lnTo>
                <a:lnTo>
                  <a:pt x="881" y="234"/>
                </a:lnTo>
                <a:lnTo>
                  <a:pt x="939" y="261"/>
                </a:lnTo>
                <a:lnTo>
                  <a:pt x="1007" y="288"/>
                </a:lnTo>
                <a:lnTo>
                  <a:pt x="1057" y="310"/>
                </a:lnTo>
                <a:lnTo>
                  <a:pt x="1133" y="337"/>
                </a:lnTo>
                <a:lnTo>
                  <a:pt x="1075" y="354"/>
                </a:lnTo>
                <a:lnTo>
                  <a:pt x="1370" y="386"/>
                </a:lnTo>
                <a:lnTo>
                  <a:pt x="1362" y="291"/>
                </a:lnTo>
                <a:lnTo>
                  <a:pt x="1289" y="305"/>
                </a:lnTo>
                <a:lnTo>
                  <a:pt x="1232" y="278"/>
                </a:lnTo>
                <a:lnTo>
                  <a:pt x="1164" y="249"/>
                </a:lnTo>
                <a:lnTo>
                  <a:pt x="1110" y="223"/>
                </a:lnTo>
                <a:lnTo>
                  <a:pt x="1060" y="199"/>
                </a:lnTo>
                <a:lnTo>
                  <a:pt x="1019" y="176"/>
                </a:lnTo>
                <a:lnTo>
                  <a:pt x="979" y="152"/>
                </a:lnTo>
                <a:lnTo>
                  <a:pt x="936" y="122"/>
                </a:lnTo>
                <a:lnTo>
                  <a:pt x="916" y="92"/>
                </a:lnTo>
                <a:lnTo>
                  <a:pt x="915" y="0"/>
                </a:lnTo>
                <a:lnTo>
                  <a:pt x="457" y="0"/>
                </a:lnTo>
                <a:lnTo>
                  <a:pt x="457" y="91"/>
                </a:lnTo>
                <a:lnTo>
                  <a:pt x="436" y="122"/>
                </a:lnTo>
                <a:lnTo>
                  <a:pt x="382" y="159"/>
                </a:lnTo>
                <a:lnTo>
                  <a:pt x="337" y="183"/>
                </a:lnTo>
                <a:lnTo>
                  <a:pt x="298" y="204"/>
                </a:lnTo>
                <a:lnTo>
                  <a:pt x="250" y="228"/>
                </a:lnTo>
                <a:lnTo>
                  <a:pt x="201" y="251"/>
                </a:lnTo>
                <a:lnTo>
                  <a:pt x="144" y="276"/>
                </a:lnTo>
                <a:lnTo>
                  <a:pt x="78" y="306"/>
                </a:lnTo>
                <a:lnTo>
                  <a:pt x="5" y="291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79F3-F54B-4833-81D6-5F207F82B3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ignal insertion for function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758960" y="2292480"/>
            <a:ext cx="5931000" cy="3111480"/>
          </a:xfrm>
          <a:prstGeom prst="rect">
            <a:avLst/>
          </a:prstGeom>
          <a:solidFill>
            <a:srgbClr val="ffe4c9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413520" y="5653080"/>
            <a:ext cx="219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tate Grap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14" name=""/>
          <p:cNvGrpSpPr/>
          <p:nvPr/>
        </p:nvGrpSpPr>
        <p:grpSpPr>
          <a:xfrm>
            <a:off x="1965600" y="2286000"/>
            <a:ext cx="5568120" cy="3125880"/>
            <a:chOff x="1965600" y="2286000"/>
            <a:chExt cx="5568120" cy="3125880"/>
          </a:xfrm>
        </p:grpSpPr>
        <p:sp>
          <p:nvSpPr>
            <p:cNvPr id="1715" name=""/>
            <p:cNvSpPr/>
            <p:nvPr/>
          </p:nvSpPr>
          <p:spPr>
            <a:xfrm>
              <a:off x="4114800" y="2286000"/>
              <a:ext cx="1144440" cy="3125880"/>
            </a:xfrm>
            <a:custGeom>
              <a:avLst/>
              <a:gdLst/>
              <a:ahLst/>
              <a:rect l="l" t="t" r="r" b="b"/>
              <a:pathLst>
                <a:path w="721" h="1969">
                  <a:moveTo>
                    <a:pt x="480" y="0"/>
                  </a:moveTo>
                  <a:lnTo>
                    <a:pt x="0" y="480"/>
                  </a:lnTo>
                  <a:lnTo>
                    <a:pt x="720" y="1200"/>
                  </a:lnTo>
                  <a:lnTo>
                    <a:pt x="720" y="1584"/>
                  </a:lnTo>
                  <a:lnTo>
                    <a:pt x="336" y="1968"/>
                  </a:lnTo>
                </a:path>
              </a:pathLst>
            </a:custGeom>
            <a:noFill/>
            <a:ln cap="rnd" w="10152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965600" y="3535200"/>
              <a:ext cx="10720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c0066"/>
                  </a:solidFill>
                  <a:latin typeface="Arial"/>
                </a:rPr>
                <a:t>F=0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461640" y="3535200"/>
              <a:ext cx="10720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c0066"/>
                  </a:solidFill>
                  <a:latin typeface="Arial"/>
                </a:rPr>
                <a:t>F=1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3660480" y="2592000"/>
            <a:ext cx="2054520" cy="2587680"/>
            <a:chOff x="3660480" y="2592000"/>
            <a:chExt cx="2054520" cy="2587680"/>
          </a:xfrm>
        </p:grpSpPr>
        <p:sp>
          <p:nvSpPr>
            <p:cNvPr id="1719" name=""/>
            <p:cNvSpPr/>
            <p:nvPr/>
          </p:nvSpPr>
          <p:spPr>
            <a:xfrm flipH="1" flipV="1">
              <a:off x="3887640" y="2592000"/>
              <a:ext cx="1216080" cy="730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3660480" y="3279600"/>
              <a:ext cx="1292040" cy="730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4575240" y="4118040"/>
              <a:ext cx="1139760" cy="1490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>
              <a:off x="4497480" y="5030280"/>
              <a:ext cx="1139760" cy="1494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23" name=""/>
          <p:cNvSpPr/>
          <p:nvPr/>
        </p:nvSpPr>
        <p:spPr>
          <a:xfrm>
            <a:off x="2423160" y="1538280"/>
            <a:ext cx="458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Insertion by input bord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4114800" y="2286000"/>
            <a:ext cx="1373040" cy="3125880"/>
            <a:chOff x="4114800" y="2286000"/>
            <a:chExt cx="1373040" cy="3125880"/>
          </a:xfrm>
        </p:grpSpPr>
        <p:sp>
          <p:nvSpPr>
            <p:cNvPr id="1725" name=""/>
            <p:cNvSpPr/>
            <p:nvPr/>
          </p:nvSpPr>
          <p:spPr>
            <a:xfrm>
              <a:off x="4191120" y="3733920"/>
              <a:ext cx="1068120" cy="1677960"/>
            </a:xfrm>
            <a:custGeom>
              <a:avLst/>
              <a:gdLst/>
              <a:ahLst/>
              <a:rect l="l" t="t" r="r" b="b"/>
              <a:pathLst>
                <a:path w="673" h="1057">
                  <a:moveTo>
                    <a:pt x="384" y="0"/>
                  </a:moveTo>
                  <a:lnTo>
                    <a:pt x="0" y="384"/>
                  </a:lnTo>
                  <a:lnTo>
                    <a:pt x="0" y="1056"/>
                  </a:lnTo>
                  <a:lnTo>
                    <a:pt x="288" y="1056"/>
                  </a:lnTo>
                  <a:lnTo>
                    <a:pt x="672" y="672"/>
                  </a:lnTo>
                  <a:lnTo>
                    <a:pt x="672" y="288"/>
                  </a:lnTo>
                  <a:lnTo>
                    <a:pt x="384" y="0"/>
                  </a:lnTo>
                </a:path>
              </a:pathLst>
            </a:custGeom>
            <a:solidFill>
              <a:srgbClr val="00ccff">
                <a:alpha val="50000"/>
              </a:srgbClr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327560" y="4417920"/>
              <a:ext cx="616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c0066"/>
                  </a:solidFill>
                  <a:latin typeface="Arial"/>
                </a:rPr>
                <a:t>F-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114800" y="2286000"/>
              <a:ext cx="1373040" cy="1144440"/>
            </a:xfrm>
            <a:custGeom>
              <a:avLst/>
              <a:gdLst/>
              <a:ahLst/>
              <a:rect l="l" t="t" r="r" b="b"/>
              <a:pathLst>
                <a:path w="865" h="721">
                  <a:moveTo>
                    <a:pt x="240" y="720"/>
                  </a:moveTo>
                  <a:lnTo>
                    <a:pt x="576" y="720"/>
                  </a:lnTo>
                  <a:lnTo>
                    <a:pt x="864" y="432"/>
                  </a:lnTo>
                  <a:lnTo>
                    <a:pt x="864" y="288"/>
                  </a:lnTo>
                  <a:lnTo>
                    <a:pt x="576" y="0"/>
                  </a:lnTo>
                  <a:lnTo>
                    <a:pt x="480" y="0"/>
                  </a:lnTo>
                  <a:lnTo>
                    <a:pt x="0" y="480"/>
                  </a:lnTo>
                  <a:lnTo>
                    <a:pt x="240" y="720"/>
                  </a:lnTo>
                </a:path>
              </a:pathLst>
            </a:custGeom>
            <a:solidFill>
              <a:srgbClr val="00ccff">
                <a:alpha val="50000"/>
              </a:srgbClr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632120" y="2665440"/>
              <a:ext cx="730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c0066"/>
                  </a:solidFill>
                  <a:latin typeface="Arial"/>
                </a:rPr>
                <a:t>F+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E1F9-DB77-4342-A94F-B5BD3E5E4B0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Event inser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549440" y="2844720"/>
            <a:ext cx="6273720" cy="33019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035160" y="2844720"/>
            <a:ext cx="3187800" cy="15876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2574720" y="3141720"/>
            <a:ext cx="796680" cy="596880"/>
            <a:chOff x="2574720" y="3141720"/>
            <a:chExt cx="796680" cy="596880"/>
          </a:xfrm>
        </p:grpSpPr>
        <p:sp>
          <p:nvSpPr>
            <p:cNvPr id="1733" name=""/>
            <p:cNvSpPr/>
            <p:nvPr/>
          </p:nvSpPr>
          <p:spPr>
            <a:xfrm flipH="1">
              <a:off x="2574720" y="3181320"/>
              <a:ext cx="796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633040" y="3141720"/>
              <a:ext cx="488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2463840" y="3130560"/>
            <a:ext cx="4316400" cy="1265040"/>
            <a:chOff x="2463840" y="3130560"/>
            <a:chExt cx="4316400" cy="1265040"/>
          </a:xfrm>
        </p:grpSpPr>
        <p:sp>
          <p:nvSpPr>
            <p:cNvPr id="1736" name=""/>
            <p:cNvSpPr/>
            <p:nvPr/>
          </p:nvSpPr>
          <p:spPr>
            <a:xfrm flipH="1">
              <a:off x="5889600" y="3181320"/>
              <a:ext cx="797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>
              <a:off x="4289400" y="3181320"/>
              <a:ext cx="797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0785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1641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79276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787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547520" y="3170160"/>
              <a:ext cx="488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b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033080" y="3798720"/>
              <a:ext cx="125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R(x)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46384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29256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233760" y="3141720"/>
              <a:ext cx="46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c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3035160" y="1228680"/>
            <a:ext cx="3187800" cy="15876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333240" y="2698920"/>
            <a:ext cx="467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790440" y="2712960"/>
            <a:ext cx="467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719240" y="2698920"/>
            <a:ext cx="467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419440" y="2727360"/>
            <a:ext cx="467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4289400" y="2495520"/>
            <a:ext cx="7970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078520" y="2444760"/>
            <a:ext cx="101520" cy="10152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64120" y="2444760"/>
            <a:ext cx="101520" cy="10152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292560" y="2444760"/>
            <a:ext cx="101520" cy="10152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792760" y="2444760"/>
            <a:ext cx="101520" cy="10152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547520" y="2027160"/>
            <a:ext cx="488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033080" y="1284120"/>
            <a:ext cx="1251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R(x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3343320" y="25257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4214880" y="25401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129280" y="25401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5843520" y="25401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63" name=""/>
          <p:cNvGrpSpPr/>
          <p:nvPr/>
        </p:nvGrpSpPr>
        <p:grpSpPr>
          <a:xfrm>
            <a:off x="2547360" y="2313000"/>
            <a:ext cx="752760" cy="825480"/>
            <a:chOff x="2547360" y="2313000"/>
            <a:chExt cx="752760" cy="825480"/>
          </a:xfrm>
        </p:grpSpPr>
        <p:sp>
          <p:nvSpPr>
            <p:cNvPr id="1764" name=""/>
            <p:cNvSpPr/>
            <p:nvPr/>
          </p:nvSpPr>
          <p:spPr>
            <a:xfrm flipH="1">
              <a:off x="2560320" y="2513160"/>
              <a:ext cx="739800" cy="62532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547360" y="2313000"/>
              <a:ext cx="488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E73A-A772-424C-B148-86BA972425D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"/>
          <p:cNvSpPr/>
          <p:nvPr/>
        </p:nvSpPr>
        <p:spPr>
          <a:xfrm>
            <a:off x="1938240" y="2390760"/>
            <a:ext cx="685800" cy="4572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operties to preser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1056960" y="1325520"/>
            <a:ext cx="1324800" cy="1965960"/>
            <a:chOff x="1056960" y="1325520"/>
            <a:chExt cx="1324800" cy="1965960"/>
          </a:xfrm>
        </p:grpSpPr>
        <p:sp>
          <p:nvSpPr>
            <p:cNvPr id="1769" name=""/>
            <p:cNvSpPr/>
            <p:nvPr/>
          </p:nvSpPr>
          <p:spPr>
            <a:xfrm>
              <a:off x="1709640" y="1365120"/>
              <a:ext cx="0" cy="6829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1141560" y="205092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712880" y="205092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1712520" y="26226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141560" y="262260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674720" y="13255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674720" y="20257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236680" y="259236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670040" y="316404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098720" y="2587680"/>
              <a:ext cx="6804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114200" y="18684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899720" y="27399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914120" y="19112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056960" y="27255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1056960" y="1325520"/>
            <a:ext cx="1324800" cy="1965960"/>
            <a:chOff x="1056960" y="1325520"/>
            <a:chExt cx="1324800" cy="1965960"/>
          </a:xfrm>
        </p:grpSpPr>
        <p:sp>
          <p:nvSpPr>
            <p:cNvPr id="1784" name=""/>
            <p:cNvSpPr/>
            <p:nvPr/>
          </p:nvSpPr>
          <p:spPr>
            <a:xfrm>
              <a:off x="1709640" y="1365120"/>
              <a:ext cx="0" cy="6829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1141560" y="205092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712880" y="205092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1712520" y="26226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141560" y="262260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674720" y="13255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674720" y="20257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236680" y="259236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670040" y="316404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098720" y="2587680"/>
              <a:ext cx="6804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114200" y="18684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899720" y="27399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914120" y="19112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056960" y="27255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3582720" y="1312920"/>
            <a:ext cx="1953000" cy="2042280"/>
            <a:chOff x="3582720" y="1312920"/>
            <a:chExt cx="1953000" cy="2042280"/>
          </a:xfrm>
        </p:grpSpPr>
        <p:sp>
          <p:nvSpPr>
            <p:cNvPr id="1799" name=""/>
            <p:cNvSpPr/>
            <p:nvPr/>
          </p:nvSpPr>
          <p:spPr>
            <a:xfrm flipH="1">
              <a:off x="4238640" y="2638440"/>
              <a:ext cx="1254240" cy="5396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809960" y="2606760"/>
              <a:ext cx="68292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235400" y="1352520"/>
              <a:ext cx="0" cy="682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3666600" y="203832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238640" y="203832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666960" y="2610000"/>
              <a:ext cx="568440" cy="5680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200480" y="13129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200480" y="20131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762440" y="2579760"/>
              <a:ext cx="68400" cy="698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195800" y="315108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624120" y="257508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639600" y="18558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673160" y="280368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439880" y="18986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582720" y="27129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67320" y="2579760"/>
              <a:ext cx="68400" cy="698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849560" y="21510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1069560" y="3840120"/>
            <a:ext cx="1324800" cy="1965960"/>
            <a:chOff x="1069560" y="3840120"/>
            <a:chExt cx="1324800" cy="1965960"/>
          </a:xfrm>
        </p:grpSpPr>
        <p:sp>
          <p:nvSpPr>
            <p:cNvPr id="1817" name=""/>
            <p:cNvSpPr/>
            <p:nvPr/>
          </p:nvSpPr>
          <p:spPr>
            <a:xfrm>
              <a:off x="1722600" y="3878280"/>
              <a:ext cx="0" cy="682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1153800" y="45640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25480" y="45640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1725120" y="51354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154160" y="51354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87680" y="384012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87680" y="4540320"/>
              <a:ext cx="6804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249640" y="510696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682640" y="5678640"/>
              <a:ext cx="6840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111320" y="5102280"/>
              <a:ext cx="6804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126800" y="43830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912680" y="52545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926720" y="44258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069560" y="52401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31" name=""/>
          <p:cNvSpPr/>
          <p:nvPr/>
        </p:nvSpPr>
        <p:spPr>
          <a:xfrm rot="2820000">
            <a:off x="1427040" y="4646520"/>
            <a:ext cx="1143000" cy="4572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32" name=""/>
          <p:cNvGrpSpPr/>
          <p:nvPr/>
        </p:nvGrpSpPr>
        <p:grpSpPr>
          <a:xfrm>
            <a:off x="1069560" y="3840120"/>
            <a:ext cx="1324800" cy="1965960"/>
            <a:chOff x="1069560" y="3840120"/>
            <a:chExt cx="1324800" cy="1965960"/>
          </a:xfrm>
        </p:grpSpPr>
        <p:sp>
          <p:nvSpPr>
            <p:cNvPr id="1833" name=""/>
            <p:cNvSpPr/>
            <p:nvPr/>
          </p:nvSpPr>
          <p:spPr>
            <a:xfrm>
              <a:off x="1722600" y="3878280"/>
              <a:ext cx="0" cy="682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1153800" y="45640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25480" y="45640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1725120" y="51354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54160" y="51354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687680" y="384012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687680" y="4540320"/>
              <a:ext cx="6804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249640" y="510696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682640" y="5678640"/>
              <a:ext cx="6840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111320" y="5102280"/>
              <a:ext cx="6804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126800" y="43830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912680" y="52545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26720" y="44258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069560" y="52401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3576240" y="3840120"/>
            <a:ext cx="2220120" cy="2309040"/>
            <a:chOff x="3576240" y="3840120"/>
            <a:chExt cx="2220120" cy="2309040"/>
          </a:xfrm>
        </p:grpSpPr>
        <p:sp>
          <p:nvSpPr>
            <p:cNvPr id="1848" name=""/>
            <p:cNvSpPr/>
            <p:nvPr/>
          </p:nvSpPr>
          <p:spPr>
            <a:xfrm>
              <a:off x="4299120" y="5154480"/>
              <a:ext cx="1349280" cy="3304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727440" y="4583160"/>
              <a:ext cx="1349280" cy="3301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714840" y="3878280"/>
              <a:ext cx="0" cy="682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718080" y="456408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679920" y="384012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679920" y="4540320"/>
              <a:ext cx="68040" cy="680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241880" y="5106960"/>
              <a:ext cx="68040" cy="684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576240" y="46544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4517640" y="49068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089680" y="490680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5089680" y="547848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518000" y="54784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51520" y="4883040"/>
              <a:ext cx="68040" cy="684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613480" y="5450040"/>
              <a:ext cx="68040" cy="680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046840" y="602136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475160" y="5445000"/>
              <a:ext cx="6840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795560" y="484992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276520" y="55976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328720" y="48830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433400" y="55832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157280" y="42879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281120" y="47736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70" name=""/>
          <p:cNvSpPr/>
          <p:nvPr/>
        </p:nvSpPr>
        <p:spPr>
          <a:xfrm>
            <a:off x="6985080" y="4329000"/>
            <a:ext cx="14223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ersist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71" name=""/>
          <p:cNvGrpSpPr/>
          <p:nvPr/>
        </p:nvGrpSpPr>
        <p:grpSpPr>
          <a:xfrm>
            <a:off x="6095880" y="1371600"/>
            <a:ext cx="3048120" cy="2324160"/>
            <a:chOff x="6095880" y="1371600"/>
            <a:chExt cx="3048120" cy="2324160"/>
          </a:xfrm>
        </p:grpSpPr>
        <p:sp>
          <p:nvSpPr>
            <p:cNvPr id="1872" name=""/>
            <p:cNvSpPr/>
            <p:nvPr/>
          </p:nvSpPr>
          <p:spPr>
            <a:xfrm>
              <a:off x="6451560" y="1890720"/>
              <a:ext cx="250812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ff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is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disabled by</a:t>
              </a:r>
              <a:r>
                <a:rPr b="0" lang="en-US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66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= hazards</a:t>
              </a:r>
              <a:r>
                <a:rPr b="0" lang="en-US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73" name=""/>
            <p:cNvGrpSpPr/>
            <p:nvPr/>
          </p:nvGrpSpPr>
          <p:grpSpPr>
            <a:xfrm>
              <a:off x="6095880" y="1371600"/>
              <a:ext cx="3048120" cy="2324160"/>
              <a:chOff x="6095880" y="1371600"/>
              <a:chExt cx="3048120" cy="2324160"/>
            </a:xfrm>
          </p:grpSpPr>
          <p:sp>
            <p:nvSpPr>
              <p:cNvPr id="1874" name=""/>
              <p:cNvSpPr/>
              <p:nvPr/>
            </p:nvSpPr>
            <p:spPr>
              <a:xfrm>
                <a:off x="6095880" y="1504800"/>
                <a:ext cx="3048120" cy="2038680"/>
              </a:xfrm>
              <a:prstGeom prst="line">
                <a:avLst/>
              </a:prstGeom>
              <a:ln w="572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>
                <a:off x="6267600" y="1371600"/>
                <a:ext cx="2628720" cy="2324160"/>
              </a:xfrm>
              <a:prstGeom prst="line">
                <a:avLst/>
              </a:prstGeom>
              <a:ln w="572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9F9F9-54FE-4D84-971E-F366B88FBC41}" type="slidenum">
              <a:t>23</a:t>
            </a:fld>
          </a:p>
        </p:txBody>
      </p:sp>
    </p:spTree>
  </p:cSld>
  <p:transition advTm="108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/>
          <p:nvPr/>
        </p:nvSpPr>
        <p:spPr>
          <a:xfrm>
            <a:off x="4952880" y="1523880"/>
            <a:ext cx="3429000" cy="1905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Boolean decompos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219960" y="1798560"/>
            <a:ext cx="3261960" cy="1485720"/>
            <a:chOff x="219960" y="1798560"/>
            <a:chExt cx="3261960" cy="1485720"/>
          </a:xfrm>
        </p:grpSpPr>
        <p:sp>
          <p:nvSpPr>
            <p:cNvPr id="1879" name=""/>
            <p:cNvSpPr/>
            <p:nvPr/>
          </p:nvSpPr>
          <p:spPr>
            <a:xfrm>
              <a:off x="1454040" y="1835280"/>
              <a:ext cx="1130400" cy="12826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812240" y="2255760"/>
              <a:ext cx="43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66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81" name=""/>
            <p:cNvGrpSpPr/>
            <p:nvPr/>
          </p:nvGrpSpPr>
          <p:grpSpPr>
            <a:xfrm>
              <a:off x="219960" y="1798560"/>
              <a:ext cx="1227960" cy="1485720"/>
              <a:chOff x="219960" y="1798560"/>
              <a:chExt cx="1227960" cy="1485720"/>
            </a:xfrm>
          </p:grpSpPr>
          <p:sp>
            <p:nvSpPr>
              <p:cNvPr id="1882" name=""/>
              <p:cNvSpPr/>
              <p:nvPr/>
            </p:nvSpPr>
            <p:spPr>
              <a:xfrm>
                <a:off x="914400" y="2057400"/>
                <a:ext cx="533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914400" y="2895480"/>
                <a:ext cx="533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219960" y="1798560"/>
                <a:ext cx="520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19960" y="2637000"/>
                <a:ext cx="520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86" name=""/>
            <p:cNvSpPr/>
            <p:nvPr/>
          </p:nvSpPr>
          <p:spPr>
            <a:xfrm>
              <a:off x="2590920" y="2514600"/>
              <a:ext cx="45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184200" y="2255760"/>
              <a:ext cx="297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3974400" y="1646280"/>
            <a:ext cx="5168520" cy="1713960"/>
            <a:chOff x="3974400" y="1646280"/>
            <a:chExt cx="5168520" cy="1713960"/>
          </a:xfrm>
        </p:grpSpPr>
        <p:sp>
          <p:nvSpPr>
            <p:cNvPr id="1889" name=""/>
            <p:cNvSpPr/>
            <p:nvPr/>
          </p:nvSpPr>
          <p:spPr>
            <a:xfrm>
              <a:off x="5210280" y="1758960"/>
              <a:ext cx="1130040" cy="14349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191360" y="2063880"/>
              <a:ext cx="977760" cy="8254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346800" y="2209680"/>
              <a:ext cx="838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346800" y="2743200"/>
              <a:ext cx="838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175600" y="2438280"/>
              <a:ext cx="533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568480" y="225576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66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472880" y="2255760"/>
              <a:ext cx="502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66"/>
                  </a:solidFill>
                  <a:latin typeface="Arial"/>
                </a:rPr>
                <a:t>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96" name=""/>
            <p:cNvGrpSpPr/>
            <p:nvPr/>
          </p:nvGrpSpPr>
          <p:grpSpPr>
            <a:xfrm>
              <a:off x="3974400" y="1824120"/>
              <a:ext cx="1227960" cy="1485360"/>
              <a:chOff x="3974400" y="1824120"/>
              <a:chExt cx="1227960" cy="1485360"/>
            </a:xfrm>
          </p:grpSpPr>
          <p:sp>
            <p:nvSpPr>
              <p:cNvPr id="1897" name=""/>
              <p:cNvSpPr/>
              <p:nvPr/>
            </p:nvSpPr>
            <p:spPr>
              <a:xfrm>
                <a:off x="4668840" y="2082960"/>
                <a:ext cx="533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668840" y="2921040"/>
                <a:ext cx="533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974400" y="1824120"/>
                <a:ext cx="520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974400" y="2662200"/>
                <a:ext cx="520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01" name=""/>
            <p:cNvSpPr/>
            <p:nvPr/>
          </p:nvSpPr>
          <p:spPr>
            <a:xfrm>
              <a:off x="6490800" y="1646280"/>
              <a:ext cx="5418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420240" y="2712960"/>
              <a:ext cx="6058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845200" y="2179800"/>
              <a:ext cx="297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04" name=""/>
          <p:cNvSpPr/>
          <p:nvPr/>
        </p:nvSpPr>
        <p:spPr>
          <a:xfrm>
            <a:off x="455760" y="4084560"/>
            <a:ext cx="26967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 = F (x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,…,x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721760" y="4084560"/>
            <a:ext cx="3218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 = G(H(x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,…,x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518760" y="5227560"/>
            <a:ext cx="6596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ur problem: Given F and G, find 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C803-0D8F-4B0C-84EA-21C4F7AA3C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7" name=""/>
          <p:cNvGrpSpPr/>
          <p:nvPr/>
        </p:nvGrpSpPr>
        <p:grpSpPr>
          <a:xfrm>
            <a:off x="2432160" y="673200"/>
            <a:ext cx="1713960" cy="1015920"/>
            <a:chOff x="2432160" y="673200"/>
            <a:chExt cx="1713960" cy="1015920"/>
          </a:xfrm>
        </p:grpSpPr>
        <p:sp>
          <p:nvSpPr>
            <p:cNvPr id="1908" name=""/>
            <p:cNvSpPr/>
            <p:nvPr/>
          </p:nvSpPr>
          <p:spPr>
            <a:xfrm>
              <a:off x="2432160" y="838440"/>
              <a:ext cx="514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32160" y="1524240"/>
              <a:ext cx="514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781000" y="673200"/>
              <a:ext cx="1015560" cy="10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899440" y="774720"/>
              <a:ext cx="7934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8080" rIns="208080" tIns="103320" bIns="103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629240"/>
                  <a:tab algn="l" pos="9258480"/>
                </a:tabLst>
              </a:pPr>
              <a:r>
                <a:rPr b="0" lang="en-US" sz="41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4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803400" y="1181160"/>
              <a:ext cx="3427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1542960" y="501480"/>
            <a:ext cx="901800" cy="52092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542960" y="1339920"/>
            <a:ext cx="901800" cy="52056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079640" y="57168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079640" y="72396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079640" y="87624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079640" y="148608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079640" y="163836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079640" y="179064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263840" y="922320"/>
            <a:ext cx="297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2" name=""/>
          <p:cNvGrpSpPr/>
          <p:nvPr/>
        </p:nvGrpSpPr>
        <p:grpSpPr>
          <a:xfrm>
            <a:off x="1517760" y="2027160"/>
            <a:ext cx="5873760" cy="3408840"/>
            <a:chOff x="1517760" y="2027160"/>
            <a:chExt cx="5873760" cy="3408840"/>
          </a:xfrm>
        </p:grpSpPr>
        <p:sp>
          <p:nvSpPr>
            <p:cNvPr id="1923" name=""/>
            <p:cNvSpPr/>
            <p:nvPr/>
          </p:nvSpPr>
          <p:spPr>
            <a:xfrm>
              <a:off x="1525320" y="2027160"/>
              <a:ext cx="52326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tate       f     next(f)    (h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,h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517760" y="2637000"/>
              <a:ext cx="5732280" cy="27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       0         0        (0,-) (-,0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       0         1        (1,1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       1         0        (0,0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       1         1        (-,1) (1,-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dc         -          -        (-,-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523880" y="2590920"/>
              <a:ext cx="58676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257800" y="2133720"/>
              <a:ext cx="0" cy="29718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27" name=""/>
          <p:cNvSpPr/>
          <p:nvPr/>
        </p:nvSpPr>
        <p:spPr>
          <a:xfrm>
            <a:off x="1731960" y="5316480"/>
            <a:ext cx="5356080" cy="579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oolean Re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44169-5EAE-4C9C-A9A6-A0DA405F85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8" name=""/>
          <p:cNvGrpSpPr/>
          <p:nvPr/>
        </p:nvGrpSpPr>
        <p:grpSpPr>
          <a:xfrm>
            <a:off x="212400" y="136440"/>
            <a:ext cx="1724400" cy="6021000"/>
            <a:chOff x="212400" y="136440"/>
            <a:chExt cx="1724400" cy="6021000"/>
          </a:xfrm>
        </p:grpSpPr>
        <p:sp>
          <p:nvSpPr>
            <p:cNvPr id="1929" name=""/>
            <p:cNvSpPr/>
            <p:nvPr/>
          </p:nvSpPr>
          <p:spPr>
            <a:xfrm>
              <a:off x="745560" y="136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12400" y="66996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278720" y="669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38000" y="12034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38000" y="1889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07400" y="25750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99840" y="32608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07400" y="3946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50560" y="478476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278720" y="44798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233360" y="51656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07400" y="56991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571320" y="523800"/>
              <a:ext cx="237960" cy="209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971640" y="514440"/>
              <a:ext cx="361800" cy="276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33520" y="1047600"/>
              <a:ext cx="285480" cy="276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056960" y="1038240"/>
              <a:ext cx="314280" cy="266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914400" y="16002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914400" y="22860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914400" y="29718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914400" y="36576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009800" y="4324320"/>
              <a:ext cx="342720" cy="295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H="1">
              <a:off x="504720" y="4352760"/>
              <a:ext cx="285840" cy="5432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14440" y="5172120"/>
              <a:ext cx="314280" cy="619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H="1">
              <a:off x="1066680" y="5524560"/>
              <a:ext cx="276480" cy="237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219320" y="380880"/>
              <a:ext cx="610920" cy="5564160"/>
            </a:xfrm>
            <a:custGeom>
              <a:avLst/>
              <a:gdLst/>
              <a:ahLst/>
              <a:rect l="l" t="t" r="r" b="b"/>
              <a:pathLst>
                <a:path w="385" h="3505">
                  <a:moveTo>
                    <a:pt x="0" y="3504"/>
                  </a:moveTo>
                  <a:lnTo>
                    <a:pt x="384" y="3504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720800" y="29782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56" name=""/>
          <p:cNvSpPr/>
          <p:nvPr/>
        </p:nvSpPr>
        <p:spPr>
          <a:xfrm>
            <a:off x="3816360" y="1098720"/>
            <a:ext cx="4025880" cy="18921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7848720" y="2082960"/>
            <a:ext cx="685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8594280" y="1747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200400" y="13208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200400" y="17780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200400" y="22352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200400" y="26924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727000" y="985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727000" y="14428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726640" y="190008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200400" y="2082960"/>
            <a:ext cx="4954680" cy="1296720"/>
          </a:xfrm>
          <a:custGeom>
            <a:avLst/>
            <a:gdLst/>
            <a:ahLst/>
            <a:rect l="l" t="t" r="r" b="b"/>
            <a:pathLst>
              <a:path w="3121" h="817">
                <a:moveTo>
                  <a:pt x="3120" y="0"/>
                </a:moveTo>
                <a:lnTo>
                  <a:pt x="3120" y="816"/>
                </a:lnTo>
                <a:lnTo>
                  <a:pt x="0" y="81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4114800" y="1714680"/>
                <a:ext cx="3505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68" name=""/>
          <p:cNvGrpSpPr/>
          <p:nvPr/>
        </p:nvGrpSpPr>
        <p:grpSpPr>
          <a:xfrm>
            <a:off x="6248520" y="4008600"/>
            <a:ext cx="1765800" cy="1090440"/>
            <a:chOff x="6248520" y="4008600"/>
            <a:chExt cx="1765800" cy="1090440"/>
          </a:xfrm>
        </p:grpSpPr>
        <p:grpSp>
          <p:nvGrpSpPr>
            <p:cNvPr id="1969" name=""/>
            <p:cNvGrpSpPr/>
            <p:nvPr/>
          </p:nvGrpSpPr>
          <p:grpSpPr>
            <a:xfrm>
              <a:off x="6248520" y="4197600"/>
              <a:ext cx="1218960" cy="901440"/>
              <a:chOff x="6248520" y="4197600"/>
              <a:chExt cx="1218960" cy="901440"/>
            </a:xfrm>
          </p:grpSpPr>
          <p:sp>
            <p:nvSpPr>
              <p:cNvPr id="1970" name=""/>
              <p:cNvSpPr/>
              <p:nvPr/>
            </p:nvSpPr>
            <p:spPr>
              <a:xfrm>
                <a:off x="6559560" y="4197600"/>
                <a:ext cx="596880" cy="901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4320" rIns="184320" tIns="92160" bIns="92160" anchor="ctr">
                <a:noAutofit/>
              </a:bodyPr>
              <a:p>
                <a:pPr algn="ctr">
                  <a:tabLst>
                    <a:tab algn="l" pos="0"/>
                    <a:tab algn="l" pos="3657600"/>
                    <a:tab algn="l" pos="7315200"/>
                  </a:tabLst>
                </a:pPr>
                <a:r>
                  <a:rPr b="0" lang="en-US" sz="3600" spc="-1" strike="noStrike">
                    <a:solidFill>
                      <a:srgbClr val="ffffcc"/>
                    </a:solidFill>
                    <a:latin typeface="Times New Roman"/>
                  </a:rPr>
                  <a:t>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6248520" y="434340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162920" y="434340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248520" y="495324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74" name=""/>
            <p:cNvSpPr/>
            <p:nvPr/>
          </p:nvSpPr>
          <p:spPr>
            <a:xfrm>
              <a:off x="7603560" y="40086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4502160" y="3816360"/>
            <a:ext cx="1739880" cy="1686600"/>
            <a:chOff x="4502160" y="3816360"/>
            <a:chExt cx="1739880" cy="1686600"/>
          </a:xfrm>
        </p:grpSpPr>
        <p:sp>
          <p:nvSpPr>
            <p:cNvPr id="1976" name=""/>
            <p:cNvSpPr/>
            <p:nvPr/>
          </p:nvSpPr>
          <p:spPr>
            <a:xfrm>
              <a:off x="4502160" y="3816360"/>
              <a:ext cx="1739880" cy="67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502160" y="4807080"/>
              <a:ext cx="1739880" cy="67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088960" y="4923000"/>
              <a:ext cx="479160" cy="579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089320" y="3856320"/>
              <a:ext cx="456480" cy="579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516A-21C2-4E9E-B2A6-A730318DA3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0" name=""/>
          <p:cNvGrpSpPr/>
          <p:nvPr/>
        </p:nvGrpSpPr>
        <p:grpSpPr>
          <a:xfrm>
            <a:off x="212400" y="136440"/>
            <a:ext cx="1724400" cy="6021000"/>
            <a:chOff x="212400" y="136440"/>
            <a:chExt cx="1724400" cy="6021000"/>
          </a:xfrm>
        </p:grpSpPr>
        <p:sp>
          <p:nvSpPr>
            <p:cNvPr id="1981" name=""/>
            <p:cNvSpPr/>
            <p:nvPr/>
          </p:nvSpPr>
          <p:spPr>
            <a:xfrm>
              <a:off x="745560" y="136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12400" y="66996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278720" y="669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38000" y="12034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38000" y="1889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707400" y="25750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99840" y="32608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07400" y="3946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50560" y="478476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278720" y="44798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33360" y="51656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07400" y="56991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71320" y="523800"/>
              <a:ext cx="237960" cy="209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971640" y="514440"/>
              <a:ext cx="361800" cy="276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3520" y="1047600"/>
              <a:ext cx="285480" cy="276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1056960" y="1038240"/>
              <a:ext cx="314280" cy="266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914400" y="16002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914400" y="22860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914400" y="29718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914400" y="36576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009800" y="4324320"/>
              <a:ext cx="342720" cy="295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504720" y="4352760"/>
              <a:ext cx="285840" cy="5432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14440" y="5172120"/>
              <a:ext cx="314280" cy="619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1066680" y="5524560"/>
              <a:ext cx="276480" cy="237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219320" y="380880"/>
              <a:ext cx="610920" cy="5564160"/>
            </a:xfrm>
            <a:custGeom>
              <a:avLst/>
              <a:gdLst/>
              <a:ahLst/>
              <a:rect l="l" t="t" r="r" b="b"/>
              <a:pathLst>
                <a:path w="385" h="3505">
                  <a:moveTo>
                    <a:pt x="0" y="3504"/>
                  </a:moveTo>
                  <a:lnTo>
                    <a:pt x="384" y="3504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720800" y="29782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08" name=""/>
          <p:cNvSpPr/>
          <p:nvPr/>
        </p:nvSpPr>
        <p:spPr>
          <a:xfrm>
            <a:off x="3816360" y="1098720"/>
            <a:ext cx="4025880" cy="18921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7848720" y="2082960"/>
            <a:ext cx="685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8594280" y="1747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200400" y="13208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200400" y="17780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200400" y="22352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200400" y="26924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727000" y="985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727000" y="14428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726640" y="190008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200400" y="2082960"/>
            <a:ext cx="4954680" cy="1296720"/>
          </a:xfrm>
          <a:custGeom>
            <a:avLst/>
            <a:gdLst/>
            <a:ahLst/>
            <a:rect l="l" t="t" r="r" b="b"/>
            <a:pathLst>
              <a:path w="3121" h="817">
                <a:moveTo>
                  <a:pt x="3120" y="0"/>
                </a:moveTo>
                <a:lnTo>
                  <a:pt x="3120" y="816"/>
                </a:lnTo>
                <a:lnTo>
                  <a:pt x="0" y="81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9" name=""/>
              <p:cNvSpPr txBox="1"/>
              <p:nvPr/>
            </p:nvSpPr>
            <p:spPr>
              <a:xfrm>
                <a:off x="4114800" y="1625760"/>
                <a:ext cx="3505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20" name=""/>
          <p:cNvGrpSpPr/>
          <p:nvPr/>
        </p:nvGrpSpPr>
        <p:grpSpPr>
          <a:xfrm>
            <a:off x="6248520" y="4084560"/>
            <a:ext cx="1765800" cy="1090440"/>
            <a:chOff x="6248520" y="4084560"/>
            <a:chExt cx="1765800" cy="1090440"/>
          </a:xfrm>
        </p:grpSpPr>
        <p:grpSp>
          <p:nvGrpSpPr>
            <p:cNvPr id="2021" name=""/>
            <p:cNvGrpSpPr/>
            <p:nvPr/>
          </p:nvGrpSpPr>
          <p:grpSpPr>
            <a:xfrm>
              <a:off x="6248520" y="4273560"/>
              <a:ext cx="1218960" cy="901440"/>
              <a:chOff x="6248520" y="4273560"/>
              <a:chExt cx="1218960" cy="901440"/>
            </a:xfrm>
          </p:grpSpPr>
          <p:sp>
            <p:nvSpPr>
              <p:cNvPr id="2022" name=""/>
              <p:cNvSpPr/>
              <p:nvPr/>
            </p:nvSpPr>
            <p:spPr>
              <a:xfrm>
                <a:off x="6559560" y="4273560"/>
                <a:ext cx="596880" cy="901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4320" rIns="184320" tIns="92160" bIns="92160" anchor="ctr">
                <a:noAutofit/>
              </a:bodyPr>
              <a:p>
                <a:pPr algn="ctr">
                  <a:tabLst>
                    <a:tab algn="l" pos="0"/>
                    <a:tab algn="l" pos="3657600"/>
                    <a:tab algn="l" pos="7315200"/>
                  </a:tabLst>
                </a:pPr>
                <a:r>
                  <a:rPr b="0" lang="en-US" sz="3600" spc="-1" strike="noStrike">
                    <a:solidFill>
                      <a:srgbClr val="ffffcc"/>
                    </a:solidFill>
                    <a:latin typeface="Times New Roman"/>
                  </a:rPr>
                  <a:t>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248520" y="441936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162920" y="441936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248520" y="502920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26" name=""/>
            <p:cNvSpPr/>
            <p:nvPr/>
          </p:nvSpPr>
          <p:spPr>
            <a:xfrm>
              <a:off x="7603560" y="4084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4012560" y="3551400"/>
            <a:ext cx="2323080" cy="2332440"/>
            <a:chOff x="4012560" y="3551400"/>
            <a:chExt cx="2323080" cy="2332440"/>
          </a:xfrm>
        </p:grpSpPr>
        <p:grpSp>
          <p:nvGrpSpPr>
            <p:cNvPr id="2028" name=""/>
            <p:cNvGrpSpPr/>
            <p:nvPr/>
          </p:nvGrpSpPr>
          <p:grpSpPr>
            <a:xfrm>
              <a:off x="4456080" y="4800600"/>
              <a:ext cx="1382760" cy="915480"/>
              <a:chOff x="4456080" y="4800600"/>
              <a:chExt cx="1382760" cy="915480"/>
            </a:xfrm>
          </p:grpSpPr>
          <p:grpSp>
            <p:nvGrpSpPr>
              <p:cNvPr id="2029" name=""/>
              <p:cNvGrpSpPr/>
              <p:nvPr/>
            </p:nvGrpSpPr>
            <p:grpSpPr>
              <a:xfrm>
                <a:off x="4761000" y="4800600"/>
                <a:ext cx="1077840" cy="915480"/>
                <a:chOff x="4761000" y="4800600"/>
                <a:chExt cx="1077840" cy="915480"/>
              </a:xfrm>
            </p:grpSpPr>
            <p:grpSp>
              <p:nvGrpSpPr>
                <p:cNvPr id="2030" name=""/>
                <p:cNvGrpSpPr/>
                <p:nvPr/>
              </p:nvGrpSpPr>
              <p:grpSpPr>
                <a:xfrm>
                  <a:off x="4761000" y="4800600"/>
                  <a:ext cx="907920" cy="915480"/>
                  <a:chOff x="4761000" y="4800600"/>
                  <a:chExt cx="907920" cy="915480"/>
                </a:xfrm>
              </p:grpSpPr>
              <p:sp>
                <p:nvSpPr>
                  <p:cNvPr id="2031" name=""/>
                  <p:cNvSpPr/>
                  <p:nvPr/>
                </p:nvSpPr>
                <p:spPr>
                  <a:xfrm>
                    <a:off x="4767120" y="4806360"/>
                    <a:ext cx="901800" cy="9014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4761000" y="4800600"/>
                    <a:ext cx="458640" cy="9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9" h="577">
                        <a:moveTo>
                          <a:pt x="288" y="0"/>
                        </a:moveTo>
                        <a:lnTo>
                          <a:pt x="0" y="0"/>
                        </a:lnTo>
                        <a:lnTo>
                          <a:pt x="0" y="576"/>
                        </a:lnTo>
                        <a:lnTo>
                          <a:pt x="288" y="576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3" name=""/>
                <p:cNvSpPr/>
                <p:nvPr/>
              </p:nvSpPr>
              <p:spPr>
                <a:xfrm>
                  <a:off x="5676840" y="5247720"/>
                  <a:ext cx="1620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4" name=""/>
              <p:cNvSpPr/>
              <p:nvPr/>
            </p:nvSpPr>
            <p:spPr>
              <a:xfrm>
                <a:off x="4456080" y="4952520"/>
                <a:ext cx="3049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456080" y="5562000"/>
                <a:ext cx="3049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36" name=""/>
            <p:cNvGrpSpPr/>
            <p:nvPr/>
          </p:nvGrpSpPr>
          <p:grpSpPr>
            <a:xfrm>
              <a:off x="4438800" y="3733560"/>
              <a:ext cx="1400040" cy="915840"/>
              <a:chOff x="4438800" y="3733560"/>
              <a:chExt cx="1400040" cy="915840"/>
            </a:xfrm>
          </p:grpSpPr>
          <p:grpSp>
            <p:nvGrpSpPr>
              <p:cNvPr id="2037" name=""/>
              <p:cNvGrpSpPr/>
              <p:nvPr/>
            </p:nvGrpSpPr>
            <p:grpSpPr>
              <a:xfrm>
                <a:off x="4456080" y="3733560"/>
                <a:ext cx="1382760" cy="915840"/>
                <a:chOff x="4456080" y="3733560"/>
                <a:chExt cx="1382760" cy="915840"/>
              </a:xfrm>
            </p:grpSpPr>
            <p:grpSp>
              <p:nvGrpSpPr>
                <p:cNvPr id="2038" name=""/>
                <p:cNvGrpSpPr/>
                <p:nvPr/>
              </p:nvGrpSpPr>
              <p:grpSpPr>
                <a:xfrm>
                  <a:off x="4761000" y="3733560"/>
                  <a:ext cx="1077840" cy="915840"/>
                  <a:chOff x="4761000" y="3733560"/>
                  <a:chExt cx="1077840" cy="915840"/>
                </a:xfrm>
              </p:grpSpPr>
              <p:grpSp>
                <p:nvGrpSpPr>
                  <p:cNvPr id="2039" name=""/>
                  <p:cNvGrpSpPr/>
                  <p:nvPr/>
                </p:nvGrpSpPr>
                <p:grpSpPr>
                  <a:xfrm>
                    <a:off x="4761000" y="3733560"/>
                    <a:ext cx="907920" cy="915840"/>
                    <a:chOff x="4761000" y="3733560"/>
                    <a:chExt cx="907920" cy="915840"/>
                  </a:xfrm>
                </p:grpSpPr>
                <p:sp>
                  <p:nvSpPr>
                    <p:cNvPr id="2040" name=""/>
                    <p:cNvSpPr/>
                    <p:nvPr/>
                  </p:nvSpPr>
                  <p:spPr>
                    <a:xfrm>
                      <a:off x="4767120" y="3739680"/>
                      <a:ext cx="901800" cy="9014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1" name=""/>
                    <p:cNvSpPr/>
                    <p:nvPr/>
                  </p:nvSpPr>
                  <p:spPr>
                    <a:xfrm>
                      <a:off x="4761000" y="3733560"/>
                      <a:ext cx="458640" cy="9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9" h="577">
                          <a:moveTo>
                            <a:pt x="288" y="0"/>
                          </a:moveTo>
                          <a:lnTo>
                            <a:pt x="0" y="0"/>
                          </a:lnTo>
                          <a:lnTo>
                            <a:pt x="0" y="576"/>
                          </a:lnTo>
                          <a:lnTo>
                            <a:pt x="288" y="576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42" name=""/>
                  <p:cNvSpPr/>
                  <p:nvPr/>
                </p:nvSpPr>
                <p:spPr>
                  <a:xfrm>
                    <a:off x="5676840" y="4181040"/>
                    <a:ext cx="16200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3" name=""/>
                <p:cNvSpPr/>
                <p:nvPr/>
              </p:nvSpPr>
              <p:spPr>
                <a:xfrm>
                  <a:off x="4456080" y="3885840"/>
                  <a:ext cx="3049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456080" y="4495320"/>
                  <a:ext cx="3049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5" name=""/>
              <p:cNvSpPr/>
              <p:nvPr/>
            </p:nvSpPr>
            <p:spPr>
              <a:xfrm>
                <a:off x="4438800" y="4190400"/>
                <a:ext cx="323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46" name=""/>
            <p:cNvSpPr/>
            <p:nvPr/>
          </p:nvSpPr>
          <p:spPr>
            <a:xfrm>
              <a:off x="4606920" y="4425840"/>
              <a:ext cx="139680" cy="1393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838840" y="5029200"/>
              <a:ext cx="496800" cy="220320"/>
            </a:xfrm>
            <a:custGeom>
              <a:avLst/>
              <a:gdLst/>
              <a:ahLst/>
              <a:rect l="l" t="t" r="r" b="b"/>
              <a:pathLst>
                <a:path w="313" h="139">
                  <a:moveTo>
                    <a:pt x="0" y="138"/>
                  </a:moveTo>
                  <a:lnTo>
                    <a:pt x="0" y="0"/>
                  </a:lnTo>
                  <a:lnTo>
                    <a:pt x="312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38840" y="4181400"/>
              <a:ext cx="496800" cy="239400"/>
            </a:xfrm>
            <a:custGeom>
              <a:avLst/>
              <a:gdLst/>
              <a:ahLst/>
              <a:rect l="l" t="t" r="r" b="b"/>
              <a:pathLst>
                <a:path w="313" h="151">
                  <a:moveTo>
                    <a:pt x="0" y="0"/>
                  </a:moveTo>
                  <a:lnTo>
                    <a:pt x="0" y="150"/>
                  </a:lnTo>
                  <a:lnTo>
                    <a:pt x="312" y="15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022280" y="35514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022280" y="38559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012560" y="4236840"/>
              <a:ext cx="43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022280" y="46180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12560" y="5303880"/>
              <a:ext cx="43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3127-2D99-4BB4-9EDC-9ACFEEC903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4" name=""/>
          <p:cNvGrpSpPr/>
          <p:nvPr/>
        </p:nvGrpSpPr>
        <p:grpSpPr>
          <a:xfrm>
            <a:off x="212400" y="136440"/>
            <a:ext cx="1724400" cy="6021000"/>
            <a:chOff x="212400" y="136440"/>
            <a:chExt cx="1724400" cy="6021000"/>
          </a:xfrm>
        </p:grpSpPr>
        <p:sp>
          <p:nvSpPr>
            <p:cNvPr id="2055" name=""/>
            <p:cNvSpPr/>
            <p:nvPr/>
          </p:nvSpPr>
          <p:spPr>
            <a:xfrm>
              <a:off x="745560" y="136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12400" y="66996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278720" y="669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38000" y="12034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38000" y="1889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07400" y="25750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99840" y="32608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07400" y="3946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50560" y="478476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278720" y="44798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233360" y="51656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07400" y="56991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571320" y="523800"/>
              <a:ext cx="237960" cy="209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971640" y="514440"/>
              <a:ext cx="361800" cy="276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33520" y="1047600"/>
              <a:ext cx="285480" cy="276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1056960" y="1038240"/>
              <a:ext cx="314280" cy="266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914400" y="16002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14400" y="22860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914400" y="29718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914400" y="36576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009800" y="4324320"/>
              <a:ext cx="342720" cy="295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504720" y="4352760"/>
              <a:ext cx="285840" cy="5432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14440" y="5172120"/>
              <a:ext cx="314280" cy="619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1066680" y="5524560"/>
              <a:ext cx="276480" cy="237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219320" y="380880"/>
              <a:ext cx="610920" cy="5564160"/>
            </a:xfrm>
            <a:custGeom>
              <a:avLst/>
              <a:gdLst/>
              <a:ahLst/>
              <a:rect l="l" t="t" r="r" b="b"/>
              <a:pathLst>
                <a:path w="385" h="3505">
                  <a:moveTo>
                    <a:pt x="0" y="3504"/>
                  </a:moveTo>
                  <a:lnTo>
                    <a:pt x="384" y="3504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720800" y="29782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82" name=""/>
          <p:cNvSpPr/>
          <p:nvPr/>
        </p:nvSpPr>
        <p:spPr>
          <a:xfrm>
            <a:off x="3816360" y="1098720"/>
            <a:ext cx="4025880" cy="18921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7848720" y="2082960"/>
            <a:ext cx="685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8594280" y="1747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200400" y="13208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200400" y="17780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200400" y="22352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200400" y="26924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727000" y="985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2727000" y="14428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2726640" y="190008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200400" y="2082960"/>
            <a:ext cx="4954680" cy="1296720"/>
          </a:xfrm>
          <a:custGeom>
            <a:avLst/>
            <a:gdLst/>
            <a:ahLst/>
            <a:rect l="l" t="t" r="r" b="b"/>
            <a:pathLst>
              <a:path w="3121" h="817">
                <a:moveTo>
                  <a:pt x="3120" y="0"/>
                </a:moveTo>
                <a:lnTo>
                  <a:pt x="3120" y="816"/>
                </a:lnTo>
                <a:lnTo>
                  <a:pt x="0" y="81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4114800" y="1625760"/>
                <a:ext cx="3505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94" name=""/>
          <p:cNvGrpSpPr/>
          <p:nvPr/>
        </p:nvGrpSpPr>
        <p:grpSpPr>
          <a:xfrm>
            <a:off x="6248520" y="3665520"/>
            <a:ext cx="1765800" cy="1090440"/>
            <a:chOff x="6248520" y="3665520"/>
            <a:chExt cx="1765800" cy="1090440"/>
          </a:xfrm>
        </p:grpSpPr>
        <p:grpSp>
          <p:nvGrpSpPr>
            <p:cNvPr id="2095" name=""/>
            <p:cNvGrpSpPr/>
            <p:nvPr/>
          </p:nvGrpSpPr>
          <p:grpSpPr>
            <a:xfrm>
              <a:off x="6248520" y="3854520"/>
              <a:ext cx="1218960" cy="901440"/>
              <a:chOff x="6248520" y="3854520"/>
              <a:chExt cx="1218960" cy="901440"/>
            </a:xfrm>
          </p:grpSpPr>
          <p:sp>
            <p:nvSpPr>
              <p:cNvPr id="2096" name=""/>
              <p:cNvSpPr/>
              <p:nvPr/>
            </p:nvSpPr>
            <p:spPr>
              <a:xfrm>
                <a:off x="6559560" y="3854520"/>
                <a:ext cx="596880" cy="901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4320" rIns="184320" tIns="92160" bIns="92160" anchor="ctr">
                <a:noAutofit/>
              </a:bodyPr>
              <a:p>
                <a:pPr algn="ctr">
                  <a:tabLst>
                    <a:tab algn="l" pos="0"/>
                    <a:tab algn="l" pos="3657600"/>
                    <a:tab algn="l" pos="7315200"/>
                  </a:tabLst>
                </a:pPr>
                <a:r>
                  <a:rPr b="0" lang="en-US" sz="3600" spc="-1" strike="noStrike">
                    <a:solidFill>
                      <a:srgbClr val="ffffcc"/>
                    </a:solidFill>
                    <a:latin typeface="Times New Roman"/>
                  </a:rPr>
                  <a:t>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248520" y="400032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162920" y="400032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248520" y="461016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00" name=""/>
            <p:cNvSpPr/>
            <p:nvPr/>
          </p:nvSpPr>
          <p:spPr>
            <a:xfrm>
              <a:off x="7603560" y="36655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4578480" y="4433760"/>
                <a:ext cx="1663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02" name=""/>
          <p:cNvSpPr/>
          <p:nvPr/>
        </p:nvSpPr>
        <p:spPr>
          <a:xfrm>
            <a:off x="5774760" y="366552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8DD4-8EAC-4DF4-8EAE-1B528B9E1EFE}" type="slidenum">
              <a:t>28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3" name=""/>
          <p:cNvGrpSpPr/>
          <p:nvPr/>
        </p:nvGrpSpPr>
        <p:grpSpPr>
          <a:xfrm>
            <a:off x="212400" y="136440"/>
            <a:ext cx="1724400" cy="6021000"/>
            <a:chOff x="212400" y="136440"/>
            <a:chExt cx="1724400" cy="6021000"/>
          </a:xfrm>
        </p:grpSpPr>
        <p:sp>
          <p:nvSpPr>
            <p:cNvPr id="2104" name=""/>
            <p:cNvSpPr/>
            <p:nvPr/>
          </p:nvSpPr>
          <p:spPr>
            <a:xfrm>
              <a:off x="745560" y="136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12400" y="66996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278720" y="669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38000" y="12034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38000" y="1889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07400" y="25750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99840" y="32608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07400" y="3946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50560" y="478476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278720" y="44798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233360" y="51656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07400" y="56991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571320" y="523800"/>
              <a:ext cx="237960" cy="209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71640" y="514440"/>
              <a:ext cx="361800" cy="276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33520" y="1047600"/>
              <a:ext cx="285480" cy="276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1056960" y="1038240"/>
              <a:ext cx="314280" cy="266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914400" y="16002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914400" y="22860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914400" y="29718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914400" y="36576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009800" y="4324320"/>
              <a:ext cx="342720" cy="295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504720" y="4352760"/>
              <a:ext cx="285840" cy="5432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14440" y="5172120"/>
              <a:ext cx="314280" cy="619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>
              <a:off x="1066680" y="5524560"/>
              <a:ext cx="276480" cy="237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219320" y="380880"/>
              <a:ext cx="610920" cy="5564160"/>
            </a:xfrm>
            <a:custGeom>
              <a:avLst/>
              <a:gdLst/>
              <a:ahLst/>
              <a:rect l="l" t="t" r="r" b="b"/>
              <a:pathLst>
                <a:path w="385" h="3505">
                  <a:moveTo>
                    <a:pt x="0" y="3504"/>
                  </a:moveTo>
                  <a:lnTo>
                    <a:pt x="384" y="3504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720800" y="29782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31" name=""/>
          <p:cNvSpPr/>
          <p:nvPr/>
        </p:nvSpPr>
        <p:spPr>
          <a:xfrm>
            <a:off x="3816360" y="1123920"/>
            <a:ext cx="4025880" cy="18921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848720" y="2108160"/>
            <a:ext cx="685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8594280" y="17733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200400" y="13460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200400" y="18032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200400" y="22604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200400" y="27176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27000" y="101124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27000" y="146844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726640" y="192564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200400" y="2108160"/>
            <a:ext cx="4954680" cy="1297080"/>
          </a:xfrm>
          <a:custGeom>
            <a:avLst/>
            <a:gdLst/>
            <a:ahLst/>
            <a:rect l="l" t="t" r="r" b="b"/>
            <a:pathLst>
              <a:path w="3121" h="817">
                <a:moveTo>
                  <a:pt x="3120" y="0"/>
                </a:moveTo>
                <a:lnTo>
                  <a:pt x="3120" y="816"/>
                </a:lnTo>
                <a:lnTo>
                  <a:pt x="0" y="81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4114800" y="1650960"/>
                <a:ext cx="3505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43" name=""/>
          <p:cNvGrpSpPr/>
          <p:nvPr/>
        </p:nvGrpSpPr>
        <p:grpSpPr>
          <a:xfrm>
            <a:off x="6248520" y="3703680"/>
            <a:ext cx="1765800" cy="1090440"/>
            <a:chOff x="6248520" y="3703680"/>
            <a:chExt cx="1765800" cy="1090440"/>
          </a:xfrm>
        </p:grpSpPr>
        <p:grpSp>
          <p:nvGrpSpPr>
            <p:cNvPr id="2144" name=""/>
            <p:cNvGrpSpPr/>
            <p:nvPr/>
          </p:nvGrpSpPr>
          <p:grpSpPr>
            <a:xfrm>
              <a:off x="6248520" y="3892680"/>
              <a:ext cx="1218960" cy="901440"/>
              <a:chOff x="6248520" y="3892680"/>
              <a:chExt cx="1218960" cy="901440"/>
            </a:xfrm>
          </p:grpSpPr>
          <p:sp>
            <p:nvSpPr>
              <p:cNvPr id="2145" name=""/>
              <p:cNvSpPr/>
              <p:nvPr/>
            </p:nvSpPr>
            <p:spPr>
              <a:xfrm>
                <a:off x="6559560" y="3892680"/>
                <a:ext cx="596880" cy="901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4320" rIns="184320" tIns="92160" bIns="92160" anchor="ctr">
                <a:noAutofit/>
              </a:bodyPr>
              <a:p>
                <a:pPr algn="ctr">
                  <a:tabLst>
                    <a:tab algn="l" pos="0"/>
                    <a:tab algn="l" pos="3657600"/>
                    <a:tab algn="l" pos="7315200"/>
                  </a:tabLst>
                </a:pPr>
                <a:r>
                  <a:rPr b="0" lang="en-US" sz="3600" spc="-1" strike="noStrike">
                    <a:solidFill>
                      <a:srgbClr val="ffffcc"/>
                    </a:solidFill>
                    <a:latin typeface="Times New Roman"/>
                  </a:rPr>
                  <a:t>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248520" y="403848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7162920" y="403848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248520" y="464832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49" name=""/>
            <p:cNvSpPr/>
            <p:nvPr/>
          </p:nvSpPr>
          <p:spPr>
            <a:xfrm>
              <a:off x="7603560" y="37036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>
            <a:off x="5774760" y="3703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51" name=""/>
          <p:cNvGrpSpPr/>
          <p:nvPr/>
        </p:nvGrpSpPr>
        <p:grpSpPr>
          <a:xfrm>
            <a:off x="5105520" y="4502160"/>
            <a:ext cx="1218960" cy="901800"/>
            <a:chOff x="5105520" y="4502160"/>
            <a:chExt cx="1218960" cy="901800"/>
          </a:xfrm>
        </p:grpSpPr>
        <p:sp>
          <p:nvSpPr>
            <p:cNvPr id="2152" name=""/>
            <p:cNvSpPr/>
            <p:nvPr/>
          </p:nvSpPr>
          <p:spPr>
            <a:xfrm>
              <a:off x="5416560" y="4502160"/>
              <a:ext cx="596880" cy="9018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ctr">
              <a:noAutofit/>
            </a:bodyPr>
            <a:p>
              <a:pPr algn="ctr">
                <a:tabLst>
                  <a:tab algn="l" pos="0"/>
                  <a:tab algn="l" pos="3657600"/>
                  <a:tab algn="l" pos="7315200"/>
                </a:tabLst>
              </a:pPr>
              <a:r>
                <a:rPr b="0" lang="en-US" sz="36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105520" y="4648320"/>
              <a:ext cx="3045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019920" y="4648320"/>
              <a:ext cx="3045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105520" y="5257800"/>
              <a:ext cx="3045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56" name=""/>
          <p:cNvSpPr/>
          <p:nvPr/>
        </p:nvSpPr>
        <p:spPr>
          <a:xfrm>
            <a:off x="4631760" y="438948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631760" y="49230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EE90D-8F96-403F-9FE4-E890383A5946}" type="slidenum">
              <a:t>29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D334-BBD1-4A96-9DE2-D651514A34C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echnology mapp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Merg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small gates into larger gates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introduces no new haza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ndard synchronous technique can be applied, e.g. BDD-based boolean 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ndles sequential gates and combinational feedba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e to hazards there is no guarantee to find correct mapping (some gates cannot be decompose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ing-aware decomposition can be applied in these rare c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46C0-7238-4B3E-9E8F-145067696F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1E61-E2F4-4AA3-9029-3BF24E8DF00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18680" y="-8244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iming assumptions in design flow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peed-independen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wire delays after a fork</a:t>
            </a:r>
            <a:br>
              <a:rPr sz="2400"/>
            </a:b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smaller than fan-out gate del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urst-mod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ircuit stabilizes between</a:t>
            </a:r>
            <a:br>
              <a:rPr sz="2400"/>
            </a:b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two changes at the inpu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d circuit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bsolute bounds on gate / environment delays are know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 priori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(before physical desig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0D49-4C4E-41FB-83BB-3759DCE107A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lative Timing Circu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817236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ssumption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before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concurrent events: reduces reachable state spa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ordered events: permits early enabl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th increase don’t care space for logic synthesis =&gt; simplify logic (better area and timi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ssume -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if useful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- guarantee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pproach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 are used by the tool to derive a circuit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equired timing constraints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at must be met in physical design fl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pplied to design of the Rotating Asynchronous Pentium Processor(TM) Instruction Decoder (K.Stevens, S.Rotem et al. Intel Corporatio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DE03-587F-4515-A0F9-5D9912C6294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590400" y="1003320"/>
            <a:ext cx="75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peed-independent C-elemen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28560" y="3816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Relative Timing Asynchronous Circui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83" name=""/>
          <p:cNvGrpSpPr/>
          <p:nvPr/>
        </p:nvGrpSpPr>
        <p:grpSpPr>
          <a:xfrm>
            <a:off x="628560" y="1974960"/>
            <a:ext cx="8210520" cy="2002680"/>
            <a:chOff x="628560" y="1974960"/>
            <a:chExt cx="8210520" cy="2002680"/>
          </a:xfrm>
        </p:grpSpPr>
        <p:sp>
          <p:nvSpPr>
            <p:cNvPr id="2184" name=""/>
            <p:cNvSpPr/>
            <p:nvPr/>
          </p:nvSpPr>
          <p:spPr>
            <a:xfrm>
              <a:off x="6438960" y="3498840"/>
              <a:ext cx="2400120" cy="45972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a- before b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28560" y="3517920"/>
              <a:ext cx="75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Timing </a:t>
              </a: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assumption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(on environment):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866960" y="1974960"/>
              <a:ext cx="780840" cy="952200"/>
            </a:xfrm>
            <a:prstGeom prst="downArrow">
              <a:avLst>
                <a:gd name="adj1" fmla="val 50000"/>
                <a:gd name="adj2" fmla="val 304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87" name=""/>
          <p:cNvGrpSpPr/>
          <p:nvPr/>
        </p:nvGrpSpPr>
        <p:grpSpPr>
          <a:xfrm>
            <a:off x="6372720" y="1812240"/>
            <a:ext cx="338760" cy="213840"/>
            <a:chOff x="6372720" y="1812240"/>
            <a:chExt cx="338760" cy="213840"/>
          </a:xfrm>
        </p:grpSpPr>
        <p:sp>
          <p:nvSpPr>
            <p:cNvPr id="2188" name=""/>
            <p:cNvSpPr/>
            <p:nvPr/>
          </p:nvSpPr>
          <p:spPr>
            <a:xfrm rot="16093800">
              <a:off x="6374880" y="1893960"/>
              <a:ext cx="52920" cy="5544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rot="16093800">
              <a:off x="6456240" y="1769400"/>
              <a:ext cx="204840" cy="29880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6400800" y="2115360"/>
            <a:ext cx="270360" cy="255960"/>
            <a:chOff x="6400800" y="2115360"/>
            <a:chExt cx="270360" cy="255960"/>
          </a:xfrm>
        </p:grpSpPr>
        <p:sp>
          <p:nvSpPr>
            <p:cNvPr id="2191" name=""/>
            <p:cNvSpPr/>
            <p:nvPr/>
          </p:nvSpPr>
          <p:spPr>
            <a:xfrm rot="5314200">
              <a:off x="6616080" y="2221200"/>
              <a:ext cx="64800" cy="43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rot="5314200">
              <a:off x="6397560" y="2124360"/>
              <a:ext cx="250200" cy="2379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5516640" y="1641600"/>
            <a:ext cx="198360" cy="352800"/>
            <a:chOff x="5516640" y="1641600"/>
            <a:chExt cx="198360" cy="352800"/>
          </a:xfrm>
        </p:grpSpPr>
        <p:grpSp>
          <p:nvGrpSpPr>
            <p:cNvPr id="2194" name=""/>
            <p:cNvGrpSpPr/>
            <p:nvPr/>
          </p:nvGrpSpPr>
          <p:grpSpPr>
            <a:xfrm>
              <a:off x="5591160" y="1641600"/>
              <a:ext cx="123840" cy="352800"/>
              <a:chOff x="5591160" y="1641600"/>
              <a:chExt cx="123840" cy="352800"/>
            </a:xfrm>
          </p:grpSpPr>
          <p:grpSp>
            <p:nvGrpSpPr>
              <p:cNvPr id="2195" name=""/>
              <p:cNvGrpSpPr/>
              <p:nvPr/>
            </p:nvGrpSpPr>
            <p:grpSpPr>
              <a:xfrm>
                <a:off x="5638680" y="1641600"/>
                <a:ext cx="76320" cy="352800"/>
                <a:chOff x="5638680" y="1641600"/>
                <a:chExt cx="76320" cy="352800"/>
              </a:xfrm>
            </p:grpSpPr>
            <p:cxnSp>
              <p:nvCxnSpPr>
                <p:cNvPr id="2196" name=""/>
                <p:cNvCxnSpPr/>
                <p:nvPr/>
              </p:nvCxnSpPr>
              <p:spPr>
                <a:xfrm rot="5400000">
                  <a:off x="5557320" y="1722600"/>
                  <a:ext cx="239040" cy="76680"/>
                </a:xfrm>
                <a:prstGeom prst="bentConnector3">
                  <a:avLst>
                    <a:gd name="adj1" fmla="val 49924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  <p:cxnSp>
              <p:nvCxnSpPr>
                <p:cNvPr id="2197" name=""/>
                <p:cNvCxnSpPr/>
                <p:nvPr/>
              </p:nvCxnSpPr>
              <p:spPr>
                <a:xfrm flipH="1" rot="16200000">
                  <a:off x="5572080" y="1851120"/>
                  <a:ext cx="210240" cy="76680"/>
                </a:xfrm>
                <a:prstGeom prst="bentConnector3">
                  <a:avLst>
                    <a:gd name="adj1" fmla="val 49914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2198" name=""/>
              <p:cNvSpPr/>
              <p:nvPr/>
            </p:nvSpPr>
            <p:spPr>
              <a:xfrm>
                <a:off x="5591160" y="1746360"/>
                <a:ext cx="0" cy="1717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99" name=""/>
            <p:cNvSpPr/>
            <p:nvPr/>
          </p:nvSpPr>
          <p:spPr>
            <a:xfrm>
              <a:off x="5516640" y="17942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00" name=""/>
          <p:cNvGrpSpPr/>
          <p:nvPr/>
        </p:nvGrpSpPr>
        <p:grpSpPr>
          <a:xfrm>
            <a:off x="5591160" y="2193840"/>
            <a:ext cx="123840" cy="352800"/>
            <a:chOff x="5591160" y="2193840"/>
            <a:chExt cx="123840" cy="352800"/>
          </a:xfrm>
        </p:grpSpPr>
        <p:grpSp>
          <p:nvGrpSpPr>
            <p:cNvPr id="2201" name=""/>
            <p:cNvGrpSpPr/>
            <p:nvPr/>
          </p:nvGrpSpPr>
          <p:grpSpPr>
            <a:xfrm>
              <a:off x="5638680" y="2193840"/>
              <a:ext cx="76320" cy="352800"/>
              <a:chOff x="5638680" y="2193840"/>
              <a:chExt cx="76320" cy="352800"/>
            </a:xfrm>
          </p:grpSpPr>
          <p:cxnSp>
            <p:nvCxnSpPr>
              <p:cNvPr id="2202" name=""/>
              <p:cNvCxnSpPr/>
              <p:nvPr/>
            </p:nvCxnSpPr>
            <p:spPr>
              <a:xfrm rot="5400000">
                <a:off x="5557320" y="2274840"/>
                <a:ext cx="239040" cy="76680"/>
              </a:xfrm>
              <a:prstGeom prst="bentConnector3">
                <a:avLst>
                  <a:gd name="adj1" fmla="val 49924"/>
                </a:avLst>
              </a:prstGeom>
              <a:ln w="12600">
                <a:solidFill>
                  <a:srgbClr val="ffffcc"/>
                </a:solidFill>
                <a:miter/>
              </a:ln>
            </p:spPr>
          </p:cxnSp>
          <p:cxnSp>
            <p:nvCxnSpPr>
              <p:cNvPr id="2203" name=""/>
              <p:cNvCxnSpPr/>
              <p:nvPr/>
            </p:nvCxnSpPr>
            <p:spPr>
              <a:xfrm flipH="1" rot="16200000">
                <a:off x="5572080" y="2403360"/>
                <a:ext cx="210240" cy="76680"/>
              </a:xfrm>
              <a:prstGeom prst="bentConnector3">
                <a:avLst>
                  <a:gd name="adj1" fmla="val 49914"/>
                </a:avLst>
              </a:prstGeom>
              <a:ln w="12600">
                <a:solidFill>
                  <a:srgbClr val="ffffcc"/>
                </a:solidFill>
                <a:miter/>
              </a:ln>
            </p:spPr>
          </p:cxnSp>
        </p:grpSp>
        <p:sp>
          <p:nvSpPr>
            <p:cNvPr id="2204" name=""/>
            <p:cNvSpPr/>
            <p:nvPr/>
          </p:nvSpPr>
          <p:spPr>
            <a:xfrm>
              <a:off x="5591160" y="2298600"/>
              <a:ext cx="0" cy="171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05" name=""/>
          <p:cNvGrpSpPr/>
          <p:nvPr/>
        </p:nvGrpSpPr>
        <p:grpSpPr>
          <a:xfrm>
            <a:off x="5591160" y="2460600"/>
            <a:ext cx="123840" cy="352800"/>
            <a:chOff x="5591160" y="2460600"/>
            <a:chExt cx="123840" cy="352800"/>
          </a:xfrm>
        </p:grpSpPr>
        <p:grpSp>
          <p:nvGrpSpPr>
            <p:cNvPr id="2206" name=""/>
            <p:cNvGrpSpPr/>
            <p:nvPr/>
          </p:nvGrpSpPr>
          <p:grpSpPr>
            <a:xfrm>
              <a:off x="5638680" y="2460600"/>
              <a:ext cx="76320" cy="352800"/>
              <a:chOff x="5638680" y="2460600"/>
              <a:chExt cx="76320" cy="352800"/>
            </a:xfrm>
          </p:grpSpPr>
          <p:cxnSp>
            <p:nvCxnSpPr>
              <p:cNvPr id="2207" name=""/>
              <p:cNvCxnSpPr/>
              <p:nvPr/>
            </p:nvCxnSpPr>
            <p:spPr>
              <a:xfrm rot="5400000">
                <a:off x="5557320" y="2541600"/>
                <a:ext cx="239040" cy="76680"/>
              </a:xfrm>
              <a:prstGeom prst="bentConnector3">
                <a:avLst>
                  <a:gd name="adj1" fmla="val 49924"/>
                </a:avLst>
              </a:prstGeom>
              <a:ln w="12600">
                <a:solidFill>
                  <a:srgbClr val="ffffcc"/>
                </a:solidFill>
                <a:miter/>
              </a:ln>
            </p:spPr>
          </p:cxnSp>
          <p:cxnSp>
            <p:nvCxnSpPr>
              <p:cNvPr id="2208" name=""/>
              <p:cNvCxnSpPr/>
              <p:nvPr/>
            </p:nvCxnSpPr>
            <p:spPr>
              <a:xfrm flipH="1" rot="16200000">
                <a:off x="5572080" y="2670120"/>
                <a:ext cx="210240" cy="76680"/>
              </a:xfrm>
              <a:prstGeom prst="bentConnector3">
                <a:avLst>
                  <a:gd name="adj1" fmla="val 49914"/>
                </a:avLst>
              </a:prstGeom>
              <a:ln w="12600">
                <a:solidFill>
                  <a:srgbClr val="ffffcc"/>
                </a:solidFill>
                <a:miter/>
              </a:ln>
            </p:spPr>
          </p:cxnSp>
        </p:grpSp>
        <p:sp>
          <p:nvSpPr>
            <p:cNvPr id="2209" name=""/>
            <p:cNvSpPr/>
            <p:nvPr/>
          </p:nvSpPr>
          <p:spPr>
            <a:xfrm>
              <a:off x="5591160" y="2565360"/>
              <a:ext cx="0" cy="171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5516640" y="1917720"/>
            <a:ext cx="198360" cy="352800"/>
            <a:chOff x="5516640" y="1917720"/>
            <a:chExt cx="198360" cy="352800"/>
          </a:xfrm>
        </p:grpSpPr>
        <p:grpSp>
          <p:nvGrpSpPr>
            <p:cNvPr id="2211" name=""/>
            <p:cNvGrpSpPr/>
            <p:nvPr/>
          </p:nvGrpSpPr>
          <p:grpSpPr>
            <a:xfrm>
              <a:off x="5591160" y="1917720"/>
              <a:ext cx="123840" cy="352800"/>
              <a:chOff x="5591160" y="1917720"/>
              <a:chExt cx="123840" cy="352800"/>
            </a:xfrm>
          </p:grpSpPr>
          <p:grpSp>
            <p:nvGrpSpPr>
              <p:cNvPr id="2212" name=""/>
              <p:cNvGrpSpPr/>
              <p:nvPr/>
            </p:nvGrpSpPr>
            <p:grpSpPr>
              <a:xfrm>
                <a:off x="5638680" y="1917720"/>
                <a:ext cx="76320" cy="352800"/>
                <a:chOff x="5638680" y="1917720"/>
                <a:chExt cx="76320" cy="352800"/>
              </a:xfrm>
            </p:grpSpPr>
            <p:cxnSp>
              <p:nvCxnSpPr>
                <p:cNvPr id="2213" name=""/>
                <p:cNvCxnSpPr/>
                <p:nvPr/>
              </p:nvCxnSpPr>
              <p:spPr>
                <a:xfrm rot="5400000">
                  <a:off x="5557320" y="1998720"/>
                  <a:ext cx="239040" cy="76680"/>
                </a:xfrm>
                <a:prstGeom prst="bentConnector3">
                  <a:avLst>
                    <a:gd name="adj1" fmla="val 49924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  <p:cxnSp>
              <p:nvCxnSpPr>
                <p:cNvPr id="2214" name=""/>
                <p:cNvCxnSpPr/>
                <p:nvPr/>
              </p:nvCxnSpPr>
              <p:spPr>
                <a:xfrm flipH="1" rot="16200000">
                  <a:off x="5572080" y="2127240"/>
                  <a:ext cx="210240" cy="76680"/>
                </a:xfrm>
                <a:prstGeom prst="bentConnector3">
                  <a:avLst>
                    <a:gd name="adj1" fmla="val 49914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2215" name=""/>
              <p:cNvSpPr/>
              <p:nvPr/>
            </p:nvSpPr>
            <p:spPr>
              <a:xfrm>
                <a:off x="5591160" y="2022480"/>
                <a:ext cx="0" cy="1717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16" name=""/>
            <p:cNvSpPr/>
            <p:nvPr/>
          </p:nvSpPr>
          <p:spPr>
            <a:xfrm>
              <a:off x="5516640" y="207036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17" name=""/>
          <p:cNvSpPr/>
          <p:nvPr/>
        </p:nvSpPr>
        <p:spPr>
          <a:xfrm>
            <a:off x="5676840" y="1612800"/>
            <a:ext cx="85680" cy="572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48400" y="2813040"/>
            <a:ext cx="1238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715000" y="2232000"/>
            <a:ext cx="6858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667560" y="2241720"/>
            <a:ext cx="4856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221" name=""/>
          <p:cNvCxnSpPr>
            <a:stCxn id="2189" idx="0"/>
          </p:cNvCxnSpPr>
          <p:nvPr/>
        </p:nvCxnSpPr>
        <p:spPr>
          <a:xfrm flipV="1" rot="10800000">
            <a:off x="6057360" y="1923120"/>
            <a:ext cx="352800" cy="308520"/>
          </a:xfrm>
          <a:prstGeom prst="bentConnector3">
            <a:avLst>
              <a:gd name="adj1" fmla="val 50357"/>
            </a:avLst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2222" name=""/>
          <p:cNvCxnSpPr/>
          <p:nvPr/>
        </p:nvCxnSpPr>
        <p:spPr>
          <a:xfrm>
            <a:off x="6706800" y="1905120"/>
            <a:ext cx="446760" cy="327600"/>
          </a:xfrm>
          <a:prstGeom prst="bentConnector4">
            <a:avLst>
              <a:gd name="adj1" fmla="val 51532"/>
              <a:gd name="adj2" fmla="val 103300"/>
            </a:avLst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2223" name=""/>
          <p:cNvCxnSpPr>
            <a:stCxn id="2216" idx="2"/>
          </p:cNvCxnSpPr>
          <p:nvPr/>
        </p:nvCxnSpPr>
        <p:spPr>
          <a:xfrm flipV="1" rot="10800000">
            <a:off x="5361840" y="2107800"/>
            <a:ext cx="154800" cy="286560"/>
          </a:xfrm>
          <a:prstGeom prst="bentConnector2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2224" name=""/>
          <p:cNvSpPr/>
          <p:nvPr/>
        </p:nvSpPr>
        <p:spPr>
          <a:xfrm>
            <a:off x="5362560" y="2394000"/>
            <a:ext cx="228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225" name=""/>
          <p:cNvCxnSpPr/>
          <p:nvPr/>
        </p:nvCxnSpPr>
        <p:spPr>
          <a:xfrm flipV="1" rot="10800000">
            <a:off x="5247720" y="1821240"/>
            <a:ext cx="268920" cy="848520"/>
          </a:xfrm>
          <a:prstGeom prst="bentConnector2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2226" name=""/>
          <p:cNvSpPr/>
          <p:nvPr/>
        </p:nvSpPr>
        <p:spPr>
          <a:xfrm>
            <a:off x="5248440" y="2660760"/>
            <a:ext cx="3427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 flipH="1">
            <a:off x="4762080" y="2232000"/>
            <a:ext cx="6001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H="1">
            <a:off x="4743000" y="2422440"/>
            <a:ext cx="5050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481280" y="2271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4471920" y="1986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110000" y="202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32" name=""/>
          <p:cNvGrpSpPr/>
          <p:nvPr/>
        </p:nvGrpSpPr>
        <p:grpSpPr>
          <a:xfrm>
            <a:off x="685800" y="1463760"/>
            <a:ext cx="7581960" cy="4799880"/>
            <a:chOff x="685800" y="1463760"/>
            <a:chExt cx="7581960" cy="4799880"/>
          </a:xfrm>
        </p:grpSpPr>
        <p:grpSp>
          <p:nvGrpSpPr>
            <p:cNvPr id="2233" name=""/>
            <p:cNvGrpSpPr/>
            <p:nvPr/>
          </p:nvGrpSpPr>
          <p:grpSpPr>
            <a:xfrm>
              <a:off x="4235400" y="1463760"/>
              <a:ext cx="3021120" cy="1542960"/>
              <a:chOff x="4235400" y="1463760"/>
              <a:chExt cx="3021120" cy="1542960"/>
            </a:xfrm>
          </p:grpSpPr>
          <p:sp>
            <p:nvSpPr>
              <p:cNvPr id="2234" name=""/>
              <p:cNvSpPr/>
              <p:nvPr/>
            </p:nvSpPr>
            <p:spPr>
              <a:xfrm flipH="1">
                <a:off x="4235400" y="1463760"/>
                <a:ext cx="2915280" cy="1542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341240" y="1463760"/>
                <a:ext cx="2915280" cy="1542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36" name=""/>
            <p:cNvSpPr/>
            <p:nvPr/>
          </p:nvSpPr>
          <p:spPr>
            <a:xfrm>
              <a:off x="685800" y="5422680"/>
              <a:ext cx="758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T C-element: faster,smaller; correct only under timing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constraint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: 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866960" y="4203720"/>
              <a:ext cx="780840" cy="952200"/>
            </a:xfrm>
            <a:prstGeom prst="downArrow">
              <a:avLst>
                <a:gd name="adj1" fmla="val 50000"/>
                <a:gd name="adj2" fmla="val 304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390840" y="5803920"/>
              <a:ext cx="2400480" cy="459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- before b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239" name=""/>
            <p:cNvGrpSpPr/>
            <p:nvPr/>
          </p:nvGrpSpPr>
          <p:grpSpPr>
            <a:xfrm>
              <a:off x="6420240" y="4325400"/>
              <a:ext cx="339120" cy="213480"/>
              <a:chOff x="6420240" y="4325400"/>
              <a:chExt cx="339120" cy="213480"/>
            </a:xfrm>
          </p:grpSpPr>
          <p:sp>
            <p:nvSpPr>
              <p:cNvPr id="2240" name=""/>
              <p:cNvSpPr/>
              <p:nvPr/>
            </p:nvSpPr>
            <p:spPr>
              <a:xfrm rot="16093800">
                <a:off x="6422400" y="4406760"/>
                <a:ext cx="52920" cy="554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rot="16093800">
                <a:off x="6504120" y="4282200"/>
                <a:ext cx="204480" cy="299160"/>
              </a:xfrm>
              <a:prstGeom prst="triangle">
                <a:avLst>
                  <a:gd name="adj" fmla="val 50000"/>
                </a:avLst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6448320" y="4628160"/>
              <a:ext cx="270360" cy="255960"/>
              <a:chOff x="6448320" y="4628160"/>
              <a:chExt cx="270360" cy="255960"/>
            </a:xfrm>
          </p:grpSpPr>
          <p:sp>
            <p:nvSpPr>
              <p:cNvPr id="2243" name=""/>
              <p:cNvSpPr/>
              <p:nvPr/>
            </p:nvSpPr>
            <p:spPr>
              <a:xfrm rot="5314200">
                <a:off x="6663600" y="4734000"/>
                <a:ext cx="64800" cy="439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rot="5314200">
                <a:off x="6445080" y="4637160"/>
                <a:ext cx="250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"/>
            <p:cNvGrpSpPr/>
            <p:nvPr/>
          </p:nvGrpSpPr>
          <p:grpSpPr>
            <a:xfrm>
              <a:off x="5638680" y="4706640"/>
              <a:ext cx="123840" cy="352080"/>
              <a:chOff x="5638680" y="4706640"/>
              <a:chExt cx="123840" cy="352080"/>
            </a:xfrm>
          </p:grpSpPr>
          <p:grpSp>
            <p:nvGrpSpPr>
              <p:cNvPr id="2246" name=""/>
              <p:cNvGrpSpPr/>
              <p:nvPr/>
            </p:nvGrpSpPr>
            <p:grpSpPr>
              <a:xfrm>
                <a:off x="5686200" y="4706640"/>
                <a:ext cx="76320" cy="352080"/>
                <a:chOff x="5686200" y="4706640"/>
                <a:chExt cx="76320" cy="352080"/>
              </a:xfrm>
            </p:grpSpPr>
            <p:cxnSp>
              <p:nvCxnSpPr>
                <p:cNvPr id="2247" name=""/>
                <p:cNvCxnSpPr/>
                <p:nvPr/>
              </p:nvCxnSpPr>
              <p:spPr>
                <a:xfrm rot="5400000">
                  <a:off x="5605200" y="4787640"/>
                  <a:ext cx="238680" cy="766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  <p:cxnSp>
              <p:nvCxnSpPr>
                <p:cNvPr id="2248" name=""/>
                <p:cNvCxnSpPr/>
                <p:nvPr/>
              </p:nvCxnSpPr>
              <p:spPr>
                <a:xfrm flipH="1" rot="16200000">
                  <a:off x="5619600" y="4915800"/>
                  <a:ext cx="209880" cy="766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2249" name=""/>
              <p:cNvSpPr/>
              <p:nvPr/>
            </p:nvSpPr>
            <p:spPr>
              <a:xfrm>
                <a:off x="5638680" y="4811400"/>
                <a:ext cx="0" cy="171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50" name=""/>
            <p:cNvGrpSpPr/>
            <p:nvPr/>
          </p:nvGrpSpPr>
          <p:grpSpPr>
            <a:xfrm>
              <a:off x="5638680" y="4973040"/>
              <a:ext cx="123840" cy="352080"/>
              <a:chOff x="5638680" y="4973040"/>
              <a:chExt cx="123840" cy="352080"/>
            </a:xfrm>
          </p:grpSpPr>
          <p:grpSp>
            <p:nvGrpSpPr>
              <p:cNvPr id="2251" name=""/>
              <p:cNvGrpSpPr/>
              <p:nvPr/>
            </p:nvGrpSpPr>
            <p:grpSpPr>
              <a:xfrm>
                <a:off x="5686200" y="4973040"/>
                <a:ext cx="76320" cy="352080"/>
                <a:chOff x="5686200" y="4973040"/>
                <a:chExt cx="76320" cy="352080"/>
              </a:xfrm>
            </p:grpSpPr>
            <p:cxnSp>
              <p:nvCxnSpPr>
                <p:cNvPr id="2252" name=""/>
                <p:cNvCxnSpPr/>
                <p:nvPr/>
              </p:nvCxnSpPr>
              <p:spPr>
                <a:xfrm rot="5400000">
                  <a:off x="5605200" y="5054040"/>
                  <a:ext cx="238680" cy="766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  <p:cxnSp>
              <p:nvCxnSpPr>
                <p:cNvPr id="2253" name=""/>
                <p:cNvCxnSpPr/>
                <p:nvPr/>
              </p:nvCxnSpPr>
              <p:spPr>
                <a:xfrm flipH="1" rot="16200000">
                  <a:off x="5619600" y="5182200"/>
                  <a:ext cx="209880" cy="766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2254" name=""/>
              <p:cNvSpPr/>
              <p:nvPr/>
            </p:nvSpPr>
            <p:spPr>
              <a:xfrm>
                <a:off x="5638680" y="5077800"/>
                <a:ext cx="0" cy="171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55" name=""/>
            <p:cNvGrpSpPr/>
            <p:nvPr/>
          </p:nvGrpSpPr>
          <p:grpSpPr>
            <a:xfrm>
              <a:off x="5564160" y="4430160"/>
              <a:ext cx="198360" cy="352080"/>
              <a:chOff x="5564160" y="4430160"/>
              <a:chExt cx="198360" cy="352080"/>
            </a:xfrm>
          </p:grpSpPr>
          <p:grpSp>
            <p:nvGrpSpPr>
              <p:cNvPr id="2256" name=""/>
              <p:cNvGrpSpPr/>
              <p:nvPr/>
            </p:nvGrpSpPr>
            <p:grpSpPr>
              <a:xfrm>
                <a:off x="5638680" y="4430160"/>
                <a:ext cx="123840" cy="352080"/>
                <a:chOff x="5638680" y="4430160"/>
                <a:chExt cx="123840" cy="352080"/>
              </a:xfrm>
            </p:grpSpPr>
            <p:grpSp>
              <p:nvGrpSpPr>
                <p:cNvPr id="2257" name=""/>
                <p:cNvGrpSpPr/>
                <p:nvPr/>
              </p:nvGrpSpPr>
              <p:grpSpPr>
                <a:xfrm>
                  <a:off x="5686200" y="4430160"/>
                  <a:ext cx="76320" cy="352080"/>
                  <a:chOff x="5686200" y="4430160"/>
                  <a:chExt cx="76320" cy="352080"/>
                </a:xfrm>
              </p:grpSpPr>
              <p:cxnSp>
                <p:nvCxnSpPr>
                  <p:cNvPr id="2258" name=""/>
                  <p:cNvCxnSpPr/>
                  <p:nvPr/>
                </p:nvCxnSpPr>
                <p:spPr>
                  <a:xfrm rot="5400000">
                    <a:off x="5605200" y="4511160"/>
                    <a:ext cx="238680" cy="76680"/>
                  </a:xfrm>
                  <a:prstGeom prst="bentConnector3">
                    <a:avLst>
                      <a:gd name="adj1" fmla="val 50000"/>
                    </a:avLst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</p:cxnSp>
              <p:cxnSp>
                <p:nvCxnSpPr>
                  <p:cNvPr id="2259" name=""/>
                  <p:cNvCxnSpPr/>
                  <p:nvPr/>
                </p:nvCxnSpPr>
                <p:spPr>
                  <a:xfrm flipH="1" rot="16200000">
                    <a:off x="5619600" y="4639320"/>
                    <a:ext cx="209880" cy="76680"/>
                  </a:xfrm>
                  <a:prstGeom prst="bentConnector3">
                    <a:avLst>
                      <a:gd name="adj1" fmla="val 50000"/>
                    </a:avLst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</p:cxnSp>
            </p:grpSp>
            <p:sp>
              <p:nvSpPr>
                <p:cNvPr id="2260" name=""/>
                <p:cNvSpPr/>
                <p:nvPr/>
              </p:nvSpPr>
              <p:spPr>
                <a:xfrm>
                  <a:off x="5638680" y="4534920"/>
                  <a:ext cx="0" cy="17136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1" name=""/>
              <p:cNvSpPr/>
              <p:nvPr/>
            </p:nvSpPr>
            <p:spPr>
              <a:xfrm>
                <a:off x="5564160" y="4582800"/>
                <a:ext cx="74520" cy="74160"/>
              </a:xfrm>
              <a:prstGeom prst="ellipse">
                <a:avLst/>
              </a:prstGeom>
              <a:noFill/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62" name=""/>
            <p:cNvSpPr/>
            <p:nvPr/>
          </p:nvSpPr>
          <p:spPr>
            <a:xfrm>
              <a:off x="5724360" y="4392360"/>
              <a:ext cx="86040" cy="568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695920" y="5325840"/>
              <a:ext cx="1238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762520" y="4744800"/>
              <a:ext cx="6858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715080" y="4754520"/>
              <a:ext cx="4860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2266" name=""/>
            <p:cNvCxnSpPr>
              <a:stCxn id="2241" idx="0"/>
            </p:cNvCxnSpPr>
            <p:nvPr/>
          </p:nvCxnSpPr>
          <p:spPr>
            <a:xfrm flipV="1" rot="10800000">
              <a:off x="6104880" y="4436640"/>
              <a:ext cx="353160" cy="308160"/>
            </a:xfrm>
            <a:prstGeom prst="bentConnector3">
              <a:avLst>
                <a:gd name="adj1" fmla="val 50408"/>
              </a:avLst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2267" name=""/>
            <p:cNvCxnSpPr/>
            <p:nvPr/>
          </p:nvCxnSpPr>
          <p:spPr>
            <a:xfrm>
              <a:off x="6754680" y="4417560"/>
              <a:ext cx="447120" cy="327240"/>
            </a:xfrm>
            <a:prstGeom prst="bentConnector4">
              <a:avLst>
                <a:gd name="adj1" fmla="val 51571"/>
                <a:gd name="adj2" fmla="val 103303"/>
              </a:avLst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2268" name=""/>
            <p:cNvCxnSpPr>
              <a:stCxn id="2261" idx="2"/>
            </p:cNvCxnSpPr>
            <p:nvPr/>
          </p:nvCxnSpPr>
          <p:spPr>
            <a:xfrm flipV="1" rot="10800000">
              <a:off x="5409360" y="4619880"/>
              <a:ext cx="154800" cy="286200"/>
            </a:xfrm>
            <a:prstGeom prst="bentConnector2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2269" name=""/>
            <p:cNvSpPr/>
            <p:nvPr/>
          </p:nvSpPr>
          <p:spPr>
            <a:xfrm>
              <a:off x="5410080" y="4906800"/>
              <a:ext cx="2286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295960" y="5173560"/>
              <a:ext cx="3427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H="1">
              <a:off x="4809600" y="4744800"/>
              <a:ext cx="600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H="1">
              <a:off x="4791240" y="4935600"/>
              <a:ext cx="5047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529160" y="4784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519440" y="4498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7157520" y="4537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295960" y="4946400"/>
              <a:ext cx="0" cy="23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BA7E-A39E-404D-8962-5CFE1DCAD1C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Graph (Read cycle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4192560" y="178452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4159080" y="28638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159080" y="394344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5351760" y="1784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5378760" y="28638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378760" y="394344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424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5119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119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424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0852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168440" y="5383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2681640" y="53830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2100600" y="46623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D81F-0F69-4CD2-B60B-2AD71ED107F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"/>
          <p:cNvSpPr/>
          <p:nvPr/>
        </p:nvSpPr>
        <p:spPr>
          <a:xfrm>
            <a:off x="3429000" y="3587760"/>
            <a:ext cx="3371760" cy="64764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695760" y="3664080"/>
            <a:ext cx="1638360" cy="4950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2209680" y="2577960"/>
            <a:ext cx="3353040" cy="2743200"/>
          </a:xfrm>
          <a:custGeom>
            <a:avLst/>
            <a:gdLst/>
            <a:ahLst/>
            <a:rect l="l" t="t" r="r" b="b"/>
            <a:pathLst>
              <a:path w="2112" h="1728">
                <a:moveTo>
                  <a:pt x="0" y="0"/>
                </a:moveTo>
                <a:lnTo>
                  <a:pt x="480" y="0"/>
                </a:lnTo>
                <a:lnTo>
                  <a:pt x="480" y="1248"/>
                </a:lnTo>
                <a:lnTo>
                  <a:pt x="2112" y="1248"/>
                </a:lnTo>
                <a:lnTo>
                  <a:pt x="2112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657600" y="1454040"/>
            <a:ext cx="2000160" cy="1752840"/>
          </a:xfrm>
          <a:custGeom>
            <a:avLst/>
            <a:gdLst/>
            <a:ahLst/>
            <a:rect l="l" t="t" r="r" b="b"/>
            <a:pathLst>
              <a:path w="2160" h="1104">
                <a:moveTo>
                  <a:pt x="672" y="0"/>
                </a:moveTo>
                <a:lnTo>
                  <a:pt x="672" y="576"/>
                </a:lnTo>
                <a:lnTo>
                  <a:pt x="0" y="576"/>
                </a:lnTo>
                <a:lnTo>
                  <a:pt x="0" y="1104"/>
                </a:lnTo>
                <a:lnTo>
                  <a:pt x="2160" y="1092"/>
                </a:lnTo>
                <a:lnTo>
                  <a:pt x="2160" y="0"/>
                </a:lnTo>
                <a:lnTo>
                  <a:pt x="672" y="0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azy Transition Syst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570120" y="1467000"/>
            <a:ext cx="621000" cy="666720"/>
          </a:xfrm>
          <a:custGeom>
            <a:avLst/>
            <a:gdLst>
              <a:gd name="textAreaLeft" fmla="*/ 30240 w 621000"/>
              <a:gd name="textAreaRight" fmla="*/ 590760 w 621000"/>
              <a:gd name="textAreaTop" fmla="*/ 30240 h 666720"/>
              <a:gd name="textAreaBottom" fmla="*/ 636480 h 666720"/>
            </a:gdLst>
            <a:ahLst/>
            <a:rect l="textAreaLeft" t="textAreaTop" r="textAreaRight" b="textAreaBottom"/>
            <a:pathLst>
              <a:path w="21600" h="23189">
                <a:moveTo>
                  <a:pt x="3600" y="0"/>
                </a:moveTo>
                <a:arcTo wR="3600" hR="3600" stAng="16200000" swAng="-5400000"/>
                <a:lnTo>
                  <a:pt x="0" y="19589"/>
                </a:lnTo>
                <a:arcTo wR="3600" hR="3600" stAng="10800000" swAng="-5400000"/>
                <a:lnTo>
                  <a:pt x="18000" y="2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900800" y="133524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ff"/>
                </a:solidFill>
                <a:latin typeface="Arial"/>
              </a:rPr>
              <a:t>ER (LDS+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6908040" y="391176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ff"/>
                </a:solidFill>
                <a:latin typeface="Arial"/>
              </a:rPr>
              <a:t>ER (LDS-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722760" y="165276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5029200" y="1652760"/>
            <a:ext cx="260280" cy="2696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3722760" y="273204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5029200" y="273204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335640" y="273204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722760" y="381168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029200" y="381168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6335640" y="381168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22760" y="48909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029200" y="48909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2416320" y="273204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2416320" y="381168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2416320" y="48909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 flipH="1">
            <a:off x="3984480" y="179244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 flipH="1">
            <a:off x="3989520" y="1792440"/>
            <a:ext cx="1039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 flipH="1">
            <a:off x="3989520" y="2867040"/>
            <a:ext cx="1039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5289120" y="3951360"/>
            <a:ext cx="1040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flipH="1">
            <a:off x="3984480" y="3951360"/>
            <a:ext cx="1038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flipH="1">
            <a:off x="2677680" y="5041800"/>
            <a:ext cx="10400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3989520" y="5041800"/>
            <a:ext cx="1039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470640" y="3002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165640" y="192240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165640" y="3002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859200" y="192240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59200" y="3002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2552760" y="3002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552760" y="408132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6424560" y="31766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3811320" y="31766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2744640" y="2044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 flipH="1">
            <a:off x="2660760" y="1873080"/>
            <a:ext cx="1092240" cy="933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 flipV="1">
            <a:off x="5264280" y="4032360"/>
            <a:ext cx="1092240" cy="907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5106960" y="31878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5488200" y="335916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DTACK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6191280" y="2597040"/>
            <a:ext cx="552600" cy="552600"/>
          </a:xfrm>
          <a:prstGeom prst="noSmoking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905880" y="33400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Arial"/>
              </a:rPr>
              <a:t>FR (LDS-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1299960" y="5519880"/>
            <a:ext cx="67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v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DS-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is lazy: firing = subset of enabl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1228680" y="5437080"/>
            <a:ext cx="6926400" cy="63684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2649A-92D0-4E93-A5C2-E11C12537A7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ming assump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before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for concurrent events:              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oncurrency reduction for firing and enabl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before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r ordered events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arly enabling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simultaneous to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wrt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or triples of events: combination of the abo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0" y="1676520"/>
            <a:ext cx="704880" cy="723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A249-3A62-4319-A715-809311D85A8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peed-independent Netli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309680" y="2376360"/>
            <a:ext cx="2022480" cy="56700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2100240" y="283068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2403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2404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2405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7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408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10" name=""/>
          <p:cNvGrpSpPr/>
          <p:nvPr/>
        </p:nvGrpSpPr>
        <p:grpSpPr>
          <a:xfrm>
            <a:off x="5694120" y="4046760"/>
            <a:ext cx="1252080" cy="1575360"/>
            <a:chOff x="5694120" y="4046760"/>
            <a:chExt cx="1252080" cy="1575360"/>
          </a:xfrm>
        </p:grpSpPr>
        <p:sp>
          <p:nvSpPr>
            <p:cNvPr id="2411" name=""/>
            <p:cNvSpPr/>
            <p:nvPr/>
          </p:nvSpPr>
          <p:spPr>
            <a:xfrm rot="10800000">
              <a:off x="5699520" y="404676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694120" y="457200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237720" y="457344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232680" y="456876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4441680" y="5105520"/>
            <a:ext cx="630000" cy="525240"/>
            <a:chOff x="4441680" y="5105520"/>
            <a:chExt cx="630000" cy="525240"/>
          </a:xfrm>
        </p:grpSpPr>
        <p:grpSp>
          <p:nvGrpSpPr>
            <p:cNvPr id="2416" name=""/>
            <p:cNvGrpSpPr/>
            <p:nvPr/>
          </p:nvGrpSpPr>
          <p:grpSpPr>
            <a:xfrm>
              <a:off x="4441680" y="5105520"/>
              <a:ext cx="529560" cy="525240"/>
              <a:chOff x="4441680" y="5105520"/>
              <a:chExt cx="529560" cy="525240"/>
            </a:xfrm>
          </p:grpSpPr>
          <p:sp>
            <p:nvSpPr>
              <p:cNvPr id="2417" name=""/>
              <p:cNvSpPr/>
              <p:nvPr/>
            </p:nvSpPr>
            <p:spPr>
              <a:xfrm>
                <a:off x="4446360" y="5110200"/>
                <a:ext cx="524880" cy="5140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4441680" y="5105520"/>
                <a:ext cx="268560" cy="52524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419" name=""/>
            <p:cNvSpPr/>
            <p:nvPr/>
          </p:nvSpPr>
          <p:spPr>
            <a:xfrm>
              <a:off x="4978800" y="5362560"/>
              <a:ext cx="928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20" name=""/>
          <p:cNvSpPr/>
          <p:nvPr/>
        </p:nvSpPr>
        <p:spPr>
          <a:xfrm>
            <a:off x="4267080" y="5192640"/>
            <a:ext cx="1746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1182600" y="5541840"/>
            <a:ext cx="3259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22" name=""/>
          <p:cNvGrpSpPr/>
          <p:nvPr/>
        </p:nvGrpSpPr>
        <p:grpSpPr>
          <a:xfrm>
            <a:off x="2390400" y="4057200"/>
            <a:ext cx="1252080" cy="1573920"/>
            <a:chOff x="2390400" y="4057200"/>
            <a:chExt cx="1252080" cy="1573920"/>
          </a:xfrm>
        </p:grpSpPr>
        <p:sp>
          <p:nvSpPr>
            <p:cNvPr id="2423" name=""/>
            <p:cNvSpPr/>
            <p:nvPr/>
          </p:nvSpPr>
          <p:spPr>
            <a:xfrm rot="10800000">
              <a:off x="2395800" y="4057200"/>
              <a:ext cx="124668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390400" y="4581720"/>
              <a:ext cx="124812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934000" y="4583160"/>
              <a:ext cx="168120" cy="515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928960" y="4578480"/>
              <a:ext cx="90360" cy="52632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27" name=""/>
          <p:cNvSpPr/>
          <p:nvPr/>
        </p:nvSpPr>
        <p:spPr>
          <a:xfrm flipV="1">
            <a:off x="3556080" y="4838760"/>
            <a:ext cx="19368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2998800" y="4640400"/>
            <a:ext cx="79200" cy="77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2163600" y="4665600"/>
            <a:ext cx="8557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932200" y="5014800"/>
            <a:ext cx="154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31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2432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35" name=""/>
          <p:cNvSpPr/>
          <p:nvPr/>
        </p:nvSpPr>
        <p:spPr>
          <a:xfrm>
            <a:off x="6881760" y="481500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5931000" y="4255920"/>
            <a:ext cx="0" cy="462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5931000" y="471816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5072040" y="536256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 flipV="1">
            <a:off x="5931000" y="5014800"/>
            <a:ext cx="0" cy="3477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931000" y="5362560"/>
            <a:ext cx="0" cy="50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 flipH="1">
            <a:off x="2928600" y="5864400"/>
            <a:ext cx="3002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 flipV="1">
            <a:off x="2928960" y="5014800"/>
            <a:ext cx="0" cy="849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H="1">
            <a:off x="2163600" y="603900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V="1">
            <a:off x="2163600" y="4086360"/>
            <a:ext cx="0" cy="19526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703440" y="5127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7298280" y="4471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7006320" y="56768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5073480" y="4991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3869280" y="461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 flipH="1">
            <a:off x="3747960" y="443556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H="1">
            <a:off x="3747960" y="519264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461" name=""/>
          <p:cNvCxnSpPr>
            <a:stCxn id="2459" idx="0"/>
            <a:endCxn id="2460" idx="0"/>
          </p:cNvCxnSpPr>
          <p:nvPr/>
        </p:nvCxnSpPr>
        <p:spPr>
          <a:xfrm>
            <a:off x="3749400" y="4435200"/>
            <a:ext cx="1080" cy="75780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B37E9-7B06-424E-9076-591DEDDF7DD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dding timing assumptions (I)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309680" y="2376360"/>
            <a:ext cx="2022480" cy="56700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100240" y="283068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2487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2488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2489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1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492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94" name=""/>
          <p:cNvGrpSpPr/>
          <p:nvPr/>
        </p:nvGrpSpPr>
        <p:grpSpPr>
          <a:xfrm>
            <a:off x="5694120" y="4046760"/>
            <a:ext cx="1252080" cy="1575360"/>
            <a:chOff x="5694120" y="4046760"/>
            <a:chExt cx="1252080" cy="1575360"/>
          </a:xfrm>
        </p:grpSpPr>
        <p:sp>
          <p:nvSpPr>
            <p:cNvPr id="2495" name=""/>
            <p:cNvSpPr/>
            <p:nvPr/>
          </p:nvSpPr>
          <p:spPr>
            <a:xfrm rot="10800000">
              <a:off x="5699520" y="404676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694120" y="457200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237720" y="457344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232680" y="456876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4441680" y="5105520"/>
            <a:ext cx="630000" cy="525240"/>
            <a:chOff x="4441680" y="5105520"/>
            <a:chExt cx="630000" cy="525240"/>
          </a:xfrm>
        </p:grpSpPr>
        <p:grpSp>
          <p:nvGrpSpPr>
            <p:cNvPr id="2500" name=""/>
            <p:cNvGrpSpPr/>
            <p:nvPr/>
          </p:nvGrpSpPr>
          <p:grpSpPr>
            <a:xfrm>
              <a:off x="4441680" y="5105520"/>
              <a:ext cx="529560" cy="525240"/>
              <a:chOff x="4441680" y="5105520"/>
              <a:chExt cx="529560" cy="525240"/>
            </a:xfrm>
          </p:grpSpPr>
          <p:sp>
            <p:nvSpPr>
              <p:cNvPr id="2501" name=""/>
              <p:cNvSpPr/>
              <p:nvPr/>
            </p:nvSpPr>
            <p:spPr>
              <a:xfrm>
                <a:off x="4446360" y="5110200"/>
                <a:ext cx="524880" cy="5140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441680" y="5105520"/>
                <a:ext cx="268560" cy="52524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03" name=""/>
            <p:cNvSpPr/>
            <p:nvPr/>
          </p:nvSpPr>
          <p:spPr>
            <a:xfrm>
              <a:off x="4978800" y="5362560"/>
              <a:ext cx="928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04" name=""/>
          <p:cNvSpPr/>
          <p:nvPr/>
        </p:nvSpPr>
        <p:spPr>
          <a:xfrm>
            <a:off x="4267080" y="5192640"/>
            <a:ext cx="1746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182600" y="5541840"/>
            <a:ext cx="3259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06" name=""/>
          <p:cNvGrpSpPr/>
          <p:nvPr/>
        </p:nvGrpSpPr>
        <p:grpSpPr>
          <a:xfrm>
            <a:off x="2390400" y="4057200"/>
            <a:ext cx="1252080" cy="1573920"/>
            <a:chOff x="2390400" y="4057200"/>
            <a:chExt cx="1252080" cy="1573920"/>
          </a:xfrm>
        </p:grpSpPr>
        <p:sp>
          <p:nvSpPr>
            <p:cNvPr id="2507" name=""/>
            <p:cNvSpPr/>
            <p:nvPr/>
          </p:nvSpPr>
          <p:spPr>
            <a:xfrm rot="10800000">
              <a:off x="2395800" y="4057200"/>
              <a:ext cx="124668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390400" y="4581720"/>
              <a:ext cx="124812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934000" y="4583160"/>
              <a:ext cx="168120" cy="515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928960" y="4578480"/>
              <a:ext cx="90360" cy="52632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11" name=""/>
          <p:cNvSpPr/>
          <p:nvPr/>
        </p:nvSpPr>
        <p:spPr>
          <a:xfrm flipV="1">
            <a:off x="3556080" y="4838760"/>
            <a:ext cx="19368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2998800" y="4640400"/>
            <a:ext cx="79200" cy="77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163600" y="4665600"/>
            <a:ext cx="8557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932200" y="5014800"/>
            <a:ext cx="154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15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2516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19" name=""/>
          <p:cNvSpPr/>
          <p:nvPr/>
        </p:nvSpPr>
        <p:spPr>
          <a:xfrm>
            <a:off x="6881760" y="481500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5931000" y="4255920"/>
            <a:ext cx="0" cy="462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931000" y="471816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5072040" y="536256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5931000" y="5014800"/>
            <a:ext cx="0" cy="3477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931000" y="5362560"/>
            <a:ext cx="0" cy="50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 flipH="1">
            <a:off x="2928600" y="5864400"/>
            <a:ext cx="3002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V="1">
            <a:off x="2928960" y="5014800"/>
            <a:ext cx="0" cy="849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>
            <a:off x="2163600" y="603900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V="1">
            <a:off x="2163600" y="4086360"/>
            <a:ext cx="0" cy="19526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03440" y="5127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298280" y="4471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006320" y="56768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5073480" y="4991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869280" y="461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 flipH="1">
            <a:off x="3747960" y="443556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H="1">
            <a:off x="3747960" y="519264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545" name=""/>
          <p:cNvCxnSpPr>
            <a:stCxn id="2543" idx="0"/>
            <a:endCxn id="2544" idx="0"/>
          </p:cNvCxnSpPr>
          <p:nvPr/>
        </p:nvCxnSpPr>
        <p:spPr>
          <a:xfrm>
            <a:off x="3749400" y="4435200"/>
            <a:ext cx="1080" cy="75780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grpSp>
        <p:nvGrpSpPr>
          <p:cNvPr id="2546" name=""/>
          <p:cNvGrpSpPr/>
          <p:nvPr/>
        </p:nvGrpSpPr>
        <p:grpSpPr>
          <a:xfrm>
            <a:off x="5205240" y="2378160"/>
            <a:ext cx="5153040" cy="2369880"/>
            <a:chOff x="5205240" y="2378160"/>
            <a:chExt cx="5153040" cy="2369880"/>
          </a:xfrm>
        </p:grpSpPr>
        <p:sp>
          <p:nvSpPr>
            <p:cNvPr id="2547" name=""/>
            <p:cNvSpPr/>
            <p:nvPr/>
          </p:nvSpPr>
          <p:spPr>
            <a:xfrm>
              <a:off x="5205240" y="2378160"/>
              <a:ext cx="5153040" cy="236988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286320" y="3171600"/>
              <a:ext cx="2803680" cy="62532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49" name=""/>
          <p:cNvGrpSpPr/>
          <p:nvPr/>
        </p:nvGrpSpPr>
        <p:grpSpPr>
          <a:xfrm>
            <a:off x="0" y="4213080"/>
            <a:ext cx="8697960" cy="1315800"/>
            <a:chOff x="0" y="4213080"/>
            <a:chExt cx="8697960" cy="1315800"/>
          </a:xfrm>
        </p:grpSpPr>
        <p:grpSp>
          <p:nvGrpSpPr>
            <p:cNvPr id="2550" name=""/>
            <p:cNvGrpSpPr/>
            <p:nvPr/>
          </p:nvGrpSpPr>
          <p:grpSpPr>
            <a:xfrm>
              <a:off x="7737480" y="5025600"/>
              <a:ext cx="960480" cy="503280"/>
              <a:chOff x="7737480" y="5025600"/>
              <a:chExt cx="960480" cy="503280"/>
            </a:xfrm>
          </p:grpSpPr>
          <p:sp>
            <p:nvSpPr>
              <p:cNvPr id="2551" name=""/>
              <p:cNvSpPr/>
              <p:nvPr/>
            </p:nvSpPr>
            <p:spPr>
              <a:xfrm>
                <a:off x="7773480" y="5066640"/>
                <a:ext cx="82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Arial"/>
                  </a:rPr>
                  <a:t>FAST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737480" y="5025600"/>
                <a:ext cx="960480" cy="503280"/>
              </a:xfrm>
              <a:prstGeom prst="ellipse">
                <a:avLst/>
              </a:prstGeom>
              <a:noFill/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53" name=""/>
            <p:cNvGrpSpPr/>
            <p:nvPr/>
          </p:nvGrpSpPr>
          <p:grpSpPr>
            <a:xfrm>
              <a:off x="0" y="4213080"/>
              <a:ext cx="1112760" cy="593640"/>
              <a:chOff x="0" y="4213080"/>
              <a:chExt cx="1112760" cy="593640"/>
            </a:xfrm>
          </p:grpSpPr>
          <p:sp>
            <p:nvSpPr>
              <p:cNvPr id="2554" name=""/>
              <p:cNvSpPr/>
              <p:nvPr/>
            </p:nvSpPr>
            <p:spPr>
              <a:xfrm>
                <a:off x="83160" y="431604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Arial"/>
                  </a:rPr>
                  <a:t>SLOW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0" y="4213080"/>
                <a:ext cx="1112760" cy="593640"/>
              </a:xfrm>
              <a:prstGeom prst="ellipse">
                <a:avLst/>
              </a:prstGeom>
              <a:noFill/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F5C3-F93E-4891-ABBE-BAEDB1C6A0D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77960" y="-39600"/>
            <a:ext cx="75880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o Hazar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597640" y="2514600"/>
            <a:ext cx="3255120" cy="1830240"/>
            <a:chOff x="5597640" y="2514600"/>
            <a:chExt cx="3255120" cy="1830240"/>
          </a:xfrm>
        </p:grpSpPr>
        <p:grpSp>
          <p:nvGrpSpPr>
            <p:cNvPr id="114" name=""/>
            <p:cNvGrpSpPr/>
            <p:nvPr/>
          </p:nvGrpSpPr>
          <p:grpSpPr>
            <a:xfrm>
              <a:off x="5597640" y="2514600"/>
              <a:ext cx="2762280" cy="1830240"/>
              <a:chOff x="5597640" y="2514600"/>
              <a:chExt cx="2762280" cy="18302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5597640" y="2514600"/>
                <a:ext cx="2762280" cy="1830240"/>
                <a:chOff x="5597640" y="2514600"/>
                <a:chExt cx="2762280" cy="183024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6203880" y="2514600"/>
                  <a:ext cx="2156040" cy="1830240"/>
                  <a:chOff x="6203880" y="2514600"/>
                  <a:chExt cx="2156040" cy="1830240"/>
                </a:xfrm>
              </p:grpSpPr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6203880" y="2514600"/>
                    <a:ext cx="1822680" cy="1830240"/>
                    <a:chOff x="6203880" y="2514600"/>
                    <a:chExt cx="1822680" cy="183024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210360" y="2521080"/>
                      <a:ext cx="1816200" cy="1815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203880" y="2514600"/>
                      <a:ext cx="916200" cy="18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7" h="1153">
                          <a:moveTo>
                            <a:pt x="576" y="0"/>
                          </a:moveTo>
                          <a:lnTo>
                            <a:pt x="0" y="0"/>
                          </a:lnTo>
                          <a:lnTo>
                            <a:pt x="0" y="1152"/>
                          </a:lnTo>
                          <a:lnTo>
                            <a:pt x="576" y="115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" name=""/>
                  <p:cNvSpPr/>
                  <p:nvPr/>
                </p:nvSpPr>
                <p:spPr>
                  <a:xfrm>
                    <a:off x="8039160" y="3409920"/>
                    <a:ext cx="320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>
                  <a:off x="5597640" y="2819520"/>
                  <a:ext cx="6062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597640" y="4038480"/>
                  <a:ext cx="6062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 flipH="1">
                <a:off x="5641560" y="3429000"/>
                <a:ext cx="5698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31960" y="2637000"/>
                <a:ext cx="41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231960" y="3170160"/>
                <a:ext cx="41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31960" y="370368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79440" y="311616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8442000" y="314964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99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582920" y="1341360"/>
            <a:ext cx="1089000" cy="1037160"/>
            <a:chOff x="1582920" y="1341360"/>
            <a:chExt cx="1089000" cy="1037160"/>
          </a:xfrm>
        </p:grpSpPr>
        <p:sp>
          <p:nvSpPr>
            <p:cNvPr id="130" name=""/>
            <p:cNvSpPr/>
            <p:nvPr/>
          </p:nvSpPr>
          <p:spPr>
            <a:xfrm>
              <a:off x="1582920" y="1341360"/>
              <a:ext cx="104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abcx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4360" y="1798560"/>
              <a:ext cx="108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00</a:t>
              </a:r>
              <a:r>
                <a:rPr b="0" lang="en-US" sz="3200" spc="-1" strike="noStrike">
                  <a:solidFill>
                    <a:srgbClr val="00cc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584360" y="2255760"/>
            <a:ext cx="1333800" cy="1342080"/>
            <a:chOff x="1584360" y="2255760"/>
            <a:chExt cx="1333800" cy="1342080"/>
          </a:xfrm>
        </p:grpSpPr>
        <p:sp>
          <p:nvSpPr>
            <p:cNvPr id="133" name=""/>
            <p:cNvSpPr/>
            <p:nvPr/>
          </p:nvSpPr>
          <p:spPr>
            <a:xfrm>
              <a:off x="1584360" y="3017880"/>
              <a:ext cx="108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10</a:t>
              </a:r>
              <a:r>
                <a:rPr b="0" lang="en-US" sz="3200" spc="-1" strike="noStrike">
                  <a:solidFill>
                    <a:srgbClr val="00cc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8680" y="2289240"/>
              <a:ext cx="0" cy="6825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69800" y="2255760"/>
              <a:ext cx="648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b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84360" y="3584520"/>
            <a:ext cx="1231920" cy="1308600"/>
            <a:chOff x="1584360" y="3584520"/>
            <a:chExt cx="1231920" cy="1308600"/>
          </a:xfrm>
        </p:grpSpPr>
        <p:sp>
          <p:nvSpPr>
            <p:cNvPr id="137" name=""/>
            <p:cNvSpPr/>
            <p:nvPr/>
          </p:nvSpPr>
          <p:spPr>
            <a:xfrm>
              <a:off x="2128680" y="3584520"/>
              <a:ext cx="0" cy="6825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84360" y="4313160"/>
              <a:ext cx="108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10</a:t>
              </a:r>
              <a:r>
                <a:rPr b="0" lang="en-US" sz="3200" spc="-1" strike="noStrike">
                  <a:solidFill>
                    <a:srgbClr val="00cc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70160" y="3627360"/>
              <a:ext cx="54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a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84360" y="4803840"/>
            <a:ext cx="1388520" cy="1308600"/>
            <a:chOff x="1584360" y="4803840"/>
            <a:chExt cx="1388520" cy="1308600"/>
          </a:xfrm>
        </p:grpSpPr>
        <p:sp>
          <p:nvSpPr>
            <p:cNvPr id="141" name=""/>
            <p:cNvSpPr/>
            <p:nvPr/>
          </p:nvSpPr>
          <p:spPr>
            <a:xfrm>
              <a:off x="2128680" y="4803840"/>
              <a:ext cx="0" cy="6825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84360" y="5532480"/>
              <a:ext cx="108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11</a:t>
              </a:r>
              <a:r>
                <a:rPr b="0" lang="en-US" sz="3200" spc="-1" strike="noStrike">
                  <a:solidFill>
                    <a:srgbClr val="00cc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45760" y="48466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c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230360" y="2508120"/>
            <a:ext cx="410760" cy="1824840"/>
            <a:chOff x="4230360" y="2508120"/>
            <a:chExt cx="410760" cy="1824840"/>
          </a:xfrm>
        </p:grpSpPr>
        <p:sp>
          <p:nvSpPr>
            <p:cNvPr id="145" name=""/>
            <p:cNvSpPr/>
            <p:nvPr/>
          </p:nvSpPr>
          <p:spPr>
            <a:xfrm>
              <a:off x="4230360" y="25081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30360" y="31179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30360" y="37530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049360" y="2494080"/>
            <a:ext cx="410760" cy="1824480"/>
            <a:chOff x="5049360" y="2494080"/>
            <a:chExt cx="410760" cy="1824480"/>
          </a:xfrm>
        </p:grpSpPr>
        <p:sp>
          <p:nvSpPr>
            <p:cNvPr id="149" name=""/>
            <p:cNvSpPr/>
            <p:nvPr/>
          </p:nvSpPr>
          <p:spPr>
            <a:xfrm>
              <a:off x="5049360" y="24940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9360" y="3103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49360" y="37386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654080" y="2503440"/>
            <a:ext cx="410760" cy="1824840"/>
            <a:chOff x="4654080" y="2503440"/>
            <a:chExt cx="410760" cy="1824840"/>
          </a:xfrm>
        </p:grpSpPr>
        <p:sp>
          <p:nvSpPr>
            <p:cNvPr id="153" name=""/>
            <p:cNvSpPr/>
            <p:nvPr/>
          </p:nvSpPr>
          <p:spPr>
            <a:xfrm>
              <a:off x="4654080" y="250344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54080" y="31132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54080" y="3748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54160" y="2489040"/>
            <a:ext cx="410760" cy="1824840"/>
            <a:chOff x="3854160" y="2489040"/>
            <a:chExt cx="410760" cy="1824840"/>
          </a:xfrm>
        </p:grpSpPr>
        <p:sp>
          <p:nvSpPr>
            <p:cNvPr id="157" name=""/>
            <p:cNvSpPr/>
            <p:nvPr/>
          </p:nvSpPr>
          <p:spPr>
            <a:xfrm>
              <a:off x="3854160" y="248904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4160" y="30988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54160" y="3733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1AEB-C6F0-432A-8053-3A609E27C4A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dding timing assumptions (I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557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2558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2559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2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63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65" name=""/>
          <p:cNvGrpSpPr/>
          <p:nvPr/>
        </p:nvGrpSpPr>
        <p:grpSpPr>
          <a:xfrm>
            <a:off x="5694120" y="4046760"/>
            <a:ext cx="1252080" cy="1575360"/>
            <a:chOff x="5694120" y="4046760"/>
            <a:chExt cx="1252080" cy="1575360"/>
          </a:xfrm>
        </p:grpSpPr>
        <p:sp>
          <p:nvSpPr>
            <p:cNvPr id="2566" name=""/>
            <p:cNvSpPr/>
            <p:nvPr/>
          </p:nvSpPr>
          <p:spPr>
            <a:xfrm rot="10800000">
              <a:off x="5699520" y="404676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694120" y="457200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237720" y="457344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232680" y="456876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70" name=""/>
          <p:cNvGrpSpPr/>
          <p:nvPr/>
        </p:nvGrpSpPr>
        <p:grpSpPr>
          <a:xfrm>
            <a:off x="4441680" y="5105520"/>
            <a:ext cx="630000" cy="525240"/>
            <a:chOff x="4441680" y="5105520"/>
            <a:chExt cx="630000" cy="525240"/>
          </a:xfrm>
        </p:grpSpPr>
        <p:grpSp>
          <p:nvGrpSpPr>
            <p:cNvPr id="2571" name=""/>
            <p:cNvGrpSpPr/>
            <p:nvPr/>
          </p:nvGrpSpPr>
          <p:grpSpPr>
            <a:xfrm>
              <a:off x="4441680" y="5105520"/>
              <a:ext cx="529560" cy="525240"/>
              <a:chOff x="4441680" y="5105520"/>
              <a:chExt cx="529560" cy="525240"/>
            </a:xfrm>
          </p:grpSpPr>
          <p:sp>
            <p:nvSpPr>
              <p:cNvPr id="2572" name=""/>
              <p:cNvSpPr/>
              <p:nvPr/>
            </p:nvSpPr>
            <p:spPr>
              <a:xfrm>
                <a:off x="4446360" y="5110200"/>
                <a:ext cx="524880" cy="5140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441680" y="5105520"/>
                <a:ext cx="268560" cy="52524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>
              <a:off x="4978800" y="5362560"/>
              <a:ext cx="928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75" name=""/>
          <p:cNvSpPr/>
          <p:nvPr/>
        </p:nvSpPr>
        <p:spPr>
          <a:xfrm>
            <a:off x="4267080" y="5192640"/>
            <a:ext cx="1746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flipV="1">
            <a:off x="1305000" y="5541840"/>
            <a:ext cx="3136680" cy="15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77" name=""/>
          <p:cNvGrpSpPr/>
          <p:nvPr/>
        </p:nvGrpSpPr>
        <p:grpSpPr>
          <a:xfrm>
            <a:off x="2390400" y="4057200"/>
            <a:ext cx="1252080" cy="1573920"/>
            <a:chOff x="2390400" y="4057200"/>
            <a:chExt cx="1252080" cy="1573920"/>
          </a:xfrm>
        </p:grpSpPr>
        <p:sp>
          <p:nvSpPr>
            <p:cNvPr id="2578" name=""/>
            <p:cNvSpPr/>
            <p:nvPr/>
          </p:nvSpPr>
          <p:spPr>
            <a:xfrm rot="10800000">
              <a:off x="2395800" y="4057200"/>
              <a:ext cx="124668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390400" y="4581720"/>
              <a:ext cx="124812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934000" y="4583160"/>
              <a:ext cx="168120" cy="515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928960" y="4578480"/>
              <a:ext cx="90360" cy="52632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82" name=""/>
          <p:cNvSpPr/>
          <p:nvPr/>
        </p:nvSpPr>
        <p:spPr>
          <a:xfrm flipV="1">
            <a:off x="3556080" y="4838760"/>
            <a:ext cx="19368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998800" y="4640400"/>
            <a:ext cx="79200" cy="77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2163600" y="4665600"/>
            <a:ext cx="8557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2932200" y="5014800"/>
            <a:ext cx="154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86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2587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6881760" y="481500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931000" y="4255920"/>
            <a:ext cx="0" cy="462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5931000" y="471816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5072040" y="536256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 flipV="1">
            <a:off x="5931000" y="5014800"/>
            <a:ext cx="0" cy="3477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931000" y="5362560"/>
            <a:ext cx="0" cy="50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H="1">
            <a:off x="2928600" y="5864400"/>
            <a:ext cx="3002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 flipV="1">
            <a:off x="2928960" y="5014800"/>
            <a:ext cx="0" cy="849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 flipH="1">
            <a:off x="2163600" y="603900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 flipV="1">
            <a:off x="2163600" y="4086360"/>
            <a:ext cx="0" cy="19526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673200" y="51116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7298280" y="4471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7006320" y="56768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5073480" y="4991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3869280" y="461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 flipH="1">
            <a:off x="3747960" y="443556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 flipH="1">
            <a:off x="3747960" y="519264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616" name=""/>
          <p:cNvCxnSpPr>
            <a:stCxn id="2614" idx="0"/>
            <a:endCxn id="2615" idx="0"/>
          </p:cNvCxnSpPr>
          <p:nvPr/>
        </p:nvCxnSpPr>
        <p:spPr>
          <a:xfrm>
            <a:off x="3749400" y="4435200"/>
            <a:ext cx="1080" cy="75780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2617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rot="10597800">
            <a:off x="3623760" y="157320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39" name=""/>
          <p:cNvGrpSpPr/>
          <p:nvPr/>
        </p:nvGrpSpPr>
        <p:grpSpPr>
          <a:xfrm>
            <a:off x="5259240" y="2368440"/>
            <a:ext cx="5153040" cy="2370240"/>
            <a:chOff x="5259240" y="2368440"/>
            <a:chExt cx="5153040" cy="2370240"/>
          </a:xfrm>
        </p:grpSpPr>
        <p:sp>
          <p:nvSpPr>
            <p:cNvPr id="2640" name=""/>
            <p:cNvSpPr/>
            <p:nvPr/>
          </p:nvSpPr>
          <p:spPr>
            <a:xfrm>
              <a:off x="5259240" y="236844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340320" y="316224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3167-F1D0-4B98-83B6-2BDA9AEA761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"/>
          <p:cNvSpPr/>
          <p:nvPr/>
        </p:nvSpPr>
        <p:spPr>
          <a:xfrm>
            <a:off x="3486240" y="2914560"/>
            <a:ext cx="3276360" cy="552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4800600" y="1790640"/>
            <a:ext cx="762120" cy="2800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space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78" name=""/>
          <p:cNvGrpSpPr/>
          <p:nvPr/>
        </p:nvGrpSpPr>
        <p:grpSpPr>
          <a:xfrm>
            <a:off x="-600120" y="958680"/>
            <a:ext cx="5153040" cy="2370240"/>
            <a:chOff x="-600120" y="958680"/>
            <a:chExt cx="5153040" cy="2370240"/>
          </a:xfrm>
        </p:grpSpPr>
        <p:sp>
          <p:nvSpPr>
            <p:cNvPr id="2679" name=""/>
            <p:cNvSpPr/>
            <p:nvPr/>
          </p:nvSpPr>
          <p:spPr>
            <a:xfrm>
              <a:off x="-600120" y="95868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80960" y="175248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81" name=""/>
          <p:cNvSpPr/>
          <p:nvPr/>
        </p:nvSpPr>
        <p:spPr>
          <a:xfrm>
            <a:off x="6671160" y="24876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TACK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4118760" y="16113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Sr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8666A-0D19-4316-8240-27F1668D454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4819680" y="2838600"/>
            <a:ext cx="1962000" cy="666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4800600" y="1790640"/>
            <a:ext cx="762120" cy="704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space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13" name=""/>
          <p:cNvGrpSpPr/>
          <p:nvPr/>
        </p:nvGrpSpPr>
        <p:grpSpPr>
          <a:xfrm>
            <a:off x="-600120" y="958680"/>
            <a:ext cx="5153040" cy="2370240"/>
            <a:chOff x="-600120" y="958680"/>
            <a:chExt cx="5153040" cy="2370240"/>
          </a:xfrm>
        </p:grpSpPr>
        <p:sp>
          <p:nvSpPr>
            <p:cNvPr id="2714" name=""/>
            <p:cNvSpPr/>
            <p:nvPr/>
          </p:nvSpPr>
          <p:spPr>
            <a:xfrm>
              <a:off x="-600120" y="95868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80960" y="175248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16" name=""/>
          <p:cNvSpPr/>
          <p:nvPr/>
        </p:nvSpPr>
        <p:spPr>
          <a:xfrm>
            <a:off x="6671160" y="24876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TACK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4118760" y="16113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Sr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2400480" y="56307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wo more unreachable stat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A703C-E5F7-46CE-BE2B-18D444B9232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"/>
          <p:cNvSpPr/>
          <p:nvPr/>
        </p:nvSpPr>
        <p:spPr>
          <a:xfrm>
            <a:off x="6477120" y="4191120"/>
            <a:ext cx="2361960" cy="7617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8001000" y="2666880"/>
            <a:ext cx="8380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3429000" y="495288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1143000" y="495288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1143000" y="266688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8001000" y="495288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5715000" y="4952880"/>
            <a:ext cx="15238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3429000" y="266688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oolean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728" name=""/>
          <p:cNvGrpSpPr/>
          <p:nvPr/>
        </p:nvGrpSpPr>
        <p:grpSpPr>
          <a:xfrm>
            <a:off x="106920" y="1905120"/>
            <a:ext cx="4160160" cy="3809880"/>
            <a:chOff x="106920" y="1905120"/>
            <a:chExt cx="4160160" cy="3809880"/>
          </a:xfrm>
        </p:grpSpPr>
        <p:sp>
          <p:nvSpPr>
            <p:cNvPr id="2729" name=""/>
            <p:cNvSpPr/>
            <p:nvPr/>
          </p:nvSpPr>
          <p:spPr>
            <a:xfrm>
              <a:off x="1143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905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666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429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1143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1143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143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 flipH="1" flipV="1">
              <a:off x="685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40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06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240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078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840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678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87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87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87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87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47" name=""/>
          <p:cNvGrpSpPr/>
          <p:nvPr/>
        </p:nvGrpSpPr>
        <p:grpSpPr>
          <a:xfrm>
            <a:off x="4678920" y="1905120"/>
            <a:ext cx="4160160" cy="3809880"/>
            <a:chOff x="4678920" y="1905120"/>
            <a:chExt cx="4160160" cy="3809880"/>
          </a:xfrm>
        </p:grpSpPr>
        <p:sp>
          <p:nvSpPr>
            <p:cNvPr id="2748" name=""/>
            <p:cNvSpPr/>
            <p:nvPr/>
          </p:nvSpPr>
          <p:spPr>
            <a:xfrm>
              <a:off x="5715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477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238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001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715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715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715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H="1" flipV="1">
              <a:off x="5257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412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678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812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650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412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8250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259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259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259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259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66" name=""/>
          <p:cNvSpPr/>
          <p:nvPr/>
        </p:nvSpPr>
        <p:spPr>
          <a:xfrm>
            <a:off x="2211480" y="163656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6757920" y="161460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1344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65904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2896920" y="2773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210636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1296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2106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368748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5868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6678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8199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8202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820260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744048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667836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289692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289692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2896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37206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21348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37268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372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1204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37206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5944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7468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746892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82926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67068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594468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594468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669240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745452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532440" y="5878440"/>
            <a:ext cx="43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ne more DC vector for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all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signal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5418720" y="587844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ne state conflict is remov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C6369-0FEE-46FA-9924-3F2C64167758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Netlist with one constrai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984600" y="21877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246400" y="21877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3900240" y="21877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4924440" y="21877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6471000" y="2187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7639200" y="2187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5358240" y="15019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5487120" y="290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3334320" y="29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3528720" y="15019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792440" y="236232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3505320" y="236232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4394160" y="236232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6027840" y="236232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7135920" y="236232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4545000" y="312264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4250880" y="167652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1270080" y="162072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405480" y="16956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6202440" y="2567160"/>
            <a:ext cx="1698480" cy="56664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4637160" y="160020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 rot="10597800">
            <a:off x="3623760" y="176364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25" name=""/>
          <p:cNvGrpSpPr/>
          <p:nvPr/>
        </p:nvGrpSpPr>
        <p:grpSpPr>
          <a:xfrm>
            <a:off x="579600" y="3352320"/>
            <a:ext cx="7508160" cy="2514960"/>
            <a:chOff x="579600" y="3352320"/>
            <a:chExt cx="7508160" cy="2514960"/>
          </a:xfrm>
        </p:grpSpPr>
        <p:grpSp>
          <p:nvGrpSpPr>
            <p:cNvPr id="2826" name=""/>
            <p:cNvGrpSpPr/>
            <p:nvPr/>
          </p:nvGrpSpPr>
          <p:grpSpPr>
            <a:xfrm>
              <a:off x="4267080" y="4189320"/>
              <a:ext cx="804240" cy="525600"/>
              <a:chOff x="4267080" y="4189320"/>
              <a:chExt cx="804240" cy="525600"/>
            </a:xfrm>
          </p:grpSpPr>
          <p:grpSp>
            <p:nvGrpSpPr>
              <p:cNvPr id="2827" name=""/>
              <p:cNvGrpSpPr/>
              <p:nvPr/>
            </p:nvGrpSpPr>
            <p:grpSpPr>
              <a:xfrm>
                <a:off x="4442760" y="4189320"/>
                <a:ext cx="628560" cy="525600"/>
                <a:chOff x="4442760" y="4189320"/>
                <a:chExt cx="628560" cy="525600"/>
              </a:xfrm>
            </p:grpSpPr>
            <p:grpSp>
              <p:nvGrpSpPr>
                <p:cNvPr id="2828" name=""/>
                <p:cNvGrpSpPr/>
                <p:nvPr/>
              </p:nvGrpSpPr>
              <p:grpSpPr>
                <a:xfrm>
                  <a:off x="4442760" y="4189320"/>
                  <a:ext cx="528480" cy="525600"/>
                  <a:chOff x="4442760" y="4189320"/>
                  <a:chExt cx="528480" cy="525600"/>
                </a:xfrm>
              </p:grpSpPr>
              <p:sp>
                <p:nvSpPr>
                  <p:cNvPr id="2829" name=""/>
                  <p:cNvSpPr/>
                  <p:nvPr/>
                </p:nvSpPr>
                <p:spPr>
                  <a:xfrm>
                    <a:off x="4447440" y="4194000"/>
                    <a:ext cx="523800" cy="5144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>
                    <a:off x="4442760" y="4189320"/>
                    <a:ext cx="268200" cy="52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cc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1" name=""/>
                <p:cNvSpPr/>
                <p:nvPr/>
              </p:nvSpPr>
              <p:spPr>
                <a:xfrm>
                  <a:off x="4978800" y="4446720"/>
                  <a:ext cx="92520" cy="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2" name=""/>
              <p:cNvSpPr/>
              <p:nvPr/>
            </p:nvSpPr>
            <p:spPr>
              <a:xfrm>
                <a:off x="4267080" y="4276440"/>
                <a:ext cx="1756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267080" y="4626000"/>
                <a:ext cx="1756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34" name=""/>
            <p:cNvGrpSpPr/>
            <p:nvPr/>
          </p:nvGrpSpPr>
          <p:grpSpPr>
            <a:xfrm>
              <a:off x="5694120" y="4237200"/>
              <a:ext cx="1252080" cy="1575360"/>
              <a:chOff x="5694120" y="4237200"/>
              <a:chExt cx="1252080" cy="1575360"/>
            </a:xfrm>
          </p:grpSpPr>
          <p:sp>
            <p:nvSpPr>
              <p:cNvPr id="2835" name=""/>
              <p:cNvSpPr/>
              <p:nvPr/>
            </p:nvSpPr>
            <p:spPr>
              <a:xfrm rot="10800000">
                <a:off x="5699520" y="4237200"/>
                <a:ext cx="1246680" cy="105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" y="5433"/>
                    </a:moveTo>
                    <a:arcTo wR="10800" hR="10800" stAng="-9012068" swAng="36052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" y="5433"/>
                    </a:moveTo>
                    <a:arcTo wR="10800" hR="10800" stAng="-9012068" swAng="3605248"/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5694120" y="4762440"/>
                <a:ext cx="1248120" cy="105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9" y="0"/>
                    </a:moveTo>
                    <a:arcTo wR="10800" hR="10800" stAng="-5406821" swAng="36257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9" y="0"/>
                    </a:moveTo>
                    <a:arcTo wR="10800" hR="10800" stAng="-5406821" swAng="3625793"/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6237720" y="4763880"/>
                <a:ext cx="168120" cy="515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6232680" y="4759200"/>
                <a:ext cx="90360" cy="526680"/>
              </a:xfrm>
              <a:custGeom>
                <a:avLst/>
                <a:gdLst/>
                <a:ahLst/>
                <a:rect l="l" t="t" r="r" b="b"/>
                <a:pathLst>
                  <a:path w="73" h="433">
                    <a:moveTo>
                      <a:pt x="72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72" y="4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39" name=""/>
            <p:cNvGrpSpPr/>
            <p:nvPr/>
          </p:nvGrpSpPr>
          <p:grpSpPr>
            <a:xfrm>
              <a:off x="1711800" y="3651120"/>
              <a:ext cx="452160" cy="305640"/>
              <a:chOff x="1711800" y="3651120"/>
              <a:chExt cx="452160" cy="305640"/>
            </a:xfrm>
          </p:grpSpPr>
          <p:sp>
            <p:nvSpPr>
              <p:cNvPr id="2840" name=""/>
              <p:cNvSpPr/>
              <p:nvPr/>
            </p:nvSpPr>
            <p:spPr>
              <a:xfrm rot="10765200">
                <a:off x="1841040" y="3652200"/>
                <a:ext cx="257760" cy="303120"/>
              </a:xfrm>
              <a:custGeom>
                <a:avLst/>
                <a:gdLst/>
                <a:ahLst/>
                <a:rect l="l" t="t" r="r" b="b"/>
                <a:pathLst>
                  <a:path w="116" h="116">
                    <a:moveTo>
                      <a:pt x="0" y="0"/>
                    </a:moveTo>
                    <a:lnTo>
                      <a:pt x="0" y="115"/>
                    </a:lnTo>
                    <a:lnTo>
                      <a:pt x="115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 flipV="1">
                <a:off x="2099520" y="3800160"/>
                <a:ext cx="64440" cy="36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H="1">
                <a:off x="1711800" y="3804480"/>
                <a:ext cx="12960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843" name=""/>
            <p:cNvSpPr/>
            <p:nvPr/>
          </p:nvSpPr>
          <p:spPr>
            <a:xfrm>
              <a:off x="6881760" y="5005440"/>
              <a:ext cx="8906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072040" y="4446720"/>
              <a:ext cx="85896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931000" y="4446720"/>
              <a:ext cx="0" cy="461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931000" y="4908600"/>
              <a:ext cx="4744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V="1">
              <a:off x="5931000" y="3803760"/>
              <a:ext cx="0" cy="642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H="1">
              <a:off x="2149200" y="3798720"/>
              <a:ext cx="3794040" cy="50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H="1">
              <a:off x="1309680" y="3798720"/>
              <a:ext cx="40176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5931000" y="3352320"/>
              <a:ext cx="0" cy="4460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931000" y="5205240"/>
              <a:ext cx="4744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>
              <a:off x="2163600" y="5867280"/>
              <a:ext cx="56088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2163600" y="4276800"/>
              <a:ext cx="0" cy="1590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163600" y="4276800"/>
              <a:ext cx="21034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79600" y="344484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DTACK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021720" y="3367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09920" y="47894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DSr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298280" y="46623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LD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006320" y="548640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LDTACK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2860" name=""/>
            <p:cNvCxnSpPr>
              <a:stCxn id="2851" idx="0"/>
            </p:cNvCxnSpPr>
            <p:nvPr/>
          </p:nvCxnSpPr>
          <p:spPr>
            <a:xfrm flipH="1">
              <a:off x="1237680" y="5204880"/>
              <a:ext cx="4693320" cy="19800"/>
            </a:xfrm>
            <a:prstGeom prst="straightConnector1">
              <a:avLst/>
            </a:prstGeom>
            <a:ln w="12600">
              <a:solidFill>
                <a:srgbClr val="ffcc66"/>
              </a:solidFill>
              <a:miter/>
            </a:ln>
          </p:spPr>
        </p:cxnSp>
        <p:sp>
          <p:nvSpPr>
            <p:cNvPr id="2861" name=""/>
            <p:cNvSpPr/>
            <p:nvPr/>
          </p:nvSpPr>
          <p:spPr>
            <a:xfrm>
              <a:off x="4257720" y="4632480"/>
              <a:ext cx="0" cy="5918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62" name=""/>
          <p:cNvGrpSpPr/>
          <p:nvPr/>
        </p:nvGrpSpPr>
        <p:grpSpPr>
          <a:xfrm>
            <a:off x="6537240" y="3449520"/>
            <a:ext cx="2606760" cy="693720"/>
            <a:chOff x="6537240" y="3449520"/>
            <a:chExt cx="2606760" cy="693720"/>
          </a:xfrm>
        </p:grpSpPr>
        <p:sp>
          <p:nvSpPr>
            <p:cNvPr id="2863" name=""/>
            <p:cNvSpPr/>
            <p:nvPr/>
          </p:nvSpPr>
          <p:spPr>
            <a:xfrm>
              <a:off x="6733800" y="3760920"/>
              <a:ext cx="219096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 Black"/>
                </a:rPr>
                <a:t>LDTACK- before DSr+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829920" y="3468600"/>
              <a:ext cx="18450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cc66"/>
                  </a:solidFill>
                  <a:latin typeface="Arial Black"/>
                </a:rPr>
                <a:t>TIMING CONSTRAINT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37240" y="3449520"/>
              <a:ext cx="2606760" cy="693720"/>
            </a:xfrm>
            <a:prstGeom prst="flowChartAlternateProcess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2360-3916-439E-8B64-FD8C91E6E1A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ming assump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before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for concurrent events:              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oncurrency reduction for firing and enabl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before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r ordered events:                        early enabl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simultaneous to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wrt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or triples of events: combination of the abo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0" y="2724120"/>
            <a:ext cx="704880" cy="723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4CA54-22DA-42C6-9D6C-E93CB726008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rdered events: early enab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870" name=""/>
          <p:cNvGrpSpPr/>
          <p:nvPr/>
        </p:nvGrpSpPr>
        <p:grpSpPr>
          <a:xfrm>
            <a:off x="357840" y="1816200"/>
            <a:ext cx="3628440" cy="3188520"/>
            <a:chOff x="357840" y="1816200"/>
            <a:chExt cx="3628440" cy="3188520"/>
          </a:xfrm>
        </p:grpSpPr>
        <p:grpSp>
          <p:nvGrpSpPr>
            <p:cNvPr id="2871" name=""/>
            <p:cNvGrpSpPr/>
            <p:nvPr/>
          </p:nvGrpSpPr>
          <p:grpSpPr>
            <a:xfrm>
              <a:off x="2775240" y="2633400"/>
              <a:ext cx="804240" cy="525240"/>
              <a:chOff x="2775240" y="2633400"/>
              <a:chExt cx="804240" cy="525240"/>
            </a:xfrm>
          </p:grpSpPr>
          <p:grpSp>
            <p:nvGrpSpPr>
              <p:cNvPr id="2872" name=""/>
              <p:cNvGrpSpPr/>
              <p:nvPr/>
            </p:nvGrpSpPr>
            <p:grpSpPr>
              <a:xfrm>
                <a:off x="2950920" y="2633400"/>
                <a:ext cx="628560" cy="525240"/>
                <a:chOff x="2950920" y="2633400"/>
                <a:chExt cx="628560" cy="525240"/>
              </a:xfrm>
            </p:grpSpPr>
            <p:grpSp>
              <p:nvGrpSpPr>
                <p:cNvPr id="2873" name=""/>
                <p:cNvGrpSpPr/>
                <p:nvPr/>
              </p:nvGrpSpPr>
              <p:grpSpPr>
                <a:xfrm>
                  <a:off x="2950920" y="2633400"/>
                  <a:ext cx="528480" cy="525240"/>
                  <a:chOff x="2950920" y="2633400"/>
                  <a:chExt cx="528480" cy="525240"/>
                </a:xfrm>
              </p:grpSpPr>
              <p:sp>
                <p:nvSpPr>
                  <p:cNvPr id="2874" name=""/>
                  <p:cNvSpPr/>
                  <p:nvPr/>
                </p:nvSpPr>
                <p:spPr>
                  <a:xfrm>
                    <a:off x="2955600" y="2638080"/>
                    <a:ext cx="523800" cy="51408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2950920" y="2633400"/>
                    <a:ext cx="26820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cc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6" name=""/>
                <p:cNvSpPr/>
                <p:nvPr/>
              </p:nvSpPr>
              <p:spPr>
                <a:xfrm>
                  <a:off x="3486960" y="2890440"/>
                  <a:ext cx="92520" cy="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77" name=""/>
              <p:cNvSpPr/>
              <p:nvPr/>
            </p:nvSpPr>
            <p:spPr>
              <a:xfrm>
                <a:off x="2775240" y="2720520"/>
                <a:ext cx="1756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2775240" y="3070080"/>
                <a:ext cx="1756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79" name=""/>
            <p:cNvGrpSpPr/>
            <p:nvPr/>
          </p:nvGrpSpPr>
          <p:grpSpPr>
            <a:xfrm>
              <a:off x="1898640" y="1940400"/>
              <a:ext cx="636480" cy="443880"/>
              <a:chOff x="1898640" y="1940400"/>
              <a:chExt cx="636480" cy="443880"/>
            </a:xfrm>
          </p:grpSpPr>
          <p:sp>
            <p:nvSpPr>
              <p:cNvPr id="2880" name=""/>
              <p:cNvSpPr/>
              <p:nvPr/>
            </p:nvSpPr>
            <p:spPr>
              <a:xfrm rot="21540000">
                <a:off x="1989000" y="1943640"/>
                <a:ext cx="363240" cy="437400"/>
              </a:xfrm>
              <a:custGeom>
                <a:avLst/>
                <a:gdLst/>
                <a:ahLst/>
                <a:rect l="l" t="t" r="r" b="b"/>
                <a:pathLst>
                  <a:path w="116" h="116">
                    <a:moveTo>
                      <a:pt x="0" y="0"/>
                    </a:moveTo>
                    <a:lnTo>
                      <a:pt x="0" y="115"/>
                    </a:lnTo>
                    <a:lnTo>
                      <a:pt x="115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H="1">
                <a:off x="1898640" y="2169000"/>
                <a:ext cx="90720" cy="144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2352600" y="2159640"/>
                <a:ext cx="182520" cy="144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883" name=""/>
            <p:cNvSpPr/>
            <p:nvPr/>
          </p:nvSpPr>
          <p:spPr>
            <a:xfrm>
              <a:off x="357840" y="1816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2884" name=""/>
            <p:cNvCxnSpPr/>
            <p:nvPr/>
          </p:nvCxnSpPr>
          <p:spPr>
            <a:xfrm>
              <a:off x="463320" y="2234520"/>
              <a:ext cx="1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885" name=""/>
            <p:cNvSpPr/>
            <p:nvPr/>
          </p:nvSpPr>
          <p:spPr>
            <a:xfrm flipH="1">
              <a:off x="798480" y="2162160"/>
              <a:ext cx="1097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2551320" y="2162160"/>
              <a:ext cx="1387440" cy="10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2551320" y="2162160"/>
              <a:ext cx="15840" cy="57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2551320" y="2162160"/>
              <a:ext cx="258840" cy="578880"/>
            </a:xfrm>
            <a:custGeom>
              <a:avLst/>
              <a:gdLst/>
              <a:ahLst/>
              <a:rect l="l" t="t" r="r" b="b"/>
              <a:pathLst>
                <a:path w="163" h="365">
                  <a:moveTo>
                    <a:pt x="0" y="0"/>
                  </a:moveTo>
                  <a:lnTo>
                    <a:pt x="0" y="365"/>
                  </a:lnTo>
                  <a:lnTo>
                    <a:pt x="163" y="356"/>
                  </a:lnTo>
                </a:path>
              </a:pathLst>
            </a:custGeom>
            <a:noFill/>
            <a:ln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571920" y="2893680"/>
              <a:ext cx="41292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H="1">
              <a:off x="2779560" y="2923920"/>
              <a:ext cx="16812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09760" y="45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73400" y="403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90640" y="3549600"/>
              <a:ext cx="1965240" cy="334440"/>
            </a:xfrm>
            <a:custGeom>
              <a:avLst/>
              <a:gdLst/>
              <a:ahLst/>
              <a:rect l="l" t="t" r="r" b="b"/>
              <a:pathLst>
                <a:path w="1238" h="211">
                  <a:moveTo>
                    <a:pt x="0" y="211"/>
                  </a:moveTo>
                  <a:lnTo>
                    <a:pt x="441" y="211"/>
                  </a:lnTo>
                  <a:lnTo>
                    <a:pt x="557" y="0"/>
                  </a:lnTo>
                  <a:lnTo>
                    <a:pt x="1238" y="0"/>
                  </a:lnTo>
                </a:path>
              </a:pathLst>
            </a:custGeom>
            <a:noFill/>
            <a:ln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202040" y="4019400"/>
              <a:ext cx="1965240" cy="334440"/>
            </a:xfrm>
            <a:custGeom>
              <a:avLst/>
              <a:gdLst/>
              <a:ahLst/>
              <a:rect l="l" t="t" r="r" b="b"/>
              <a:pathLst>
                <a:path w="1238" h="211">
                  <a:moveTo>
                    <a:pt x="0" y="211"/>
                  </a:moveTo>
                  <a:lnTo>
                    <a:pt x="441" y="211"/>
                  </a:lnTo>
                  <a:lnTo>
                    <a:pt x="557" y="0"/>
                  </a:lnTo>
                  <a:lnTo>
                    <a:pt x="1238" y="0"/>
                  </a:lnTo>
                </a:path>
              </a:pathLst>
            </a:custGeom>
            <a:noFill/>
            <a:ln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2021040" y="4539960"/>
              <a:ext cx="1965240" cy="334800"/>
            </a:xfrm>
            <a:custGeom>
              <a:avLst/>
              <a:gdLst/>
              <a:ahLst/>
              <a:rect l="l" t="t" r="r" b="b"/>
              <a:pathLst>
                <a:path w="1238" h="211">
                  <a:moveTo>
                    <a:pt x="0" y="211"/>
                  </a:moveTo>
                  <a:lnTo>
                    <a:pt x="441" y="211"/>
                  </a:lnTo>
                  <a:lnTo>
                    <a:pt x="557" y="0"/>
                  </a:lnTo>
                  <a:lnTo>
                    <a:pt x="1238" y="0"/>
                  </a:lnTo>
                </a:path>
              </a:pathLst>
            </a:custGeom>
            <a:noFill/>
            <a:ln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464040" y="340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97" name=""/>
          <p:cNvGrpSpPr/>
          <p:nvPr/>
        </p:nvGrpSpPr>
        <p:grpSpPr>
          <a:xfrm>
            <a:off x="7754760" y="2627280"/>
            <a:ext cx="628560" cy="525600"/>
            <a:chOff x="7754760" y="2627280"/>
            <a:chExt cx="628560" cy="525600"/>
          </a:xfrm>
        </p:grpSpPr>
        <p:grpSp>
          <p:nvGrpSpPr>
            <p:cNvPr id="2898" name=""/>
            <p:cNvGrpSpPr/>
            <p:nvPr/>
          </p:nvGrpSpPr>
          <p:grpSpPr>
            <a:xfrm>
              <a:off x="7754760" y="2627280"/>
              <a:ext cx="528480" cy="525600"/>
              <a:chOff x="7754760" y="2627280"/>
              <a:chExt cx="528480" cy="525600"/>
            </a:xfrm>
          </p:grpSpPr>
          <p:sp>
            <p:nvSpPr>
              <p:cNvPr id="2899" name=""/>
              <p:cNvSpPr/>
              <p:nvPr/>
            </p:nvSpPr>
            <p:spPr>
              <a:xfrm>
                <a:off x="7759440" y="2631960"/>
                <a:ext cx="523800" cy="5144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754760" y="2627280"/>
                <a:ext cx="268200" cy="52560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901" name=""/>
            <p:cNvSpPr/>
            <p:nvPr/>
          </p:nvSpPr>
          <p:spPr>
            <a:xfrm>
              <a:off x="8290800" y="2884680"/>
              <a:ext cx="9252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02" name=""/>
          <p:cNvSpPr/>
          <p:nvPr/>
        </p:nvSpPr>
        <p:spPr>
          <a:xfrm>
            <a:off x="7578720" y="2714760"/>
            <a:ext cx="176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03" name=""/>
          <p:cNvGrpSpPr/>
          <p:nvPr/>
        </p:nvGrpSpPr>
        <p:grpSpPr>
          <a:xfrm>
            <a:off x="6702120" y="1934280"/>
            <a:ext cx="636480" cy="444240"/>
            <a:chOff x="6702120" y="1934280"/>
            <a:chExt cx="636480" cy="444240"/>
          </a:xfrm>
        </p:grpSpPr>
        <p:sp>
          <p:nvSpPr>
            <p:cNvPr id="2904" name=""/>
            <p:cNvSpPr/>
            <p:nvPr/>
          </p:nvSpPr>
          <p:spPr>
            <a:xfrm rot="21540000">
              <a:off x="6792480" y="1937520"/>
              <a:ext cx="362880" cy="4377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H="1">
              <a:off x="6702120" y="2163240"/>
              <a:ext cx="90360" cy="1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 flipV="1">
              <a:off x="7156080" y="2153520"/>
              <a:ext cx="182520" cy="1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07" name=""/>
          <p:cNvSpPr/>
          <p:nvPr/>
        </p:nvSpPr>
        <p:spPr>
          <a:xfrm>
            <a:off x="5161320" y="180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908" name=""/>
          <p:cNvCxnSpPr/>
          <p:nvPr/>
        </p:nvCxnSpPr>
        <p:spPr>
          <a:xfrm>
            <a:off x="5266800" y="222840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909" name=""/>
          <p:cNvSpPr/>
          <p:nvPr/>
        </p:nvSpPr>
        <p:spPr>
          <a:xfrm flipH="1">
            <a:off x="5601960" y="2155680"/>
            <a:ext cx="10969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7354800" y="2155680"/>
            <a:ext cx="1387440" cy="18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7354800" y="2155680"/>
            <a:ext cx="15840" cy="5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6440400" y="2155680"/>
            <a:ext cx="258840" cy="579600"/>
          </a:xfrm>
          <a:custGeom>
            <a:avLst/>
            <a:gdLst/>
            <a:ahLst/>
            <a:rect l="l" t="t" r="r" b="b"/>
            <a:pathLst>
              <a:path w="163" h="365">
                <a:moveTo>
                  <a:pt x="0" y="0"/>
                </a:moveTo>
                <a:lnTo>
                  <a:pt x="0" y="365"/>
                </a:lnTo>
                <a:lnTo>
                  <a:pt x="163" y="356"/>
                </a:lnTo>
              </a:path>
            </a:pathLst>
          </a:custGeom>
          <a:noFill/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8375760" y="2887560"/>
            <a:ext cx="4125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 flipH="1">
            <a:off x="7583400" y="3051000"/>
            <a:ext cx="168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5266080" y="453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5277240" y="403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5694480" y="3543480"/>
            <a:ext cx="1965240" cy="334800"/>
          </a:xfrm>
          <a:custGeom>
            <a:avLst/>
            <a:gdLst/>
            <a:ahLst/>
            <a:rect l="l" t="t" r="r" b="b"/>
            <a:pathLst>
              <a:path w="1238" h="211">
                <a:moveTo>
                  <a:pt x="0" y="211"/>
                </a:moveTo>
                <a:lnTo>
                  <a:pt x="441" y="211"/>
                </a:lnTo>
                <a:lnTo>
                  <a:pt x="557" y="0"/>
                </a:lnTo>
                <a:lnTo>
                  <a:pt x="1238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6005520" y="4013280"/>
            <a:ext cx="1965240" cy="334800"/>
          </a:xfrm>
          <a:custGeom>
            <a:avLst/>
            <a:gdLst/>
            <a:ahLst/>
            <a:rect l="l" t="t" r="r" b="b"/>
            <a:pathLst>
              <a:path w="1238" h="211">
                <a:moveTo>
                  <a:pt x="0" y="211"/>
                </a:moveTo>
                <a:lnTo>
                  <a:pt x="441" y="211"/>
                </a:lnTo>
                <a:lnTo>
                  <a:pt x="557" y="0"/>
                </a:lnTo>
                <a:lnTo>
                  <a:pt x="1238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6332400" y="4533840"/>
            <a:ext cx="1965600" cy="335160"/>
          </a:xfrm>
          <a:custGeom>
            <a:avLst/>
            <a:gdLst/>
            <a:ahLst/>
            <a:rect l="l" t="t" r="r" b="b"/>
            <a:pathLst>
              <a:path w="1238" h="211">
                <a:moveTo>
                  <a:pt x="0" y="211"/>
                </a:moveTo>
                <a:lnTo>
                  <a:pt x="441" y="211"/>
                </a:lnTo>
                <a:lnTo>
                  <a:pt x="557" y="0"/>
                </a:lnTo>
                <a:lnTo>
                  <a:pt x="1238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5267520" y="339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8416800" y="1749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3646800" y="173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3649680" y="249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8444160" y="249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6689880" y="2725560"/>
            <a:ext cx="930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1692360" y="3701880"/>
            <a:ext cx="288720" cy="533520"/>
          </a:xfrm>
          <a:custGeom>
            <a:avLst/>
            <a:gdLst/>
            <a:ahLst/>
            <a:rect l="l" t="t" r="r" b="b"/>
            <a:pathLst>
              <a:path w="182" h="336">
                <a:moveTo>
                  <a:pt x="0" y="0"/>
                </a:moveTo>
                <a:cubicBezTo>
                  <a:pt x="47" y="39"/>
                  <a:pt x="94" y="78"/>
                  <a:pt x="124" y="134"/>
                </a:cubicBezTo>
                <a:cubicBezTo>
                  <a:pt x="154" y="190"/>
                  <a:pt x="168" y="263"/>
                  <a:pt x="182" y="33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6502320" y="3701880"/>
            <a:ext cx="644760" cy="974880"/>
          </a:xfrm>
          <a:custGeom>
            <a:avLst/>
            <a:gdLst/>
            <a:ahLst/>
            <a:rect l="l" t="t" r="r" b="b"/>
            <a:pathLst>
              <a:path w="406" h="614">
                <a:moveTo>
                  <a:pt x="0" y="0"/>
                </a:moveTo>
                <a:cubicBezTo>
                  <a:pt x="36" y="19"/>
                  <a:pt x="146" y="13"/>
                  <a:pt x="214" y="115"/>
                </a:cubicBezTo>
                <a:cubicBezTo>
                  <a:pt x="282" y="217"/>
                  <a:pt x="366" y="510"/>
                  <a:pt x="406" y="61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6492960" y="3686040"/>
            <a:ext cx="288720" cy="533520"/>
          </a:xfrm>
          <a:custGeom>
            <a:avLst/>
            <a:gdLst/>
            <a:ahLst/>
            <a:rect l="l" t="t" r="r" b="b"/>
            <a:pathLst>
              <a:path w="182" h="336">
                <a:moveTo>
                  <a:pt x="0" y="0"/>
                </a:moveTo>
                <a:cubicBezTo>
                  <a:pt x="47" y="39"/>
                  <a:pt x="94" y="78"/>
                  <a:pt x="124" y="134"/>
                </a:cubicBezTo>
                <a:cubicBezTo>
                  <a:pt x="154" y="190"/>
                  <a:pt x="168" y="263"/>
                  <a:pt x="182" y="33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2011320" y="4173480"/>
            <a:ext cx="792360" cy="533520"/>
          </a:xfrm>
          <a:custGeom>
            <a:avLst/>
            <a:gdLst/>
            <a:ahLst/>
            <a:rect l="l" t="t" r="r" b="b"/>
            <a:pathLst>
              <a:path w="499" h="336">
                <a:moveTo>
                  <a:pt x="0" y="0"/>
                </a:moveTo>
                <a:cubicBezTo>
                  <a:pt x="112" y="34"/>
                  <a:pt x="224" y="69"/>
                  <a:pt x="307" y="125"/>
                </a:cubicBezTo>
                <a:cubicBezTo>
                  <a:pt x="390" y="181"/>
                  <a:pt x="444" y="258"/>
                  <a:pt x="499" y="33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4282920" y="3579840"/>
            <a:ext cx="594000" cy="579240"/>
          </a:xfrm>
          <a:prstGeom prst="rightArrow">
            <a:avLst>
              <a:gd name="adj1" fmla="val 50000"/>
              <a:gd name="adj2" fmla="val 25637"/>
            </a:avLst>
          </a:prstGeom>
          <a:solidFill>
            <a:srgbClr val="ffcc66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2992320" y="2629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7792560" y="2638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33" name=""/>
          <p:cNvGrpSpPr/>
          <p:nvPr/>
        </p:nvGrpSpPr>
        <p:grpSpPr>
          <a:xfrm>
            <a:off x="2448000" y="5257800"/>
            <a:ext cx="4067280" cy="561960"/>
            <a:chOff x="2448000" y="5257800"/>
            <a:chExt cx="4067280" cy="561960"/>
          </a:xfrm>
        </p:grpSpPr>
        <p:sp>
          <p:nvSpPr>
            <p:cNvPr id="2934" name=""/>
            <p:cNvSpPr/>
            <p:nvPr/>
          </p:nvSpPr>
          <p:spPr>
            <a:xfrm>
              <a:off x="2677680" y="5335560"/>
              <a:ext cx="361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66"/>
                  </a:solidFill>
                  <a:latin typeface="Arial"/>
                </a:rPr>
                <a:t>Logic for gate </a:t>
              </a: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ffcc66"/>
                  </a:solidFill>
                  <a:latin typeface="Arial"/>
                </a:rPr>
                <a:t> may change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2448000" y="5257800"/>
              <a:ext cx="4067280" cy="5619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C6F31-F45D-44FB-928F-2239F334A9D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dding timing assumptions (II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984600" y="220176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246400" y="2201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3900240" y="2201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924440" y="2201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6471000" y="2201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7639200" y="2201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5358240" y="15159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5487120" y="290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3334320" y="29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3528720" y="15019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1792440" y="236232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3505320" y="236232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4394160" y="236232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6027840" y="236232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7135920" y="236232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4545000" y="312264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 flipH="1">
            <a:off x="4250880" y="167652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1270080" y="162072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6405480" y="16956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6202440" y="2567160"/>
            <a:ext cx="1698480" cy="56664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4637160" y="160020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 rot="10597800">
            <a:off x="3623760" y="176364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59" name=""/>
          <p:cNvGrpSpPr/>
          <p:nvPr/>
        </p:nvGrpSpPr>
        <p:grpSpPr>
          <a:xfrm>
            <a:off x="4267080" y="4189320"/>
            <a:ext cx="804240" cy="525600"/>
            <a:chOff x="4267080" y="4189320"/>
            <a:chExt cx="804240" cy="525600"/>
          </a:xfrm>
        </p:grpSpPr>
        <p:grpSp>
          <p:nvGrpSpPr>
            <p:cNvPr id="2960" name=""/>
            <p:cNvGrpSpPr/>
            <p:nvPr/>
          </p:nvGrpSpPr>
          <p:grpSpPr>
            <a:xfrm>
              <a:off x="4442760" y="4189320"/>
              <a:ext cx="628560" cy="525600"/>
              <a:chOff x="4442760" y="4189320"/>
              <a:chExt cx="628560" cy="525600"/>
            </a:xfrm>
          </p:grpSpPr>
          <p:grpSp>
            <p:nvGrpSpPr>
              <p:cNvPr id="2961" name=""/>
              <p:cNvGrpSpPr/>
              <p:nvPr/>
            </p:nvGrpSpPr>
            <p:grpSpPr>
              <a:xfrm>
                <a:off x="4442760" y="4189320"/>
                <a:ext cx="528480" cy="525600"/>
                <a:chOff x="4442760" y="4189320"/>
                <a:chExt cx="528480" cy="52560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4447440" y="419400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4442760" y="418932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4" name=""/>
              <p:cNvSpPr/>
              <p:nvPr/>
            </p:nvSpPr>
            <p:spPr>
              <a:xfrm>
                <a:off x="4978800" y="444672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965" name=""/>
            <p:cNvSpPr/>
            <p:nvPr/>
          </p:nvSpPr>
          <p:spPr>
            <a:xfrm>
              <a:off x="4267080" y="427644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267080" y="462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67" name=""/>
          <p:cNvGrpSpPr/>
          <p:nvPr/>
        </p:nvGrpSpPr>
        <p:grpSpPr>
          <a:xfrm>
            <a:off x="5694120" y="4237200"/>
            <a:ext cx="1252080" cy="1575360"/>
            <a:chOff x="5694120" y="4237200"/>
            <a:chExt cx="1252080" cy="1575360"/>
          </a:xfrm>
        </p:grpSpPr>
        <p:sp>
          <p:nvSpPr>
            <p:cNvPr id="2968" name=""/>
            <p:cNvSpPr/>
            <p:nvPr/>
          </p:nvSpPr>
          <p:spPr>
            <a:xfrm rot="10800000">
              <a:off x="5699520" y="423720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694120" y="476244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6237720" y="476388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232680" y="475920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72" name=""/>
          <p:cNvGrpSpPr/>
          <p:nvPr/>
        </p:nvGrpSpPr>
        <p:grpSpPr>
          <a:xfrm>
            <a:off x="1711800" y="3651120"/>
            <a:ext cx="452160" cy="305640"/>
            <a:chOff x="1711800" y="3651120"/>
            <a:chExt cx="452160" cy="305640"/>
          </a:xfrm>
        </p:grpSpPr>
        <p:sp>
          <p:nvSpPr>
            <p:cNvPr id="2973" name=""/>
            <p:cNvSpPr/>
            <p:nvPr/>
          </p:nvSpPr>
          <p:spPr>
            <a:xfrm rot="10765200">
              <a:off x="1841040" y="365220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V="1">
              <a:off x="2099520" y="380016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 flipH="1">
              <a:off x="1711800" y="380448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76" name=""/>
          <p:cNvSpPr/>
          <p:nvPr/>
        </p:nvSpPr>
        <p:spPr>
          <a:xfrm>
            <a:off x="6881760" y="500544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5072040" y="44467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5931000" y="4446720"/>
            <a:ext cx="0" cy="4618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5931000" y="49086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V="1">
            <a:off x="5931000" y="3803760"/>
            <a:ext cx="0" cy="6429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 flipH="1">
            <a:off x="2149200" y="379872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 flipH="1">
            <a:off x="1309680" y="379872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5931000" y="335232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5931000" y="520524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 flipH="1">
            <a:off x="2163600" y="586728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 flipV="1">
            <a:off x="2163600" y="4276800"/>
            <a:ext cx="0" cy="15904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163600" y="427680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595440" y="35053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6021720" y="3367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694080" y="4759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7298280" y="4662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7006320" y="54864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993" name=""/>
          <p:cNvCxnSpPr>
            <a:stCxn id="2984" idx="0"/>
          </p:cNvCxnSpPr>
          <p:nvPr/>
        </p:nvCxnSpPr>
        <p:spPr>
          <a:xfrm flipH="1">
            <a:off x="1254960" y="5205240"/>
            <a:ext cx="4676040" cy="576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2994" name=""/>
          <p:cNvSpPr/>
          <p:nvPr/>
        </p:nvSpPr>
        <p:spPr>
          <a:xfrm>
            <a:off x="4257720" y="4632480"/>
            <a:ext cx="0" cy="59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95" name=""/>
          <p:cNvGrpSpPr/>
          <p:nvPr/>
        </p:nvGrpSpPr>
        <p:grpSpPr>
          <a:xfrm>
            <a:off x="6165360" y="2554920"/>
            <a:ext cx="1912320" cy="795240"/>
            <a:chOff x="6165360" y="2554920"/>
            <a:chExt cx="1912320" cy="795240"/>
          </a:xfrm>
        </p:grpSpPr>
        <p:sp>
          <p:nvSpPr>
            <p:cNvPr id="2996" name=""/>
            <p:cNvSpPr/>
            <p:nvPr/>
          </p:nvSpPr>
          <p:spPr>
            <a:xfrm flipH="1">
              <a:off x="6205320" y="2568600"/>
              <a:ext cx="547560" cy="404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rot="10831800">
              <a:off x="6168960" y="2563560"/>
              <a:ext cx="1905120" cy="77760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98" name=""/>
          <p:cNvGrpSpPr/>
          <p:nvPr/>
        </p:nvGrpSpPr>
        <p:grpSpPr>
          <a:xfrm>
            <a:off x="5330880" y="2720880"/>
            <a:ext cx="5153040" cy="2370240"/>
            <a:chOff x="5330880" y="2720880"/>
            <a:chExt cx="5153040" cy="2370240"/>
          </a:xfrm>
        </p:grpSpPr>
        <p:sp>
          <p:nvSpPr>
            <p:cNvPr id="2999" name=""/>
            <p:cNvSpPr/>
            <p:nvPr/>
          </p:nvSpPr>
          <p:spPr>
            <a:xfrm>
              <a:off x="5330880" y="272088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D- before LDS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411960" y="351468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C2B3-F806-49D0-87A2-1EA1943174E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"/>
          <p:cNvSpPr/>
          <p:nvPr/>
        </p:nvSpPr>
        <p:spPr>
          <a:xfrm>
            <a:off x="4721400" y="3448080"/>
            <a:ext cx="2145960" cy="1790640"/>
          </a:xfrm>
          <a:custGeom>
            <a:avLst/>
            <a:gdLst/>
            <a:ahLst/>
            <a:rect l="l" t="t" r="r" b="b"/>
            <a:pathLst>
              <a:path w="1352" h="1128">
                <a:moveTo>
                  <a:pt x="2" y="108"/>
                </a:moveTo>
                <a:cubicBezTo>
                  <a:pt x="5" y="95"/>
                  <a:pt x="13" y="29"/>
                  <a:pt x="20" y="24"/>
                </a:cubicBezTo>
                <a:cubicBezTo>
                  <a:pt x="35" y="13"/>
                  <a:pt x="56" y="12"/>
                  <a:pt x="74" y="6"/>
                </a:cubicBezTo>
                <a:cubicBezTo>
                  <a:pt x="80" y="4"/>
                  <a:pt x="92" y="0"/>
                  <a:pt x="92" y="0"/>
                </a:cubicBezTo>
                <a:cubicBezTo>
                  <a:pt x="231" y="8"/>
                  <a:pt x="365" y="20"/>
                  <a:pt x="506" y="24"/>
                </a:cubicBezTo>
                <a:cubicBezTo>
                  <a:pt x="690" y="41"/>
                  <a:pt x="885" y="26"/>
                  <a:pt x="1070" y="30"/>
                </a:cubicBezTo>
                <a:cubicBezTo>
                  <a:pt x="1119" y="35"/>
                  <a:pt x="1166" y="40"/>
                  <a:pt x="1214" y="24"/>
                </a:cubicBezTo>
                <a:cubicBezTo>
                  <a:pt x="1337" y="30"/>
                  <a:pt x="1336" y="5"/>
                  <a:pt x="1352" y="102"/>
                </a:cubicBezTo>
                <a:cubicBezTo>
                  <a:pt x="1350" y="224"/>
                  <a:pt x="1351" y="346"/>
                  <a:pt x="1346" y="468"/>
                </a:cubicBezTo>
                <a:cubicBezTo>
                  <a:pt x="1343" y="545"/>
                  <a:pt x="1222" y="629"/>
                  <a:pt x="1160" y="660"/>
                </a:cubicBezTo>
                <a:cubicBezTo>
                  <a:pt x="1128" y="708"/>
                  <a:pt x="1065" y="743"/>
                  <a:pt x="1016" y="774"/>
                </a:cubicBezTo>
                <a:cubicBezTo>
                  <a:pt x="996" y="786"/>
                  <a:pt x="978" y="803"/>
                  <a:pt x="956" y="810"/>
                </a:cubicBezTo>
                <a:cubicBezTo>
                  <a:pt x="944" y="814"/>
                  <a:pt x="920" y="822"/>
                  <a:pt x="920" y="822"/>
                </a:cubicBezTo>
                <a:cubicBezTo>
                  <a:pt x="890" y="852"/>
                  <a:pt x="852" y="875"/>
                  <a:pt x="812" y="888"/>
                </a:cubicBezTo>
                <a:cubicBezTo>
                  <a:pt x="770" y="920"/>
                  <a:pt x="725" y="942"/>
                  <a:pt x="680" y="972"/>
                </a:cubicBezTo>
                <a:cubicBezTo>
                  <a:pt x="575" y="1042"/>
                  <a:pt x="472" y="1112"/>
                  <a:pt x="344" y="1128"/>
                </a:cubicBezTo>
                <a:cubicBezTo>
                  <a:pt x="284" y="1123"/>
                  <a:pt x="239" y="1128"/>
                  <a:pt x="182" y="1110"/>
                </a:cubicBezTo>
                <a:cubicBezTo>
                  <a:pt x="164" y="1104"/>
                  <a:pt x="146" y="1098"/>
                  <a:pt x="128" y="1092"/>
                </a:cubicBezTo>
                <a:cubicBezTo>
                  <a:pt x="122" y="1090"/>
                  <a:pt x="110" y="1086"/>
                  <a:pt x="110" y="1086"/>
                </a:cubicBezTo>
                <a:cubicBezTo>
                  <a:pt x="87" y="1063"/>
                  <a:pt x="92" y="1040"/>
                  <a:pt x="74" y="1014"/>
                </a:cubicBezTo>
                <a:cubicBezTo>
                  <a:pt x="62" y="966"/>
                  <a:pt x="48" y="917"/>
                  <a:pt x="32" y="870"/>
                </a:cubicBezTo>
                <a:cubicBezTo>
                  <a:pt x="20" y="709"/>
                  <a:pt x="23" y="560"/>
                  <a:pt x="26" y="396"/>
                </a:cubicBezTo>
                <a:cubicBezTo>
                  <a:pt x="24" y="357"/>
                  <a:pt x="19" y="131"/>
                  <a:pt x="2" y="96"/>
                </a:cubicBezTo>
                <a:cubicBezTo>
                  <a:pt x="0" y="92"/>
                  <a:pt x="2" y="104"/>
                  <a:pt x="2" y="108"/>
                </a:cubicBezTo>
                <a:close/>
              </a:path>
            </a:pathLst>
          </a:custGeom>
          <a:solidFill>
            <a:srgbClr val="ff9966"/>
          </a:solidFill>
          <a:ln w="1260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4819680" y="3533760"/>
            <a:ext cx="1962000" cy="6667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space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3722760" y="158904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5029200" y="158904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6335640" y="158904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5029200" y="266868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6335640" y="266868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5029200" y="37479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6335640" y="37479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3722760" y="482760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482760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2416320" y="266868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2416320" y="37479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2416320" y="482760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 flipH="1">
            <a:off x="5295960" y="17287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 flipH="1">
            <a:off x="3984480" y="172872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 flipH="1">
            <a:off x="3989520" y="17287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 flipH="1">
            <a:off x="5295960" y="280368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 flipH="1">
            <a:off x="5289120" y="388764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 flipH="1">
            <a:off x="2677680" y="497844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 flipH="1">
            <a:off x="3989520" y="497844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6470640" y="18590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6470640" y="29383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5165640" y="18590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5165640" y="29383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2552760" y="29383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2552760" y="40179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 flipH="1">
            <a:off x="2660760" y="1809720"/>
            <a:ext cx="1092240" cy="9334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 flipV="1">
            <a:off x="5264280" y="3968280"/>
            <a:ext cx="1092240" cy="9082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6615000" y="3078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5738400" y="43736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2402280" y="52498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achable space is unchang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1571400" y="5668920"/>
            <a:ext cx="58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-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enabling </a:t>
            </a: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can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be changed in one sta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35" name=""/>
          <p:cNvGrpSpPr/>
          <p:nvPr/>
        </p:nvGrpSpPr>
        <p:grpSpPr>
          <a:xfrm>
            <a:off x="-1038240" y="939960"/>
            <a:ext cx="5153040" cy="2369880"/>
            <a:chOff x="-1038240" y="939960"/>
            <a:chExt cx="5153040" cy="2369880"/>
          </a:xfrm>
        </p:grpSpPr>
        <p:sp>
          <p:nvSpPr>
            <p:cNvPr id="3036" name=""/>
            <p:cNvSpPr/>
            <p:nvPr/>
          </p:nvSpPr>
          <p:spPr>
            <a:xfrm>
              <a:off x="-1038240" y="939960"/>
              <a:ext cx="5153040" cy="236988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D- before LDS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2840" y="1733400"/>
              <a:ext cx="2803680" cy="62532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275440" y="4695840"/>
            <a:ext cx="2001600" cy="552600"/>
            <a:chOff x="5275440" y="4695840"/>
            <a:chExt cx="2001600" cy="552600"/>
          </a:xfrm>
        </p:grpSpPr>
        <p:sp>
          <p:nvSpPr>
            <p:cNvPr id="3039" name=""/>
            <p:cNvSpPr/>
            <p:nvPr/>
          </p:nvSpPr>
          <p:spPr>
            <a:xfrm>
              <a:off x="6865920" y="4837320"/>
              <a:ext cx="2620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275440" y="4969080"/>
              <a:ext cx="1591920" cy="0"/>
            </a:xfrm>
            <a:prstGeom prst="line">
              <a:avLst/>
            </a:prstGeom>
            <a:ln w="12600">
              <a:solidFill>
                <a:srgbClr val="ffcc66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724800" y="4695840"/>
              <a:ext cx="552240" cy="552600"/>
            </a:xfrm>
            <a:prstGeom prst="noSmoking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42" name=""/>
          <p:cNvGrpSpPr/>
          <p:nvPr/>
        </p:nvGrpSpPr>
        <p:grpSpPr>
          <a:xfrm>
            <a:off x="6946560" y="3922560"/>
            <a:ext cx="2216880" cy="642600"/>
            <a:chOff x="6946560" y="3922560"/>
            <a:chExt cx="2216880" cy="642600"/>
          </a:xfrm>
        </p:grpSpPr>
        <p:sp>
          <p:nvSpPr>
            <p:cNvPr id="3043" name=""/>
            <p:cNvSpPr/>
            <p:nvPr/>
          </p:nvSpPr>
          <p:spPr>
            <a:xfrm>
              <a:off x="6953400" y="3933720"/>
              <a:ext cx="2190600" cy="618840"/>
            </a:xfrm>
            <a:prstGeom prst="roundRect">
              <a:avLst>
                <a:gd name="adj" fmla="val 16667"/>
              </a:avLst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946560" y="3922560"/>
              <a:ext cx="2216880" cy="6426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Potential enabling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for 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045" name=""/>
          <p:cNvSpPr/>
          <p:nvPr/>
        </p:nvSpPr>
        <p:spPr>
          <a:xfrm>
            <a:off x="4030200" y="4586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Sr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12B9-2652-403B-B430-ED15A7F0125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"/>
          <p:cNvSpPr/>
          <p:nvPr/>
        </p:nvSpPr>
        <p:spPr>
          <a:xfrm>
            <a:off x="6477120" y="3819600"/>
            <a:ext cx="761760" cy="7524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7238880" y="3809880"/>
            <a:ext cx="160020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8001000" y="2286000"/>
            <a:ext cx="8380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3429000" y="457200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1143000" y="457200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1143000" y="228600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8001000" y="457200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5715000" y="4572000"/>
            <a:ext cx="15238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3429000" y="228600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oolean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056" name=""/>
          <p:cNvGrpSpPr/>
          <p:nvPr/>
        </p:nvGrpSpPr>
        <p:grpSpPr>
          <a:xfrm>
            <a:off x="106920" y="1523880"/>
            <a:ext cx="4160160" cy="3809880"/>
            <a:chOff x="106920" y="1523880"/>
            <a:chExt cx="4160160" cy="3809880"/>
          </a:xfrm>
        </p:grpSpPr>
        <p:sp>
          <p:nvSpPr>
            <p:cNvPr id="3057" name=""/>
            <p:cNvSpPr/>
            <p:nvPr/>
          </p:nvSpPr>
          <p:spPr>
            <a:xfrm>
              <a:off x="1143000" y="228564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90512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266688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42900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143000" y="304776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1143000" y="3809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1143000" y="457164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H="1" flipV="1">
              <a:off x="685800" y="182844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40600" y="152388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106920" y="182844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12405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0786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8407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6788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87960" y="2528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87960" y="3214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87960" y="4052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87960" y="4814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75" name=""/>
          <p:cNvGrpSpPr/>
          <p:nvPr/>
        </p:nvGrpSpPr>
        <p:grpSpPr>
          <a:xfrm>
            <a:off x="4678920" y="1523880"/>
            <a:ext cx="4160160" cy="3809880"/>
            <a:chOff x="4678920" y="1523880"/>
            <a:chExt cx="4160160" cy="3809880"/>
          </a:xfrm>
        </p:grpSpPr>
        <p:sp>
          <p:nvSpPr>
            <p:cNvPr id="3076" name=""/>
            <p:cNvSpPr/>
            <p:nvPr/>
          </p:nvSpPr>
          <p:spPr>
            <a:xfrm>
              <a:off x="5715000" y="228564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47712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23888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00100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715000" y="304776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715000" y="3809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715000" y="457164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flipH="1" flipV="1">
              <a:off x="5257800" y="182844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5412600" y="152388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678920" y="182844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8125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6506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4127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82508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259960" y="2528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259960" y="3214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5259960" y="4052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259960" y="4814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094" name=""/>
          <p:cNvSpPr/>
          <p:nvPr/>
        </p:nvSpPr>
        <p:spPr>
          <a:xfrm>
            <a:off x="2211480" y="125568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6757920" y="123336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134460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365904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2896920" y="2392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210636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129672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2106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368748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586872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6678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8199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820260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8202600" y="388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7440480" y="388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6678720" y="38368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289692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289692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289692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372060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213480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37268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137268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212040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372060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594468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746892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746892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829260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670680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594468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594468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669240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745452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2294640" y="5421240"/>
            <a:ext cx="50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ne more DC vector for </a:t>
            </a: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one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signal:</a:t>
            </a:r>
            <a:r>
              <a:rPr b="1" i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2111040" y="5764320"/>
            <a:ext cx="56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f used: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 = DSr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, otherwise:</a:t>
            </a:r>
            <a:r>
              <a:rPr b="1" i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 = DSr + 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263F-9E44-4A3C-B64C-65627320B44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Decomposition May Lead to Hazard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82920" y="1341360"/>
            <a:ext cx="1389960" cy="4771080"/>
            <a:chOff x="1582920" y="1341360"/>
            <a:chExt cx="1389960" cy="4771080"/>
          </a:xfrm>
        </p:grpSpPr>
        <p:grpSp>
          <p:nvGrpSpPr>
            <p:cNvPr id="163" name=""/>
            <p:cNvGrpSpPr/>
            <p:nvPr/>
          </p:nvGrpSpPr>
          <p:grpSpPr>
            <a:xfrm>
              <a:off x="1582920" y="1341360"/>
              <a:ext cx="1087920" cy="1037160"/>
              <a:chOff x="1582920" y="1341360"/>
              <a:chExt cx="1087920" cy="1037160"/>
            </a:xfrm>
          </p:grpSpPr>
          <p:sp>
            <p:nvSpPr>
              <p:cNvPr id="164" name=""/>
              <p:cNvSpPr/>
              <p:nvPr/>
            </p:nvSpPr>
            <p:spPr>
              <a:xfrm>
                <a:off x="1582920" y="1341360"/>
                <a:ext cx="10447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abcx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83640" y="1798560"/>
                <a:ext cx="108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100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583640" y="2255760"/>
              <a:ext cx="1334520" cy="1342080"/>
              <a:chOff x="1583640" y="2255760"/>
              <a:chExt cx="1334520" cy="1342080"/>
            </a:xfrm>
          </p:grpSpPr>
          <p:sp>
            <p:nvSpPr>
              <p:cNvPr id="167" name=""/>
              <p:cNvSpPr/>
              <p:nvPr/>
            </p:nvSpPr>
            <p:spPr>
              <a:xfrm>
                <a:off x="1583640" y="3017880"/>
                <a:ext cx="108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110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28680" y="2289240"/>
                <a:ext cx="0" cy="6825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69800" y="2255760"/>
                <a:ext cx="6483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cc"/>
                    </a:solidFill>
                    <a:latin typeface="Arial"/>
                  </a:rPr>
                  <a:t>b+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1583640" y="3584520"/>
              <a:ext cx="1232640" cy="1308600"/>
              <a:chOff x="1583640" y="3584520"/>
              <a:chExt cx="1232640" cy="1308600"/>
            </a:xfrm>
          </p:grpSpPr>
          <p:sp>
            <p:nvSpPr>
              <p:cNvPr id="171" name=""/>
              <p:cNvSpPr/>
              <p:nvPr/>
            </p:nvSpPr>
            <p:spPr>
              <a:xfrm>
                <a:off x="2128680" y="3584520"/>
                <a:ext cx="0" cy="6825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83640" y="4313160"/>
                <a:ext cx="108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010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270160" y="3627360"/>
                <a:ext cx="546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cc"/>
                    </a:solidFill>
                    <a:latin typeface="Arial"/>
                  </a:rPr>
                  <a:t>a-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583640" y="4803840"/>
              <a:ext cx="1389240" cy="1308600"/>
              <a:chOff x="1583640" y="4803840"/>
              <a:chExt cx="1389240" cy="1308600"/>
            </a:xfrm>
          </p:grpSpPr>
          <p:sp>
            <p:nvSpPr>
              <p:cNvPr id="175" name=""/>
              <p:cNvSpPr/>
              <p:nvPr/>
            </p:nvSpPr>
            <p:spPr>
              <a:xfrm>
                <a:off x="2128680" y="4803840"/>
                <a:ext cx="0" cy="6825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83640" y="5532480"/>
                <a:ext cx="108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011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45760" y="4846680"/>
                <a:ext cx="627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cc"/>
                    </a:solidFill>
                    <a:latin typeface="Arial"/>
                  </a:rPr>
                  <a:t>c+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4037040" y="2303640"/>
            <a:ext cx="4129200" cy="1843560"/>
            <a:chOff x="4037040" y="2303640"/>
            <a:chExt cx="4129200" cy="1843560"/>
          </a:xfrm>
        </p:grpSpPr>
        <p:grpSp>
          <p:nvGrpSpPr>
            <p:cNvPr id="179" name=""/>
            <p:cNvGrpSpPr/>
            <p:nvPr/>
          </p:nvGrpSpPr>
          <p:grpSpPr>
            <a:xfrm>
              <a:off x="4037040" y="2303640"/>
              <a:ext cx="2071800" cy="1437120"/>
              <a:chOff x="4037040" y="2303640"/>
              <a:chExt cx="2071800" cy="143712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037040" y="2303640"/>
                <a:ext cx="2071800" cy="1373040"/>
                <a:chOff x="4037040" y="2303640"/>
                <a:chExt cx="2071800" cy="137304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4491000" y="2303640"/>
                  <a:ext cx="1617840" cy="1373040"/>
                  <a:chOff x="4491000" y="2303640"/>
                  <a:chExt cx="1617840" cy="1373040"/>
                </a:xfrm>
              </p:grpSpPr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4491000" y="2303640"/>
                    <a:ext cx="1365120" cy="1373040"/>
                    <a:chOff x="4491000" y="2303640"/>
                    <a:chExt cx="1365120" cy="137304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4497480" y="2309760"/>
                      <a:ext cx="1358640" cy="13590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4491000" y="230364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" name=""/>
                  <p:cNvSpPr/>
                  <p:nvPr/>
                </p:nvSpPr>
                <p:spPr>
                  <a:xfrm>
                    <a:off x="5869080" y="297504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" name=""/>
                <p:cNvSpPr/>
                <p:nvPr/>
              </p:nvSpPr>
              <p:spPr>
                <a:xfrm>
                  <a:off x="4037040" y="253224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037040" y="344664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4555800" y="2322360"/>
                <a:ext cx="41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55800" y="3160800"/>
                <a:ext cx="41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23840" y="270972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094440" y="2743200"/>
              <a:ext cx="2071800" cy="1404000"/>
              <a:chOff x="6094440" y="2743200"/>
              <a:chExt cx="2071800" cy="14040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6094440" y="2743200"/>
                <a:ext cx="2071800" cy="1373040"/>
                <a:chOff x="6094440" y="2743200"/>
                <a:chExt cx="2071800" cy="137304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6548400" y="2743200"/>
                  <a:ext cx="1617840" cy="1373040"/>
                  <a:chOff x="6548400" y="2743200"/>
                  <a:chExt cx="1617840" cy="1373040"/>
                </a:xfrm>
              </p:grpSpPr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6548400" y="2743200"/>
                    <a:ext cx="1365120" cy="1373040"/>
                    <a:chOff x="6548400" y="2743200"/>
                    <a:chExt cx="1365120" cy="137304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6554880" y="2749680"/>
                      <a:ext cx="1358640" cy="13586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6548400" y="274320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" name=""/>
                  <p:cNvSpPr/>
                  <p:nvPr/>
                </p:nvSpPr>
                <p:spPr>
                  <a:xfrm>
                    <a:off x="7926480" y="341460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6094440" y="29718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094440" y="38862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6597000" y="356724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477920" y="320040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3308040" y="1996920"/>
            <a:ext cx="4906440" cy="2370960"/>
            <a:chOff x="3308040" y="1996920"/>
            <a:chExt cx="4906440" cy="2370960"/>
          </a:xfrm>
        </p:grpSpPr>
        <p:sp>
          <p:nvSpPr>
            <p:cNvPr id="203" name=""/>
            <p:cNvSpPr/>
            <p:nvPr/>
          </p:nvSpPr>
          <p:spPr>
            <a:xfrm>
              <a:off x="330804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0804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46320" y="2149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08240" y="3787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0372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654200" y="1874880"/>
            <a:ext cx="95868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16040" y="3094200"/>
            <a:ext cx="95904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35120" y="3094200"/>
            <a:ext cx="95868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4389480"/>
            <a:ext cx="95868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0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16040" y="5608800"/>
            <a:ext cx="95904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01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24680" y="3733920"/>
            <a:ext cx="992160" cy="687240"/>
          </a:xfrm>
          <a:custGeom>
            <a:avLst/>
            <a:gdLst/>
            <a:ahLst/>
            <a:rect l="l" t="t" r="r" b="b"/>
            <a:pathLst>
              <a:path w="625" h="433">
                <a:moveTo>
                  <a:pt x="0" y="432"/>
                </a:moveTo>
                <a:lnTo>
                  <a:pt x="240" y="432"/>
                </a:lnTo>
                <a:lnTo>
                  <a:pt x="336" y="0"/>
                </a:lnTo>
                <a:lnTo>
                  <a:pt x="432" y="432"/>
                </a:lnTo>
                <a:lnTo>
                  <a:pt x="624" y="432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98120" y="1996920"/>
            <a:ext cx="4906800" cy="2370600"/>
            <a:chOff x="3498120" y="1996920"/>
            <a:chExt cx="4906800" cy="2370600"/>
          </a:xfrm>
        </p:grpSpPr>
        <p:sp>
          <p:nvSpPr>
            <p:cNvPr id="215" name=""/>
            <p:cNvSpPr/>
            <p:nvPr/>
          </p:nvSpPr>
          <p:spPr>
            <a:xfrm>
              <a:off x="349812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9812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3676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9832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9416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688560" y="1996920"/>
            <a:ext cx="4906800" cy="2370600"/>
            <a:chOff x="3688560" y="1996920"/>
            <a:chExt cx="4906800" cy="2370600"/>
          </a:xfrm>
        </p:grpSpPr>
        <p:sp>
          <p:nvSpPr>
            <p:cNvPr id="221" name=""/>
            <p:cNvSpPr/>
            <p:nvPr/>
          </p:nvSpPr>
          <p:spPr>
            <a:xfrm>
              <a:off x="368856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8856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2720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8876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8460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859920" y="1996920"/>
            <a:ext cx="4906800" cy="2370600"/>
            <a:chOff x="3859920" y="1996920"/>
            <a:chExt cx="4906800" cy="2370600"/>
          </a:xfrm>
        </p:grpSpPr>
        <p:sp>
          <p:nvSpPr>
            <p:cNvPr id="227" name=""/>
            <p:cNvSpPr/>
            <p:nvPr/>
          </p:nvSpPr>
          <p:spPr>
            <a:xfrm>
              <a:off x="385992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5992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9856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6012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5596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012560" y="1996920"/>
            <a:ext cx="4906800" cy="2370600"/>
            <a:chOff x="4012560" y="1996920"/>
            <a:chExt cx="4906800" cy="2370600"/>
          </a:xfrm>
        </p:grpSpPr>
        <p:sp>
          <p:nvSpPr>
            <p:cNvPr id="233" name=""/>
            <p:cNvSpPr/>
            <p:nvPr/>
          </p:nvSpPr>
          <p:spPr>
            <a:xfrm>
              <a:off x="401256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1256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5120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1276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0860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164840" y="1996920"/>
            <a:ext cx="4906800" cy="2370600"/>
            <a:chOff x="4164840" y="1996920"/>
            <a:chExt cx="4906800" cy="2370600"/>
          </a:xfrm>
        </p:grpSpPr>
        <p:sp>
          <p:nvSpPr>
            <p:cNvPr id="239" name=""/>
            <p:cNvSpPr/>
            <p:nvPr/>
          </p:nvSpPr>
          <p:spPr>
            <a:xfrm>
              <a:off x="416484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6484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0348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6504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6088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EA52-5847-4821-9ACE-D481E487BEBF}" type="slidenum">
              <a:t>5</a:t>
            </a:fld>
          </a:p>
        </p:txBody>
      </p:sp>
    </p:spTree>
  </p:cSld>
  <p:transition advTm="65000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Netlist with two constrai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rot="10597800">
            <a:off x="3623760" y="157320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53" name=""/>
          <p:cNvGrpSpPr/>
          <p:nvPr/>
        </p:nvGrpSpPr>
        <p:grpSpPr>
          <a:xfrm>
            <a:off x="6537240" y="3230640"/>
            <a:ext cx="2606760" cy="968400"/>
            <a:chOff x="6537240" y="3230640"/>
            <a:chExt cx="2606760" cy="968400"/>
          </a:xfrm>
        </p:grpSpPr>
        <p:sp>
          <p:nvSpPr>
            <p:cNvPr id="3154" name=""/>
            <p:cNvSpPr/>
            <p:nvPr/>
          </p:nvSpPr>
          <p:spPr>
            <a:xfrm>
              <a:off x="6733800" y="3570480"/>
              <a:ext cx="2190960" cy="58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 Black"/>
                </a:rPr>
                <a:t>LDTACK- before DSr+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c66"/>
                  </a:solidFill>
                  <a:latin typeface="Arial Black"/>
                </a:rPr>
                <a:t>and  </a:t>
              </a:r>
              <a:r>
                <a:rPr b="0" lang="en-US" sz="1600" spc="-1" strike="noStrike">
                  <a:solidFill>
                    <a:srgbClr val="ffffcc"/>
                  </a:solidFill>
                  <a:latin typeface="Arial Black"/>
                </a:rPr>
                <a:t>D- before LDS-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6849360" y="3278160"/>
              <a:ext cx="19350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cc66"/>
                  </a:solidFill>
                  <a:latin typeface="Arial Black"/>
                </a:rPr>
                <a:t>TIMING CONSTRAINT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6537240" y="3230640"/>
              <a:ext cx="2606760" cy="968400"/>
            </a:xfrm>
            <a:prstGeom prst="flowChartAlternateProcess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6165360" y="2364480"/>
            <a:ext cx="1912320" cy="795240"/>
            <a:chOff x="6165360" y="2364480"/>
            <a:chExt cx="1912320" cy="795240"/>
          </a:xfrm>
        </p:grpSpPr>
        <p:sp>
          <p:nvSpPr>
            <p:cNvPr id="3158" name=""/>
            <p:cNvSpPr/>
            <p:nvPr/>
          </p:nvSpPr>
          <p:spPr>
            <a:xfrm flipH="1">
              <a:off x="6205320" y="2378160"/>
              <a:ext cx="547560" cy="404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 rot="10831800">
              <a:off x="6168960" y="2373120"/>
              <a:ext cx="1905120" cy="77760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60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3161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3162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3163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5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166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68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3169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72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 flipH="1">
            <a:off x="2163600" y="567684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 flipV="1">
            <a:off x="2163600" y="4086360"/>
            <a:ext cx="0" cy="15904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663840" y="4552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7298280" y="4576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7006320" y="52959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186" name=""/>
          <p:cNvCxnSpPr>
            <a:stCxn id="3177" idx="0"/>
          </p:cNvCxnSpPr>
          <p:nvPr/>
        </p:nvCxnSpPr>
        <p:spPr>
          <a:xfrm flipH="1" flipV="1">
            <a:off x="1315440" y="5002920"/>
            <a:ext cx="4615560" cy="1188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187" name=""/>
          <p:cNvSpPr/>
          <p:nvPr/>
        </p:nvSpPr>
        <p:spPr>
          <a:xfrm>
            <a:off x="4257720" y="4441680"/>
            <a:ext cx="0" cy="592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88" name=""/>
          <p:cNvGrpSpPr/>
          <p:nvPr/>
        </p:nvGrpSpPr>
        <p:grpSpPr>
          <a:xfrm>
            <a:off x="6176880" y="4721760"/>
            <a:ext cx="758520" cy="570960"/>
            <a:chOff x="6176880" y="4721760"/>
            <a:chExt cx="758520" cy="570960"/>
          </a:xfrm>
        </p:grpSpPr>
        <p:sp>
          <p:nvSpPr>
            <p:cNvPr id="3189" name=""/>
            <p:cNvSpPr/>
            <p:nvPr/>
          </p:nvSpPr>
          <p:spPr>
            <a:xfrm rot="12600">
              <a:off x="6284880" y="4722480"/>
              <a:ext cx="432720" cy="5695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H="1" flipV="1">
              <a:off x="6176880" y="5010840"/>
              <a:ext cx="10800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717960" y="5010840"/>
              <a:ext cx="217440" cy="2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cxnSp>
        <p:nvCxnSpPr>
          <p:cNvPr id="3192" name=""/>
          <p:cNvCxnSpPr>
            <a:stCxn id="3191" idx="0"/>
          </p:cNvCxnSpPr>
          <p:nvPr/>
        </p:nvCxnSpPr>
        <p:spPr>
          <a:xfrm flipV="1">
            <a:off x="6932160" y="5009760"/>
            <a:ext cx="926280" cy="216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193" name=""/>
          <p:cNvSpPr/>
          <p:nvPr/>
        </p:nvSpPr>
        <p:spPr>
          <a:xfrm>
            <a:off x="384120" y="5840280"/>
            <a:ext cx="93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Both timing assumptions are used for optimization and become constrain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rot="12600">
            <a:off x="6823080" y="4716360"/>
            <a:ext cx="433440" cy="56988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0" y="0"/>
                </a:moveTo>
                <a:lnTo>
                  <a:pt x="0" y="115"/>
                </a:lnTo>
                <a:lnTo>
                  <a:pt x="115" y="5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 flipV="1">
            <a:off x="6713640" y="5005080"/>
            <a:ext cx="108000" cy="7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01241-455C-4370-9120-F76337EBA0ED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alue of Relative Tim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T circuits provides up to 2-3x (1.3-2x) delay&amp;area reduction with respect to SI circuits synthesized without (with) concurrency redu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tomatic generation of timing assumptions =&gt; foundation for automatic synthesis of RT circuits with area/performance comparable/better than manu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ck-annotation of timing constraints =&gt; minimal required timing information for the back-end tool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ing-aware state encoding allows significant area/performance optimiz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59D0-7890-42AD-A3FF-04351417CD9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"/>
          <p:cNvSpPr/>
          <p:nvPr/>
        </p:nvSpPr>
        <p:spPr>
          <a:xfrm>
            <a:off x="4594320" y="720720"/>
            <a:ext cx="1600200" cy="91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 +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ser assumptions</a:t>
            </a: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4265640" y="2101680"/>
            <a:ext cx="218124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Lazy</a:t>
            </a: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 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4594320" y="286560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Lazy</a:t>
            </a: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 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4594320" y="39322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4594320" y="499896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624560" y="609768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5658840" y="165096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5662800" y="2489040"/>
            <a:ext cx="27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iming-aware 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5660280" y="355608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5689440" y="462276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5661360" y="568944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5356080" y="1631880"/>
            <a:ext cx="1800" cy="4366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5356080" y="2440080"/>
            <a:ext cx="1800" cy="43632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5356080" y="3506760"/>
            <a:ext cx="1800" cy="4366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5356080" y="4573440"/>
            <a:ext cx="1800" cy="4366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5356080" y="5640480"/>
            <a:ext cx="1800" cy="43632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382680" y="-54000"/>
            <a:ext cx="87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0000"/>
                </a:solidFill>
                <a:latin typeface="Arial"/>
              </a:rPr>
              <a:t>Design Flow with Tim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863640" y="6094440"/>
            <a:ext cx="325440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Required Timing Constrain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539640" y="2703600"/>
            <a:ext cx="355932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utomatic Timing Assump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3745080" y="3076560"/>
            <a:ext cx="869760" cy="2905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 flipV="1">
            <a:off x="3773520" y="2336760"/>
            <a:ext cx="493560" cy="3477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4108320" y="6284880"/>
            <a:ext cx="5079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60B2B-EFBB-4571-A0B0-55FE1E42C6E8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FO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3171960" y="2214720"/>
            <a:ext cx="1341360" cy="14619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3482280" y="27352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IF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2373480" y="2705040"/>
            <a:ext cx="7999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4506840" y="2685960"/>
            <a:ext cx="800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4506840" y="3257640"/>
            <a:ext cx="800280" cy="0"/>
          </a:xfrm>
          <a:prstGeom prst="line">
            <a:avLst/>
          </a:prstGeom>
          <a:ln w="2844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2392200" y="3276720"/>
            <a:ext cx="80028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1957680" y="2421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1938960" y="299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5349960" y="240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5330160" y="3030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31" name=""/>
          <p:cNvGrpSpPr/>
          <p:nvPr/>
        </p:nvGrpSpPr>
        <p:grpSpPr>
          <a:xfrm>
            <a:off x="2147040" y="4325760"/>
            <a:ext cx="3445920" cy="1391400"/>
            <a:chOff x="2147040" y="4325760"/>
            <a:chExt cx="3445920" cy="1391400"/>
          </a:xfrm>
        </p:grpSpPr>
        <p:sp>
          <p:nvSpPr>
            <p:cNvPr id="3232" name=""/>
            <p:cNvSpPr/>
            <p:nvPr/>
          </p:nvSpPr>
          <p:spPr>
            <a:xfrm>
              <a:off x="2179800" y="52574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3083400" y="432576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3012120" y="5257440"/>
              <a:ext cx="6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147040" y="43290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3294000" y="4824000"/>
              <a:ext cx="0" cy="433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 flipH="1">
              <a:off x="2698560" y="55209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V="1">
              <a:off x="2532240" y="47793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2720880" y="4495680"/>
              <a:ext cx="398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924360" y="525744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5005440" y="432576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966560" y="525744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056840" y="432900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248440" y="4746240"/>
              <a:ext cx="0" cy="511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H="1">
              <a:off x="4674960" y="548784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V="1">
              <a:off x="4353120" y="47793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619520" y="4495680"/>
              <a:ext cx="4320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 flipH="1">
              <a:off x="3439800" y="4701960"/>
              <a:ext cx="615960" cy="5554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440160" y="4746240"/>
              <a:ext cx="615960" cy="511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800600" y="439236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770200" y="437328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4334C-F020-4854-A3B4-51739A0516F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2" name="fifosi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81880" cy="4224600"/>
          </a:xfrm>
          <a:prstGeom prst="rect">
            <a:avLst/>
          </a:prstGeom>
          <a:ln w="0">
            <a:noFill/>
          </a:ln>
        </p:spPr>
      </p:pic>
      <p:sp>
        <p:nvSpPr>
          <p:cNvPr id="3253" name=""/>
          <p:cNvSpPr/>
          <p:nvPr/>
        </p:nvSpPr>
        <p:spPr>
          <a:xfrm>
            <a:off x="685800" y="38160"/>
            <a:ext cx="7728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peed-Independent Implement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972720" y="5942160"/>
            <a:ext cx="72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without concurrency reduction 3 state signals are requir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420840" y="1495440"/>
            <a:ext cx="8439120" cy="4275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9DD27-8B54-40E3-A219-2FA770FED71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SI implementation with concurrency reduction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257" name=""/>
          <p:cNvGrpSpPr/>
          <p:nvPr/>
        </p:nvGrpSpPr>
        <p:grpSpPr>
          <a:xfrm>
            <a:off x="3600360" y="2684520"/>
            <a:ext cx="565200" cy="573120"/>
            <a:chOff x="3600360" y="2684520"/>
            <a:chExt cx="565200" cy="573120"/>
          </a:xfrm>
        </p:grpSpPr>
        <p:sp>
          <p:nvSpPr>
            <p:cNvPr id="3258" name=""/>
            <p:cNvSpPr/>
            <p:nvPr/>
          </p:nvSpPr>
          <p:spPr>
            <a:xfrm>
              <a:off x="3606840" y="2691000"/>
              <a:ext cx="558720" cy="5587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600360" y="2684520"/>
              <a:ext cx="287280" cy="573120"/>
            </a:xfrm>
            <a:custGeom>
              <a:avLst/>
              <a:gdLst/>
              <a:ahLst/>
              <a:rect l="l" t="t" r="r" b="b"/>
              <a:pathLst>
                <a:path w="181" h="361">
                  <a:moveTo>
                    <a:pt x="180" y="0"/>
                  </a:moveTo>
                  <a:lnTo>
                    <a:pt x="0" y="0"/>
                  </a:lnTo>
                  <a:lnTo>
                    <a:pt x="0" y="360"/>
                  </a:lnTo>
                  <a:lnTo>
                    <a:pt x="180" y="36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60" name=""/>
          <p:cNvSpPr/>
          <p:nvPr/>
        </p:nvSpPr>
        <p:spPr>
          <a:xfrm>
            <a:off x="3413160" y="2932200"/>
            <a:ext cx="18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3413160" y="3160800"/>
            <a:ext cx="18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 flipV="1">
            <a:off x="2871720" y="3355560"/>
            <a:ext cx="0" cy="187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 rot="16203000">
            <a:off x="2676240" y="3670200"/>
            <a:ext cx="82800" cy="824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1581120" y="2682720"/>
            <a:ext cx="565200" cy="573120"/>
            <a:chOff x="1581120" y="2682720"/>
            <a:chExt cx="565200" cy="573120"/>
          </a:xfrm>
        </p:grpSpPr>
        <p:sp>
          <p:nvSpPr>
            <p:cNvPr id="3265" name=""/>
            <p:cNvSpPr/>
            <p:nvPr/>
          </p:nvSpPr>
          <p:spPr>
            <a:xfrm rot="10800000">
              <a:off x="1581120" y="2690640"/>
              <a:ext cx="558720" cy="5587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 rot="10800000">
              <a:off x="1859040" y="2682720"/>
              <a:ext cx="287280" cy="573120"/>
            </a:xfrm>
            <a:custGeom>
              <a:avLst/>
              <a:gdLst/>
              <a:ahLst/>
              <a:rect l="l" t="t" r="r" b="b"/>
              <a:pathLst>
                <a:path w="181" h="361">
                  <a:moveTo>
                    <a:pt x="180" y="0"/>
                  </a:moveTo>
                  <a:lnTo>
                    <a:pt x="0" y="0"/>
                  </a:lnTo>
                  <a:lnTo>
                    <a:pt x="0" y="360"/>
                  </a:lnTo>
                  <a:lnTo>
                    <a:pt x="180" y="36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67" name=""/>
          <p:cNvSpPr/>
          <p:nvPr/>
        </p:nvSpPr>
        <p:spPr>
          <a:xfrm flipH="1">
            <a:off x="2146320" y="3162240"/>
            <a:ext cx="18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 flipH="1">
            <a:off x="2146320" y="2962440"/>
            <a:ext cx="18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9" name=""/>
          <p:cNvGrpSpPr/>
          <p:nvPr/>
        </p:nvGrpSpPr>
        <p:grpSpPr>
          <a:xfrm>
            <a:off x="4110840" y="2078280"/>
            <a:ext cx="387000" cy="254880"/>
            <a:chOff x="4110840" y="2078280"/>
            <a:chExt cx="387000" cy="254880"/>
          </a:xfrm>
        </p:grpSpPr>
        <p:sp>
          <p:nvSpPr>
            <p:cNvPr id="3270" name=""/>
            <p:cNvSpPr/>
            <p:nvPr/>
          </p:nvSpPr>
          <p:spPr>
            <a:xfrm rot="16093800">
              <a:off x="4111560" y="2176200"/>
              <a:ext cx="63360" cy="633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 rot="16093800">
              <a:off x="4200840" y="2035080"/>
              <a:ext cx="244440" cy="34128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cxnSp>
        <p:nvCxnSpPr>
          <p:cNvPr id="3272" name=""/>
          <p:cNvCxnSpPr/>
          <p:nvPr/>
        </p:nvCxnSpPr>
        <p:spPr>
          <a:xfrm>
            <a:off x="752040" y="2209320"/>
            <a:ext cx="1105560" cy="2520"/>
          </a:xfrm>
          <a:prstGeom prst="bentConnector3">
            <a:avLst>
              <a:gd name="adj1" fmla="val 50000"/>
            </a:avLst>
          </a:prstGeom>
          <a:ln w="12600">
            <a:solidFill>
              <a:srgbClr val="ffffcc"/>
            </a:solidFill>
            <a:miter/>
          </a:ln>
        </p:spPr>
      </p:cxnSp>
      <p:sp>
        <p:nvSpPr>
          <p:cNvPr id="3273" name=""/>
          <p:cNvSpPr/>
          <p:nvPr/>
        </p:nvSpPr>
        <p:spPr>
          <a:xfrm flipH="1">
            <a:off x="3470040" y="2214720"/>
            <a:ext cx="6238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1835280" y="2214720"/>
            <a:ext cx="498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275" name=""/>
          <p:cNvCxnSpPr>
            <a:stCxn id="3274" idx="0"/>
            <a:endCxn id="3260" idx="0"/>
          </p:cNvCxnSpPr>
          <p:nvPr/>
        </p:nvCxnSpPr>
        <p:spPr>
          <a:xfrm>
            <a:off x="2333160" y="2214360"/>
            <a:ext cx="1080360" cy="71784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276" name=""/>
          <p:cNvCxnSpPr>
            <a:stCxn id="3267" idx="0"/>
            <a:endCxn id="3261" idx="0"/>
          </p:cNvCxnSpPr>
          <p:nvPr/>
        </p:nvCxnSpPr>
        <p:spPr>
          <a:xfrm flipV="1">
            <a:off x="2333160" y="3160440"/>
            <a:ext cx="1080360" cy="21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277" name=""/>
          <p:cNvSpPr/>
          <p:nvPr/>
        </p:nvSpPr>
        <p:spPr>
          <a:xfrm flipV="1">
            <a:off x="2876400" y="3173040"/>
            <a:ext cx="0" cy="1890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278" name=""/>
          <p:cNvCxnSpPr>
            <a:stCxn id="3258" idx="6"/>
          </p:cNvCxnSpPr>
          <p:nvPr/>
        </p:nvCxnSpPr>
        <p:spPr>
          <a:xfrm>
            <a:off x="4165200" y="2970000"/>
            <a:ext cx="926280" cy="6840"/>
          </a:xfrm>
          <a:prstGeom prst="straightConnector1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</p:cxnSp>
      <p:cxnSp>
        <p:nvCxnSpPr>
          <p:cNvPr id="3279" name=""/>
          <p:cNvCxnSpPr>
            <a:endCxn id="3265" idx="6"/>
          </p:cNvCxnSpPr>
          <p:nvPr/>
        </p:nvCxnSpPr>
        <p:spPr>
          <a:xfrm>
            <a:off x="752040" y="2960640"/>
            <a:ext cx="826200" cy="8640"/>
          </a:xfrm>
          <a:prstGeom prst="straightConnector1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</p:cxnSp>
      <p:cxnSp>
        <p:nvCxnSpPr>
          <p:cNvPr id="3280" name=""/>
          <p:cNvCxnSpPr>
            <a:stCxn id="3271" idx="3"/>
          </p:cNvCxnSpPr>
          <p:nvPr/>
        </p:nvCxnSpPr>
        <p:spPr>
          <a:xfrm>
            <a:off x="4490640" y="2199960"/>
            <a:ext cx="578520" cy="39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281" name=""/>
          <p:cNvSpPr/>
          <p:nvPr/>
        </p:nvSpPr>
        <p:spPr>
          <a:xfrm>
            <a:off x="4456080" y="2986200"/>
            <a:ext cx="0" cy="1360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997360" y="4013280"/>
            <a:ext cx="0" cy="331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283" name=""/>
          <p:cNvCxnSpPr>
            <a:stCxn id="3282" idx="0"/>
            <a:endCxn id="3281" idx="0"/>
          </p:cNvCxnSpPr>
          <p:nvPr/>
        </p:nvCxnSpPr>
        <p:spPr>
          <a:xfrm>
            <a:off x="2997360" y="4343400"/>
            <a:ext cx="1459440" cy="21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284" name=""/>
          <p:cNvSpPr/>
          <p:nvPr/>
        </p:nvSpPr>
        <p:spPr>
          <a:xfrm>
            <a:off x="600480" y="2144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570600" y="2938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4728960" y="293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4743000" y="21207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270396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5848200" y="3273480"/>
            <a:ext cx="35424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 flipV="1">
            <a:off x="5597640" y="2546280"/>
            <a:ext cx="0" cy="47808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5919840" y="2314440"/>
            <a:ext cx="39852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8736120" y="2513160"/>
            <a:ext cx="0" cy="51120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 flipH="1">
            <a:off x="8062560" y="3273480"/>
            <a:ext cx="353880" cy="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8074080" y="2314440"/>
            <a:ext cx="431640" cy="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6683400" y="2523960"/>
            <a:ext cx="771480" cy="6336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8221680" y="2195640"/>
            <a:ext cx="204840" cy="214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5978520" y="2195640"/>
            <a:ext cx="204840" cy="214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5384880" y="30243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6288480" y="209232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6217200" y="302436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5352120" y="20955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7407000" y="3024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8488080" y="20923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8449560" y="302436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7539840" y="20955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6886800" y="1638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6918480" y="3367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6531120" y="3378240"/>
            <a:ext cx="453960" cy="183960"/>
          </a:xfrm>
          <a:prstGeom prst="line">
            <a:avLst/>
          </a:prstGeom>
          <a:ln w="1260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 flipV="1">
            <a:off x="7737480" y="2546280"/>
            <a:ext cx="0" cy="47808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7142040" y="2038320"/>
            <a:ext cx="465120" cy="986040"/>
          </a:xfrm>
          <a:prstGeom prst="line">
            <a:avLst/>
          </a:prstGeom>
          <a:ln w="1260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7211880" y="2336760"/>
            <a:ext cx="204840" cy="214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5624640" y="1879560"/>
            <a:ext cx="1317600" cy="303120"/>
          </a:xfrm>
          <a:custGeom>
            <a:avLst/>
            <a:gdLst/>
            <a:ahLst/>
            <a:rect l="l" t="t" r="r" b="b"/>
            <a:pathLst>
              <a:path w="830" h="191">
                <a:moveTo>
                  <a:pt x="0" y="191"/>
                </a:moveTo>
                <a:cubicBezTo>
                  <a:pt x="25" y="125"/>
                  <a:pt x="51" y="60"/>
                  <a:pt x="189" y="30"/>
                </a:cubicBezTo>
                <a:cubicBezTo>
                  <a:pt x="327" y="0"/>
                  <a:pt x="799" y="2"/>
                  <a:pt x="830" y="10"/>
                </a:cubicBezTo>
              </a:path>
            </a:pathLst>
          </a:custGeom>
          <a:noFill/>
          <a:ln w="1260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7342200" y="1895400"/>
            <a:ext cx="1373040" cy="287280"/>
          </a:xfrm>
          <a:custGeom>
            <a:avLst/>
            <a:gdLst/>
            <a:ahLst/>
            <a:rect l="l" t="t" r="r" b="b"/>
            <a:pathLst>
              <a:path w="865" h="181">
                <a:moveTo>
                  <a:pt x="865" y="181"/>
                </a:moveTo>
                <a:cubicBezTo>
                  <a:pt x="863" y="122"/>
                  <a:pt x="862" y="64"/>
                  <a:pt x="718" y="34"/>
                </a:cubicBezTo>
                <a:cubicBezTo>
                  <a:pt x="574" y="4"/>
                  <a:pt x="120" y="7"/>
                  <a:pt x="0" y="0"/>
                </a:cubicBezTo>
              </a:path>
            </a:pathLst>
          </a:custGeom>
          <a:noFill/>
          <a:ln w="1260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 flipH="1">
            <a:off x="6934320" y="3273480"/>
            <a:ext cx="44928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5734080" y="2508120"/>
            <a:ext cx="1200240" cy="1136880"/>
          </a:xfrm>
          <a:custGeom>
            <a:avLst/>
            <a:gdLst/>
            <a:ahLst/>
            <a:rect l="l" t="t" r="r" b="b"/>
            <a:pathLst>
              <a:path w="756" h="716">
                <a:moveTo>
                  <a:pt x="756" y="696"/>
                </a:moveTo>
                <a:cubicBezTo>
                  <a:pt x="576" y="706"/>
                  <a:pt x="396" y="716"/>
                  <a:pt x="270" y="600"/>
                </a:cubicBezTo>
                <a:cubicBezTo>
                  <a:pt x="144" y="484"/>
                  <a:pt x="72" y="242"/>
                  <a:pt x="0" y="0"/>
                </a:cubicBezTo>
              </a:path>
            </a:pathLst>
          </a:custGeom>
          <a:noFill/>
          <a:ln w="1260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7334280" y="2508120"/>
            <a:ext cx="1266840" cy="1177920"/>
          </a:xfrm>
          <a:custGeom>
            <a:avLst/>
            <a:gdLst/>
            <a:ahLst/>
            <a:rect l="l" t="t" r="r" b="b"/>
            <a:pathLst>
              <a:path w="774" h="748">
                <a:moveTo>
                  <a:pt x="0" y="708"/>
                </a:moveTo>
                <a:cubicBezTo>
                  <a:pt x="127" y="728"/>
                  <a:pt x="255" y="748"/>
                  <a:pt x="384" y="630"/>
                </a:cubicBezTo>
                <a:cubicBezTo>
                  <a:pt x="513" y="512"/>
                  <a:pt x="643" y="256"/>
                  <a:pt x="774" y="0"/>
                </a:cubicBezTo>
              </a:path>
            </a:pathLst>
          </a:custGeom>
          <a:noFill/>
          <a:ln w="1260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3508920" y="27478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3476520" y="2212920"/>
            <a:ext cx="0" cy="5428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3476520" y="2746440"/>
            <a:ext cx="1429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3682080" y="2754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321" name=""/>
          <p:cNvCxnSpPr>
            <a:stCxn id="3281" idx="0"/>
          </p:cNvCxnSpPr>
          <p:nvPr/>
        </p:nvCxnSpPr>
        <p:spPr>
          <a:xfrm flipV="1" rot="16200000">
            <a:off x="3131640" y="1661400"/>
            <a:ext cx="564480" cy="2085120"/>
          </a:xfrm>
          <a:prstGeom prst="bentConnector2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322" name=""/>
          <p:cNvSpPr/>
          <p:nvPr/>
        </p:nvSpPr>
        <p:spPr>
          <a:xfrm>
            <a:off x="2352600" y="2422440"/>
            <a:ext cx="0" cy="5619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4419720" y="2927520"/>
            <a:ext cx="74520" cy="745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1556280" y="2773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1905840" y="27766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2228760" y="2212920"/>
            <a:ext cx="0" cy="5619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 flipH="1">
            <a:off x="2133720" y="2765520"/>
            <a:ext cx="85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1934640" y="2548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 rot="14400">
            <a:off x="2619000" y="3487320"/>
            <a:ext cx="511200" cy="55260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 rot="16203000">
            <a:off x="2952720" y="4041360"/>
            <a:ext cx="82440" cy="824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 flipH="1">
            <a:off x="1314360" y="3708360"/>
            <a:ext cx="1362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 flipV="1">
            <a:off x="1314360" y="2974680"/>
            <a:ext cx="0" cy="7239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A7AFD-8697-48D1-A65E-A5008846010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T implemen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334" name=""/>
          <p:cNvGrpSpPr/>
          <p:nvPr/>
        </p:nvGrpSpPr>
        <p:grpSpPr>
          <a:xfrm>
            <a:off x="3413160" y="2030400"/>
            <a:ext cx="752400" cy="573120"/>
            <a:chOff x="3413160" y="2030400"/>
            <a:chExt cx="752400" cy="573120"/>
          </a:xfrm>
        </p:grpSpPr>
        <p:grpSp>
          <p:nvGrpSpPr>
            <p:cNvPr id="3335" name=""/>
            <p:cNvGrpSpPr/>
            <p:nvPr/>
          </p:nvGrpSpPr>
          <p:grpSpPr>
            <a:xfrm>
              <a:off x="3600360" y="2030400"/>
              <a:ext cx="565200" cy="573120"/>
              <a:chOff x="3600360" y="2030400"/>
              <a:chExt cx="565200" cy="573120"/>
            </a:xfrm>
          </p:grpSpPr>
          <p:sp>
            <p:nvSpPr>
              <p:cNvPr id="3336" name=""/>
              <p:cNvSpPr/>
              <p:nvPr/>
            </p:nvSpPr>
            <p:spPr>
              <a:xfrm>
                <a:off x="3606840" y="2036880"/>
                <a:ext cx="558720" cy="5587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3600360" y="2030400"/>
                <a:ext cx="287280" cy="573120"/>
              </a:xfrm>
              <a:custGeom>
                <a:avLst/>
                <a:gdLst/>
                <a:ahLst/>
                <a:rect l="l" t="t" r="r" b="b"/>
                <a:pathLst>
                  <a:path w="181" h="361">
                    <a:moveTo>
                      <a:pt x="180" y="0"/>
                    </a:moveTo>
                    <a:lnTo>
                      <a:pt x="0" y="0"/>
                    </a:lnTo>
                    <a:lnTo>
                      <a:pt x="0" y="360"/>
                    </a:lnTo>
                    <a:lnTo>
                      <a:pt x="180" y="36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338" name=""/>
            <p:cNvSpPr/>
            <p:nvPr/>
          </p:nvSpPr>
          <p:spPr>
            <a:xfrm>
              <a:off x="3413160" y="2125800"/>
              <a:ext cx="18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413160" y="2506680"/>
              <a:ext cx="18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40" name=""/>
          <p:cNvGrpSpPr/>
          <p:nvPr/>
        </p:nvGrpSpPr>
        <p:grpSpPr>
          <a:xfrm>
            <a:off x="2017080" y="2793600"/>
            <a:ext cx="1715400" cy="1337040"/>
            <a:chOff x="2017080" y="2793600"/>
            <a:chExt cx="1715400" cy="1337040"/>
          </a:xfrm>
        </p:grpSpPr>
        <p:sp>
          <p:nvSpPr>
            <p:cNvPr id="3341" name=""/>
            <p:cNvSpPr/>
            <p:nvPr/>
          </p:nvSpPr>
          <p:spPr>
            <a:xfrm rot="5403000">
              <a:off x="1920960" y="2890440"/>
              <a:ext cx="1335960" cy="114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8" y="5416"/>
                  </a:moveTo>
                  <a:arcTo wR="10800" hR="10800" stAng="-9005713" swAng="3597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8" y="5416"/>
                  </a:moveTo>
                  <a:arcTo wR="10800" hR="10800" stAng="-9005713" swAng="3597547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 rot="16203000">
              <a:off x="2494080" y="2890800"/>
              <a:ext cx="1332720" cy="114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4" y="0"/>
                  </a:moveTo>
                  <a:arcTo wR="10800" hR="10800" stAng="-5408185" swAng="36299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4" y="0"/>
                  </a:moveTo>
                  <a:arcTo wR="10800" hR="10800" stAng="-5408185" swAng="362992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 rot="16203000">
              <a:off x="2780640" y="3184200"/>
              <a:ext cx="177840" cy="559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 rot="16203000">
              <a:off x="2822040" y="3223800"/>
              <a:ext cx="96840" cy="573120"/>
            </a:xfrm>
            <a:custGeom>
              <a:avLst/>
              <a:gdLst/>
              <a:ahLst/>
              <a:rect l="l" t="t" r="r" b="b"/>
              <a:pathLst>
                <a:path w="61" h="361">
                  <a:moveTo>
                    <a:pt x="60" y="0"/>
                  </a:moveTo>
                  <a:lnTo>
                    <a:pt x="0" y="0"/>
                  </a:lnTo>
                  <a:lnTo>
                    <a:pt x="0" y="360"/>
                  </a:lnTo>
                  <a:lnTo>
                    <a:pt x="60" y="3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45" name=""/>
          <p:cNvSpPr/>
          <p:nvPr/>
        </p:nvSpPr>
        <p:spPr>
          <a:xfrm flipV="1">
            <a:off x="2871720" y="2701440"/>
            <a:ext cx="0" cy="187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rot="16203000">
            <a:off x="2830680" y="2803320"/>
            <a:ext cx="82440" cy="824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47" name=""/>
          <p:cNvGrpSpPr/>
          <p:nvPr/>
        </p:nvGrpSpPr>
        <p:grpSpPr>
          <a:xfrm>
            <a:off x="1582560" y="2030400"/>
            <a:ext cx="752400" cy="573120"/>
            <a:chOff x="1582560" y="2030400"/>
            <a:chExt cx="752400" cy="573120"/>
          </a:xfrm>
        </p:grpSpPr>
        <p:grpSp>
          <p:nvGrpSpPr>
            <p:cNvPr id="3348" name=""/>
            <p:cNvGrpSpPr/>
            <p:nvPr/>
          </p:nvGrpSpPr>
          <p:grpSpPr>
            <a:xfrm>
              <a:off x="1582560" y="2030400"/>
              <a:ext cx="565200" cy="573120"/>
              <a:chOff x="1582560" y="2030400"/>
              <a:chExt cx="565200" cy="573120"/>
            </a:xfrm>
          </p:grpSpPr>
          <p:sp>
            <p:nvSpPr>
              <p:cNvPr id="3349" name=""/>
              <p:cNvSpPr/>
              <p:nvPr/>
            </p:nvSpPr>
            <p:spPr>
              <a:xfrm rot="10800000">
                <a:off x="1582560" y="2038320"/>
                <a:ext cx="558720" cy="5587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rot="10800000">
                <a:off x="1860480" y="2030400"/>
                <a:ext cx="287280" cy="573120"/>
              </a:xfrm>
              <a:custGeom>
                <a:avLst/>
                <a:gdLst/>
                <a:ahLst/>
                <a:rect l="l" t="t" r="r" b="b"/>
                <a:pathLst>
                  <a:path w="181" h="361">
                    <a:moveTo>
                      <a:pt x="180" y="0"/>
                    </a:moveTo>
                    <a:lnTo>
                      <a:pt x="0" y="0"/>
                    </a:lnTo>
                    <a:lnTo>
                      <a:pt x="0" y="360"/>
                    </a:lnTo>
                    <a:lnTo>
                      <a:pt x="180" y="36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351" name=""/>
            <p:cNvSpPr/>
            <p:nvPr/>
          </p:nvSpPr>
          <p:spPr>
            <a:xfrm flipH="1">
              <a:off x="2147760" y="2508120"/>
              <a:ext cx="18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 flipH="1">
              <a:off x="2147760" y="2127240"/>
              <a:ext cx="18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4110840" y="1424160"/>
            <a:ext cx="387000" cy="254880"/>
            <a:chOff x="4110840" y="1424160"/>
            <a:chExt cx="387000" cy="254880"/>
          </a:xfrm>
        </p:grpSpPr>
        <p:sp>
          <p:nvSpPr>
            <p:cNvPr id="3354" name=""/>
            <p:cNvSpPr/>
            <p:nvPr/>
          </p:nvSpPr>
          <p:spPr>
            <a:xfrm rot="16093800">
              <a:off x="4111560" y="1522080"/>
              <a:ext cx="63360" cy="633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 rot="16093800">
              <a:off x="4200840" y="1380960"/>
              <a:ext cx="244440" cy="34128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cxnSp>
        <p:nvCxnSpPr>
          <p:cNvPr id="3356" name=""/>
          <p:cNvCxnSpPr/>
          <p:nvPr/>
        </p:nvCxnSpPr>
        <p:spPr>
          <a:xfrm>
            <a:off x="752040" y="1555920"/>
            <a:ext cx="1105560" cy="2160"/>
          </a:xfrm>
          <a:prstGeom prst="bentConnector3">
            <a:avLst>
              <a:gd name="adj1" fmla="val 50000"/>
            </a:avLst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357" name=""/>
          <p:cNvCxnSpPr>
            <a:endCxn id="3350" idx="0"/>
          </p:cNvCxnSpPr>
          <p:nvPr/>
        </p:nvCxnSpPr>
        <p:spPr>
          <a:xfrm>
            <a:off x="1856880" y="1560240"/>
            <a:ext cx="1080" cy="47052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358" name=""/>
          <p:cNvSpPr/>
          <p:nvPr/>
        </p:nvSpPr>
        <p:spPr>
          <a:xfrm flipH="1">
            <a:off x="3375000" y="1560600"/>
            <a:ext cx="7192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1835280" y="1560600"/>
            <a:ext cx="498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360" name=""/>
          <p:cNvCxnSpPr>
            <a:stCxn id="3359" idx="0"/>
            <a:endCxn id="3338" idx="0"/>
          </p:cNvCxnSpPr>
          <p:nvPr/>
        </p:nvCxnSpPr>
        <p:spPr>
          <a:xfrm>
            <a:off x="2333160" y="1560600"/>
            <a:ext cx="1080360" cy="56592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361" name=""/>
          <p:cNvCxnSpPr>
            <a:stCxn id="3352" idx="0"/>
            <a:endCxn id="3358" idx="0"/>
          </p:cNvCxnSpPr>
          <p:nvPr/>
        </p:nvCxnSpPr>
        <p:spPr>
          <a:xfrm flipV="1">
            <a:off x="2333160" y="1560240"/>
            <a:ext cx="1043640" cy="5673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362" name=""/>
          <p:cNvCxnSpPr>
            <a:stCxn id="3351" idx="0"/>
            <a:endCxn id="3339" idx="0"/>
          </p:cNvCxnSpPr>
          <p:nvPr/>
        </p:nvCxnSpPr>
        <p:spPr>
          <a:xfrm flipV="1">
            <a:off x="2333160" y="2506320"/>
            <a:ext cx="1080360" cy="21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363" name=""/>
          <p:cNvSpPr/>
          <p:nvPr/>
        </p:nvSpPr>
        <p:spPr>
          <a:xfrm flipV="1">
            <a:off x="2876400" y="2518920"/>
            <a:ext cx="0" cy="1890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364" name=""/>
          <p:cNvCxnSpPr/>
          <p:nvPr/>
        </p:nvCxnSpPr>
        <p:spPr>
          <a:xfrm>
            <a:off x="3885840" y="1552320"/>
            <a:ext cx="1080" cy="47052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365" name=""/>
          <p:cNvCxnSpPr>
            <a:stCxn id="3336" idx="6"/>
          </p:cNvCxnSpPr>
          <p:nvPr/>
        </p:nvCxnSpPr>
        <p:spPr>
          <a:xfrm>
            <a:off x="4165200" y="2315880"/>
            <a:ext cx="926280" cy="6840"/>
          </a:xfrm>
          <a:prstGeom prst="straightConnector1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</p:cxnSp>
      <p:cxnSp>
        <p:nvCxnSpPr>
          <p:cNvPr id="3366" name=""/>
          <p:cNvCxnSpPr>
            <a:endCxn id="3349" idx="6"/>
          </p:cNvCxnSpPr>
          <p:nvPr/>
        </p:nvCxnSpPr>
        <p:spPr>
          <a:xfrm>
            <a:off x="752040" y="2306520"/>
            <a:ext cx="826200" cy="8640"/>
          </a:xfrm>
          <a:prstGeom prst="straightConnector1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</p:cxnSp>
      <p:cxnSp>
        <p:nvCxnSpPr>
          <p:cNvPr id="3367" name=""/>
          <p:cNvCxnSpPr>
            <a:stCxn id="3355" idx="3"/>
          </p:cNvCxnSpPr>
          <p:nvPr/>
        </p:nvCxnSpPr>
        <p:spPr>
          <a:xfrm>
            <a:off x="4490640" y="1545840"/>
            <a:ext cx="578520" cy="39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368" name=""/>
          <p:cNvSpPr/>
          <p:nvPr/>
        </p:nvSpPr>
        <p:spPr>
          <a:xfrm>
            <a:off x="1214280" y="2322360"/>
            <a:ext cx="0" cy="13608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4456080" y="2332080"/>
            <a:ext cx="0" cy="1360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2997360" y="3359160"/>
            <a:ext cx="0" cy="331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2760840" y="3355920"/>
            <a:ext cx="0" cy="331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372" name=""/>
          <p:cNvCxnSpPr>
            <a:stCxn id="3368" idx="0"/>
            <a:endCxn id="3371" idx="0"/>
          </p:cNvCxnSpPr>
          <p:nvPr/>
        </p:nvCxnSpPr>
        <p:spPr>
          <a:xfrm>
            <a:off x="1214280" y="3681000"/>
            <a:ext cx="1547280" cy="540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373" name=""/>
          <p:cNvCxnSpPr>
            <a:stCxn id="3370" idx="0"/>
            <a:endCxn id="3369" idx="0"/>
          </p:cNvCxnSpPr>
          <p:nvPr/>
        </p:nvCxnSpPr>
        <p:spPr>
          <a:xfrm>
            <a:off x="2997360" y="3688920"/>
            <a:ext cx="1459440" cy="252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374" name=""/>
          <p:cNvSpPr/>
          <p:nvPr/>
        </p:nvSpPr>
        <p:spPr>
          <a:xfrm>
            <a:off x="600480" y="14907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570600" y="2284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4728960" y="22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4743000" y="1467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2703960" y="2111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79" name=""/>
          <p:cNvGrpSpPr/>
          <p:nvPr/>
        </p:nvGrpSpPr>
        <p:grpSpPr>
          <a:xfrm>
            <a:off x="5352120" y="984240"/>
            <a:ext cx="3723480" cy="2627280"/>
            <a:chOff x="5352120" y="984240"/>
            <a:chExt cx="3723480" cy="2627280"/>
          </a:xfrm>
        </p:grpSpPr>
        <p:sp>
          <p:nvSpPr>
            <p:cNvPr id="3380" name=""/>
            <p:cNvSpPr/>
            <p:nvPr/>
          </p:nvSpPr>
          <p:spPr>
            <a:xfrm>
              <a:off x="6491160" y="1936800"/>
              <a:ext cx="0" cy="433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H="1">
              <a:off x="5886000" y="26193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V="1">
              <a:off x="5597280" y="18921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919840" y="1660680"/>
              <a:ext cx="3981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735760" y="1859040"/>
              <a:ext cx="0" cy="511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8062560" y="26193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8074080" y="1660680"/>
              <a:ext cx="4316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H="1">
              <a:off x="6816240" y="1847880"/>
              <a:ext cx="738360" cy="655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6683400" y="1870200"/>
              <a:ext cx="771480" cy="633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8221680" y="154152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978520" y="154152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384880" y="23702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6288480" y="143820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6217200" y="2370240"/>
              <a:ext cx="6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352120" y="144144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07000" y="237024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488080" y="14382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8449200" y="237024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539840" y="144144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6886800" y="984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6918480" y="27133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6958080" y="3302280"/>
              <a:ext cx="309240" cy="3092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99"/>
                  </a:solidFill>
                  <a:latin typeface="Arial"/>
                </a:rPr>
                <a:t>OR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flipV="1">
              <a:off x="7097760" y="3101760"/>
              <a:ext cx="0" cy="1983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6521400" y="2813040"/>
              <a:ext cx="476280" cy="54288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H="1">
              <a:off x="7219800" y="2835360"/>
              <a:ext cx="409680" cy="5097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V="1">
              <a:off x="7737480" y="18921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 flipH="1">
              <a:off x="6643440" y="1406520"/>
              <a:ext cx="387360" cy="9637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142040" y="1384560"/>
              <a:ext cx="465120" cy="98568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211880" y="168300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6769080" y="168300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5624280" y="1225800"/>
              <a:ext cx="1317960" cy="303120"/>
            </a:xfrm>
            <a:custGeom>
              <a:avLst/>
              <a:gdLst/>
              <a:ahLst/>
              <a:rect l="l" t="t" r="r" b="b"/>
              <a:pathLst>
                <a:path w="830" h="191">
                  <a:moveTo>
                    <a:pt x="0" y="191"/>
                  </a:moveTo>
                  <a:cubicBezTo>
                    <a:pt x="25" y="125"/>
                    <a:pt x="51" y="60"/>
                    <a:pt x="189" y="30"/>
                  </a:cubicBezTo>
                  <a:cubicBezTo>
                    <a:pt x="327" y="0"/>
                    <a:pt x="799" y="2"/>
                    <a:pt x="830" y="10"/>
                  </a:cubicBezTo>
                </a:path>
              </a:pathLst>
            </a:custGeom>
            <a:noFill/>
            <a:ln w="12600">
              <a:solidFill>
                <a:srgbClr val="ff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342200" y="1241640"/>
              <a:ext cx="1373040" cy="287280"/>
            </a:xfrm>
            <a:custGeom>
              <a:avLst/>
              <a:gdLst/>
              <a:ahLst/>
              <a:rect l="l" t="t" r="r" b="b"/>
              <a:pathLst>
                <a:path w="865" h="181">
                  <a:moveTo>
                    <a:pt x="865" y="181"/>
                  </a:moveTo>
                  <a:cubicBezTo>
                    <a:pt x="863" y="122"/>
                    <a:pt x="862" y="64"/>
                    <a:pt x="718" y="34"/>
                  </a:cubicBezTo>
                  <a:cubicBezTo>
                    <a:pt x="574" y="4"/>
                    <a:pt x="120" y="7"/>
                    <a:pt x="0" y="0"/>
                  </a:cubicBezTo>
                </a:path>
              </a:pathLst>
            </a:custGeom>
            <a:noFill/>
            <a:ln w="12600">
              <a:solidFill>
                <a:srgbClr val="ff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 flipV="1">
              <a:off x="7108920" y="1384200"/>
              <a:ext cx="0" cy="14065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13" name=""/>
          <p:cNvGrpSpPr/>
          <p:nvPr/>
        </p:nvGrpSpPr>
        <p:grpSpPr>
          <a:xfrm>
            <a:off x="5194440" y="3741840"/>
            <a:ext cx="3916080" cy="2426760"/>
            <a:chOff x="5194440" y="3741840"/>
            <a:chExt cx="3916080" cy="2426760"/>
          </a:xfrm>
        </p:grpSpPr>
        <p:sp>
          <p:nvSpPr>
            <p:cNvPr id="3414" name=""/>
            <p:cNvSpPr/>
            <p:nvPr/>
          </p:nvSpPr>
          <p:spPr>
            <a:xfrm>
              <a:off x="5418000" y="51274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6321240" y="419544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6250320" y="5127480"/>
              <a:ext cx="6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5385240" y="41986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440120" y="512748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521200" y="419544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8482680" y="512748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7572960" y="419868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919560" y="3741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951240" y="5470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424" name=""/>
            <p:cNvCxnSpPr>
              <a:stCxn id="3418" idx="2"/>
              <a:endCxn id="3423" idx="3"/>
            </p:cNvCxnSpPr>
            <p:nvPr/>
          </p:nvCxnSpPr>
          <p:spPr>
            <a:xfrm rot="5400000">
              <a:off x="7531200" y="5458320"/>
              <a:ext cx="114480" cy="36720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425" name=""/>
            <p:cNvCxnSpPr>
              <a:stCxn id="3416" idx="2"/>
              <a:endCxn id="3423" idx="1"/>
            </p:cNvCxnSpPr>
            <p:nvPr/>
          </p:nvCxnSpPr>
          <p:spPr>
            <a:xfrm flipH="1" rot="16200000">
              <a:off x="6700680" y="5449320"/>
              <a:ext cx="114480" cy="38448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426" name=""/>
            <p:cNvCxnSpPr>
              <a:stCxn id="3418" idx="2"/>
              <a:endCxn id="3414" idx="2"/>
            </p:cNvCxnSpPr>
            <p:nvPr/>
          </p:nvCxnSpPr>
          <p:spPr>
            <a:xfrm rot="5400000">
              <a:off x="6707520" y="4521600"/>
              <a:ext cx="1800" cy="2127600"/>
            </a:xfrm>
            <a:prstGeom prst="curvedConnector5">
              <a:avLst>
                <a:gd name="adj1" fmla="val 33075000"/>
                <a:gd name="adj2" fmla="val 49991"/>
                <a:gd name="adj3" fmla="val 33075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427" name=""/>
            <p:cNvCxnSpPr>
              <a:stCxn id="3423" idx="0"/>
              <a:endCxn id="3415" idx="3"/>
            </p:cNvCxnSpPr>
            <p:nvPr/>
          </p:nvCxnSpPr>
          <p:spPr>
            <a:xfrm flipV="1" rot="16200000">
              <a:off x="6491160" y="4782960"/>
              <a:ext cx="1046520" cy="32724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428" name=""/>
            <p:cNvCxnSpPr>
              <a:stCxn id="3423" idx="0"/>
              <a:endCxn id="3420" idx="0"/>
            </p:cNvCxnSpPr>
            <p:nvPr/>
          </p:nvCxnSpPr>
          <p:spPr>
            <a:xfrm flipH="1" flipV="1" rot="5400000">
              <a:off x="7799760" y="4505040"/>
              <a:ext cx="342720" cy="1586520"/>
            </a:xfrm>
            <a:prstGeom prst="curvedConnector5">
              <a:avLst>
                <a:gd name="adj1" fmla="val 166771"/>
                <a:gd name="adj2" fmla="val 50000"/>
                <a:gd name="adj3" fmla="val 166771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429" name=""/>
            <p:cNvSpPr/>
            <p:nvPr/>
          </p:nvSpPr>
          <p:spPr>
            <a:xfrm>
              <a:off x="5194440" y="3841560"/>
              <a:ext cx="3916080" cy="23270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AF10-BEC5-40FD-B324-124C620948C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T implemen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431" name=""/>
          <p:cNvGrpSpPr/>
          <p:nvPr/>
        </p:nvGrpSpPr>
        <p:grpSpPr>
          <a:xfrm>
            <a:off x="570600" y="1411560"/>
            <a:ext cx="4644000" cy="2706480"/>
            <a:chOff x="570600" y="1411560"/>
            <a:chExt cx="4644000" cy="2706480"/>
          </a:xfrm>
        </p:grpSpPr>
        <p:grpSp>
          <p:nvGrpSpPr>
            <p:cNvPr id="3432" name=""/>
            <p:cNvGrpSpPr/>
            <p:nvPr/>
          </p:nvGrpSpPr>
          <p:grpSpPr>
            <a:xfrm>
              <a:off x="3413160" y="2017440"/>
              <a:ext cx="752400" cy="573120"/>
              <a:chOff x="3413160" y="2017440"/>
              <a:chExt cx="752400" cy="573120"/>
            </a:xfrm>
          </p:grpSpPr>
          <p:grpSp>
            <p:nvGrpSpPr>
              <p:cNvPr id="3433" name=""/>
              <p:cNvGrpSpPr/>
              <p:nvPr/>
            </p:nvGrpSpPr>
            <p:grpSpPr>
              <a:xfrm>
                <a:off x="3600360" y="2017440"/>
                <a:ext cx="565200" cy="573120"/>
                <a:chOff x="3600360" y="2017440"/>
                <a:chExt cx="565200" cy="573120"/>
              </a:xfrm>
            </p:grpSpPr>
            <p:sp>
              <p:nvSpPr>
                <p:cNvPr id="3434" name=""/>
                <p:cNvSpPr/>
                <p:nvPr/>
              </p:nvSpPr>
              <p:spPr>
                <a:xfrm>
                  <a:off x="3606840" y="2023920"/>
                  <a:ext cx="558720" cy="5587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3600360" y="2017440"/>
                  <a:ext cx="287280" cy="573120"/>
                </a:xfrm>
                <a:custGeom>
                  <a:avLst/>
                  <a:gdLst/>
                  <a:ahLst/>
                  <a:rect l="l" t="t" r="r" b="b"/>
                  <a:pathLst>
                    <a:path w="181" h="361">
                      <a:moveTo>
                        <a:pt x="180" y="0"/>
                      </a:moveTo>
                      <a:lnTo>
                        <a:pt x="0" y="0"/>
                      </a:lnTo>
                      <a:lnTo>
                        <a:pt x="0" y="360"/>
                      </a:lnTo>
                      <a:lnTo>
                        <a:pt x="180" y="360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6" name=""/>
              <p:cNvSpPr/>
              <p:nvPr/>
            </p:nvSpPr>
            <p:spPr>
              <a:xfrm>
                <a:off x="3413160" y="2112840"/>
                <a:ext cx="18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3413160" y="2493720"/>
                <a:ext cx="18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38" name=""/>
            <p:cNvGrpSpPr/>
            <p:nvPr/>
          </p:nvGrpSpPr>
          <p:grpSpPr>
            <a:xfrm>
              <a:off x="2017080" y="2781000"/>
              <a:ext cx="1715400" cy="1337040"/>
              <a:chOff x="2017080" y="2781000"/>
              <a:chExt cx="1715400" cy="1337040"/>
            </a:xfrm>
          </p:grpSpPr>
          <p:sp>
            <p:nvSpPr>
              <p:cNvPr id="3439" name=""/>
              <p:cNvSpPr/>
              <p:nvPr/>
            </p:nvSpPr>
            <p:spPr>
              <a:xfrm rot="5403000">
                <a:off x="1920960" y="2877840"/>
                <a:ext cx="1335960" cy="114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38" y="5416"/>
                    </a:moveTo>
                    <a:arcTo wR="10800" hR="10800" stAng="-9005713" swAng="35975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38" y="5416"/>
                    </a:moveTo>
                    <a:arcTo wR="10800" hR="10800" stAng="-9005713" swAng="3597547"/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rot="16203000">
                <a:off x="2494080" y="2878200"/>
                <a:ext cx="1332720" cy="114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4" y="0"/>
                    </a:moveTo>
                    <a:arcTo wR="10800" hR="10800" stAng="-5408185" swAng="36299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4" y="0"/>
                    </a:moveTo>
                    <a:arcTo wR="10800" hR="10800" stAng="-5408185" swAng="3629923"/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 rot="16203000">
                <a:off x="2780640" y="3171600"/>
                <a:ext cx="177840" cy="559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 rot="16203000">
                <a:off x="2822040" y="3211200"/>
                <a:ext cx="96840" cy="573120"/>
              </a:xfrm>
              <a:custGeom>
                <a:avLst/>
                <a:gdLst/>
                <a:ahLst/>
                <a:rect l="l" t="t" r="r" b="b"/>
                <a:pathLst>
                  <a:path w="61" h="361">
                    <a:moveTo>
                      <a:pt x="60" y="0"/>
                    </a:moveTo>
                    <a:lnTo>
                      <a:pt x="0" y="0"/>
                    </a:lnTo>
                    <a:lnTo>
                      <a:pt x="0" y="360"/>
                    </a:lnTo>
                    <a:lnTo>
                      <a:pt x="60" y="3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443" name=""/>
            <p:cNvSpPr/>
            <p:nvPr/>
          </p:nvSpPr>
          <p:spPr>
            <a:xfrm flipV="1">
              <a:off x="2871720" y="2689200"/>
              <a:ext cx="0" cy="187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rot="16203000">
              <a:off x="2830680" y="2790360"/>
              <a:ext cx="82440" cy="8244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445" name=""/>
            <p:cNvGrpSpPr/>
            <p:nvPr/>
          </p:nvGrpSpPr>
          <p:grpSpPr>
            <a:xfrm>
              <a:off x="1582560" y="2017440"/>
              <a:ext cx="752400" cy="573120"/>
              <a:chOff x="1582560" y="2017440"/>
              <a:chExt cx="752400" cy="573120"/>
            </a:xfrm>
          </p:grpSpPr>
          <p:grpSp>
            <p:nvGrpSpPr>
              <p:cNvPr id="3446" name=""/>
              <p:cNvGrpSpPr/>
              <p:nvPr/>
            </p:nvGrpSpPr>
            <p:grpSpPr>
              <a:xfrm>
                <a:off x="1582560" y="2017440"/>
                <a:ext cx="565200" cy="573120"/>
                <a:chOff x="1582560" y="2017440"/>
                <a:chExt cx="565200" cy="573120"/>
              </a:xfrm>
            </p:grpSpPr>
            <p:sp>
              <p:nvSpPr>
                <p:cNvPr id="3447" name=""/>
                <p:cNvSpPr/>
                <p:nvPr/>
              </p:nvSpPr>
              <p:spPr>
                <a:xfrm rot="10800000">
                  <a:off x="1582560" y="2025360"/>
                  <a:ext cx="558720" cy="5587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 rot="10800000">
                  <a:off x="1860480" y="2017440"/>
                  <a:ext cx="287280" cy="573120"/>
                </a:xfrm>
                <a:custGeom>
                  <a:avLst/>
                  <a:gdLst/>
                  <a:ahLst/>
                  <a:rect l="l" t="t" r="r" b="b"/>
                  <a:pathLst>
                    <a:path w="181" h="361">
                      <a:moveTo>
                        <a:pt x="180" y="0"/>
                      </a:moveTo>
                      <a:lnTo>
                        <a:pt x="0" y="0"/>
                      </a:lnTo>
                      <a:lnTo>
                        <a:pt x="0" y="360"/>
                      </a:lnTo>
                      <a:lnTo>
                        <a:pt x="180" y="360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9" name=""/>
              <p:cNvSpPr/>
              <p:nvPr/>
            </p:nvSpPr>
            <p:spPr>
              <a:xfrm flipH="1">
                <a:off x="2147760" y="2495160"/>
                <a:ext cx="18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 flipH="1">
                <a:off x="2147760" y="2114280"/>
                <a:ext cx="18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51" name=""/>
            <p:cNvGrpSpPr/>
            <p:nvPr/>
          </p:nvGrpSpPr>
          <p:grpSpPr>
            <a:xfrm>
              <a:off x="4110840" y="1411560"/>
              <a:ext cx="387000" cy="254880"/>
              <a:chOff x="4110840" y="1411560"/>
              <a:chExt cx="387000" cy="254880"/>
            </a:xfrm>
          </p:grpSpPr>
          <p:sp>
            <p:nvSpPr>
              <p:cNvPr id="3452" name=""/>
              <p:cNvSpPr/>
              <p:nvPr/>
            </p:nvSpPr>
            <p:spPr>
              <a:xfrm rot="16093800">
                <a:off x="4111560" y="1509480"/>
                <a:ext cx="63360" cy="6336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 rot="16093800">
                <a:off x="4200840" y="1368360"/>
                <a:ext cx="244440" cy="341280"/>
              </a:xfrm>
              <a:prstGeom prst="triangle">
                <a:avLst>
                  <a:gd name="adj" fmla="val 50000"/>
                </a:avLst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cxnSp>
          <p:nvCxnSpPr>
            <p:cNvPr id="3454" name=""/>
            <p:cNvCxnSpPr/>
            <p:nvPr/>
          </p:nvCxnSpPr>
          <p:spPr>
            <a:xfrm>
              <a:off x="752040" y="1542960"/>
              <a:ext cx="1105560" cy="21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455" name=""/>
            <p:cNvCxnSpPr>
              <a:endCxn id="3448" idx="0"/>
            </p:cNvCxnSpPr>
            <p:nvPr/>
          </p:nvCxnSpPr>
          <p:spPr>
            <a:xfrm>
              <a:off x="1856880" y="1547280"/>
              <a:ext cx="1080" cy="4705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3456" name=""/>
            <p:cNvSpPr/>
            <p:nvPr/>
          </p:nvSpPr>
          <p:spPr>
            <a:xfrm flipH="1">
              <a:off x="3375000" y="1547640"/>
              <a:ext cx="7192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1835280" y="1547640"/>
              <a:ext cx="4982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458" name=""/>
            <p:cNvCxnSpPr>
              <a:stCxn id="3457" idx="0"/>
              <a:endCxn id="3436" idx="0"/>
            </p:cNvCxnSpPr>
            <p:nvPr/>
          </p:nvCxnSpPr>
          <p:spPr>
            <a:xfrm>
              <a:off x="2333160" y="1547640"/>
              <a:ext cx="1080360" cy="5659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459" name=""/>
            <p:cNvCxnSpPr>
              <a:stCxn id="3450" idx="0"/>
              <a:endCxn id="3456" idx="0"/>
            </p:cNvCxnSpPr>
            <p:nvPr/>
          </p:nvCxnSpPr>
          <p:spPr>
            <a:xfrm flipV="1">
              <a:off x="2333160" y="1547280"/>
              <a:ext cx="1043640" cy="56736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460" name=""/>
            <p:cNvCxnSpPr>
              <a:stCxn id="3449" idx="0"/>
              <a:endCxn id="3437" idx="0"/>
            </p:cNvCxnSpPr>
            <p:nvPr/>
          </p:nvCxnSpPr>
          <p:spPr>
            <a:xfrm flipV="1">
              <a:off x="2333160" y="2493000"/>
              <a:ext cx="1080360" cy="25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3461" name=""/>
            <p:cNvSpPr/>
            <p:nvPr/>
          </p:nvSpPr>
          <p:spPr>
            <a:xfrm flipV="1">
              <a:off x="2876400" y="2506680"/>
              <a:ext cx="0" cy="188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462" name=""/>
            <p:cNvCxnSpPr/>
            <p:nvPr/>
          </p:nvCxnSpPr>
          <p:spPr>
            <a:xfrm>
              <a:off x="3885840" y="1539360"/>
              <a:ext cx="1080" cy="4705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463" name=""/>
            <p:cNvCxnSpPr>
              <a:stCxn id="3434" idx="6"/>
            </p:cNvCxnSpPr>
            <p:nvPr/>
          </p:nvCxnSpPr>
          <p:spPr>
            <a:xfrm>
              <a:off x="4165200" y="2303280"/>
              <a:ext cx="926280" cy="720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464" name=""/>
            <p:cNvCxnSpPr>
              <a:endCxn id="3447" idx="6"/>
            </p:cNvCxnSpPr>
            <p:nvPr/>
          </p:nvCxnSpPr>
          <p:spPr>
            <a:xfrm>
              <a:off x="752040" y="2293920"/>
              <a:ext cx="826200" cy="864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</p:cxnSp>
        <p:cxnSp>
          <p:nvCxnSpPr>
            <p:cNvPr id="3465" name=""/>
            <p:cNvCxnSpPr>
              <a:stCxn id="3453" idx="3"/>
            </p:cNvCxnSpPr>
            <p:nvPr/>
          </p:nvCxnSpPr>
          <p:spPr>
            <a:xfrm>
              <a:off x="4490640" y="1533600"/>
              <a:ext cx="578520" cy="360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3466" name=""/>
            <p:cNvSpPr/>
            <p:nvPr/>
          </p:nvSpPr>
          <p:spPr>
            <a:xfrm>
              <a:off x="1214280" y="2309760"/>
              <a:ext cx="0" cy="1360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4456080" y="2319120"/>
              <a:ext cx="0" cy="1360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997360" y="3346200"/>
              <a:ext cx="0" cy="3319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2760840" y="3343320"/>
              <a:ext cx="0" cy="331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470" name=""/>
            <p:cNvCxnSpPr>
              <a:stCxn id="3466" idx="0"/>
              <a:endCxn id="3469" idx="0"/>
            </p:cNvCxnSpPr>
            <p:nvPr/>
          </p:nvCxnSpPr>
          <p:spPr>
            <a:xfrm>
              <a:off x="1214280" y="3668400"/>
              <a:ext cx="1547280" cy="540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471" name=""/>
            <p:cNvCxnSpPr>
              <a:stCxn id="3468" idx="0"/>
              <a:endCxn id="3467" idx="0"/>
            </p:cNvCxnSpPr>
            <p:nvPr/>
          </p:nvCxnSpPr>
          <p:spPr>
            <a:xfrm>
              <a:off x="2997360" y="3676680"/>
              <a:ext cx="1459440" cy="216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3472" name=""/>
            <p:cNvSpPr/>
            <p:nvPr/>
          </p:nvSpPr>
          <p:spPr>
            <a:xfrm>
              <a:off x="600480" y="14778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570600" y="22716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4728960" y="22636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4743000" y="145404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2703960" y="2098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77" name=""/>
          <p:cNvGrpSpPr/>
          <p:nvPr/>
        </p:nvGrpSpPr>
        <p:grpSpPr>
          <a:xfrm>
            <a:off x="5352120" y="971640"/>
            <a:ext cx="3723480" cy="2627280"/>
            <a:chOff x="5352120" y="971640"/>
            <a:chExt cx="3723480" cy="2627280"/>
          </a:xfrm>
        </p:grpSpPr>
        <p:sp>
          <p:nvSpPr>
            <p:cNvPr id="3478" name=""/>
            <p:cNvSpPr/>
            <p:nvPr/>
          </p:nvSpPr>
          <p:spPr>
            <a:xfrm>
              <a:off x="6491160" y="1924200"/>
              <a:ext cx="0" cy="433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>
              <a:off x="5886000" y="26067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V="1">
              <a:off x="5597280" y="18795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5919840" y="1648080"/>
              <a:ext cx="3981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8735760" y="1846440"/>
              <a:ext cx="0" cy="511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H="1">
              <a:off x="8062560" y="26067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8074080" y="1648080"/>
              <a:ext cx="4316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H="1">
              <a:off x="6816240" y="1835280"/>
              <a:ext cx="738360" cy="655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683400" y="1857600"/>
              <a:ext cx="771480" cy="633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221680" y="152892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5978520" y="152892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5384880" y="23576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288480" y="142560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217200" y="2357640"/>
              <a:ext cx="6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5352120" y="142884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407000" y="235764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8488080" y="14256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8449200" y="235764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539840" y="142884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886800" y="9716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918480" y="2700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958080" y="3289680"/>
              <a:ext cx="309240" cy="3092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99"/>
                  </a:solidFill>
                  <a:latin typeface="Arial"/>
                </a:rPr>
                <a:t>OR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 flipV="1">
              <a:off x="7097760" y="3089160"/>
              <a:ext cx="0" cy="1983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6521400" y="2800440"/>
              <a:ext cx="476280" cy="54288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 flipH="1">
              <a:off x="7219800" y="2822760"/>
              <a:ext cx="409680" cy="5097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 flipV="1">
              <a:off x="7737480" y="18795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6643440" y="1393920"/>
              <a:ext cx="387360" cy="9637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142040" y="1371960"/>
              <a:ext cx="465120" cy="98568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211880" y="167040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6769080" y="167040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624280" y="1213200"/>
              <a:ext cx="1317960" cy="303120"/>
            </a:xfrm>
            <a:custGeom>
              <a:avLst/>
              <a:gdLst/>
              <a:ahLst/>
              <a:rect l="l" t="t" r="r" b="b"/>
              <a:pathLst>
                <a:path w="830" h="191">
                  <a:moveTo>
                    <a:pt x="0" y="191"/>
                  </a:moveTo>
                  <a:cubicBezTo>
                    <a:pt x="25" y="125"/>
                    <a:pt x="51" y="60"/>
                    <a:pt x="189" y="30"/>
                  </a:cubicBezTo>
                  <a:cubicBezTo>
                    <a:pt x="327" y="0"/>
                    <a:pt x="799" y="2"/>
                    <a:pt x="830" y="10"/>
                  </a:cubicBezTo>
                </a:path>
              </a:pathLst>
            </a:custGeom>
            <a:noFill/>
            <a:ln w="12600">
              <a:solidFill>
                <a:srgbClr val="ff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342200" y="1229040"/>
              <a:ext cx="1373040" cy="287280"/>
            </a:xfrm>
            <a:custGeom>
              <a:avLst/>
              <a:gdLst/>
              <a:ahLst/>
              <a:rect l="l" t="t" r="r" b="b"/>
              <a:pathLst>
                <a:path w="865" h="181">
                  <a:moveTo>
                    <a:pt x="865" y="181"/>
                  </a:moveTo>
                  <a:cubicBezTo>
                    <a:pt x="863" y="122"/>
                    <a:pt x="862" y="64"/>
                    <a:pt x="718" y="34"/>
                  </a:cubicBezTo>
                  <a:cubicBezTo>
                    <a:pt x="574" y="4"/>
                    <a:pt x="120" y="7"/>
                    <a:pt x="0" y="0"/>
                  </a:cubicBezTo>
                </a:path>
              </a:pathLst>
            </a:custGeom>
            <a:noFill/>
            <a:ln w="12600">
              <a:solidFill>
                <a:srgbClr val="ff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 flipV="1">
              <a:off x="7108920" y="1371600"/>
              <a:ext cx="0" cy="14065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511" name=""/>
          <p:cNvSpPr/>
          <p:nvPr/>
        </p:nvSpPr>
        <p:spPr>
          <a:xfrm>
            <a:off x="5418360" y="51148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6321600" y="418320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6250680" y="511488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5385600" y="41860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7440480" y="51148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8521560" y="4183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8482680" y="511488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7573320" y="4186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6920280" y="3728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6951600" y="5457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521" name=""/>
          <p:cNvCxnSpPr>
            <a:stCxn id="3520" idx="0"/>
            <a:endCxn id="3517" idx="0"/>
          </p:cNvCxnSpPr>
          <p:nvPr/>
        </p:nvCxnSpPr>
        <p:spPr>
          <a:xfrm flipH="1" flipV="1" rot="5400000">
            <a:off x="7799760" y="4492800"/>
            <a:ext cx="343800" cy="1586520"/>
          </a:xfrm>
          <a:prstGeom prst="curvedConnector5">
            <a:avLst>
              <a:gd name="adj1" fmla="val 166666"/>
              <a:gd name="adj2" fmla="val 50000"/>
              <a:gd name="adj3" fmla="val 166666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22" name=""/>
          <p:cNvSpPr/>
          <p:nvPr/>
        </p:nvSpPr>
        <p:spPr>
          <a:xfrm>
            <a:off x="5194440" y="3828960"/>
            <a:ext cx="3916080" cy="2327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-34920" y="4194000"/>
            <a:ext cx="275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satisfy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rain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lay(</a:t>
            </a:r>
            <a:r>
              <a:rPr b="0" i="1" lang="en-US" sz="1800" spc="-1" strike="noStrike">
                <a:solidFill>
                  <a:srgbClr val="ff99ff"/>
                </a:solidFill>
                <a:latin typeface="Arial"/>
              </a:rPr>
              <a:t>x-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 &lt; Delay (</a:t>
            </a:r>
            <a:r>
              <a:rPr b="0" i="1" lang="en-US" sz="1800" spc="-1" strike="noStrike">
                <a:solidFill>
                  <a:srgbClr val="ffcc66"/>
                </a:solidFill>
                <a:latin typeface="Arial"/>
              </a:rPr>
              <a:t>ri+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-36360" y="4826160"/>
            <a:ext cx="540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lay(</a:t>
            </a: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lo+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) + Delay(</a:t>
            </a:r>
            <a:r>
              <a:rPr b="0" i="1" lang="en-US" sz="1800" spc="-1" strike="noStrike">
                <a:solidFill>
                  <a:srgbClr val="ff99ff"/>
                </a:solidFill>
                <a:latin typeface="Arial"/>
              </a:rPr>
              <a:t>x-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 &lt; Delay(</a:t>
            </a:r>
            <a:r>
              <a:rPr b="0" i="1" lang="en-US" sz="1800" spc="-1" strike="noStrike">
                <a:solidFill>
                  <a:srgbClr val="ffcc66"/>
                </a:solidFill>
                <a:latin typeface="Arial"/>
              </a:rPr>
              <a:t>ro+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 + Delay (</a:t>
            </a:r>
            <a:r>
              <a:rPr b="0" i="1" lang="en-US" sz="1800" spc="-1" strike="noStrike">
                <a:solidFill>
                  <a:srgbClr val="ffcc66"/>
                </a:solidFill>
                <a:latin typeface="Arial"/>
              </a:rPr>
              <a:t>ri+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0" y="5465880"/>
            <a:ext cx="540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ll constraints are either satisfied by default 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asy to satisfy by sizing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D283-C902-405A-B28F-007FFDBFF28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66"/>
                </a:solidFill>
                <a:latin typeface="Times New Roman"/>
              </a:rPr>
              <a:t>Other synthesis paradigms: outlin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ynthesis from HDL (Verilog) [Lavagno et al, Async00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ubset for asynchronous spec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ata-path/control partitio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ircuit architecture. Control gener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ynthesis from asynchronous HDL (CSP, Tangra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SP for control generation [A. Martin et al, Caltech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angram for silicon compilation [K. van Berkel et al, Philips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trol synthesis using FSMs [K. Yun, S. Nowick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urst-mode machi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mparison with ST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AA0D-809C-4811-96FB-F62F279088D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tiv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anguage-based design key enabler to synchronous logic suc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HDL as single language f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pecif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gic simulation and debug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ynth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ost-layout simul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DL must support multiple levels of abstr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C099-549C-4D16-A13D-DA9FDC2CEBE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Decompos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Acknowled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Global acknowled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Generating candid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Hazard-free signal inser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Event inse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ignal inse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43E6-9C86-4F93-B522-B47DA62DB93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"/>
          <p:cNvSpPr/>
          <p:nvPr/>
        </p:nvSpPr>
        <p:spPr>
          <a:xfrm>
            <a:off x="685800" y="1219320"/>
            <a:ext cx="77724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plitting of asynchronous control and synchronous data pat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tomated insertion of bundling del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1828800" y="3181320"/>
            <a:ext cx="1295280" cy="1523880"/>
          </a:xfrm>
          <a:prstGeom prst="rect">
            <a:avLst/>
          </a:prstGeom>
          <a:solidFill>
            <a:srgbClr val="ffcc66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UNI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5638680" y="3181320"/>
            <a:ext cx="1295640" cy="1523880"/>
          </a:xfrm>
          <a:prstGeom prst="rect">
            <a:avLst/>
          </a:prstGeom>
          <a:solidFill>
            <a:srgbClr val="ffcc66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AT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5791320" y="4933800"/>
            <a:ext cx="990360" cy="53352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dela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3124080" y="3562200"/>
            <a:ext cx="25146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4648320" y="3562200"/>
            <a:ext cx="0" cy="167652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4648320" y="5238720"/>
            <a:ext cx="11430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6781680" y="5238720"/>
            <a:ext cx="68580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 flipH="1">
            <a:off x="3733560" y="5772240"/>
            <a:ext cx="373356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3733920" y="4324320"/>
            <a:ext cx="0" cy="144792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 flipH="1">
            <a:off x="3124080" y="4324320"/>
            <a:ext cx="6098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 flipV="1">
            <a:off x="7467480" y="5238720"/>
            <a:ext cx="0" cy="53352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3660120" y="3180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4651560" y="577188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acknowledg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trol-data partitio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A4BD6-A7CB-4A74-AC48-40488972856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2743200" y="2286000"/>
            <a:ext cx="213372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/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lit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304920" y="3276720"/>
            <a:ext cx="281916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ro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3886200" y="182880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 flipH="1">
            <a:off x="1676160" y="2666880"/>
            <a:ext cx="1066680" cy="6098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1752480" y="4191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2438280" y="914400"/>
            <a:ext cx="281952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D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5867280" y="2133720"/>
            <a:ext cx="281952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thesiz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DL (da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685800" y="4648320"/>
            <a:ext cx="213372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petrif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4876920" y="2590920"/>
            <a:ext cx="9903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6248520" y="4648320"/>
            <a:ext cx="213336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ming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Synopsy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7391520" y="4191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5943600" y="5791320"/>
            <a:ext cx="281952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D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6248520" y="3505320"/>
            <a:ext cx="213336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Synopsy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7391520" y="3048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7391520" y="5334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H="1">
            <a:off x="5715000" y="4952880"/>
            <a:ext cx="533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304920" y="5791320"/>
            <a:ext cx="281916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1752480" y="5334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3581280" y="5867280"/>
            <a:ext cx="190512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l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e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3657600" y="4495680"/>
            <a:ext cx="205740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gic del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5486400" y="62485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3124080" y="62485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0474-75B7-4E14-8286-6CC0633BB69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Asynchronous Verilog subset by example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4057560" y="1257480"/>
            <a:ext cx="5219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alway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wait(start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R = SMP * 3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RES = SMP * 4 + R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if(RES[7] == 1) RES = 0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else 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if(RES[6] == 1) RES = 1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done = 1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wait(!start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done = 0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1371600" y="2514600"/>
            <a:ext cx="304920" cy="685800"/>
          </a:xfrm>
          <a:prstGeom prst="rect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2743200" y="2514600"/>
            <a:ext cx="304920" cy="685800"/>
          </a:xfrm>
          <a:prstGeom prst="rect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1371600" y="1752480"/>
            <a:ext cx="304920" cy="304920"/>
          </a:xfrm>
          <a:prstGeom prst="flowChartSummingJunction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2057400" y="2666880"/>
            <a:ext cx="304920" cy="304920"/>
          </a:xfrm>
          <a:prstGeom prst="flowChartOr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2057400" y="1752480"/>
            <a:ext cx="304920" cy="304920"/>
          </a:xfrm>
          <a:prstGeom prst="flowChartSummingJunction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2209680" y="2057400"/>
            <a:ext cx="0" cy="60948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1523880" y="2057400"/>
            <a:ext cx="0" cy="45720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2209680" y="1447920"/>
            <a:ext cx="0" cy="3045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1523880" y="1447920"/>
            <a:ext cx="0" cy="3045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1676520" y="2819520"/>
            <a:ext cx="3808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 flipH="1">
            <a:off x="990720" y="1447920"/>
            <a:ext cx="121896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1219320" y="1295280"/>
            <a:ext cx="1981080" cy="2971800"/>
          </a:xfrm>
          <a:prstGeom prst="rect">
            <a:avLst/>
          </a:prstGeom>
          <a:noFill/>
          <a:ln w="2844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 flipV="1">
            <a:off x="838080" y="3657600"/>
            <a:ext cx="1067040" cy="1584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2514600" y="3657600"/>
            <a:ext cx="1066680" cy="1584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382320" y="12949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Arial"/>
              </a:rPr>
              <a:t>SM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3505320" y="35049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228600" y="3504960"/>
            <a:ext cx="62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3506040" y="2666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Arial"/>
              </a:rPr>
              <a:t>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1905120" y="3352680"/>
            <a:ext cx="609480" cy="685800"/>
          </a:xfrm>
          <a:prstGeom prst="rect">
            <a:avLst/>
          </a:prstGeom>
          <a:solidFill>
            <a:srgbClr val="ffcc66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C.U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 flipV="1">
            <a:off x="2895480" y="3200040"/>
            <a:ext cx="0" cy="304920"/>
          </a:xfrm>
          <a:prstGeom prst="line">
            <a:avLst/>
          </a:prstGeom>
          <a:ln w="1260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 flipV="1">
            <a:off x="1523880" y="3200040"/>
            <a:ext cx="0" cy="304920"/>
          </a:xfrm>
          <a:prstGeom prst="line">
            <a:avLst/>
          </a:prstGeom>
          <a:ln w="1260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2514600" y="3505320"/>
            <a:ext cx="380880" cy="0"/>
          </a:xfrm>
          <a:prstGeom prst="line">
            <a:avLst/>
          </a:prstGeom>
          <a:ln w="1260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1523880" y="3505320"/>
            <a:ext cx="381240" cy="0"/>
          </a:xfrm>
          <a:prstGeom prst="line">
            <a:avLst/>
          </a:prstGeom>
          <a:ln w="1260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875880" y="5524560"/>
            <a:ext cx="7658280" cy="549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begin-end for sequencing, fork-join for concurrency, if-else for input choic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nly structured mix of sequencing, concurrency and choice can be specifie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B7EF-0591-469B-A774-9430391526A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Synthesis from asynchronous HD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SP based langu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SP = communicating sequential processes [Hoare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synthesis techniq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ed on program transformations [Caltech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ed on direct compilation [Philips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ols are more mature than for asynchronous synthesis from standard HD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lete shift in design methodology is 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45C2-7458-4931-B2D2-37FFB30F025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CSP for control gener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3698640" y="1128240"/>
            <a:ext cx="5143320" cy="18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fter li goes high do full handshake at the right, then complete handshake at the left and itera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106992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213660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320364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427032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533700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640404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747072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593640" y="2909880"/>
            <a:ext cx="55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li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1584360" y="2909880"/>
            <a:ext cx="70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ro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2651040" y="2909880"/>
            <a:ext cx="59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ri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3718080" y="2909880"/>
            <a:ext cx="62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ro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4784400" y="2909880"/>
            <a:ext cx="50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ri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5927760" y="2909880"/>
            <a:ext cx="66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lo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6918480" y="2909880"/>
            <a:ext cx="462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li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8061480" y="290988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lo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16" name=""/>
          <p:cNvGrpSpPr/>
          <p:nvPr/>
        </p:nvGrpSpPr>
        <p:grpSpPr>
          <a:xfrm>
            <a:off x="231840" y="3147840"/>
            <a:ext cx="763560" cy="609480"/>
            <a:chOff x="231840" y="3147840"/>
            <a:chExt cx="763560" cy="609480"/>
          </a:xfrm>
        </p:grpSpPr>
        <p:sp>
          <p:nvSpPr>
            <p:cNvPr id="3617" name=""/>
            <p:cNvSpPr/>
            <p:nvPr/>
          </p:nvSpPr>
          <p:spPr>
            <a:xfrm>
              <a:off x="233280" y="3147840"/>
              <a:ext cx="7621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rot="10800000">
              <a:off x="231840" y="3147840"/>
              <a:ext cx="76176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19" name=""/>
          <p:cNvGrpSpPr/>
          <p:nvPr/>
        </p:nvGrpSpPr>
        <p:grpSpPr>
          <a:xfrm>
            <a:off x="8154000" y="3147840"/>
            <a:ext cx="766080" cy="609480"/>
            <a:chOff x="8154000" y="3147840"/>
            <a:chExt cx="766080" cy="609480"/>
          </a:xfrm>
        </p:grpSpPr>
        <p:sp>
          <p:nvSpPr>
            <p:cNvPr id="3620" name=""/>
            <p:cNvSpPr/>
            <p:nvPr/>
          </p:nvSpPr>
          <p:spPr>
            <a:xfrm>
              <a:off x="8154000" y="3147840"/>
              <a:ext cx="7610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rot="10800000">
              <a:off x="8158680" y="3147840"/>
              <a:ext cx="761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22" name=""/>
          <p:cNvSpPr/>
          <p:nvPr/>
        </p:nvSpPr>
        <p:spPr>
          <a:xfrm>
            <a:off x="127080" y="3333600"/>
            <a:ext cx="216000" cy="216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2654280" y="3024360"/>
            <a:ext cx="520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558720" y="2976480"/>
            <a:ext cx="52092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4788000" y="3024360"/>
            <a:ext cx="520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6908760" y="2976480"/>
            <a:ext cx="52092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1560600" y="1433520"/>
            <a:ext cx="1036440" cy="11001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3018960" y="14670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r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3055680" y="1924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r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 flipH="1">
            <a:off x="2597040" y="2238480"/>
            <a:ext cx="663840" cy="1908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2597040" y="1757520"/>
            <a:ext cx="66384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1216080" y="1757520"/>
            <a:ext cx="34452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 flipH="1">
            <a:off x="1215720" y="2257560"/>
            <a:ext cx="34452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765360" y="15573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753840" y="20574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1583640" y="176688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99ff"/>
                </a:solidFill>
                <a:latin typeface="Arial"/>
              </a:rPr>
              <a:t>Q elemen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590400" y="3746520"/>
            <a:ext cx="79632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250920" y="39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1632600" y="3879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*[[li];ro+;[ri];ro-;[not ri];lo+;[not li];lo-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441360" y="4519440"/>
            <a:ext cx="8458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;” = sequencing oper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+ = ro goes high; ro- = ro goes 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[li] = wait until li is high; [not li] = wait until li is 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252720" y="38941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S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290880" y="2560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G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1914480" y="2252520"/>
            <a:ext cx="34452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7FEBB-5EA5-47E8-9B44-C74FC5B6D7C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CSP for control gener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250920" y="143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1632600" y="1365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*[[li];ro+;[ri];ro-;[not ri];lo+;[not li];lo-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441360" y="4424400"/>
            <a:ext cx="8458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flict: ro+ and ro- are not mutually exclusive (since ri+ and li+ are no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iminate conflict by state signal insertion (= CS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252720" y="1379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S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85400" y="2346480"/>
            <a:ext cx="45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duction rul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i -&gt; ro+; ri -&gt; r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t ri -&gt; lo+; not li -&gt; l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6502320" y="241128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6502320" y="311616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6426360" y="2563920"/>
            <a:ext cx="75960" cy="7596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6845400" y="2957400"/>
            <a:ext cx="6350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6743880" y="3684600"/>
            <a:ext cx="1522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55" name=""/>
          <p:cNvGrpSpPr/>
          <p:nvPr/>
        </p:nvGrpSpPr>
        <p:grpSpPr>
          <a:xfrm>
            <a:off x="6807240" y="2030400"/>
            <a:ext cx="152280" cy="152280"/>
            <a:chOff x="6807240" y="2030400"/>
            <a:chExt cx="152280" cy="152280"/>
          </a:xfrm>
        </p:grpSpPr>
        <p:sp>
          <p:nvSpPr>
            <p:cNvPr id="3656" name=""/>
            <p:cNvSpPr/>
            <p:nvPr/>
          </p:nvSpPr>
          <p:spPr>
            <a:xfrm>
              <a:off x="6807240" y="2106720"/>
              <a:ext cx="1522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883200" y="2030400"/>
              <a:ext cx="0" cy="1522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58" name=""/>
          <p:cNvSpPr/>
          <p:nvPr/>
        </p:nvSpPr>
        <p:spPr>
          <a:xfrm flipH="1">
            <a:off x="6216480" y="3324240"/>
            <a:ext cx="285840" cy="64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H="1">
            <a:off x="6121080" y="260352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60" name=""/>
          <p:cNvGrpSpPr/>
          <p:nvPr/>
        </p:nvGrpSpPr>
        <p:grpSpPr>
          <a:xfrm>
            <a:off x="7461360" y="2781360"/>
            <a:ext cx="806040" cy="328680"/>
            <a:chOff x="7461360" y="2781360"/>
            <a:chExt cx="806040" cy="328680"/>
          </a:xfrm>
        </p:grpSpPr>
        <p:sp>
          <p:nvSpPr>
            <p:cNvPr id="3661" name=""/>
            <p:cNvSpPr/>
            <p:nvPr/>
          </p:nvSpPr>
          <p:spPr>
            <a:xfrm rot="5400000">
              <a:off x="7632360" y="2784960"/>
              <a:ext cx="328680" cy="3214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7979400" y="2901960"/>
              <a:ext cx="10260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8089200" y="2954520"/>
              <a:ext cx="178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7461360" y="2954520"/>
              <a:ext cx="178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65" name=""/>
          <p:cNvSpPr/>
          <p:nvPr/>
        </p:nvSpPr>
        <p:spPr>
          <a:xfrm>
            <a:off x="5337720" y="2155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66" name=""/>
          <p:cNvGrpSpPr/>
          <p:nvPr/>
        </p:nvGrpSpPr>
        <p:grpSpPr>
          <a:xfrm>
            <a:off x="7467120" y="2304720"/>
            <a:ext cx="723960" cy="328680"/>
            <a:chOff x="7467120" y="2304720"/>
            <a:chExt cx="723960" cy="328680"/>
          </a:xfrm>
        </p:grpSpPr>
        <p:sp>
          <p:nvSpPr>
            <p:cNvPr id="3667" name=""/>
            <p:cNvSpPr/>
            <p:nvPr/>
          </p:nvSpPr>
          <p:spPr>
            <a:xfrm rot="16199400">
              <a:off x="7724880" y="232452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 rot="10799400">
              <a:off x="7633440" y="242064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H="1">
              <a:off x="7467120" y="246024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>
              <a:off x="8030520" y="246024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71" name=""/>
          <p:cNvSpPr/>
          <p:nvPr/>
        </p:nvSpPr>
        <p:spPr>
          <a:xfrm>
            <a:off x="8178840" y="2944800"/>
            <a:ext cx="660240" cy="126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8191440" y="2438280"/>
            <a:ext cx="0" cy="500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7448400" y="2457360"/>
            <a:ext cx="0" cy="500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5718600" y="30700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8443800" y="2500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7529400" y="19080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3219480" y="2000160"/>
            <a:ext cx="666720" cy="514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4743360" y="2647800"/>
            <a:ext cx="609840" cy="652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79" name=""/>
          <p:cNvGrpSpPr/>
          <p:nvPr/>
        </p:nvGrpSpPr>
        <p:grpSpPr>
          <a:xfrm>
            <a:off x="5543640" y="2438280"/>
            <a:ext cx="723960" cy="328680"/>
            <a:chOff x="5543640" y="2438280"/>
            <a:chExt cx="723960" cy="328680"/>
          </a:xfrm>
        </p:grpSpPr>
        <p:sp>
          <p:nvSpPr>
            <p:cNvPr id="3680" name=""/>
            <p:cNvSpPr/>
            <p:nvPr/>
          </p:nvSpPr>
          <p:spPr>
            <a:xfrm rot="5400000">
              <a:off x="5680800" y="245808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008760" y="255888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107400" y="261144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5543640" y="261144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84" name=""/>
          <p:cNvSpPr/>
          <p:nvPr/>
        </p:nvSpPr>
        <p:spPr>
          <a:xfrm flipV="1">
            <a:off x="6591240" y="3130560"/>
            <a:ext cx="0" cy="357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 flipV="1">
            <a:off x="6842160" y="2777760"/>
            <a:ext cx="3240" cy="3589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 flipV="1">
            <a:off x="6591240" y="2428560"/>
            <a:ext cx="0" cy="352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6591240" y="3127320"/>
            <a:ext cx="254160" cy="64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 flipV="1">
            <a:off x="6591240" y="3486240"/>
            <a:ext cx="238320" cy="1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6591240" y="2782800"/>
            <a:ext cx="25416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6591240" y="2430360"/>
            <a:ext cx="257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 flipH="1">
            <a:off x="6813720" y="3473280"/>
            <a:ext cx="2880" cy="2034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6845400" y="2235240"/>
            <a:ext cx="3240" cy="2095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2EEB1-67CB-4A08-96F3-938F867A551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flict elimin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250920" y="143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963720" y="1365120"/>
            <a:ext cx="79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*[[li];ro+;[ri];x+;[x];ro-;[not ri];lo+;[not li];x-;[not x];lo-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252720" y="1379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S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184680" y="2346480"/>
            <a:ext cx="606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duction rul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t x and li -&gt; ro+; x or not li -&gt; r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x and not ri -&gt; lo+; not x or ri -&gt; l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i -&gt; x+; not li -&gt; 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3219480" y="2000160"/>
            <a:ext cx="666720" cy="514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3762360" y="4273560"/>
            <a:ext cx="609480" cy="652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7521480" y="3956040"/>
            <a:ext cx="542880" cy="588960"/>
          </a:xfrm>
          <a:prstGeom prst="flowChartDelay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7365960" y="4440240"/>
            <a:ext cx="168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02" name=""/>
          <p:cNvGrpSpPr/>
          <p:nvPr/>
        </p:nvGrpSpPr>
        <p:grpSpPr>
          <a:xfrm>
            <a:off x="5567400" y="5222880"/>
            <a:ext cx="658800" cy="588960"/>
            <a:chOff x="5567400" y="5222880"/>
            <a:chExt cx="658800" cy="588960"/>
          </a:xfrm>
        </p:grpSpPr>
        <p:sp>
          <p:nvSpPr>
            <p:cNvPr id="3703" name=""/>
            <p:cNvSpPr/>
            <p:nvPr/>
          </p:nvSpPr>
          <p:spPr>
            <a:xfrm rot="10800000">
              <a:off x="5567400" y="5222880"/>
              <a:ext cx="542880" cy="588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 rot="10800000">
              <a:off x="6110280" y="559260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05" name=""/>
          <p:cNvSpPr/>
          <p:nvPr/>
        </p:nvSpPr>
        <p:spPr>
          <a:xfrm flipH="1" flipV="1">
            <a:off x="5403600" y="5535720"/>
            <a:ext cx="168120" cy="1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7365960" y="4116240"/>
            <a:ext cx="168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6505560" y="4572000"/>
            <a:ext cx="600120" cy="7430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708" name=""/>
          <p:cNvCxnSpPr>
            <a:stCxn id="3707" idx="3"/>
            <a:endCxn id="3701" idx="0"/>
          </p:cNvCxnSpPr>
          <p:nvPr/>
        </p:nvCxnSpPr>
        <p:spPr>
          <a:xfrm flipV="1">
            <a:off x="7105320" y="4430520"/>
            <a:ext cx="261000" cy="513360"/>
          </a:xfrm>
          <a:prstGeom prst="bentConnector4">
            <a:avLst>
              <a:gd name="adj1" fmla="val 93232"/>
              <a:gd name="adj2" fmla="val 97824"/>
            </a:avLst>
          </a:prstGeom>
          <a:ln w="12600">
            <a:solidFill>
              <a:srgbClr val="ffffcc"/>
            </a:solidFill>
            <a:miter/>
          </a:ln>
        </p:spPr>
      </p:cxnSp>
      <p:sp>
        <p:nvSpPr>
          <p:cNvPr id="3709" name=""/>
          <p:cNvSpPr/>
          <p:nvPr/>
        </p:nvSpPr>
        <p:spPr>
          <a:xfrm>
            <a:off x="6105600" y="5383080"/>
            <a:ext cx="19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6315120" y="4954680"/>
            <a:ext cx="19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6305400" y="4962600"/>
            <a:ext cx="0" cy="4111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6210360" y="5648400"/>
            <a:ext cx="24001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5477040" y="4105440"/>
            <a:ext cx="1914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8048520" y="4260960"/>
            <a:ext cx="552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6819840" y="410544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6810480" y="5326200"/>
            <a:ext cx="0" cy="322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6062760" y="456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7309800" y="457524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 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5204160" y="4013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5176440" y="5051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8287560" y="5191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8288280" y="3849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8D54-BA75-4224-A329-DE1AA4320D2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ffer example in Tangr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4233960" y="1028880"/>
            <a:ext cx="3624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(a?byte &amp; b!byt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x0: var by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| forever 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a?x0 ; b!x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1179360" y="1147680"/>
            <a:ext cx="1036800" cy="11001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 flipV="1">
            <a:off x="2216160" y="1700280"/>
            <a:ext cx="419040" cy="144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835200" y="1714680"/>
            <a:ext cx="3441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1334880" y="15303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29" name=""/>
          <p:cNvGrpSpPr/>
          <p:nvPr/>
        </p:nvGrpSpPr>
        <p:grpSpPr>
          <a:xfrm>
            <a:off x="1900080" y="3600360"/>
            <a:ext cx="409680" cy="459720"/>
            <a:chOff x="1900080" y="3600360"/>
            <a:chExt cx="409680" cy="459720"/>
          </a:xfrm>
        </p:grpSpPr>
        <p:sp>
          <p:nvSpPr>
            <p:cNvPr id="3730" name=""/>
            <p:cNvSpPr/>
            <p:nvPr/>
          </p:nvSpPr>
          <p:spPr>
            <a:xfrm flipV="1">
              <a:off x="1900080" y="3600360"/>
              <a:ext cx="409680" cy="4096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970280" y="36003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732" name=""/>
          <p:cNvGrpSpPr/>
          <p:nvPr/>
        </p:nvGrpSpPr>
        <p:grpSpPr>
          <a:xfrm>
            <a:off x="1922400" y="5366520"/>
            <a:ext cx="409680" cy="410400"/>
            <a:chOff x="1922400" y="5366520"/>
            <a:chExt cx="409680" cy="410400"/>
          </a:xfrm>
        </p:grpSpPr>
        <p:sp>
          <p:nvSpPr>
            <p:cNvPr id="3733" name=""/>
            <p:cNvSpPr/>
            <p:nvPr/>
          </p:nvSpPr>
          <p:spPr>
            <a:xfrm flipV="1">
              <a:off x="1922400" y="5367240"/>
              <a:ext cx="409680" cy="4096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998720" y="5366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f5f5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35" name=""/>
          <p:cNvSpPr/>
          <p:nvPr/>
        </p:nvSpPr>
        <p:spPr>
          <a:xfrm>
            <a:off x="393840" y="53388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3595680" y="5351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37" name=""/>
          <p:cNvGrpSpPr/>
          <p:nvPr/>
        </p:nvGrpSpPr>
        <p:grpSpPr>
          <a:xfrm>
            <a:off x="1139760" y="5367240"/>
            <a:ext cx="436320" cy="459720"/>
            <a:chOff x="1139760" y="5367240"/>
            <a:chExt cx="436320" cy="459720"/>
          </a:xfrm>
        </p:grpSpPr>
        <p:sp>
          <p:nvSpPr>
            <p:cNvPr id="3738" name=""/>
            <p:cNvSpPr/>
            <p:nvPr/>
          </p:nvSpPr>
          <p:spPr>
            <a:xfrm flipV="1">
              <a:off x="1139760" y="5367240"/>
              <a:ext cx="409680" cy="4096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209600" y="5367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0" name=""/>
          <p:cNvSpPr/>
          <p:nvPr/>
        </p:nvSpPr>
        <p:spPr>
          <a:xfrm flipV="1">
            <a:off x="1908000" y="4438080"/>
            <a:ext cx="409680" cy="40932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1971360" y="4381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42" name=""/>
          <p:cNvGrpSpPr/>
          <p:nvPr/>
        </p:nvGrpSpPr>
        <p:grpSpPr>
          <a:xfrm>
            <a:off x="2727360" y="5376960"/>
            <a:ext cx="436320" cy="459720"/>
            <a:chOff x="2727360" y="5376960"/>
            <a:chExt cx="436320" cy="459720"/>
          </a:xfrm>
        </p:grpSpPr>
        <p:sp>
          <p:nvSpPr>
            <p:cNvPr id="3743" name=""/>
            <p:cNvSpPr/>
            <p:nvPr/>
          </p:nvSpPr>
          <p:spPr>
            <a:xfrm flipV="1">
              <a:off x="2727360" y="5376960"/>
              <a:ext cx="409680" cy="4096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797200" y="53769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5" name=""/>
          <p:cNvSpPr/>
          <p:nvPr/>
        </p:nvSpPr>
        <p:spPr>
          <a:xfrm>
            <a:off x="714240" y="5589720"/>
            <a:ext cx="344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 flipV="1">
            <a:off x="3160800" y="5582880"/>
            <a:ext cx="419040" cy="46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444600" y="14684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2646360" y="15048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2106720" y="4006800"/>
            <a:ext cx="0" cy="37944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1544760" y="5573880"/>
            <a:ext cx="303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2411280" y="5568840"/>
            <a:ext cx="236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2101680" y="3135240"/>
            <a:ext cx="0" cy="3700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447560" y="4800600"/>
            <a:ext cx="561960" cy="5097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2236680" y="4805280"/>
            <a:ext cx="554040" cy="5493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2057400" y="4006800"/>
            <a:ext cx="9540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2048040" y="3517920"/>
            <a:ext cx="10476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1371600" y="5299200"/>
            <a:ext cx="104760" cy="9504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171360" y="3632040"/>
            <a:ext cx="10476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2752560" y="5327640"/>
            <a:ext cx="10512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2048040" y="4352760"/>
            <a:ext cx="10476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1533600" y="5524560"/>
            <a:ext cx="9504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2638440" y="5524560"/>
            <a:ext cx="9540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3133800" y="5524560"/>
            <a:ext cx="9504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2219400" y="4784760"/>
            <a:ext cx="9504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2324160" y="5527800"/>
            <a:ext cx="104760" cy="9504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1809720" y="5537160"/>
            <a:ext cx="10476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1895400" y="4794120"/>
            <a:ext cx="95400" cy="101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1038240" y="5546880"/>
            <a:ext cx="9540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171360" y="4006800"/>
            <a:ext cx="9540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305640" y="34527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ssive po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297360" y="38336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ctive po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3276720" y="1609560"/>
            <a:ext cx="428400" cy="381240"/>
          </a:xfrm>
          <a:prstGeom prst="rightArrow">
            <a:avLst>
              <a:gd name="adj1" fmla="val 50000"/>
              <a:gd name="adj2" fmla="val 28093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 rot="19200000">
            <a:off x="3323880" y="3165480"/>
            <a:ext cx="466560" cy="339840"/>
          </a:xfrm>
          <a:prstGeom prst="leftArrow">
            <a:avLst>
              <a:gd name="adj1" fmla="val 50000"/>
              <a:gd name="adj2" fmla="val 34322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4029120" y="4410000"/>
            <a:ext cx="428760" cy="381240"/>
          </a:xfrm>
          <a:prstGeom prst="rightArrow">
            <a:avLst>
              <a:gd name="adj1" fmla="val 50000"/>
              <a:gd name="adj2" fmla="val 28116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2550600" y="3778200"/>
            <a:ext cx="33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ach circle mapped to a netlis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1450800" y="593712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ata pat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6170760" y="4411800"/>
            <a:ext cx="1036440" cy="11001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 flipH="1">
            <a:off x="7225920" y="4729320"/>
            <a:ext cx="460440" cy="187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 flipV="1">
            <a:off x="7238880" y="5222520"/>
            <a:ext cx="1260720" cy="46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5826240" y="4735440"/>
            <a:ext cx="344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 flipH="1">
            <a:off x="5825880" y="5235480"/>
            <a:ext cx="344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6193800" y="482112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99ff"/>
                </a:solidFill>
                <a:latin typeface="Arial"/>
              </a:rPr>
              <a:t>Q elemen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 flipH="1">
            <a:off x="6461280" y="5248440"/>
            <a:ext cx="3441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 flipH="1">
            <a:off x="7988040" y="4716360"/>
            <a:ext cx="460440" cy="190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 flipH="1" flipV="1">
            <a:off x="7657920" y="4006440"/>
            <a:ext cx="12600" cy="7225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 flipV="1">
            <a:off x="7988400" y="4006440"/>
            <a:ext cx="0" cy="7225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5994360" y="4375080"/>
            <a:ext cx="2247840" cy="1244520"/>
          </a:xfrm>
          <a:prstGeom prst="rect">
            <a:avLst/>
          </a:prstGeom>
          <a:noFill/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977760" y="5133960"/>
            <a:ext cx="2324160" cy="86688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9F575-E600-4A2B-AD27-ADCEAD7F358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685800" y="11858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angram program is partitioned into data path and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ta path is implemented as dual or single rai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 is mapped to composition of standard elements (“;” “||”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ch standard element is mapped to a circu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-optimization is d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osing islands of control elements and re-synthesis with STG can give more aggressive optim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hilips made a few chips using Tangram, including a product: 8051 micro-controller in low-power pager Muna (25 wks battery life from one AAA batter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milar approach used in Balsa (Manchester Univ.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10040-6E41-4497-B416-D40A78E15F2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rst mode FS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5803920" y="22986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7213680" y="3335400"/>
            <a:ext cx="469800" cy="493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5803920" y="43560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5791320" y="330984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6045120" y="2843280"/>
            <a:ext cx="0" cy="434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 flipH="1">
            <a:off x="6032160" y="3844800"/>
            <a:ext cx="12600" cy="524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6248520" y="3581280"/>
            <a:ext cx="9903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6248520" y="2476440"/>
            <a:ext cx="1193760" cy="851040"/>
          </a:xfrm>
          <a:custGeom>
            <a:avLst/>
            <a:gdLst/>
            <a:ahLst/>
            <a:rect l="l" t="t" r="r" b="b"/>
            <a:pathLst>
              <a:path w="752" h="536">
                <a:moveTo>
                  <a:pt x="752" y="536"/>
                </a:moveTo>
                <a:cubicBezTo>
                  <a:pt x="722" y="360"/>
                  <a:pt x="693" y="185"/>
                  <a:pt x="568" y="96"/>
                </a:cubicBezTo>
                <a:cubicBezTo>
                  <a:pt x="443" y="7"/>
                  <a:pt x="221" y="3"/>
                  <a:pt x="0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5302080" y="3568680"/>
            <a:ext cx="514440" cy="1092240"/>
          </a:xfrm>
          <a:custGeom>
            <a:avLst/>
            <a:gdLst/>
            <a:ahLst/>
            <a:rect l="l" t="t" r="r" b="b"/>
            <a:pathLst>
              <a:path w="324" h="688">
                <a:moveTo>
                  <a:pt x="300" y="688"/>
                </a:moveTo>
                <a:cubicBezTo>
                  <a:pt x="150" y="565"/>
                  <a:pt x="0" y="443"/>
                  <a:pt x="4" y="328"/>
                </a:cubicBezTo>
                <a:cubicBezTo>
                  <a:pt x="8" y="213"/>
                  <a:pt x="166" y="106"/>
                  <a:pt x="324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5827680" y="2301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5840640" y="3330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584064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7224840" y="3343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7236360" y="2467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-/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4898520" y="28098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+b+/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6181560" y="31273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-/x+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5991120" y="390204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+/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4467240" y="387684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-/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139680" y="1219320"/>
            <a:ext cx="439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ose to synchronous FSMs with binary encoded I/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ork in burst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transitions fi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transitions fi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tate signals chang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stly limited to fundamental mode: next input burst cannot arrive before stabilization at the outpu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8AD98-EF65-49F3-B50A-237363052F0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lobal acknowledg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89280" y="2941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488760" y="2637000"/>
            <a:ext cx="3208320" cy="3399120"/>
            <a:chOff x="3488760" y="2637000"/>
            <a:chExt cx="3208320" cy="3399120"/>
          </a:xfrm>
        </p:grpSpPr>
        <p:grpSp>
          <p:nvGrpSpPr>
            <p:cNvPr id="249" name=""/>
            <p:cNvGrpSpPr/>
            <p:nvPr/>
          </p:nvGrpSpPr>
          <p:grpSpPr>
            <a:xfrm>
              <a:off x="4037040" y="2743200"/>
              <a:ext cx="2070000" cy="1373040"/>
              <a:chOff x="4037040" y="2743200"/>
              <a:chExt cx="2070000" cy="137304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4037040" y="2743200"/>
                <a:ext cx="2070000" cy="1373040"/>
                <a:chOff x="4037040" y="2743200"/>
                <a:chExt cx="2070000" cy="137304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4491000" y="2743200"/>
                  <a:ext cx="1616040" cy="1373040"/>
                  <a:chOff x="4491000" y="2743200"/>
                  <a:chExt cx="1616040" cy="1373040"/>
                </a:xfrm>
              </p:grpSpPr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4491000" y="2743200"/>
                    <a:ext cx="1365120" cy="1373040"/>
                    <a:chOff x="4491000" y="2743200"/>
                    <a:chExt cx="1365120" cy="137304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4497480" y="2749680"/>
                      <a:ext cx="1358640" cy="13586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4491000" y="274320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5" name=""/>
                  <p:cNvSpPr/>
                  <p:nvPr/>
                </p:nvSpPr>
                <p:spPr>
                  <a:xfrm>
                    <a:off x="5867280" y="341460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>
                  <a:off x="4037040" y="29718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037040" y="38862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4037040" y="34290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037040" y="4572000"/>
              <a:ext cx="2070000" cy="1373040"/>
              <a:chOff x="4037040" y="4572000"/>
              <a:chExt cx="2070000" cy="137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4037040" y="4572000"/>
                <a:ext cx="2070000" cy="1373040"/>
                <a:chOff x="4037040" y="4572000"/>
                <a:chExt cx="2070000" cy="137304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4491000" y="4572000"/>
                  <a:ext cx="1616040" cy="1373040"/>
                  <a:chOff x="4491000" y="4572000"/>
                  <a:chExt cx="1616040" cy="1373040"/>
                </a:xfrm>
              </p:grpSpPr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4491000" y="4572000"/>
                    <a:ext cx="1365120" cy="1373040"/>
                    <a:chOff x="4491000" y="4572000"/>
                    <a:chExt cx="1365120" cy="1373040"/>
                  </a:xfrm>
                </p:grpSpPr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497480" y="4578480"/>
                      <a:ext cx="1358640" cy="13586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4491000" y="457200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5" name=""/>
                  <p:cNvSpPr/>
                  <p:nvPr/>
                </p:nvSpPr>
                <p:spPr>
                  <a:xfrm>
                    <a:off x="5867280" y="524340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4037040" y="48006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037040" y="57150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4037040" y="52578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3488760" y="36273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88760" y="31701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88760" y="26370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31960" y="30942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88760" y="44658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88760" y="49989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88760" y="54561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07920" y="49230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278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309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312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1106-612E-44CC-8A72-640ACACD499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tended Burst mo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5803920" y="22986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7213680" y="3335400"/>
            <a:ext cx="469800" cy="493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5803920" y="43560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5791320" y="330984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6045120" y="2843280"/>
            <a:ext cx="0" cy="434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 flipH="1">
            <a:off x="6032160" y="3844800"/>
            <a:ext cx="12600" cy="524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6248520" y="3581280"/>
            <a:ext cx="9903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6248520" y="2476440"/>
            <a:ext cx="1193760" cy="851040"/>
          </a:xfrm>
          <a:custGeom>
            <a:avLst/>
            <a:gdLst/>
            <a:ahLst/>
            <a:rect l="l" t="t" r="r" b="b"/>
            <a:pathLst>
              <a:path w="752" h="536">
                <a:moveTo>
                  <a:pt x="752" y="536"/>
                </a:moveTo>
                <a:cubicBezTo>
                  <a:pt x="722" y="360"/>
                  <a:pt x="693" y="185"/>
                  <a:pt x="568" y="96"/>
                </a:cubicBezTo>
                <a:cubicBezTo>
                  <a:pt x="443" y="7"/>
                  <a:pt x="221" y="3"/>
                  <a:pt x="0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5302080" y="3568680"/>
            <a:ext cx="514440" cy="1092240"/>
          </a:xfrm>
          <a:custGeom>
            <a:avLst/>
            <a:gdLst/>
            <a:ahLst/>
            <a:rect l="l" t="t" r="r" b="b"/>
            <a:pathLst>
              <a:path w="324" h="688">
                <a:moveTo>
                  <a:pt x="300" y="688"/>
                </a:moveTo>
                <a:cubicBezTo>
                  <a:pt x="150" y="565"/>
                  <a:pt x="0" y="443"/>
                  <a:pt x="4" y="328"/>
                </a:cubicBezTo>
                <a:cubicBezTo>
                  <a:pt x="8" y="213"/>
                  <a:pt x="166" y="106"/>
                  <a:pt x="324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5827680" y="2301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5840640" y="3330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584064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7224840" y="3343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7237440" y="2540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-/x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5102280" y="28828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+b*/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6079320" y="31240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b+&gt;a-/x+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5990760" y="3975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b+&gt;c+/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4683960" y="39495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-/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139680" y="1219320"/>
            <a:ext cx="439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rected don’t cares (b*): some concurrency is allowed for input transitions that do not influence an output bur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itional guards &lt;b+&gt; = “if b=1 then …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6D46-172B-445C-9218-F6753F7472B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ynthesis of XB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139680" y="121932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xt state and output functions free of functional and logic haza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quential feedbacks should not introduce new haza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te assig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e state of the BM spec to one layer of Karnaugh ma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atible layers are merg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yers are compatible if merging does not introduce CSC violations or hazar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yers are encoded using race free enco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B413-8F57-4B18-B39A-699D9830B1E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XBM and ST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5803920" y="22986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7213680" y="3335400"/>
            <a:ext cx="469800" cy="493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5803920" y="43560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5791320" y="330984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6045120" y="2843280"/>
            <a:ext cx="0" cy="434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 flipH="1">
            <a:off x="6032160" y="3844800"/>
            <a:ext cx="12600" cy="524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6248520" y="3581280"/>
            <a:ext cx="9903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6248520" y="2476440"/>
            <a:ext cx="1193760" cy="851040"/>
          </a:xfrm>
          <a:custGeom>
            <a:avLst/>
            <a:gdLst/>
            <a:ahLst/>
            <a:rect l="l" t="t" r="r" b="b"/>
            <a:pathLst>
              <a:path w="752" h="536">
                <a:moveTo>
                  <a:pt x="752" y="536"/>
                </a:moveTo>
                <a:cubicBezTo>
                  <a:pt x="722" y="360"/>
                  <a:pt x="693" y="185"/>
                  <a:pt x="568" y="96"/>
                </a:cubicBezTo>
                <a:cubicBezTo>
                  <a:pt x="443" y="7"/>
                  <a:pt x="221" y="3"/>
                  <a:pt x="0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5302080" y="3568680"/>
            <a:ext cx="514440" cy="1092240"/>
          </a:xfrm>
          <a:custGeom>
            <a:avLst/>
            <a:gdLst/>
            <a:ahLst/>
            <a:rect l="l" t="t" r="r" b="b"/>
            <a:pathLst>
              <a:path w="324" h="688">
                <a:moveTo>
                  <a:pt x="300" y="688"/>
                </a:moveTo>
                <a:cubicBezTo>
                  <a:pt x="150" y="565"/>
                  <a:pt x="0" y="443"/>
                  <a:pt x="4" y="328"/>
                </a:cubicBezTo>
                <a:cubicBezTo>
                  <a:pt x="8" y="213"/>
                  <a:pt x="166" y="106"/>
                  <a:pt x="324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5827680" y="2301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5840640" y="3330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584064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7224840" y="3343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7237440" y="2540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-/x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5102280" y="28828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+b*/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6079320" y="31240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b+&gt;a-/x+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5990760" y="3975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b+&gt;c+/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4683960" y="39495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-/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1932120" y="153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x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1652400" y="22273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a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1665000" y="293040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 flipH="1">
            <a:off x="1802880" y="1852560"/>
            <a:ext cx="241560" cy="44460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2108160" y="1866960"/>
            <a:ext cx="241200" cy="431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1866960" y="2565360"/>
            <a:ext cx="0" cy="45720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1968480" y="3962520"/>
            <a:ext cx="216000" cy="4064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1809720" y="194328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H="1">
            <a:off x="1574640" y="3949560"/>
            <a:ext cx="254160" cy="41940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2261880" y="22399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b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2114640" y="19303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2349360" y="3162240"/>
            <a:ext cx="457200" cy="45720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1676520" y="3467160"/>
            <a:ext cx="457200" cy="45720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1253160" y="4792680"/>
            <a:ext cx="547920" cy="3682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ep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2579760" y="5402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c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1335240" y="4221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a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1995120" y="429732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c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2247840" y="4572000"/>
            <a:ext cx="216000" cy="4064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2363760" y="4957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2833200" y="579600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1144080" y="544032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x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1602000" y="5427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1386000" y="5948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b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 flipH="1">
            <a:off x="1625400" y="3543480"/>
            <a:ext cx="787320" cy="124452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2577960" y="3606840"/>
            <a:ext cx="0" cy="140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1447920" y="454644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 flipH="1">
            <a:off x="1308240" y="5218200"/>
            <a:ext cx="126720" cy="30636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1638360" y="5192640"/>
            <a:ext cx="114120" cy="316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1346040" y="5751360"/>
            <a:ext cx="114480" cy="316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 flipH="1">
            <a:off x="1587240" y="5764320"/>
            <a:ext cx="127080" cy="30636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2590920" y="5218200"/>
            <a:ext cx="126720" cy="27756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2819520" y="5700600"/>
            <a:ext cx="101520" cy="21456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1892160" y="323856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2502000" y="2525760"/>
            <a:ext cx="0" cy="674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2108160" y="3657600"/>
            <a:ext cx="1066680" cy="2158920"/>
          </a:xfrm>
          <a:custGeom>
            <a:avLst/>
            <a:gdLst/>
            <a:ahLst/>
            <a:rect l="l" t="t" r="r" b="b"/>
            <a:pathLst>
              <a:path w="672" h="1360">
                <a:moveTo>
                  <a:pt x="576" y="1360"/>
                </a:moveTo>
                <a:cubicBezTo>
                  <a:pt x="624" y="957"/>
                  <a:pt x="672" y="555"/>
                  <a:pt x="576" y="328"/>
                </a:cubicBezTo>
                <a:cubicBezTo>
                  <a:pt x="480" y="101"/>
                  <a:pt x="240" y="50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2793960" y="3479760"/>
            <a:ext cx="762120" cy="2311560"/>
          </a:xfrm>
          <a:custGeom>
            <a:avLst/>
            <a:gdLst/>
            <a:ahLst/>
            <a:rect l="l" t="t" r="r" b="b"/>
            <a:pathLst>
              <a:path w="480" h="1456">
                <a:moveTo>
                  <a:pt x="144" y="1456"/>
                </a:moveTo>
                <a:cubicBezTo>
                  <a:pt x="312" y="1053"/>
                  <a:pt x="480" y="651"/>
                  <a:pt x="456" y="408"/>
                </a:cubicBezTo>
                <a:cubicBezTo>
                  <a:pt x="432" y="165"/>
                  <a:pt x="216" y="82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730080" y="1314360"/>
            <a:ext cx="1263960" cy="5072040"/>
          </a:xfrm>
          <a:custGeom>
            <a:avLst/>
            <a:gdLst/>
            <a:ahLst/>
            <a:rect l="l" t="t" r="r" b="b"/>
            <a:pathLst>
              <a:path w="796" h="3195">
                <a:moveTo>
                  <a:pt x="436" y="3092"/>
                </a:moveTo>
                <a:cubicBezTo>
                  <a:pt x="294" y="3143"/>
                  <a:pt x="153" y="3195"/>
                  <a:pt x="100" y="2748"/>
                </a:cubicBezTo>
                <a:cubicBezTo>
                  <a:pt x="47" y="2301"/>
                  <a:pt x="0" y="824"/>
                  <a:pt x="116" y="412"/>
                </a:cubicBezTo>
                <a:cubicBezTo>
                  <a:pt x="232" y="0"/>
                  <a:pt x="514" y="138"/>
                  <a:pt x="796" y="276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3898800" y="3803760"/>
            <a:ext cx="596880" cy="577800"/>
          </a:xfrm>
          <a:prstGeom prst="leftArrow">
            <a:avLst>
              <a:gd name="adj1" fmla="val 50000"/>
              <a:gd name="adj2" fmla="val 25826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144A-41E3-445A-BC57-C2B54420321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4037040" y="2743200"/>
            <a:ext cx="2070000" cy="1373040"/>
            <a:chOff x="4037040" y="2743200"/>
            <a:chExt cx="2070000" cy="1373040"/>
          </a:xfrm>
        </p:grpSpPr>
        <p:grpSp>
          <p:nvGrpSpPr>
            <p:cNvPr id="320" name=""/>
            <p:cNvGrpSpPr/>
            <p:nvPr/>
          </p:nvGrpSpPr>
          <p:grpSpPr>
            <a:xfrm>
              <a:off x="4491000" y="2743200"/>
              <a:ext cx="1616040" cy="1373040"/>
              <a:chOff x="4491000" y="2743200"/>
              <a:chExt cx="1616040" cy="137304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4491000" y="2743200"/>
                <a:ext cx="1365120" cy="1373040"/>
                <a:chOff x="4491000" y="2743200"/>
                <a:chExt cx="1365120" cy="137304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4497480" y="27496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491000" y="27432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5867280" y="34146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4037040" y="2971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7040" y="38862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037040" y="4572000"/>
            <a:ext cx="2070000" cy="1373040"/>
            <a:chOff x="4037040" y="4572000"/>
            <a:chExt cx="2070000" cy="1373040"/>
          </a:xfrm>
        </p:grpSpPr>
        <p:grpSp>
          <p:nvGrpSpPr>
            <p:cNvPr id="328" name=""/>
            <p:cNvGrpSpPr/>
            <p:nvPr/>
          </p:nvGrpSpPr>
          <p:grpSpPr>
            <a:xfrm>
              <a:off x="4037040" y="4572000"/>
              <a:ext cx="2070000" cy="1373040"/>
              <a:chOff x="4037040" y="4572000"/>
              <a:chExt cx="2070000" cy="137304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4491000" y="4572000"/>
                <a:ext cx="1616040" cy="1373040"/>
                <a:chOff x="4491000" y="4572000"/>
                <a:chExt cx="1616040" cy="1373040"/>
              </a:xfrm>
            </p:grpSpPr>
            <p:grpSp>
              <p:nvGrpSpPr>
                <p:cNvPr id="330" name=""/>
                <p:cNvGrpSpPr/>
                <p:nvPr/>
              </p:nvGrpSpPr>
              <p:grpSpPr>
                <a:xfrm>
                  <a:off x="4491000" y="4572000"/>
                  <a:ext cx="1365120" cy="1373040"/>
                  <a:chOff x="4491000" y="4572000"/>
                  <a:chExt cx="1365120" cy="137304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4497480" y="4578480"/>
                    <a:ext cx="1358640" cy="13586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491000" y="4572000"/>
                    <a:ext cx="687600" cy="13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865">
                        <a:moveTo>
                          <a:pt x="432" y="0"/>
                        </a:moveTo>
                        <a:lnTo>
                          <a:pt x="0" y="0"/>
                        </a:lnTo>
                        <a:lnTo>
                          <a:pt x="0" y="864"/>
                        </a:lnTo>
                        <a:lnTo>
                          <a:pt x="432" y="864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3" name=""/>
                <p:cNvSpPr/>
                <p:nvPr/>
              </p:nvSpPr>
              <p:spPr>
                <a:xfrm>
                  <a:off x="5867280" y="5243400"/>
                  <a:ext cx="2397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>
                <a:off x="4037040" y="48006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7040" y="57150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4037040" y="5257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663200" y="40845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86960" y="3170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88760" y="2637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31960" y="30942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88760" y="4465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88760" y="49989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88760" y="5456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07920" y="4923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025720" y="3214800"/>
            <a:ext cx="2070000" cy="1373040"/>
            <a:chOff x="2025720" y="3214800"/>
            <a:chExt cx="2070000" cy="1373040"/>
          </a:xfrm>
        </p:grpSpPr>
        <p:grpSp>
          <p:nvGrpSpPr>
            <p:cNvPr id="346" name=""/>
            <p:cNvGrpSpPr/>
            <p:nvPr/>
          </p:nvGrpSpPr>
          <p:grpSpPr>
            <a:xfrm>
              <a:off x="2479680" y="3214800"/>
              <a:ext cx="1616040" cy="1373040"/>
              <a:chOff x="2479680" y="3214800"/>
              <a:chExt cx="1616040" cy="137304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2479680" y="3214800"/>
                <a:ext cx="1365120" cy="1373040"/>
                <a:chOff x="2479680" y="3214800"/>
                <a:chExt cx="1365120" cy="13730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2486160" y="3220920"/>
                  <a:ext cx="1358640" cy="13590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479680" y="3214800"/>
                  <a:ext cx="68724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3855960" y="38862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2025720" y="34434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25720" y="4357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638360" y="1409760"/>
            <a:ext cx="457200" cy="38088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7400" y="30481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96" y="192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cap="rnd" w="507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62520" y="35053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96" y="192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cap="rnd" w="507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22640" y="252900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51440" y="298620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3640" y="2593800"/>
            <a:ext cx="2511360" cy="327348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279240" y="2593800"/>
            <a:ext cx="2511720" cy="327348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361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392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395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826360" y="158760"/>
            <a:ext cx="560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w about 2-input gates 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7F4F-C788-4DD8-B426-9D5C9FA93E65}" type="slidenum">
              <a:t>8</a:t>
            </a:fld>
          </a:p>
        </p:txBody>
      </p:sp>
    </p:spTree>
  </p:cSld>
  <p:transition advTm="6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4037040" y="2743200"/>
            <a:ext cx="2070000" cy="1373040"/>
            <a:chOff x="4037040" y="2743200"/>
            <a:chExt cx="2070000" cy="1373040"/>
          </a:xfrm>
        </p:grpSpPr>
        <p:grpSp>
          <p:nvGrpSpPr>
            <p:cNvPr id="404" name=""/>
            <p:cNvGrpSpPr/>
            <p:nvPr/>
          </p:nvGrpSpPr>
          <p:grpSpPr>
            <a:xfrm>
              <a:off x="4037040" y="2743200"/>
              <a:ext cx="2070000" cy="1373040"/>
              <a:chOff x="4037040" y="2743200"/>
              <a:chExt cx="2070000" cy="137304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4491000" y="2743200"/>
                <a:ext cx="1616040" cy="1373040"/>
                <a:chOff x="4491000" y="2743200"/>
                <a:chExt cx="1616040" cy="137304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4491000" y="2743200"/>
                  <a:ext cx="1365120" cy="1373040"/>
                  <a:chOff x="4491000" y="2743200"/>
                  <a:chExt cx="1365120" cy="137304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4497480" y="2749680"/>
                    <a:ext cx="1358640" cy="13586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491000" y="2743200"/>
                    <a:ext cx="687600" cy="13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865">
                        <a:moveTo>
                          <a:pt x="432" y="0"/>
                        </a:moveTo>
                        <a:lnTo>
                          <a:pt x="0" y="0"/>
                        </a:lnTo>
                        <a:lnTo>
                          <a:pt x="0" y="864"/>
                        </a:lnTo>
                        <a:lnTo>
                          <a:pt x="432" y="864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9" name=""/>
                <p:cNvSpPr/>
                <p:nvPr/>
              </p:nvSpPr>
              <p:spPr>
                <a:xfrm>
                  <a:off x="5867280" y="3414600"/>
                  <a:ext cx="2397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4037040" y="29718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037040" y="38862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4037040" y="34290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037040" y="4572000"/>
            <a:ext cx="2070000" cy="1373040"/>
            <a:chOff x="4037040" y="4572000"/>
            <a:chExt cx="2070000" cy="1373040"/>
          </a:xfrm>
        </p:grpSpPr>
        <p:grpSp>
          <p:nvGrpSpPr>
            <p:cNvPr id="414" name=""/>
            <p:cNvGrpSpPr/>
            <p:nvPr/>
          </p:nvGrpSpPr>
          <p:grpSpPr>
            <a:xfrm>
              <a:off x="4491000" y="4572000"/>
              <a:ext cx="1616040" cy="1373040"/>
              <a:chOff x="4491000" y="4572000"/>
              <a:chExt cx="1616040" cy="137304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4491000" y="4572000"/>
                <a:ext cx="1365120" cy="1373040"/>
                <a:chOff x="4491000" y="4572000"/>
                <a:chExt cx="1365120" cy="13730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497480" y="45784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491000" y="45720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5867280" y="52434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4037040" y="48006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37040" y="57150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488760" y="36273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8760" y="3170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88760" y="2637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31960" y="30942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84000" y="40086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84000" y="49989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88760" y="5456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07920" y="4923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979640" y="4129200"/>
            <a:ext cx="2070000" cy="1373040"/>
            <a:chOff x="1979640" y="4129200"/>
            <a:chExt cx="2070000" cy="1373040"/>
          </a:xfrm>
        </p:grpSpPr>
        <p:grpSp>
          <p:nvGrpSpPr>
            <p:cNvPr id="430" name=""/>
            <p:cNvGrpSpPr/>
            <p:nvPr/>
          </p:nvGrpSpPr>
          <p:grpSpPr>
            <a:xfrm>
              <a:off x="2433600" y="4129200"/>
              <a:ext cx="1616040" cy="1373040"/>
              <a:chOff x="2433600" y="4129200"/>
              <a:chExt cx="1616040" cy="137304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2433600" y="4129200"/>
                <a:ext cx="1365120" cy="1373040"/>
                <a:chOff x="2433600" y="4129200"/>
                <a:chExt cx="1365120" cy="13730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440080" y="4135320"/>
                  <a:ext cx="1358640" cy="13590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433600" y="41292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3809880" y="48006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1979640" y="4357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640" y="52722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822400" y="2746440"/>
            <a:ext cx="2740320" cy="357804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898360" y="2822400"/>
            <a:ext cx="2739960" cy="357840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440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471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474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826360" y="158760"/>
            <a:ext cx="560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w about 2-input gates 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E8EA-B1AF-46AB-BE9E-938C6AB78065}" type="slidenum">
              <a:t>9</a:t>
            </a:fld>
          </a:p>
        </p:txBody>
      </p:sp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1:54:46Z</dcterms:created>
  <dc:creator>Compaq</dc:creator>
  <dc:description/>
  <dc:language>en-US</dc:language>
  <cp:lastModifiedBy>ageno</cp:lastModifiedBy>
  <cp:lastPrinted>2001-11-29T15:02:18Z</cp:lastPrinted>
  <dcterms:modified xsi:type="dcterms:W3CDTF">2001-11-29T15:02:27Z</dcterms:modified>
  <cp:revision>110</cp:revision>
  <dc:subject/>
  <dc:title>Introduction to basic concepts on asynchronous circuit design</dc:title>
</cp:coreProperties>
</file>