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140A-3115-4ED8-9506-19B56FEA2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2AFCE-7F4A-4601-80A3-34CB01660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C2CE5-7572-4F7E-9327-7A1FE8060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BF806-8043-458E-8201-22A4AED53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B63AA-0793-4419-ADE5-9CC3E31D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ACE08-DA48-403F-AE5D-4017342B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B1A16-6953-4AB0-BA85-07CCD9D8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725D8-0491-4DB8-9E7D-D452F596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92DEB-C29B-4D8A-8CF4-C37A880F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23D9C-10B0-44E4-94A4-17827A1B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12EBF-D0C1-481C-A231-D9FFA1D8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96EC-53ED-410A-A3A6-ADE83F7B3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E9A51-525A-410D-AB23-2FC7F787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B9600-AAEE-49C4-A4F3-2710BF4F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F8E41-9043-42EF-9859-B91F42E6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D55EB-3AAC-43EE-AF70-CDDB645B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D72F4-CC51-4A26-AF97-51AAF95D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9347C-3B23-4ED4-96AB-3600EB34D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F105-A437-40DB-8BC7-A2DE11798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5F9C2-DFC3-493B-B282-BFC698550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9C80-0E26-4D93-9380-FA76494EA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A0E67-9510-4097-92AD-C84F36650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98F8-9E2A-4428-BC0A-05B870061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C306-0D20-400F-BE1C-3046B0568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7918560" cy="1652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600200" y="6324480"/>
            <a:ext cx="594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SPDAC / VLSI 2002 - Tutorial on Logic Design of Asynchronous Circu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92760" y="6324480"/>
            <a:ext cx="865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7416-C7A7-4DF0-9D23-E2F87B2364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4880" y="6327720"/>
            <a:ext cx="7745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07980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C063-2601-4F2A-906F-6B99A89099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technologyreview.com/magazine/oct01/tristram.asp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Logic Design of</a:t>
            </a:r>
            <a:br>
              <a:rPr sz="4400"/>
            </a:b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Asynchronous Circu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3320" y="3665520"/>
            <a:ext cx="2739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Jordi Cortadella</a:t>
            </a:r>
            <a:br>
              <a:rPr sz="2400"/>
            </a:b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Jim Gars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Alex Yakovlev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36720" y="3719520"/>
            <a:ext cx="640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Univ. Politècnica de Catalunya, Barcelona, Sp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Manchester University, U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University of Newcastle upon Tyne, U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E7EF9-0F5D-4144-8F80-83ACD6D546E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cc66"/>
                </a:solidFill>
                <a:latin typeface="Arial"/>
                <a:ea typeface="Arial"/>
              </a:rPr>
              <a:t>Key Design Differenc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Asynchronous logic desig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Must ensure hazard-freedom, signal ack-ing, local timing constrai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Combinational logic and memory latches (registers) are often mixed in “complex gate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Dynamic timing analysis of logic is needed to determine relative delays between pat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To avoid complex issues, circuits may be built as Delay-insensitive and/or Speed-independent (as discussed late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30375-5ACA-450F-A421-1F0557EE64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032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cc66"/>
                </a:solidFill>
                <a:latin typeface="Arial"/>
                <a:ea typeface="Arial"/>
              </a:rPr>
              <a:t>Verification and Testing Differenc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Synchronous logic verification and testing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Only functional correctness aspect is verified and tes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Testing can be done with standard ATE and at low spe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synchronous logic verification and testing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In addition to functional correctness, temporal aspect is crucial: e.g. causality and order, deadlock-freed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Testing must cover faults in complex gates (logic+memory) and must proceed at normal operation r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Delay fault testing may be nee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8234-5E4F-4BDA-BC96-EC919EC6E10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Synchronous communic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Clock edges determine the time instants where data must be sampl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Data wires may glitch between clock edges (set-up/hold times must be satisfie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Data are transmitted at a fixed rat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(clock frequenc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04920" y="1294920"/>
            <a:ext cx="1371600" cy="381600"/>
            <a:chOff x="304920" y="1294920"/>
            <a:chExt cx="1371600" cy="381600"/>
          </a:xfrm>
        </p:grpSpPr>
        <p:sp>
          <p:nvSpPr>
            <p:cNvPr id="222" name=""/>
            <p:cNvSpPr/>
            <p:nvPr/>
          </p:nvSpPr>
          <p:spPr>
            <a:xfrm>
              <a:off x="304920" y="1295280"/>
              <a:ext cx="1371600" cy="381240"/>
            </a:xfrm>
            <a:custGeom>
              <a:avLst/>
              <a:gdLst/>
              <a:ahLst/>
              <a:rect l="l" t="t" r="r" b="b"/>
              <a:pathLst>
                <a:path w="960" h="240">
                  <a:moveTo>
                    <a:pt x="0" y="240"/>
                  </a:moveTo>
                  <a:lnTo>
                    <a:pt x="384" y="240"/>
                  </a:lnTo>
                  <a:lnTo>
                    <a:pt x="432" y="0"/>
                  </a:lnTo>
                  <a:lnTo>
                    <a:pt x="912" y="0"/>
                  </a:lnTo>
                  <a:lnTo>
                    <a:pt x="960" y="24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53560" y="1294920"/>
              <a:ext cx="68040" cy="381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676520" y="1294920"/>
            <a:ext cx="1371600" cy="381600"/>
            <a:chOff x="1676520" y="1294920"/>
            <a:chExt cx="1371600" cy="381600"/>
          </a:xfrm>
        </p:grpSpPr>
        <p:sp>
          <p:nvSpPr>
            <p:cNvPr id="225" name=""/>
            <p:cNvSpPr/>
            <p:nvPr/>
          </p:nvSpPr>
          <p:spPr>
            <a:xfrm>
              <a:off x="1676520" y="1295280"/>
              <a:ext cx="1371600" cy="381240"/>
            </a:xfrm>
            <a:custGeom>
              <a:avLst/>
              <a:gdLst/>
              <a:ahLst/>
              <a:rect l="l" t="t" r="r" b="b"/>
              <a:pathLst>
                <a:path w="960" h="240">
                  <a:moveTo>
                    <a:pt x="0" y="240"/>
                  </a:moveTo>
                  <a:lnTo>
                    <a:pt x="384" y="240"/>
                  </a:lnTo>
                  <a:lnTo>
                    <a:pt x="432" y="0"/>
                  </a:lnTo>
                  <a:lnTo>
                    <a:pt x="912" y="0"/>
                  </a:lnTo>
                  <a:lnTo>
                    <a:pt x="960" y="24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225160" y="1294920"/>
              <a:ext cx="68040" cy="381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048120" y="1294920"/>
            <a:ext cx="1371600" cy="381600"/>
            <a:chOff x="3048120" y="1294920"/>
            <a:chExt cx="1371600" cy="381600"/>
          </a:xfrm>
        </p:grpSpPr>
        <p:sp>
          <p:nvSpPr>
            <p:cNvPr id="228" name=""/>
            <p:cNvSpPr/>
            <p:nvPr/>
          </p:nvSpPr>
          <p:spPr>
            <a:xfrm>
              <a:off x="3048120" y="1295280"/>
              <a:ext cx="1371600" cy="381240"/>
            </a:xfrm>
            <a:custGeom>
              <a:avLst/>
              <a:gdLst/>
              <a:ahLst/>
              <a:rect l="l" t="t" r="r" b="b"/>
              <a:pathLst>
                <a:path w="960" h="240">
                  <a:moveTo>
                    <a:pt x="0" y="240"/>
                  </a:moveTo>
                  <a:lnTo>
                    <a:pt x="384" y="240"/>
                  </a:lnTo>
                  <a:lnTo>
                    <a:pt x="432" y="0"/>
                  </a:lnTo>
                  <a:lnTo>
                    <a:pt x="912" y="0"/>
                  </a:lnTo>
                  <a:lnTo>
                    <a:pt x="960" y="24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596760" y="1294920"/>
              <a:ext cx="68040" cy="381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419720" y="1294920"/>
            <a:ext cx="1371600" cy="381600"/>
            <a:chOff x="4419720" y="1294920"/>
            <a:chExt cx="1371600" cy="381600"/>
          </a:xfrm>
        </p:grpSpPr>
        <p:sp>
          <p:nvSpPr>
            <p:cNvPr id="231" name=""/>
            <p:cNvSpPr/>
            <p:nvPr/>
          </p:nvSpPr>
          <p:spPr>
            <a:xfrm>
              <a:off x="4419720" y="1295280"/>
              <a:ext cx="1371600" cy="381240"/>
            </a:xfrm>
            <a:custGeom>
              <a:avLst/>
              <a:gdLst/>
              <a:ahLst/>
              <a:rect l="l" t="t" r="r" b="b"/>
              <a:pathLst>
                <a:path w="960" h="240">
                  <a:moveTo>
                    <a:pt x="0" y="240"/>
                  </a:moveTo>
                  <a:lnTo>
                    <a:pt x="384" y="240"/>
                  </a:lnTo>
                  <a:lnTo>
                    <a:pt x="432" y="0"/>
                  </a:lnTo>
                  <a:lnTo>
                    <a:pt x="912" y="0"/>
                  </a:lnTo>
                  <a:lnTo>
                    <a:pt x="960" y="24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968360" y="1294920"/>
              <a:ext cx="68040" cy="381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791320" y="1294920"/>
            <a:ext cx="1371600" cy="381600"/>
            <a:chOff x="5791320" y="1294920"/>
            <a:chExt cx="1371600" cy="381600"/>
          </a:xfrm>
        </p:grpSpPr>
        <p:sp>
          <p:nvSpPr>
            <p:cNvPr id="234" name=""/>
            <p:cNvSpPr/>
            <p:nvPr/>
          </p:nvSpPr>
          <p:spPr>
            <a:xfrm>
              <a:off x="5791320" y="1295280"/>
              <a:ext cx="1371600" cy="381240"/>
            </a:xfrm>
            <a:custGeom>
              <a:avLst/>
              <a:gdLst/>
              <a:ahLst/>
              <a:rect l="l" t="t" r="r" b="b"/>
              <a:pathLst>
                <a:path w="960" h="240">
                  <a:moveTo>
                    <a:pt x="0" y="240"/>
                  </a:moveTo>
                  <a:lnTo>
                    <a:pt x="384" y="240"/>
                  </a:lnTo>
                  <a:lnTo>
                    <a:pt x="432" y="0"/>
                  </a:lnTo>
                  <a:lnTo>
                    <a:pt x="912" y="0"/>
                  </a:lnTo>
                  <a:lnTo>
                    <a:pt x="960" y="24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339960" y="1294920"/>
              <a:ext cx="68040" cy="381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162920" y="1294920"/>
            <a:ext cx="1371600" cy="381600"/>
            <a:chOff x="7162920" y="1294920"/>
            <a:chExt cx="1371600" cy="381600"/>
          </a:xfrm>
        </p:grpSpPr>
        <p:sp>
          <p:nvSpPr>
            <p:cNvPr id="237" name=""/>
            <p:cNvSpPr/>
            <p:nvPr/>
          </p:nvSpPr>
          <p:spPr>
            <a:xfrm>
              <a:off x="7162920" y="1295280"/>
              <a:ext cx="1371600" cy="381240"/>
            </a:xfrm>
            <a:custGeom>
              <a:avLst/>
              <a:gdLst/>
              <a:ahLst/>
              <a:rect l="l" t="t" r="r" b="b"/>
              <a:pathLst>
                <a:path w="960" h="240">
                  <a:moveTo>
                    <a:pt x="0" y="240"/>
                  </a:moveTo>
                  <a:lnTo>
                    <a:pt x="384" y="240"/>
                  </a:lnTo>
                  <a:lnTo>
                    <a:pt x="432" y="0"/>
                  </a:lnTo>
                  <a:lnTo>
                    <a:pt x="912" y="0"/>
                  </a:lnTo>
                  <a:lnTo>
                    <a:pt x="960" y="24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711560" y="1294920"/>
              <a:ext cx="68040" cy="381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8534520" y="1676520"/>
            <a:ext cx="3045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2057400"/>
            <a:ext cx="8534160" cy="380880"/>
          </a:xfrm>
          <a:custGeom>
            <a:avLst/>
            <a:gdLst/>
            <a:ahLst/>
            <a:rect l="l" t="t" r="r" b="b"/>
            <a:pathLst>
              <a:path w="5376" h="240">
                <a:moveTo>
                  <a:pt x="0" y="0"/>
                </a:moveTo>
                <a:lnTo>
                  <a:pt x="528" y="0"/>
                </a:lnTo>
                <a:lnTo>
                  <a:pt x="576" y="144"/>
                </a:lnTo>
                <a:lnTo>
                  <a:pt x="624" y="48"/>
                </a:lnTo>
                <a:lnTo>
                  <a:pt x="672" y="192"/>
                </a:lnTo>
                <a:lnTo>
                  <a:pt x="720" y="48"/>
                </a:lnTo>
                <a:lnTo>
                  <a:pt x="768" y="144"/>
                </a:lnTo>
                <a:lnTo>
                  <a:pt x="816" y="0"/>
                </a:lnTo>
                <a:lnTo>
                  <a:pt x="864" y="240"/>
                </a:lnTo>
                <a:lnTo>
                  <a:pt x="912" y="96"/>
                </a:lnTo>
                <a:lnTo>
                  <a:pt x="960" y="192"/>
                </a:lnTo>
                <a:lnTo>
                  <a:pt x="1008" y="0"/>
                </a:lnTo>
                <a:lnTo>
                  <a:pt x="1488" y="0"/>
                </a:lnTo>
                <a:lnTo>
                  <a:pt x="1536" y="96"/>
                </a:lnTo>
                <a:lnTo>
                  <a:pt x="1584" y="48"/>
                </a:lnTo>
                <a:lnTo>
                  <a:pt x="1632" y="144"/>
                </a:lnTo>
                <a:lnTo>
                  <a:pt x="1728" y="0"/>
                </a:lnTo>
                <a:lnTo>
                  <a:pt x="1824" y="240"/>
                </a:lnTo>
                <a:lnTo>
                  <a:pt x="2448" y="240"/>
                </a:lnTo>
                <a:lnTo>
                  <a:pt x="2496" y="192"/>
                </a:lnTo>
                <a:lnTo>
                  <a:pt x="2592" y="240"/>
                </a:lnTo>
                <a:lnTo>
                  <a:pt x="2688" y="192"/>
                </a:lnTo>
                <a:lnTo>
                  <a:pt x="2736" y="240"/>
                </a:lnTo>
                <a:lnTo>
                  <a:pt x="3168" y="240"/>
                </a:lnTo>
                <a:lnTo>
                  <a:pt x="3216" y="144"/>
                </a:lnTo>
                <a:lnTo>
                  <a:pt x="3264" y="192"/>
                </a:lnTo>
                <a:lnTo>
                  <a:pt x="3312" y="96"/>
                </a:lnTo>
                <a:lnTo>
                  <a:pt x="3360" y="192"/>
                </a:lnTo>
                <a:lnTo>
                  <a:pt x="3408" y="96"/>
                </a:lnTo>
                <a:lnTo>
                  <a:pt x="3504" y="144"/>
                </a:lnTo>
                <a:lnTo>
                  <a:pt x="3552" y="0"/>
                </a:lnTo>
                <a:lnTo>
                  <a:pt x="4128" y="0"/>
                </a:lnTo>
                <a:lnTo>
                  <a:pt x="4176" y="96"/>
                </a:lnTo>
                <a:lnTo>
                  <a:pt x="4224" y="48"/>
                </a:lnTo>
                <a:lnTo>
                  <a:pt x="4320" y="240"/>
                </a:lnTo>
                <a:lnTo>
                  <a:pt x="4464" y="240"/>
                </a:lnTo>
                <a:lnTo>
                  <a:pt x="4512" y="96"/>
                </a:lnTo>
                <a:lnTo>
                  <a:pt x="4560" y="240"/>
                </a:lnTo>
                <a:lnTo>
                  <a:pt x="4992" y="240"/>
                </a:lnTo>
                <a:lnTo>
                  <a:pt x="5040" y="144"/>
                </a:lnTo>
                <a:lnTo>
                  <a:pt x="5088" y="192"/>
                </a:lnTo>
                <a:lnTo>
                  <a:pt x="5136" y="144"/>
                </a:lnTo>
                <a:lnTo>
                  <a:pt x="5232" y="240"/>
                </a:lnTo>
                <a:lnTo>
                  <a:pt x="5376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447920"/>
            <a:ext cx="0" cy="99036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1447920"/>
            <a:ext cx="0" cy="99036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1447920"/>
            <a:ext cx="0" cy="99036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1447920"/>
            <a:ext cx="0" cy="99036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1447920"/>
            <a:ext cx="0" cy="99036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72400" y="1447920"/>
            <a:ext cx="0" cy="99036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188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0348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7508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4668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1828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8988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E6301-C12B-4044-8605-917D5083AE5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Dual rai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Two wires with L(low) and H (high) per b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“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L” = “spacer”,  “LH” = “0”,  “HL” = “1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n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-bit data communication requires 2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n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wi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Each bit is 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self-tim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Other 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delay-insensitive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codes exist (e.g. k-of-n) and event-based signalling (choice criteria: pin and power efficiency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295280"/>
            <a:ext cx="1371600" cy="381240"/>
          </a:xfrm>
          <a:custGeom>
            <a:avLst/>
            <a:gdLst/>
            <a:ahLst/>
            <a:rect l="l" t="t" r="r" b="b"/>
            <a:pathLst>
              <a:path w="960" h="240">
                <a:moveTo>
                  <a:pt x="0" y="240"/>
                </a:moveTo>
                <a:lnTo>
                  <a:pt x="384" y="240"/>
                </a:lnTo>
                <a:lnTo>
                  <a:pt x="432" y="0"/>
                </a:lnTo>
                <a:lnTo>
                  <a:pt x="912" y="0"/>
                </a:lnTo>
                <a:lnTo>
                  <a:pt x="960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1295280"/>
            <a:ext cx="1371600" cy="381240"/>
          </a:xfrm>
          <a:custGeom>
            <a:avLst/>
            <a:gdLst/>
            <a:ahLst/>
            <a:rect l="l" t="t" r="r" b="b"/>
            <a:pathLst>
              <a:path w="960" h="240">
                <a:moveTo>
                  <a:pt x="0" y="240"/>
                </a:moveTo>
                <a:lnTo>
                  <a:pt x="384" y="240"/>
                </a:lnTo>
                <a:lnTo>
                  <a:pt x="432" y="0"/>
                </a:lnTo>
                <a:lnTo>
                  <a:pt x="912" y="0"/>
                </a:lnTo>
                <a:lnTo>
                  <a:pt x="960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1295280"/>
            <a:ext cx="1371600" cy="381240"/>
          </a:xfrm>
          <a:custGeom>
            <a:avLst/>
            <a:gdLst/>
            <a:ahLst/>
            <a:rect l="l" t="t" r="r" b="b"/>
            <a:pathLst>
              <a:path w="960" h="240">
                <a:moveTo>
                  <a:pt x="0" y="240"/>
                </a:moveTo>
                <a:lnTo>
                  <a:pt x="384" y="240"/>
                </a:lnTo>
                <a:lnTo>
                  <a:pt x="432" y="0"/>
                </a:lnTo>
                <a:lnTo>
                  <a:pt x="912" y="0"/>
                </a:lnTo>
                <a:lnTo>
                  <a:pt x="960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534520" y="1676520"/>
            <a:ext cx="3045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131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847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94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5468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995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425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1676520"/>
            <a:ext cx="27432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62920" y="1676520"/>
            <a:ext cx="1371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9880" y="2057400"/>
            <a:ext cx="8539200" cy="380880"/>
          </a:xfrm>
          <a:custGeom>
            <a:avLst/>
            <a:gdLst/>
            <a:ahLst/>
            <a:rect l="l" t="t" r="r" b="b"/>
            <a:pathLst>
              <a:path w="5379" h="240">
                <a:moveTo>
                  <a:pt x="0" y="239"/>
                </a:moveTo>
                <a:cubicBezTo>
                  <a:pt x="674" y="239"/>
                  <a:pt x="1348" y="239"/>
                  <a:pt x="2022" y="239"/>
                </a:cubicBezTo>
                <a:lnTo>
                  <a:pt x="2067" y="0"/>
                </a:lnTo>
                <a:lnTo>
                  <a:pt x="2403" y="0"/>
                </a:lnTo>
                <a:lnTo>
                  <a:pt x="2429" y="239"/>
                </a:lnTo>
                <a:lnTo>
                  <a:pt x="2793" y="231"/>
                </a:lnTo>
                <a:lnTo>
                  <a:pt x="2835" y="0"/>
                </a:lnTo>
                <a:lnTo>
                  <a:pt x="3219" y="0"/>
                </a:lnTo>
                <a:lnTo>
                  <a:pt x="3267" y="240"/>
                </a:lnTo>
                <a:lnTo>
                  <a:pt x="4581" y="239"/>
                </a:lnTo>
                <a:lnTo>
                  <a:pt x="4611" y="0"/>
                </a:lnTo>
                <a:lnTo>
                  <a:pt x="4947" y="0"/>
                </a:lnTo>
                <a:lnTo>
                  <a:pt x="4995" y="240"/>
                </a:lnTo>
                <a:lnTo>
                  <a:pt x="5379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ED22-FFD8-4C11-A11C-873F28029DB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33520" y="1219320"/>
            <a:ext cx="457200" cy="11430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1219320"/>
            <a:ext cx="457200" cy="11430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1219320"/>
            <a:ext cx="381240" cy="11430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1219320"/>
            <a:ext cx="228600" cy="11430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5880" y="1219320"/>
            <a:ext cx="609840" cy="11430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96080" y="1219320"/>
            <a:ext cx="381240" cy="11430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Bundled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Validity sig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Similar to an aperiodic local c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n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-bit data communication requires 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n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+1 wi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Data wires may glitch when no val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Signaling protoc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evel sensitive (latch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transition sensitive (register): 2-phase / 4-ph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1981080"/>
            <a:ext cx="8534160" cy="381240"/>
          </a:xfrm>
          <a:custGeom>
            <a:avLst/>
            <a:gdLst/>
            <a:ahLst/>
            <a:rect l="l" t="t" r="r" b="b"/>
            <a:pathLst>
              <a:path w="5376" h="240">
                <a:moveTo>
                  <a:pt x="0" y="0"/>
                </a:moveTo>
                <a:lnTo>
                  <a:pt x="528" y="0"/>
                </a:lnTo>
                <a:lnTo>
                  <a:pt x="576" y="144"/>
                </a:lnTo>
                <a:lnTo>
                  <a:pt x="624" y="48"/>
                </a:lnTo>
                <a:lnTo>
                  <a:pt x="672" y="192"/>
                </a:lnTo>
                <a:lnTo>
                  <a:pt x="720" y="48"/>
                </a:lnTo>
                <a:lnTo>
                  <a:pt x="768" y="144"/>
                </a:lnTo>
                <a:lnTo>
                  <a:pt x="816" y="0"/>
                </a:lnTo>
                <a:lnTo>
                  <a:pt x="864" y="240"/>
                </a:lnTo>
                <a:lnTo>
                  <a:pt x="912" y="96"/>
                </a:lnTo>
                <a:lnTo>
                  <a:pt x="960" y="192"/>
                </a:lnTo>
                <a:lnTo>
                  <a:pt x="1008" y="0"/>
                </a:lnTo>
                <a:lnTo>
                  <a:pt x="1488" y="0"/>
                </a:lnTo>
                <a:lnTo>
                  <a:pt x="1536" y="96"/>
                </a:lnTo>
                <a:lnTo>
                  <a:pt x="1584" y="48"/>
                </a:lnTo>
                <a:lnTo>
                  <a:pt x="1632" y="144"/>
                </a:lnTo>
                <a:lnTo>
                  <a:pt x="1728" y="0"/>
                </a:lnTo>
                <a:lnTo>
                  <a:pt x="1824" y="240"/>
                </a:lnTo>
                <a:lnTo>
                  <a:pt x="2448" y="240"/>
                </a:lnTo>
                <a:lnTo>
                  <a:pt x="2496" y="192"/>
                </a:lnTo>
                <a:lnTo>
                  <a:pt x="2592" y="240"/>
                </a:lnTo>
                <a:lnTo>
                  <a:pt x="2688" y="192"/>
                </a:lnTo>
                <a:lnTo>
                  <a:pt x="2736" y="240"/>
                </a:lnTo>
                <a:lnTo>
                  <a:pt x="3168" y="240"/>
                </a:lnTo>
                <a:lnTo>
                  <a:pt x="3216" y="144"/>
                </a:lnTo>
                <a:lnTo>
                  <a:pt x="3264" y="192"/>
                </a:lnTo>
                <a:lnTo>
                  <a:pt x="3312" y="96"/>
                </a:lnTo>
                <a:lnTo>
                  <a:pt x="3360" y="192"/>
                </a:lnTo>
                <a:lnTo>
                  <a:pt x="3408" y="96"/>
                </a:lnTo>
                <a:lnTo>
                  <a:pt x="3504" y="144"/>
                </a:lnTo>
                <a:lnTo>
                  <a:pt x="3552" y="0"/>
                </a:lnTo>
                <a:lnTo>
                  <a:pt x="4128" y="0"/>
                </a:lnTo>
                <a:lnTo>
                  <a:pt x="4176" y="96"/>
                </a:lnTo>
                <a:lnTo>
                  <a:pt x="4224" y="48"/>
                </a:lnTo>
                <a:lnTo>
                  <a:pt x="4320" y="240"/>
                </a:lnTo>
                <a:lnTo>
                  <a:pt x="4464" y="240"/>
                </a:lnTo>
                <a:lnTo>
                  <a:pt x="4512" y="96"/>
                </a:lnTo>
                <a:lnTo>
                  <a:pt x="4560" y="240"/>
                </a:lnTo>
                <a:lnTo>
                  <a:pt x="4992" y="240"/>
                </a:lnTo>
                <a:lnTo>
                  <a:pt x="5040" y="144"/>
                </a:lnTo>
                <a:lnTo>
                  <a:pt x="5088" y="192"/>
                </a:lnTo>
                <a:lnTo>
                  <a:pt x="5136" y="144"/>
                </a:lnTo>
                <a:lnTo>
                  <a:pt x="5232" y="240"/>
                </a:lnTo>
                <a:lnTo>
                  <a:pt x="5376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7980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44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0240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18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425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1219320"/>
            <a:ext cx="8534160" cy="380880"/>
          </a:xfrm>
          <a:custGeom>
            <a:avLst/>
            <a:gdLst/>
            <a:ahLst/>
            <a:rect l="l" t="t" r="r" b="b"/>
            <a:pathLst>
              <a:path w="5376" h="240">
                <a:moveTo>
                  <a:pt x="0" y="240"/>
                </a:moveTo>
                <a:lnTo>
                  <a:pt x="96" y="240"/>
                </a:lnTo>
                <a:lnTo>
                  <a:pt x="144" y="0"/>
                </a:lnTo>
                <a:lnTo>
                  <a:pt x="432" y="0"/>
                </a:lnTo>
                <a:lnTo>
                  <a:pt x="480" y="240"/>
                </a:lnTo>
                <a:lnTo>
                  <a:pt x="1056" y="240"/>
                </a:lnTo>
                <a:lnTo>
                  <a:pt x="1104" y="0"/>
                </a:lnTo>
                <a:lnTo>
                  <a:pt x="1392" y="0"/>
                </a:lnTo>
                <a:lnTo>
                  <a:pt x="1440" y="240"/>
                </a:lnTo>
                <a:lnTo>
                  <a:pt x="1872" y="240"/>
                </a:lnTo>
                <a:lnTo>
                  <a:pt x="1920" y="0"/>
                </a:lnTo>
                <a:lnTo>
                  <a:pt x="2160" y="0"/>
                </a:lnTo>
                <a:lnTo>
                  <a:pt x="2208" y="240"/>
                </a:lnTo>
                <a:lnTo>
                  <a:pt x="2832" y="240"/>
                </a:lnTo>
                <a:lnTo>
                  <a:pt x="2880" y="0"/>
                </a:lnTo>
                <a:lnTo>
                  <a:pt x="3024" y="0"/>
                </a:lnTo>
                <a:lnTo>
                  <a:pt x="3072" y="240"/>
                </a:lnTo>
                <a:lnTo>
                  <a:pt x="3600" y="240"/>
                </a:lnTo>
                <a:lnTo>
                  <a:pt x="3648" y="0"/>
                </a:lnTo>
                <a:lnTo>
                  <a:pt x="4032" y="0"/>
                </a:lnTo>
                <a:lnTo>
                  <a:pt x="4080" y="240"/>
                </a:lnTo>
                <a:lnTo>
                  <a:pt x="4608" y="240"/>
                </a:lnTo>
                <a:lnTo>
                  <a:pt x="4656" y="0"/>
                </a:lnTo>
                <a:lnTo>
                  <a:pt x="4896" y="0"/>
                </a:lnTo>
                <a:lnTo>
                  <a:pt x="4944" y="240"/>
                </a:lnTo>
                <a:lnTo>
                  <a:pt x="5376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5B760-5D6D-4D00-A691-3C12C928F6F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Example: memory read cycl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  <a:ea typeface="Arial"/>
              </a:rPr>
              <a:t>Transition signaling, 4-ph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2360" y="13082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Valid 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2800" y="20559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7600" y="286056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Valid 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0560" y="35798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295280"/>
            <a:ext cx="7315200" cy="381240"/>
          </a:xfrm>
          <a:custGeom>
            <a:avLst/>
            <a:gdLst/>
            <a:ahLst/>
            <a:rect l="l" t="t" r="r" b="b"/>
            <a:pathLst>
              <a:path w="4608" h="240">
                <a:moveTo>
                  <a:pt x="0" y="240"/>
                </a:moveTo>
                <a:lnTo>
                  <a:pt x="432" y="240"/>
                </a:lnTo>
                <a:lnTo>
                  <a:pt x="480" y="0"/>
                </a:lnTo>
                <a:lnTo>
                  <a:pt x="1584" y="0"/>
                </a:lnTo>
                <a:lnTo>
                  <a:pt x="1632" y="240"/>
                </a:lnTo>
                <a:lnTo>
                  <a:pt x="2544" y="240"/>
                </a:lnTo>
                <a:lnTo>
                  <a:pt x="2592" y="0"/>
                </a:lnTo>
                <a:lnTo>
                  <a:pt x="3504" y="0"/>
                </a:lnTo>
                <a:lnTo>
                  <a:pt x="3552" y="240"/>
                </a:lnTo>
                <a:lnTo>
                  <a:pt x="4608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2819520"/>
            <a:ext cx="7315200" cy="380880"/>
          </a:xfrm>
          <a:custGeom>
            <a:avLst/>
            <a:gdLst/>
            <a:ahLst/>
            <a:rect l="l" t="t" r="r" b="b"/>
            <a:pathLst>
              <a:path w="4608" h="240">
                <a:moveTo>
                  <a:pt x="0" y="240"/>
                </a:moveTo>
                <a:lnTo>
                  <a:pt x="1200" y="240"/>
                </a:lnTo>
                <a:lnTo>
                  <a:pt x="1248" y="0"/>
                </a:lnTo>
                <a:lnTo>
                  <a:pt x="1872" y="0"/>
                </a:lnTo>
                <a:lnTo>
                  <a:pt x="1920" y="240"/>
                </a:lnTo>
                <a:lnTo>
                  <a:pt x="3312" y="240"/>
                </a:lnTo>
                <a:lnTo>
                  <a:pt x="3360" y="0"/>
                </a:lnTo>
                <a:lnTo>
                  <a:pt x="3888" y="0"/>
                </a:lnTo>
                <a:lnTo>
                  <a:pt x="3936" y="240"/>
                </a:lnTo>
                <a:lnTo>
                  <a:pt x="4608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3880" y="2057400"/>
            <a:ext cx="990720" cy="380880"/>
          </a:xfrm>
          <a:prstGeom prst="hexagon">
            <a:avLst>
              <a:gd name="adj" fmla="val 17088"/>
              <a:gd name="vf" fmla="val 115470"/>
            </a:avLst>
          </a:prstGeom>
          <a:solidFill>
            <a:srgbClr val="ff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2057400"/>
            <a:ext cx="990360" cy="380880"/>
          </a:xfrm>
          <a:prstGeom prst="hexagon">
            <a:avLst>
              <a:gd name="adj" fmla="val 17082"/>
              <a:gd name="vf" fmla="val 115470"/>
            </a:avLst>
          </a:prstGeom>
          <a:solidFill>
            <a:srgbClr val="ff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24480" y="3581280"/>
            <a:ext cx="990720" cy="381240"/>
          </a:xfrm>
          <a:prstGeom prst="hexagon">
            <a:avLst>
              <a:gd name="adj" fmla="val 17072"/>
              <a:gd name="vf" fmla="val 115470"/>
            </a:avLst>
          </a:prstGeom>
          <a:solidFill>
            <a:srgbClr val="ff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581280"/>
            <a:ext cx="990720" cy="381240"/>
          </a:xfrm>
          <a:prstGeom prst="hexagon">
            <a:avLst>
              <a:gd name="adj" fmla="val 17072"/>
              <a:gd name="vf" fmla="val 115470"/>
            </a:avLst>
          </a:prstGeom>
          <a:solidFill>
            <a:srgbClr val="ff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4600" y="2057400"/>
            <a:ext cx="2590920" cy="380880"/>
          </a:xfrm>
          <a:prstGeom prst="hexagon">
            <a:avLst>
              <a:gd name="adj" fmla="val 19998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3581280"/>
            <a:ext cx="2438280" cy="381240"/>
          </a:xfrm>
          <a:prstGeom prst="hexagon">
            <a:avLst>
              <a:gd name="adj" fmla="val 18802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5880" y="2057400"/>
            <a:ext cx="2590920" cy="380880"/>
          </a:xfrm>
          <a:prstGeom prst="hexagon">
            <a:avLst>
              <a:gd name="adj" fmla="val 12093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3581280"/>
            <a:ext cx="1600200" cy="381240"/>
          </a:xfrm>
          <a:prstGeom prst="hexagon">
            <a:avLst>
              <a:gd name="adj" fmla="val 16245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15200" y="3581280"/>
            <a:ext cx="1371600" cy="381240"/>
          </a:xfrm>
          <a:prstGeom prst="hexagon">
            <a:avLst>
              <a:gd name="adj" fmla="val 17489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95280" y="2057400"/>
            <a:ext cx="228600" cy="380880"/>
          </a:xfrm>
          <a:prstGeom prst="hexagon">
            <a:avLst>
              <a:gd name="adj" fmla="val 20833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0720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8848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0780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025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16000" y="1482840"/>
            <a:ext cx="1225800" cy="1509480"/>
          </a:xfrm>
          <a:custGeom>
            <a:avLst/>
            <a:gdLst/>
            <a:ahLst/>
            <a:rect l="l" t="t" r="r" b="b"/>
            <a:pathLst>
              <a:path w="772" h="951">
                <a:moveTo>
                  <a:pt x="0" y="0"/>
                </a:moveTo>
                <a:cubicBezTo>
                  <a:pt x="36" y="28"/>
                  <a:pt x="174" y="78"/>
                  <a:pt x="218" y="170"/>
                </a:cubicBezTo>
                <a:cubicBezTo>
                  <a:pt x="262" y="262"/>
                  <a:pt x="234" y="442"/>
                  <a:pt x="266" y="554"/>
                </a:cubicBezTo>
                <a:cubicBezTo>
                  <a:pt x="298" y="666"/>
                  <a:pt x="326" y="776"/>
                  <a:pt x="410" y="842"/>
                </a:cubicBezTo>
                <a:cubicBezTo>
                  <a:pt x="494" y="908"/>
                  <a:pt x="697" y="928"/>
                  <a:pt x="772" y="951"/>
                </a:cubicBezTo>
              </a:path>
            </a:pathLst>
          </a:custGeom>
          <a:noFill/>
          <a:ln w="12600">
            <a:solidFill>
              <a:srgbClr val="66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35320" y="1447920"/>
            <a:ext cx="574560" cy="1577880"/>
          </a:xfrm>
          <a:custGeom>
            <a:avLst/>
            <a:gdLst/>
            <a:ahLst/>
            <a:rect l="l" t="t" r="r" b="b"/>
            <a:pathLst>
              <a:path w="362" h="994">
                <a:moveTo>
                  <a:pt x="0" y="973"/>
                </a:moveTo>
                <a:cubicBezTo>
                  <a:pt x="28" y="962"/>
                  <a:pt x="150" y="994"/>
                  <a:pt x="170" y="912"/>
                </a:cubicBezTo>
                <a:cubicBezTo>
                  <a:pt x="190" y="830"/>
                  <a:pt x="122" y="616"/>
                  <a:pt x="122" y="480"/>
                </a:cubicBezTo>
                <a:cubicBezTo>
                  <a:pt x="122" y="344"/>
                  <a:pt x="130" y="176"/>
                  <a:pt x="170" y="96"/>
                </a:cubicBezTo>
                <a:cubicBezTo>
                  <a:pt x="210" y="16"/>
                  <a:pt x="286" y="8"/>
                  <a:pt x="362" y="0"/>
                </a:cubicBezTo>
              </a:path>
            </a:pathLst>
          </a:custGeom>
          <a:noFill/>
          <a:ln w="12600">
            <a:solidFill>
              <a:srgbClr val="66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1444680"/>
            <a:ext cx="503280" cy="1655640"/>
          </a:xfrm>
          <a:custGeom>
            <a:avLst/>
            <a:gdLst/>
            <a:ahLst/>
            <a:rect l="l" t="t" r="r" b="b"/>
            <a:pathLst>
              <a:path w="317" h="1043">
                <a:moveTo>
                  <a:pt x="0" y="2"/>
                </a:moveTo>
                <a:cubicBezTo>
                  <a:pt x="24" y="16"/>
                  <a:pt x="125" y="0"/>
                  <a:pt x="141" y="88"/>
                </a:cubicBezTo>
                <a:cubicBezTo>
                  <a:pt x="157" y="176"/>
                  <a:pt x="103" y="384"/>
                  <a:pt x="96" y="530"/>
                </a:cubicBezTo>
                <a:cubicBezTo>
                  <a:pt x="89" y="676"/>
                  <a:pt x="59" y="881"/>
                  <a:pt x="96" y="962"/>
                </a:cubicBezTo>
                <a:cubicBezTo>
                  <a:pt x="133" y="1043"/>
                  <a:pt x="271" y="1003"/>
                  <a:pt x="317" y="1013"/>
                </a:cubicBezTo>
              </a:path>
            </a:pathLst>
          </a:custGeom>
          <a:noFill/>
          <a:ln w="12600">
            <a:solidFill>
              <a:srgbClr val="66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43400" y="1447920"/>
            <a:ext cx="990720" cy="1600200"/>
          </a:xfrm>
          <a:custGeom>
            <a:avLst/>
            <a:gdLst/>
            <a:ahLst/>
            <a:rect l="l" t="t" r="r" b="b"/>
            <a:pathLst>
              <a:path w="624" h="1008">
                <a:moveTo>
                  <a:pt x="0" y="1008"/>
                </a:moveTo>
                <a:cubicBezTo>
                  <a:pt x="36" y="1008"/>
                  <a:pt x="72" y="1008"/>
                  <a:pt x="96" y="960"/>
                </a:cubicBezTo>
                <a:cubicBezTo>
                  <a:pt x="120" y="912"/>
                  <a:pt x="120" y="856"/>
                  <a:pt x="144" y="720"/>
                </a:cubicBezTo>
                <a:cubicBezTo>
                  <a:pt x="168" y="584"/>
                  <a:pt x="198" y="259"/>
                  <a:pt x="240" y="144"/>
                </a:cubicBezTo>
                <a:cubicBezTo>
                  <a:pt x="282" y="29"/>
                  <a:pt x="330" y="53"/>
                  <a:pt x="394" y="29"/>
                </a:cubicBezTo>
                <a:cubicBezTo>
                  <a:pt x="458" y="5"/>
                  <a:pt x="576" y="6"/>
                  <a:pt x="624" y="0"/>
                </a:cubicBezTo>
              </a:path>
            </a:pathLst>
          </a:custGeom>
          <a:noFill/>
          <a:ln w="12600">
            <a:solidFill>
              <a:srgbClr val="66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86AB7-84AE-4537-8508-34301457CD5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Example: memory read cycl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  <a:ea typeface="Arial"/>
              </a:rPr>
              <a:t>Transition signaling, 2-ph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6520" y="12938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Valid 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4000" y="210024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Addr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7360" y="286056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Valid 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6160" y="3564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2057400"/>
            <a:ext cx="990720" cy="380880"/>
          </a:xfrm>
          <a:prstGeom prst="hexagon">
            <a:avLst>
              <a:gd name="adj" fmla="val 17088"/>
              <a:gd name="vf" fmla="val 115470"/>
            </a:avLst>
          </a:prstGeom>
          <a:solidFill>
            <a:srgbClr val="ff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5520" y="2057400"/>
            <a:ext cx="990360" cy="380880"/>
          </a:xfrm>
          <a:prstGeom prst="hexagon">
            <a:avLst>
              <a:gd name="adj" fmla="val 17082"/>
              <a:gd name="vf" fmla="val 115470"/>
            </a:avLst>
          </a:prstGeom>
          <a:solidFill>
            <a:srgbClr val="ff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3581280"/>
            <a:ext cx="990720" cy="381240"/>
          </a:xfrm>
          <a:prstGeom prst="hexagon">
            <a:avLst>
              <a:gd name="adj" fmla="val 17072"/>
              <a:gd name="vf" fmla="val 115470"/>
            </a:avLst>
          </a:prstGeom>
          <a:solidFill>
            <a:srgbClr val="ff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3581280"/>
            <a:ext cx="990720" cy="381240"/>
          </a:xfrm>
          <a:prstGeom prst="hexagon">
            <a:avLst>
              <a:gd name="adj" fmla="val 17072"/>
              <a:gd name="vf" fmla="val 115470"/>
            </a:avLst>
          </a:prstGeom>
          <a:solidFill>
            <a:srgbClr val="ff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2057400"/>
            <a:ext cx="2590920" cy="380880"/>
          </a:xfrm>
          <a:prstGeom prst="hexagon">
            <a:avLst>
              <a:gd name="adj" fmla="val 19998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3581280"/>
            <a:ext cx="2438280" cy="381240"/>
          </a:xfrm>
          <a:prstGeom prst="hexagon">
            <a:avLst>
              <a:gd name="adj" fmla="val 18802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2057400"/>
            <a:ext cx="2590920" cy="380880"/>
          </a:xfrm>
          <a:prstGeom prst="hexagon">
            <a:avLst>
              <a:gd name="adj" fmla="val 12093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3581280"/>
            <a:ext cx="1600200" cy="381240"/>
          </a:xfrm>
          <a:prstGeom prst="hexagon">
            <a:avLst>
              <a:gd name="adj" fmla="val 16245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3581280"/>
            <a:ext cx="1371600" cy="381240"/>
          </a:xfrm>
          <a:prstGeom prst="hexagon">
            <a:avLst>
              <a:gd name="adj" fmla="val 17489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2057400"/>
            <a:ext cx="228600" cy="380880"/>
          </a:xfrm>
          <a:prstGeom prst="hexagon">
            <a:avLst>
              <a:gd name="adj" fmla="val 20833"/>
              <a:gd name="vf" fmla="val 115470"/>
            </a:avLst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0720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8848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0780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25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1295280"/>
            <a:ext cx="7315200" cy="381240"/>
          </a:xfrm>
          <a:custGeom>
            <a:avLst/>
            <a:gdLst/>
            <a:ahLst/>
            <a:rect l="l" t="t" r="r" b="b"/>
            <a:pathLst>
              <a:path w="4608" h="240">
                <a:moveTo>
                  <a:pt x="0" y="240"/>
                </a:moveTo>
                <a:lnTo>
                  <a:pt x="432" y="240"/>
                </a:lnTo>
                <a:lnTo>
                  <a:pt x="480" y="0"/>
                </a:lnTo>
                <a:lnTo>
                  <a:pt x="2544" y="0"/>
                </a:lnTo>
                <a:lnTo>
                  <a:pt x="2592" y="240"/>
                </a:lnTo>
                <a:lnTo>
                  <a:pt x="4608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2819520"/>
            <a:ext cx="7315200" cy="380880"/>
          </a:xfrm>
          <a:custGeom>
            <a:avLst/>
            <a:gdLst/>
            <a:ahLst/>
            <a:rect l="l" t="t" r="r" b="b"/>
            <a:pathLst>
              <a:path w="4608" h="240">
                <a:moveTo>
                  <a:pt x="0" y="240"/>
                </a:moveTo>
                <a:lnTo>
                  <a:pt x="1200" y="240"/>
                </a:lnTo>
                <a:lnTo>
                  <a:pt x="1248" y="0"/>
                </a:lnTo>
                <a:lnTo>
                  <a:pt x="3312" y="0"/>
                </a:lnTo>
                <a:lnTo>
                  <a:pt x="3360" y="240"/>
                </a:lnTo>
                <a:lnTo>
                  <a:pt x="4608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F34F-7DC0-4A28-8FBC-AEFDC517639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Asynchronous modu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Signaling protoco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eqin+ start+ [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computation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] done+ reqout+ ackout+ ackin+</a:t>
            </a:r>
            <a:br>
              <a:rPr sz="2000"/>
            </a:b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eqin-  start-       [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eset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]        done-  reqout-  ackout-  ackin-</a:t>
            </a:r>
            <a:br>
              <a:rPr sz="2000"/>
            </a:b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(more concurrency is also possibl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62320" y="1295280"/>
            <a:ext cx="2209680" cy="13716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62320" y="3276720"/>
            <a:ext cx="2209680" cy="5331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24240" y="175248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72000" y="175248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83040" y="175104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Data 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12240" y="17510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Data O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795840" y="266688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862520" y="266688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76520" y="33526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72000" y="33526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7200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7652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94960" y="30942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eq 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63200" y="30942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eq o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80200" y="3502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ack 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48800" y="35020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ack o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75400" y="1522440"/>
            <a:ext cx="102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PA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69040" y="335124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47840" y="27241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sta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1880" y="27241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do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092B-06E5-4691-839D-8C83D551221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Arial"/>
                <a:ea typeface="Arial"/>
              </a:rPr>
              <a:t>Asynchronous latches: C element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11280" y="1606680"/>
            <a:ext cx="2957040" cy="1145520"/>
            <a:chOff x="611280" y="1606680"/>
            <a:chExt cx="2957040" cy="1145520"/>
          </a:xfrm>
        </p:grpSpPr>
        <p:sp>
          <p:nvSpPr>
            <p:cNvPr id="356" name=""/>
            <p:cNvSpPr/>
            <p:nvPr/>
          </p:nvSpPr>
          <p:spPr>
            <a:xfrm flipV="1">
              <a:off x="990720" y="2368440"/>
              <a:ext cx="914400" cy="152640"/>
            </a:xfrm>
            <a:custGeom>
              <a:avLst/>
              <a:gdLst/>
              <a:ahLst/>
              <a:rect l="l" t="t" r="r" b="b"/>
              <a:pathLst>
                <a:path w="576" h="96">
                  <a:moveTo>
                    <a:pt x="0" y="0"/>
                  </a:moveTo>
                  <a:lnTo>
                    <a:pt x="384" y="0"/>
                  </a:lnTo>
                  <a:lnTo>
                    <a:pt x="576" y="96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90920" y="2216160"/>
              <a:ext cx="6094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28800" y="1835280"/>
              <a:ext cx="762120" cy="7617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9200" y="1987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90720" y="1835280"/>
              <a:ext cx="914400" cy="152280"/>
            </a:xfrm>
            <a:custGeom>
              <a:avLst/>
              <a:gdLst/>
              <a:ahLst/>
              <a:rect l="l" t="t" r="r" b="b"/>
              <a:pathLst>
                <a:path w="576" h="96">
                  <a:moveTo>
                    <a:pt x="0" y="0"/>
                  </a:moveTo>
                  <a:lnTo>
                    <a:pt x="384" y="0"/>
                  </a:lnTo>
                  <a:lnTo>
                    <a:pt x="576" y="96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1640" y="1606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1280" y="2292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0184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143000" y="3727440"/>
            <a:ext cx="1752480" cy="1922760"/>
            <a:chOff x="1143000" y="3727440"/>
            <a:chExt cx="1752480" cy="1922760"/>
          </a:xfrm>
        </p:grpSpPr>
        <p:sp>
          <p:nvSpPr>
            <p:cNvPr id="365" name=""/>
            <p:cNvSpPr/>
            <p:nvPr/>
          </p:nvSpPr>
          <p:spPr>
            <a:xfrm>
              <a:off x="1213560" y="3727440"/>
              <a:ext cx="164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A     B     Z</a:t>
              </a:r>
              <a:r>
                <a:rPr b="0" lang="es-ES_tradnl" sz="2400" spc="-1" strike="noStrike" baseline="30000">
                  <a:solidFill>
                    <a:srgbClr val="ffffc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      0      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      1      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      0      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      1      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43000" y="4143600"/>
              <a:ext cx="17524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86000" y="3838680"/>
              <a:ext cx="0" cy="1676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572000" y="175896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0" y="313056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1378080"/>
            <a:ext cx="228600" cy="4190760"/>
          </a:xfrm>
          <a:custGeom>
            <a:avLst/>
            <a:gdLst/>
            <a:ahLst/>
            <a:rect l="l" t="t" r="r" b="b"/>
            <a:pathLst>
              <a:path w="144" h="2640">
                <a:moveTo>
                  <a:pt x="144" y="0"/>
                </a:moveTo>
                <a:lnTo>
                  <a:pt x="144" y="144"/>
                </a:lnTo>
                <a:lnTo>
                  <a:pt x="0" y="144"/>
                </a:lnTo>
                <a:lnTo>
                  <a:pt x="0" y="336"/>
                </a:lnTo>
                <a:lnTo>
                  <a:pt x="144" y="336"/>
                </a:lnTo>
                <a:lnTo>
                  <a:pt x="144" y="1008"/>
                </a:lnTo>
                <a:lnTo>
                  <a:pt x="0" y="1008"/>
                </a:lnTo>
                <a:lnTo>
                  <a:pt x="0" y="1200"/>
                </a:lnTo>
                <a:lnTo>
                  <a:pt x="144" y="1200"/>
                </a:lnTo>
                <a:lnTo>
                  <a:pt x="144" y="1440"/>
                </a:lnTo>
                <a:lnTo>
                  <a:pt x="0" y="1440"/>
                </a:lnTo>
                <a:lnTo>
                  <a:pt x="0" y="1632"/>
                </a:lnTo>
                <a:lnTo>
                  <a:pt x="144" y="1632"/>
                </a:lnTo>
                <a:lnTo>
                  <a:pt x="144" y="2256"/>
                </a:lnTo>
                <a:lnTo>
                  <a:pt x="0" y="2256"/>
                </a:lnTo>
                <a:lnTo>
                  <a:pt x="0" y="2448"/>
                </a:lnTo>
                <a:lnTo>
                  <a:pt x="144" y="2448"/>
                </a:lnTo>
                <a:lnTo>
                  <a:pt x="144" y="26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76920" y="160668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297828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76920" y="366408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495936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767120" y="3070080"/>
            <a:ext cx="109800" cy="1098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67120" y="1700280"/>
            <a:ext cx="109800" cy="1094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381636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511164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172200" y="1378080"/>
            <a:ext cx="609480" cy="4190760"/>
            <a:chOff x="6172200" y="1378080"/>
            <a:chExt cx="609480" cy="4190760"/>
          </a:xfrm>
        </p:grpSpPr>
        <p:sp>
          <p:nvSpPr>
            <p:cNvPr id="380" name=""/>
            <p:cNvSpPr/>
            <p:nvPr/>
          </p:nvSpPr>
          <p:spPr>
            <a:xfrm>
              <a:off x="6172200" y="1758960"/>
              <a:ext cx="30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72200" y="3130560"/>
              <a:ext cx="30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53080" y="1378080"/>
              <a:ext cx="228600" cy="4190760"/>
            </a:xfrm>
            <a:custGeom>
              <a:avLst/>
              <a:gdLst/>
              <a:ahLst/>
              <a:rect l="l" t="t" r="r" b="b"/>
              <a:pathLst>
                <a:path w="144" h="2640">
                  <a:moveTo>
                    <a:pt x="144" y="0"/>
                  </a:moveTo>
                  <a:lnTo>
                    <a:pt x="144" y="144"/>
                  </a:lnTo>
                  <a:lnTo>
                    <a:pt x="0" y="144"/>
                  </a:lnTo>
                  <a:lnTo>
                    <a:pt x="0" y="336"/>
                  </a:lnTo>
                  <a:lnTo>
                    <a:pt x="144" y="336"/>
                  </a:lnTo>
                  <a:lnTo>
                    <a:pt x="144" y="1008"/>
                  </a:lnTo>
                  <a:lnTo>
                    <a:pt x="0" y="1008"/>
                  </a:lnTo>
                  <a:lnTo>
                    <a:pt x="0" y="1200"/>
                  </a:lnTo>
                  <a:lnTo>
                    <a:pt x="144" y="1200"/>
                  </a:lnTo>
                  <a:lnTo>
                    <a:pt x="144" y="1440"/>
                  </a:lnTo>
                  <a:lnTo>
                    <a:pt x="0" y="1440"/>
                  </a:lnTo>
                  <a:lnTo>
                    <a:pt x="0" y="1632"/>
                  </a:lnTo>
                  <a:lnTo>
                    <a:pt x="144" y="1632"/>
                  </a:lnTo>
                  <a:lnTo>
                    <a:pt x="144" y="2256"/>
                  </a:lnTo>
                  <a:lnTo>
                    <a:pt x="0" y="2256"/>
                  </a:lnTo>
                  <a:lnTo>
                    <a:pt x="0" y="2448"/>
                  </a:lnTo>
                  <a:lnTo>
                    <a:pt x="144" y="2448"/>
                  </a:lnTo>
                  <a:lnTo>
                    <a:pt x="144" y="264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76760" y="1606320"/>
              <a:ext cx="0" cy="3045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76760" y="2977920"/>
              <a:ext cx="0" cy="3045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6760" y="3663720"/>
              <a:ext cx="0" cy="3045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76760" y="4959360"/>
              <a:ext cx="0" cy="304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67320" y="3070080"/>
              <a:ext cx="109440" cy="10908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67320" y="1700280"/>
              <a:ext cx="109440" cy="10908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72200" y="3816360"/>
              <a:ext cx="30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72200" y="5111640"/>
              <a:ext cx="30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181480" y="2139840"/>
            <a:ext cx="1600200" cy="304920"/>
            <a:chOff x="5181480" y="2139840"/>
            <a:chExt cx="1600200" cy="304920"/>
          </a:xfrm>
        </p:grpSpPr>
        <p:sp>
          <p:nvSpPr>
            <p:cNvPr id="392" name=""/>
            <p:cNvSpPr/>
            <p:nvPr/>
          </p:nvSpPr>
          <p:spPr>
            <a:xfrm>
              <a:off x="5181480" y="2139840"/>
              <a:ext cx="1600200" cy="193680"/>
            </a:xfrm>
            <a:custGeom>
              <a:avLst/>
              <a:gdLst/>
              <a:ahLst/>
              <a:rect l="l" t="t" r="r" b="b"/>
              <a:pathLst>
                <a:path w="1008" h="122">
                  <a:moveTo>
                    <a:pt x="0" y="0"/>
                  </a:moveTo>
                  <a:lnTo>
                    <a:pt x="240" y="0"/>
                  </a:lnTo>
                  <a:lnTo>
                    <a:pt x="241" y="122"/>
                  </a:lnTo>
                  <a:lnTo>
                    <a:pt x="430" y="122"/>
                  </a:lnTo>
                  <a:lnTo>
                    <a:pt x="432" y="0"/>
                  </a:lnTo>
                  <a:lnTo>
                    <a:pt x="1008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2360" y="2444760"/>
              <a:ext cx="3049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5664240" y="2444760"/>
            <a:ext cx="109440" cy="1094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5181480" y="4425480"/>
            <a:ext cx="1600200" cy="304920"/>
            <a:chOff x="5181480" y="4425480"/>
            <a:chExt cx="1600200" cy="304920"/>
          </a:xfrm>
        </p:grpSpPr>
        <p:sp>
          <p:nvSpPr>
            <p:cNvPr id="396" name=""/>
            <p:cNvSpPr/>
            <p:nvPr/>
          </p:nvSpPr>
          <p:spPr>
            <a:xfrm flipV="1">
              <a:off x="5181480" y="4536720"/>
              <a:ext cx="1600200" cy="193680"/>
            </a:xfrm>
            <a:custGeom>
              <a:avLst/>
              <a:gdLst/>
              <a:ahLst/>
              <a:rect l="l" t="t" r="r" b="b"/>
              <a:pathLst>
                <a:path w="1008" h="122">
                  <a:moveTo>
                    <a:pt x="0" y="0"/>
                  </a:moveTo>
                  <a:lnTo>
                    <a:pt x="240" y="0"/>
                  </a:lnTo>
                  <a:lnTo>
                    <a:pt x="241" y="122"/>
                  </a:lnTo>
                  <a:lnTo>
                    <a:pt x="430" y="122"/>
                  </a:lnTo>
                  <a:lnTo>
                    <a:pt x="432" y="0"/>
                  </a:lnTo>
                  <a:lnTo>
                    <a:pt x="1008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62360" y="4425480"/>
              <a:ext cx="3049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715000" y="2554200"/>
            <a:ext cx="0" cy="1954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4230720"/>
            <a:ext cx="0" cy="1951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3463920"/>
            <a:ext cx="2286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42080" y="3424320"/>
            <a:ext cx="87480" cy="87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5400000">
            <a:off x="7415640" y="3258360"/>
            <a:ext cx="533160" cy="430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924680" y="3400560"/>
            <a:ext cx="152640" cy="15228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077320" y="3463920"/>
            <a:ext cx="3045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1378080"/>
            <a:ext cx="16002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5568840"/>
            <a:ext cx="16002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64880" y="99684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d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4880" y="54928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45480" y="1530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9240" y="4883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9440" y="358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69440" y="2901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92920" y="2901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92920" y="3587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62960" y="4883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9080" y="1530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64160" y="26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564160" y="3816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394840" y="3206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57800" y="509256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[van Berkel 91]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999120" y="4289400"/>
            <a:ext cx="214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cc"/>
                </a:solidFill>
                <a:latin typeface="Arial"/>
                <a:ea typeface="Arial"/>
              </a:rPr>
              <a:t>Static Logic Implement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FF8C2-18A4-4CEE-B71C-448003D4C5D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cc66"/>
                </a:solidFill>
                <a:latin typeface="Arial"/>
                <a:ea typeface="Arial"/>
              </a:rPr>
              <a:t>C-element: Other implementation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98760" y="1263600"/>
            <a:ext cx="3315960" cy="5012640"/>
            <a:chOff x="698760" y="1263600"/>
            <a:chExt cx="3315960" cy="5012640"/>
          </a:xfrm>
        </p:grpSpPr>
        <p:sp>
          <p:nvSpPr>
            <p:cNvPr id="424" name=""/>
            <p:cNvSpPr/>
            <p:nvPr/>
          </p:nvSpPr>
          <p:spPr>
            <a:xfrm>
              <a:off x="1130400" y="1981080"/>
              <a:ext cx="3049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43280" y="2887560"/>
              <a:ext cx="30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81480" y="1598400"/>
              <a:ext cx="290520" cy="4219560"/>
            </a:xfrm>
            <a:custGeom>
              <a:avLst/>
              <a:gdLst/>
              <a:ahLst/>
              <a:rect l="l" t="t" r="r" b="b"/>
              <a:pathLst>
                <a:path w="183" h="2658">
                  <a:moveTo>
                    <a:pt x="174" y="0"/>
                  </a:moveTo>
                  <a:lnTo>
                    <a:pt x="174" y="145"/>
                  </a:lnTo>
                  <a:lnTo>
                    <a:pt x="12" y="145"/>
                  </a:lnTo>
                  <a:lnTo>
                    <a:pt x="12" y="338"/>
                  </a:lnTo>
                  <a:lnTo>
                    <a:pt x="174" y="338"/>
                  </a:lnTo>
                  <a:lnTo>
                    <a:pt x="174" y="712"/>
                  </a:lnTo>
                  <a:lnTo>
                    <a:pt x="0" y="721"/>
                  </a:lnTo>
                  <a:lnTo>
                    <a:pt x="0" y="940"/>
                  </a:lnTo>
                  <a:lnTo>
                    <a:pt x="183" y="940"/>
                  </a:lnTo>
                  <a:lnTo>
                    <a:pt x="165" y="1654"/>
                  </a:lnTo>
                  <a:lnTo>
                    <a:pt x="0" y="1663"/>
                  </a:lnTo>
                  <a:lnTo>
                    <a:pt x="9" y="1928"/>
                  </a:lnTo>
                  <a:lnTo>
                    <a:pt x="165" y="1919"/>
                  </a:lnTo>
                  <a:lnTo>
                    <a:pt x="174" y="2271"/>
                  </a:lnTo>
                  <a:lnTo>
                    <a:pt x="12" y="2271"/>
                  </a:lnTo>
                  <a:lnTo>
                    <a:pt x="12" y="2465"/>
                  </a:lnTo>
                  <a:lnTo>
                    <a:pt x="174" y="2465"/>
                  </a:lnTo>
                  <a:lnTo>
                    <a:pt x="174" y="2658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35320" y="1828800"/>
              <a:ext cx="0" cy="3045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65560" y="2735280"/>
              <a:ext cx="0" cy="3045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63760" y="4306680"/>
              <a:ext cx="0" cy="3049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94000" y="5181480"/>
              <a:ext cx="0" cy="3049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41720" y="2813040"/>
              <a:ext cx="109440" cy="10944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25880" y="1922400"/>
              <a:ext cx="109440" cy="10944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44800" y="4487760"/>
              <a:ext cx="3049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189080" y="5362560"/>
              <a:ext cx="3049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1040" y="1766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28000" y="5105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1320" y="2604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8760" y="423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1863720" y="3506760"/>
              <a:ext cx="1062360" cy="14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2925720" y="3219480"/>
              <a:ext cx="671400" cy="569520"/>
              <a:chOff x="2925720" y="3219480"/>
              <a:chExt cx="671400" cy="569520"/>
            </a:xfrm>
          </p:grpSpPr>
          <p:sp>
            <p:nvSpPr>
              <p:cNvPr id="441" name=""/>
              <p:cNvSpPr/>
              <p:nvPr/>
            </p:nvSpPr>
            <p:spPr>
              <a:xfrm rot="5400000">
                <a:off x="2909160" y="3235680"/>
                <a:ext cx="569520" cy="5367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62840" y="3447000"/>
                <a:ext cx="134280" cy="114120"/>
              </a:xfrm>
              <a:prstGeom prst="ellipse">
                <a:avLst/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3597480" y="3506760"/>
              <a:ext cx="366840" cy="158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413720" y="581652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Gn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97880" y="126360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Vd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278080" y="4410000"/>
              <a:ext cx="52236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67280" y="4664160"/>
              <a:ext cx="52200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38720" y="3512880"/>
              <a:ext cx="0" cy="8701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2514600" y="4649760"/>
              <a:ext cx="14400" cy="11174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1812960" y="5762520"/>
              <a:ext cx="7113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48240" y="3124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5184720" y="194328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97600" y="2849400"/>
            <a:ext cx="3045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35800" y="1560600"/>
            <a:ext cx="290160" cy="4219560"/>
          </a:xfrm>
          <a:custGeom>
            <a:avLst/>
            <a:gdLst/>
            <a:ahLst/>
            <a:rect l="l" t="t" r="r" b="b"/>
            <a:pathLst>
              <a:path w="183" h="2658">
                <a:moveTo>
                  <a:pt x="174" y="0"/>
                </a:moveTo>
                <a:lnTo>
                  <a:pt x="174" y="145"/>
                </a:lnTo>
                <a:lnTo>
                  <a:pt x="12" y="145"/>
                </a:lnTo>
                <a:lnTo>
                  <a:pt x="12" y="338"/>
                </a:lnTo>
                <a:lnTo>
                  <a:pt x="174" y="338"/>
                </a:lnTo>
                <a:lnTo>
                  <a:pt x="174" y="712"/>
                </a:lnTo>
                <a:lnTo>
                  <a:pt x="0" y="721"/>
                </a:lnTo>
                <a:lnTo>
                  <a:pt x="0" y="940"/>
                </a:lnTo>
                <a:lnTo>
                  <a:pt x="183" y="940"/>
                </a:lnTo>
                <a:lnTo>
                  <a:pt x="165" y="1654"/>
                </a:lnTo>
                <a:lnTo>
                  <a:pt x="0" y="1663"/>
                </a:lnTo>
                <a:lnTo>
                  <a:pt x="9" y="1928"/>
                </a:lnTo>
                <a:lnTo>
                  <a:pt x="165" y="1919"/>
                </a:lnTo>
                <a:lnTo>
                  <a:pt x="174" y="2271"/>
                </a:lnTo>
                <a:lnTo>
                  <a:pt x="12" y="2271"/>
                </a:lnTo>
                <a:lnTo>
                  <a:pt x="12" y="2465"/>
                </a:lnTo>
                <a:lnTo>
                  <a:pt x="174" y="2465"/>
                </a:lnTo>
                <a:lnTo>
                  <a:pt x="174" y="2658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89640" y="179064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19880" y="269712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18080" y="426888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48320" y="514368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96040" y="2774880"/>
            <a:ext cx="109440" cy="1094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80200" y="1884240"/>
            <a:ext cx="109440" cy="1098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99120" y="444960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3400" y="5324400"/>
            <a:ext cx="3049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15360" y="1728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81960" y="506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05640" y="256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53080" y="4199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918040" y="3468240"/>
            <a:ext cx="641520" cy="18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557760" y="3181320"/>
            <a:ext cx="671400" cy="569520"/>
            <a:chOff x="6557760" y="3181320"/>
            <a:chExt cx="671400" cy="569520"/>
          </a:xfrm>
        </p:grpSpPr>
        <p:sp>
          <p:nvSpPr>
            <p:cNvPr id="469" name=""/>
            <p:cNvSpPr/>
            <p:nvPr/>
          </p:nvSpPr>
          <p:spPr>
            <a:xfrm rot="5400000">
              <a:off x="6541200" y="3197520"/>
              <a:ext cx="569520" cy="5367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94880" y="3408840"/>
              <a:ext cx="134280" cy="114120"/>
            </a:xfrm>
            <a:prstGeom prst="ellipse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7230960" y="3468600"/>
            <a:ext cx="787680" cy="1584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68040" y="57783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452200" y="122544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d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702560" y="3086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594480" y="2505240"/>
            <a:ext cx="406080" cy="439560"/>
            <a:chOff x="6594480" y="2505240"/>
            <a:chExt cx="406080" cy="439560"/>
          </a:xfrm>
        </p:grpSpPr>
        <p:sp>
          <p:nvSpPr>
            <p:cNvPr id="476" name=""/>
            <p:cNvSpPr/>
            <p:nvPr/>
          </p:nvSpPr>
          <p:spPr>
            <a:xfrm flipH="1" rot="16200000">
              <a:off x="6613560" y="2557800"/>
              <a:ext cx="439560" cy="3340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94480" y="2692440"/>
              <a:ext cx="83880" cy="86760"/>
            </a:xfrm>
            <a:prstGeom prst="ellipse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 flipV="1">
            <a:off x="7475400" y="2742840"/>
            <a:ext cx="0" cy="7398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6995880" y="2757600"/>
            <a:ext cx="4791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11800" y="2743200"/>
            <a:ext cx="378000" cy="725400"/>
          </a:xfrm>
          <a:custGeom>
            <a:avLst/>
            <a:gdLst/>
            <a:ahLst/>
            <a:rect l="l" t="t" r="r" b="b"/>
            <a:pathLst>
              <a:path w="238" h="457">
                <a:moveTo>
                  <a:pt x="238" y="0"/>
                </a:moveTo>
                <a:lnTo>
                  <a:pt x="0" y="0"/>
                </a:lnTo>
                <a:lnTo>
                  <a:pt x="0" y="457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29720" y="200988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Weak inver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575400" y="512136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Quasi-Stat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92600" y="506880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Dynam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EE9B-BAEA-442B-B31B-40498506973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Outli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19000"/>
            <a:ext cx="7772400" cy="36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I: Basic concepts on asynchronous circuit design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II: Logic synthesis from concurrent specifications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III: Advanced topics on synthesis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IV: Design pract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0343-BD68-48A8-821F-03F50F3F574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Dual-rail logic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068480" y="1447920"/>
            <a:ext cx="3228480" cy="2212200"/>
            <a:chOff x="1068480" y="1447920"/>
            <a:chExt cx="3228480" cy="2212200"/>
          </a:xfrm>
        </p:grpSpPr>
        <p:sp>
          <p:nvSpPr>
            <p:cNvPr id="486" name=""/>
            <p:cNvSpPr/>
            <p:nvPr/>
          </p:nvSpPr>
          <p:spPr>
            <a:xfrm>
              <a:off x="3124080" y="3124080"/>
              <a:ext cx="609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76160" y="3429000"/>
              <a:ext cx="9144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76160" y="2819160"/>
              <a:ext cx="9144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61960" y="1523880"/>
              <a:ext cx="762120" cy="7617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361960" y="2666880"/>
              <a:ext cx="838080" cy="91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780" y="3222"/>
                    <a:pt x="17959" y="5080"/>
                    <a:pt x="17959" y="10800"/>
                  </a:cubicBezTo>
                  <a:cubicBezTo>
                    <a:pt x="17959" y="16520"/>
                    <a:pt x="19780" y="183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76160" y="1676160"/>
              <a:ext cx="6858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76160" y="2133360"/>
              <a:ext cx="6858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1904760"/>
              <a:ext cx="609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112760" y="14479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A.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77840" y="259056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A.f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12040" y="182880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B.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68480" y="32004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B.f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34640" y="167616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C.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35360" y="28954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C.f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5109480" y="228456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Dual-rail AND g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118880" y="4713120"/>
            <a:ext cx="73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Valid behavior for monotonic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F18A-FFE0-4A16-A1E6-C8CDD6AE213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Completion detection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47920" y="1447920"/>
            <a:ext cx="2286000" cy="43434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Dual-rail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log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990720" y="1676520"/>
            <a:ext cx="457200" cy="152280"/>
            <a:chOff x="990720" y="1676520"/>
            <a:chExt cx="457200" cy="152280"/>
          </a:xfrm>
        </p:grpSpPr>
        <p:sp>
          <p:nvSpPr>
            <p:cNvPr id="505" name=""/>
            <p:cNvSpPr/>
            <p:nvPr/>
          </p:nvSpPr>
          <p:spPr>
            <a:xfrm>
              <a:off x="990720" y="167652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90720" y="182880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990720" y="21337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0720" y="22860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90720" y="25909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90720" y="27432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30481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90720" y="32004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90720" y="35053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990720" y="36576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990720" y="39625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90720" y="41148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90720" y="44197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90720" y="45720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53341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90720" y="54864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733920" y="1905120"/>
            <a:ext cx="457200" cy="152280"/>
            <a:chOff x="3733920" y="1905120"/>
            <a:chExt cx="457200" cy="152280"/>
          </a:xfrm>
        </p:grpSpPr>
        <p:sp>
          <p:nvSpPr>
            <p:cNvPr id="522" name=""/>
            <p:cNvSpPr/>
            <p:nvPr/>
          </p:nvSpPr>
          <p:spPr>
            <a:xfrm>
              <a:off x="3733920" y="190512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733920" y="205740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733920" y="2514600"/>
            <a:ext cx="457200" cy="152280"/>
            <a:chOff x="3733920" y="2514600"/>
            <a:chExt cx="457200" cy="152280"/>
          </a:xfrm>
        </p:grpSpPr>
        <p:sp>
          <p:nvSpPr>
            <p:cNvPr id="525" name=""/>
            <p:cNvSpPr/>
            <p:nvPr/>
          </p:nvSpPr>
          <p:spPr>
            <a:xfrm>
              <a:off x="3733920" y="251460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733920" y="266688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733920" y="3124080"/>
            <a:ext cx="457200" cy="152280"/>
            <a:chOff x="3733920" y="3124080"/>
            <a:chExt cx="457200" cy="152280"/>
          </a:xfrm>
        </p:grpSpPr>
        <p:sp>
          <p:nvSpPr>
            <p:cNvPr id="528" name=""/>
            <p:cNvSpPr/>
            <p:nvPr/>
          </p:nvSpPr>
          <p:spPr>
            <a:xfrm>
              <a:off x="3733920" y="312408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33920" y="327636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733920" y="3733920"/>
            <a:ext cx="457200" cy="152280"/>
            <a:chOff x="3733920" y="3733920"/>
            <a:chExt cx="457200" cy="152280"/>
          </a:xfrm>
        </p:grpSpPr>
        <p:sp>
          <p:nvSpPr>
            <p:cNvPr id="531" name=""/>
            <p:cNvSpPr/>
            <p:nvPr/>
          </p:nvSpPr>
          <p:spPr>
            <a:xfrm>
              <a:off x="3733920" y="373392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33920" y="388620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3733920" y="4952880"/>
            <a:ext cx="457200" cy="152280"/>
            <a:chOff x="3733920" y="4952880"/>
            <a:chExt cx="457200" cy="152280"/>
          </a:xfrm>
        </p:grpSpPr>
        <p:sp>
          <p:nvSpPr>
            <p:cNvPr id="534" name=""/>
            <p:cNvSpPr/>
            <p:nvPr/>
          </p:nvSpPr>
          <p:spPr>
            <a:xfrm>
              <a:off x="3733920" y="495288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33920" y="510516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082520" y="46944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25720" y="41148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191120" y="1752480"/>
            <a:ext cx="3942000" cy="4192200"/>
            <a:chOff x="4191120" y="1752480"/>
            <a:chExt cx="3942000" cy="4192200"/>
          </a:xfrm>
        </p:grpSpPr>
        <p:grpSp>
          <p:nvGrpSpPr>
            <p:cNvPr id="539" name=""/>
            <p:cNvGrpSpPr/>
            <p:nvPr/>
          </p:nvGrpSpPr>
          <p:grpSpPr>
            <a:xfrm>
              <a:off x="4191120" y="1752480"/>
              <a:ext cx="3271320" cy="3505320"/>
              <a:chOff x="4191120" y="1752480"/>
              <a:chExt cx="3271320" cy="3505320"/>
            </a:xfrm>
          </p:grpSpPr>
          <p:sp>
            <p:nvSpPr>
              <p:cNvPr id="540" name=""/>
              <p:cNvSpPr/>
              <p:nvPr/>
            </p:nvSpPr>
            <p:spPr>
              <a:xfrm>
                <a:off x="4572000" y="1981080"/>
                <a:ext cx="3808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572000" y="2590920"/>
                <a:ext cx="3808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572000" y="3200400"/>
                <a:ext cx="3808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572000" y="3809880"/>
                <a:ext cx="3808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572000" y="5029200"/>
                <a:ext cx="3808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4191120" y="17524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929" y="3275"/>
                      <a:pt x="18257" y="5080"/>
                      <a:pt x="18257" y="10800"/>
                    </a:cubicBezTo>
                    <a:cubicBezTo>
                      <a:pt x="18257" y="16520"/>
                      <a:pt x="19929" y="1832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4191120" y="23623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929" y="3275"/>
                      <a:pt x="18257" y="5080"/>
                      <a:pt x="18257" y="10800"/>
                    </a:cubicBezTo>
                    <a:cubicBezTo>
                      <a:pt x="18257" y="16520"/>
                      <a:pt x="19929" y="1832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4191120" y="297180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929" y="3275"/>
                      <a:pt x="18257" y="5080"/>
                      <a:pt x="18257" y="10800"/>
                    </a:cubicBezTo>
                    <a:cubicBezTo>
                      <a:pt x="18257" y="16520"/>
                      <a:pt x="19929" y="1832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4191120" y="35812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929" y="3275"/>
                      <a:pt x="18257" y="5080"/>
                      <a:pt x="18257" y="10800"/>
                    </a:cubicBezTo>
                    <a:cubicBezTo>
                      <a:pt x="18257" y="16520"/>
                      <a:pt x="19929" y="1832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4191120" y="480060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929" y="3275"/>
                      <a:pt x="18257" y="5080"/>
                      <a:pt x="18257" y="10800"/>
                    </a:cubicBezTo>
                    <a:cubicBezTo>
                      <a:pt x="18257" y="16520"/>
                      <a:pt x="19929" y="1832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952880" y="2590920"/>
                <a:ext cx="990720" cy="9903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952880" y="1981080"/>
                <a:ext cx="990720" cy="16002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952880" y="3200400"/>
                <a:ext cx="990720" cy="3808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4952880" y="3580920"/>
                <a:ext cx="990720" cy="2286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4952880" y="3581280"/>
                <a:ext cx="990720" cy="1447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638680" y="3276720"/>
                <a:ext cx="533520" cy="53316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707440" y="3276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172200" y="3537000"/>
                <a:ext cx="3808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54880" y="3274920"/>
                <a:ext cx="90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done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4191120" y="5484960"/>
              <a:ext cx="394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mpletion detection tre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55566-2C95-476F-BCCE-F70BF8B4B38D}" type="slidenum">
              <a:t>2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66"/>
                </a:solidFill>
                <a:latin typeface="Arial"/>
                <a:ea typeface="Arial"/>
              </a:rPr>
              <a:t>Differential cascode voltage switch logic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54440" y="1295280"/>
            <a:ext cx="152280" cy="1828800"/>
          </a:xfrm>
          <a:custGeom>
            <a:avLst/>
            <a:gdLst/>
            <a:ahLst/>
            <a:rect l="l" t="t" r="r" b="b"/>
            <a:pathLst>
              <a:path w="96" h="1152">
                <a:moveTo>
                  <a:pt x="0" y="0"/>
                </a:moveTo>
                <a:lnTo>
                  <a:pt x="0" y="288"/>
                </a:lnTo>
                <a:lnTo>
                  <a:pt x="96" y="288"/>
                </a:lnTo>
                <a:lnTo>
                  <a:pt x="96" y="480"/>
                </a:lnTo>
                <a:lnTo>
                  <a:pt x="0" y="480"/>
                </a:lnTo>
                <a:lnTo>
                  <a:pt x="0" y="1152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83040" y="175248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983040" y="1874880"/>
            <a:ext cx="76320" cy="763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049720" y="1295280"/>
            <a:ext cx="152640" cy="1828800"/>
          </a:xfrm>
          <a:custGeom>
            <a:avLst/>
            <a:gdLst/>
            <a:ahLst/>
            <a:rect l="l" t="t" r="r" b="b"/>
            <a:pathLst>
              <a:path w="96" h="1152">
                <a:moveTo>
                  <a:pt x="0" y="0"/>
                </a:moveTo>
                <a:lnTo>
                  <a:pt x="0" y="288"/>
                </a:lnTo>
                <a:lnTo>
                  <a:pt x="96" y="288"/>
                </a:lnTo>
                <a:lnTo>
                  <a:pt x="96" y="480"/>
                </a:lnTo>
                <a:lnTo>
                  <a:pt x="0" y="480"/>
                </a:lnTo>
                <a:lnTo>
                  <a:pt x="0" y="1152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73760" y="175248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4897440" y="1874880"/>
            <a:ext cx="76320" cy="763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92520" y="3124080"/>
            <a:ext cx="762120" cy="2514600"/>
          </a:xfrm>
          <a:custGeom>
            <a:avLst/>
            <a:gdLst/>
            <a:ahLst/>
            <a:rect l="l" t="t" r="r" b="b"/>
            <a:pathLst>
              <a:path w="480" h="1584">
                <a:moveTo>
                  <a:pt x="384" y="0"/>
                </a:moveTo>
                <a:lnTo>
                  <a:pt x="384" y="240"/>
                </a:lnTo>
                <a:lnTo>
                  <a:pt x="480" y="240"/>
                </a:lnTo>
                <a:lnTo>
                  <a:pt x="480" y="432"/>
                </a:lnTo>
                <a:lnTo>
                  <a:pt x="384" y="432"/>
                </a:lnTo>
                <a:lnTo>
                  <a:pt x="384" y="528"/>
                </a:lnTo>
                <a:lnTo>
                  <a:pt x="480" y="528"/>
                </a:lnTo>
                <a:lnTo>
                  <a:pt x="480" y="720"/>
                </a:lnTo>
                <a:lnTo>
                  <a:pt x="384" y="725"/>
                </a:lnTo>
                <a:lnTo>
                  <a:pt x="384" y="816"/>
                </a:lnTo>
                <a:lnTo>
                  <a:pt x="480" y="816"/>
                </a:lnTo>
                <a:lnTo>
                  <a:pt x="480" y="1008"/>
                </a:lnTo>
                <a:lnTo>
                  <a:pt x="384" y="1008"/>
                </a:lnTo>
                <a:lnTo>
                  <a:pt x="384" y="1200"/>
                </a:lnTo>
                <a:lnTo>
                  <a:pt x="0" y="1200"/>
                </a:lnTo>
                <a:lnTo>
                  <a:pt x="0" y="1296"/>
                </a:lnTo>
                <a:lnTo>
                  <a:pt x="96" y="1296"/>
                </a:lnTo>
                <a:lnTo>
                  <a:pt x="96" y="1488"/>
                </a:lnTo>
                <a:lnTo>
                  <a:pt x="0" y="1488"/>
                </a:lnTo>
                <a:lnTo>
                  <a:pt x="0" y="1584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30960" y="350532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30960" y="396252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30960" y="441972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30960" y="3657600"/>
            <a:ext cx="228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30960" y="4114800"/>
            <a:ext cx="228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30960" y="4572000"/>
            <a:ext cx="228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21120" y="518148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21120" y="5334120"/>
            <a:ext cx="228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35320" y="3505320"/>
            <a:ext cx="152640" cy="152388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lnTo>
                  <a:pt x="96" y="240"/>
                </a:lnTo>
                <a:lnTo>
                  <a:pt x="0" y="240"/>
                </a:lnTo>
                <a:lnTo>
                  <a:pt x="0" y="432"/>
                </a:lnTo>
                <a:lnTo>
                  <a:pt x="96" y="432"/>
                </a:lnTo>
                <a:lnTo>
                  <a:pt x="96" y="96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059360" y="388620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06720" y="4038480"/>
            <a:ext cx="15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373560" y="3505320"/>
            <a:ext cx="152280" cy="152388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lnTo>
                  <a:pt x="96" y="240"/>
                </a:lnTo>
                <a:lnTo>
                  <a:pt x="0" y="240"/>
                </a:lnTo>
                <a:lnTo>
                  <a:pt x="0" y="432"/>
                </a:lnTo>
                <a:lnTo>
                  <a:pt x="96" y="432"/>
                </a:lnTo>
                <a:lnTo>
                  <a:pt x="96" y="96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97240" y="388620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44960" y="4038480"/>
            <a:ext cx="1522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11440" y="3505320"/>
            <a:ext cx="152280" cy="152388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lnTo>
                  <a:pt x="96" y="240"/>
                </a:lnTo>
                <a:lnTo>
                  <a:pt x="0" y="240"/>
                </a:lnTo>
                <a:lnTo>
                  <a:pt x="0" y="432"/>
                </a:lnTo>
                <a:lnTo>
                  <a:pt x="96" y="432"/>
                </a:lnTo>
                <a:lnTo>
                  <a:pt x="96" y="96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35120" y="388620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82840" y="4038480"/>
            <a:ext cx="1522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63720" y="5029200"/>
            <a:ext cx="18288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63720" y="3505320"/>
            <a:ext cx="15242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54440" y="3124080"/>
            <a:ext cx="0" cy="38124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54440" y="1295280"/>
            <a:ext cx="14479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68680" y="5638680"/>
            <a:ext cx="228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5202360" y="2246400"/>
            <a:ext cx="1143000" cy="380880"/>
            <a:chOff x="5202360" y="2246400"/>
            <a:chExt cx="1143000" cy="380880"/>
          </a:xfrm>
        </p:grpSpPr>
        <p:sp>
          <p:nvSpPr>
            <p:cNvPr id="591" name=""/>
            <p:cNvSpPr/>
            <p:nvPr/>
          </p:nvSpPr>
          <p:spPr>
            <a:xfrm>
              <a:off x="5202360" y="2438280"/>
              <a:ext cx="3808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5582880" y="2246400"/>
              <a:ext cx="381600" cy="380880"/>
              <a:chOff x="5582880" y="2246400"/>
              <a:chExt cx="381600" cy="380880"/>
            </a:xfrm>
          </p:grpSpPr>
          <p:sp>
            <p:nvSpPr>
              <p:cNvPr id="593" name=""/>
              <p:cNvSpPr/>
              <p:nvPr/>
            </p:nvSpPr>
            <p:spPr>
              <a:xfrm rot="5400000">
                <a:off x="5544720" y="2284200"/>
                <a:ext cx="38088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888160" y="2398680"/>
                <a:ext cx="76320" cy="76320"/>
              </a:xfrm>
              <a:prstGeom prst="ellipse">
                <a:avLst/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5964480" y="2438280"/>
              <a:ext cx="3808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611080" y="2262240"/>
            <a:ext cx="1143000" cy="380880"/>
            <a:chOff x="2611080" y="2262240"/>
            <a:chExt cx="1143000" cy="380880"/>
          </a:xfrm>
        </p:grpSpPr>
        <p:sp>
          <p:nvSpPr>
            <p:cNvPr id="597" name=""/>
            <p:cNvSpPr/>
            <p:nvPr/>
          </p:nvSpPr>
          <p:spPr>
            <a:xfrm flipH="1">
              <a:off x="3373200" y="2454120"/>
              <a:ext cx="3808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2991960" y="2262240"/>
              <a:ext cx="381600" cy="380880"/>
              <a:chOff x="2991960" y="2262240"/>
              <a:chExt cx="381600" cy="380880"/>
            </a:xfrm>
          </p:grpSpPr>
          <p:sp>
            <p:nvSpPr>
              <p:cNvPr id="599" name=""/>
              <p:cNvSpPr/>
              <p:nvPr/>
            </p:nvSpPr>
            <p:spPr>
              <a:xfrm flipH="1" rot="16200000">
                <a:off x="3030120" y="2300040"/>
                <a:ext cx="38088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2991960" y="2414520"/>
                <a:ext cx="76320" cy="76320"/>
              </a:xfrm>
              <a:prstGeom prst="ellipse">
                <a:avLst/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 flipH="1">
              <a:off x="2611080" y="2454120"/>
              <a:ext cx="3808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6006960" y="2846520"/>
            <a:ext cx="335160" cy="365040"/>
          </a:xfrm>
          <a:prstGeom prst="flowChartDelay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57960" y="2986200"/>
            <a:ext cx="74520" cy="745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754440" y="2925720"/>
            <a:ext cx="22478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5194440" y="3132000"/>
            <a:ext cx="8078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27800" y="3025800"/>
            <a:ext cx="2221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75720" y="139716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cc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009040" y="513720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cc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89360" y="34592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A.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616000" y="3932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B.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20680" y="4381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C.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93800" y="38336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A.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730240" y="38336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B.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45800" y="38257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C.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269760" y="2224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Z.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31640" y="2224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Z.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575400" y="2819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</a:rPr>
              <a:t>do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73400" y="1927080"/>
            <a:ext cx="8384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4920" y="5433840"/>
            <a:ext cx="36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3-input AND/NAND g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727280" y="3295800"/>
            <a:ext cx="6588000" cy="1914480"/>
          </a:xfrm>
          <a:prstGeom prst="rect">
            <a:avLst/>
          </a:prstGeom>
          <a:noFill/>
          <a:ln w="2844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02320" y="378792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N-type transistor 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484520" y="1552680"/>
            <a:ext cx="14400" cy="3636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3164040" y="1509480"/>
            <a:ext cx="1334880" cy="2844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78E9-9532-4B2E-95C0-784DD285AC7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cc66"/>
                </a:solidFill>
                <a:latin typeface="Arial"/>
                <a:ea typeface="Arial"/>
              </a:rPr>
              <a:t>Examples of dual-rail desig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Asynchronous dual-rail ripple-carry adder (A. Martin, 1991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Critical delay is proportional to logN (N=number of bit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32-bit adder delay (1.6m MOSIS CMOS): 11ns versus 40 ns for synchrono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sync cell transistor count = 34 versus synchronous = 2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More recent success stories (modularity and automatic synthesis) of dual-rail logic  from Null-Convension Logic from Theseus Logic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0EFD2-FCFE-47E5-8CD3-C85660677DD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Bundled-data logic block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05320" y="1295280"/>
            <a:ext cx="2286000" cy="31608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Single-rail 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48120" y="152388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48120" y="198108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48120" y="243828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8120" y="289548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048120" y="335268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41940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91320" y="19051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791320" y="25146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791320" y="312408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91320" y="419112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54320" y="354024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83120" y="335268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905480" y="4635360"/>
            <a:ext cx="5603400" cy="535680"/>
            <a:chOff x="1905480" y="4635360"/>
            <a:chExt cx="5603400" cy="535680"/>
          </a:xfrm>
        </p:grpSpPr>
        <p:sp>
          <p:nvSpPr>
            <p:cNvPr id="641" name=""/>
            <p:cNvSpPr/>
            <p:nvPr/>
          </p:nvSpPr>
          <p:spPr>
            <a:xfrm>
              <a:off x="3733920" y="4713120"/>
              <a:ext cx="1828800" cy="45720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70320" y="471132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dela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66880" y="494172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62720" y="4941720"/>
              <a:ext cx="1066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05480" y="4635360"/>
              <a:ext cx="77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star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51360" y="463536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don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2061000" y="572292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Conventional logic + matched del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D16D-6AC3-45DF-A71E-7B6DC6A72C1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cc66"/>
                </a:solidFill>
                <a:latin typeface="Arial"/>
                <a:ea typeface="Arial"/>
              </a:rPr>
              <a:t>Mutual exclusion el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925720" y="2513160"/>
            <a:ext cx="533520" cy="609480"/>
          </a:xfrm>
          <a:prstGeom prst="flowChartDelay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59240" y="2741760"/>
            <a:ext cx="152280" cy="152280"/>
          </a:xfrm>
          <a:prstGeom prst="ellipse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925720" y="3808440"/>
            <a:ext cx="685800" cy="609480"/>
            <a:chOff x="2925720" y="3808440"/>
            <a:chExt cx="685800" cy="609480"/>
          </a:xfrm>
        </p:grpSpPr>
        <p:sp>
          <p:nvSpPr>
            <p:cNvPr id="652" name=""/>
            <p:cNvSpPr/>
            <p:nvPr/>
          </p:nvSpPr>
          <p:spPr>
            <a:xfrm>
              <a:off x="2925720" y="3808440"/>
              <a:ext cx="533160" cy="609480"/>
            </a:xfrm>
            <a:prstGeom prst="flowChartDelay">
              <a:avLst/>
            </a:pr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58880" y="4036680"/>
              <a:ext cx="152640" cy="152280"/>
            </a:xfrm>
            <a:prstGeom prst="ellipse">
              <a:avLst/>
            </a:pr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3611520" y="2817720"/>
            <a:ext cx="7621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4373640" y="2817360"/>
            <a:ext cx="1904400" cy="152640"/>
            <a:chOff x="4373640" y="2817360"/>
            <a:chExt cx="1904400" cy="152640"/>
          </a:xfrm>
        </p:grpSpPr>
        <p:sp>
          <p:nvSpPr>
            <p:cNvPr id="656" name=""/>
            <p:cNvSpPr/>
            <p:nvPr/>
          </p:nvSpPr>
          <p:spPr>
            <a:xfrm>
              <a:off x="4373640" y="2817720"/>
              <a:ext cx="0" cy="152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73640" y="2970000"/>
              <a:ext cx="38088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4754520" y="2817360"/>
              <a:ext cx="0" cy="152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754520" y="2817720"/>
              <a:ext cx="76140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16280" y="2817720"/>
              <a:ext cx="0" cy="152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16280" y="2970000"/>
              <a:ext cx="38088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897520" y="2817720"/>
              <a:ext cx="0" cy="152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97520" y="2817720"/>
              <a:ext cx="3805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611520" y="4113360"/>
            <a:ext cx="7621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63800" y="2817720"/>
            <a:ext cx="0" cy="45720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2696760" y="3960720"/>
            <a:ext cx="2286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697120" y="3656160"/>
            <a:ext cx="0" cy="3045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697120" y="3274560"/>
            <a:ext cx="1066680" cy="3812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697120" y="3274920"/>
            <a:ext cx="1066680" cy="3812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763800" y="3656160"/>
            <a:ext cx="0" cy="45720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697120" y="2970360"/>
            <a:ext cx="0" cy="3045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696760" y="2970360"/>
            <a:ext cx="2286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163600" y="2741760"/>
            <a:ext cx="7621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239920" y="4265640"/>
            <a:ext cx="68580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4373640" y="3961080"/>
            <a:ext cx="1904400" cy="152640"/>
            <a:chOff x="4373640" y="3961080"/>
            <a:chExt cx="1904400" cy="152640"/>
          </a:xfrm>
        </p:grpSpPr>
        <p:sp>
          <p:nvSpPr>
            <p:cNvPr id="676" name=""/>
            <p:cNvSpPr/>
            <p:nvPr/>
          </p:nvSpPr>
          <p:spPr>
            <a:xfrm flipV="1">
              <a:off x="4373640" y="3961080"/>
              <a:ext cx="0" cy="152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373640" y="3961080"/>
              <a:ext cx="38088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54520" y="3961440"/>
              <a:ext cx="0" cy="152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54520" y="4113360"/>
              <a:ext cx="76140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5516280" y="3961080"/>
              <a:ext cx="0" cy="152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16280" y="3961080"/>
              <a:ext cx="38088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5897520" y="3961080"/>
              <a:ext cx="0" cy="152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897520" y="4113360"/>
              <a:ext cx="3805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6278400" y="2817720"/>
            <a:ext cx="0" cy="12956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278400" y="3427560"/>
            <a:ext cx="3049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583320" y="3427560"/>
            <a:ext cx="0" cy="22860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31040" y="3656160"/>
            <a:ext cx="380880" cy="7596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525920" y="2970360"/>
            <a:ext cx="152280" cy="15228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525920" y="3808440"/>
            <a:ext cx="152280" cy="15228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02240" y="3122640"/>
            <a:ext cx="0" cy="1522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602240" y="3274920"/>
            <a:ext cx="106668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668920" y="2970360"/>
            <a:ext cx="0" cy="3045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5668920" y="3656160"/>
            <a:ext cx="0" cy="3045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602240" y="3656160"/>
            <a:ext cx="106668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602240" y="3656160"/>
            <a:ext cx="0" cy="1522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763800" y="3274560"/>
            <a:ext cx="838440" cy="3812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763800" y="3274920"/>
            <a:ext cx="838440" cy="3812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5135400" y="2588760"/>
            <a:ext cx="0" cy="22860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35400" y="2589120"/>
            <a:ext cx="198288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35400" y="4341960"/>
            <a:ext cx="19447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135400" y="4113000"/>
            <a:ext cx="0" cy="22860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36760" y="2379600"/>
            <a:ext cx="76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eq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09760" y="397188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eq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107120" y="2360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ck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67520" y="4119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ck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317680" y="22068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(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165040" y="3807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(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612960" y="22827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(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612960" y="40356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(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551640" y="21304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(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541920" y="43196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(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03360" y="109548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Basic arbitration element: Mu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69880" y="5057640"/>
            <a:ext cx="59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n asynchronous data latch with MS resolver can be built similar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08320" y="1666800"/>
            <a:ext cx="2316240" cy="3090960"/>
          </a:xfrm>
          <a:prstGeom prst="rect">
            <a:avLst/>
          </a:prstGeom>
          <a:noFill/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17840" y="1701720"/>
            <a:ext cx="20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Metastability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AF02-90F6-4CB1-BF57-7C5D4ACAB3C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cc66"/>
                </a:solidFill>
                <a:latin typeface="Arial"/>
                <a:ea typeface="Arial"/>
              </a:rPr>
              <a:t>Micropipelines </a:t>
            </a:r>
            <a:r>
              <a:rPr b="0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(Sutherland 89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982800" y="2247840"/>
            <a:ext cx="1366200" cy="612000"/>
            <a:chOff x="982800" y="2247840"/>
            <a:chExt cx="1366200" cy="612000"/>
          </a:xfrm>
        </p:grpSpPr>
        <p:sp>
          <p:nvSpPr>
            <p:cNvPr id="718" name=""/>
            <p:cNvSpPr/>
            <p:nvPr/>
          </p:nvSpPr>
          <p:spPr>
            <a:xfrm>
              <a:off x="1434960" y="2350800"/>
              <a:ext cx="485280" cy="485280"/>
            </a:xfrm>
            <a:prstGeom prst="ellipse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88960" y="2396880"/>
              <a:ext cx="4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17360" y="2247840"/>
              <a:ext cx="439200" cy="23004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982800" y="2698200"/>
              <a:ext cx="463320" cy="16164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31760" y="2593800"/>
              <a:ext cx="41724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366920" y="294012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Jo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2906280" y="2131920"/>
            <a:ext cx="1806480" cy="991800"/>
            <a:chOff x="2906280" y="2131920"/>
            <a:chExt cx="1806480" cy="991800"/>
          </a:xfrm>
        </p:grpSpPr>
        <p:sp>
          <p:nvSpPr>
            <p:cNvPr id="725" name=""/>
            <p:cNvSpPr/>
            <p:nvPr/>
          </p:nvSpPr>
          <p:spPr>
            <a:xfrm flipH="1">
              <a:off x="3564360" y="2173320"/>
              <a:ext cx="844200" cy="90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916360" y="2222640"/>
              <a:ext cx="903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35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35302"/>
                </a:path>
              </a:pathLst>
            </a:custGeom>
            <a:noFill/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2906280" y="2131560"/>
              <a:ext cx="9046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35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35302"/>
                </a:path>
              </a:pathLst>
            </a:custGeom>
            <a:noFill/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3103560" y="2373480"/>
              <a:ext cx="601560" cy="1080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116160" y="2917800"/>
              <a:ext cx="54396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98840" y="2660760"/>
              <a:ext cx="31392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3230640" y="311796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Merg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33880" y="55515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Togg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5234040" y="1932120"/>
            <a:ext cx="1795320" cy="1648800"/>
            <a:chOff x="5234040" y="1932120"/>
            <a:chExt cx="1795320" cy="1648800"/>
          </a:xfrm>
        </p:grpSpPr>
        <p:sp>
          <p:nvSpPr>
            <p:cNvPr id="734" name=""/>
            <p:cNvSpPr/>
            <p:nvPr/>
          </p:nvSpPr>
          <p:spPr>
            <a:xfrm>
              <a:off x="5564160" y="1990800"/>
              <a:ext cx="1146240" cy="1527480"/>
            </a:xfrm>
            <a:prstGeom prst="rect">
              <a:avLst/>
            </a:prstGeom>
            <a:solidFill>
              <a:srgbClr val="ff9933"/>
            </a:solidFill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234040" y="216720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248080" y="332604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49880" y="249408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51320" y="301644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700680" y="224352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715080" y="328788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635440" y="193212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614920" y="278964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5800" y="193716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g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42040" y="300384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g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551560" y="227520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d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549760" y="312120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d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7013520" y="2144880"/>
            <a:ext cx="21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equest-Grant-Done (RGD)Arbi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562880" y="49053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Ca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413320" y="4079880"/>
            <a:ext cx="1804680" cy="1606680"/>
            <a:chOff x="5413320" y="4079880"/>
            <a:chExt cx="1804680" cy="1606680"/>
          </a:xfrm>
        </p:grpSpPr>
        <p:sp>
          <p:nvSpPr>
            <p:cNvPr id="750" name=""/>
            <p:cNvSpPr/>
            <p:nvPr/>
          </p:nvSpPr>
          <p:spPr>
            <a:xfrm>
              <a:off x="5752800" y="4170600"/>
              <a:ext cx="1146240" cy="1515960"/>
            </a:xfrm>
            <a:prstGeom prst="rect">
              <a:avLst/>
            </a:prstGeom>
            <a:solidFill>
              <a:srgbClr val="ff9933"/>
            </a:solidFill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22680" y="439128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35280" y="467064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13320" y="514692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27360" y="545004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903720" y="474984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94360" y="509904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76560" y="4079880"/>
              <a:ext cx="6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67200" y="492624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534000" y="445320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524280" y="4802400"/>
              <a:ext cx="6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54600" y="444024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a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67200" y="521820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a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920880" y="5527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Sel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743040" y="3807000"/>
            <a:ext cx="1581120" cy="1644480"/>
            <a:chOff x="743040" y="3807000"/>
            <a:chExt cx="1581120" cy="1644480"/>
          </a:xfrm>
        </p:grpSpPr>
        <p:sp>
          <p:nvSpPr>
            <p:cNvPr id="765" name=""/>
            <p:cNvSpPr/>
            <p:nvPr/>
          </p:nvSpPr>
          <p:spPr>
            <a:xfrm>
              <a:off x="1420560" y="4051440"/>
              <a:ext cx="174600" cy="207720"/>
            </a:xfrm>
            <a:prstGeom prst="flowChartDecision">
              <a:avLst/>
            </a:prstGeom>
            <a:solidFill>
              <a:srgbClr val="ff9933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743040" y="4154400"/>
              <a:ext cx="1581120" cy="1297080"/>
              <a:chOff x="743040" y="4154400"/>
              <a:chExt cx="1581120" cy="1297080"/>
            </a:xfrm>
          </p:grpSpPr>
          <p:sp>
            <p:nvSpPr>
              <p:cNvPr id="767" name=""/>
              <p:cNvSpPr/>
              <p:nvPr/>
            </p:nvSpPr>
            <p:spPr>
              <a:xfrm>
                <a:off x="1062000" y="4259160"/>
                <a:ext cx="949320" cy="119232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43040" y="4935240"/>
                <a:ext cx="314280" cy="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033560" y="4682880"/>
                <a:ext cx="61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in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996920" y="4635360"/>
                <a:ext cx="314640" cy="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009880" y="5273640"/>
                <a:ext cx="314280" cy="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370160" y="4441680"/>
                <a:ext cx="74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outf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371600" y="4952880"/>
                <a:ext cx="74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outt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258920" y="4154400"/>
                <a:ext cx="74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el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1514520" y="3807000"/>
              <a:ext cx="0" cy="24264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3063960" y="4181400"/>
            <a:ext cx="1590120" cy="1623960"/>
            <a:chOff x="3063960" y="4181400"/>
            <a:chExt cx="1590120" cy="1623960"/>
          </a:xfrm>
        </p:grpSpPr>
        <p:sp>
          <p:nvSpPr>
            <p:cNvPr id="777" name=""/>
            <p:cNvSpPr/>
            <p:nvPr/>
          </p:nvSpPr>
          <p:spPr>
            <a:xfrm>
              <a:off x="3382560" y="4286160"/>
              <a:ext cx="948960" cy="119232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063960" y="4962600"/>
              <a:ext cx="31392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354120" y="4710240"/>
              <a:ext cx="6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39800" y="4594320"/>
              <a:ext cx="31428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330440" y="5300640"/>
              <a:ext cx="313920" cy="0"/>
            </a:xfrm>
            <a:prstGeom prst="line">
              <a:avLst/>
            </a:prstGeom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55800" y="4398840"/>
              <a:ext cx="74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out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92160" y="4979880"/>
              <a:ext cx="74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out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79480" y="4181400"/>
              <a:ext cx="74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647640" y="5475240"/>
            <a:ext cx="16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874880" y="121428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Micropipeline (2-phase) control bloc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32DE1-3279-4CCC-B974-249EAB10038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0" y="1233360"/>
            <a:ext cx="9144000" cy="4376880"/>
            <a:chOff x="0" y="1233360"/>
            <a:chExt cx="9144000" cy="4376880"/>
          </a:xfrm>
        </p:grpSpPr>
        <p:sp>
          <p:nvSpPr>
            <p:cNvPr id="788" name=""/>
            <p:cNvSpPr/>
            <p:nvPr/>
          </p:nvSpPr>
          <p:spPr>
            <a:xfrm>
              <a:off x="5272200" y="4629240"/>
              <a:ext cx="3871800" cy="981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038400" y="1233360"/>
              <a:ext cx="3394080" cy="98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39200" y="1233360"/>
              <a:ext cx="1504800" cy="98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0" y="4616280"/>
              <a:ext cx="4165560" cy="98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0" y="1233360"/>
              <a:ext cx="1920960" cy="98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Micropipelines (Sutherland 89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066680" y="2395440"/>
            <a:ext cx="533520" cy="198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352680" y="2395440"/>
            <a:ext cx="533520" cy="198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2395440"/>
            <a:ext cx="533520" cy="198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924680" y="2395440"/>
            <a:ext cx="533520" cy="198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05120" y="2382840"/>
            <a:ext cx="1079280" cy="199404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191120" y="2395440"/>
            <a:ext cx="1079280" cy="199404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477120" y="2408400"/>
            <a:ext cx="1079280" cy="199368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44440" y="3156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424320" y="3156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703840" y="3156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983720" y="3156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058120" y="3156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44120" y="3156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630120" y="3156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00200" y="3157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895480" y="3157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86200" y="3157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181480" y="3157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72200" y="3157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467480" y="3157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295280" y="4376880"/>
            <a:ext cx="0" cy="380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3581280" y="2014560"/>
            <a:ext cx="0" cy="38088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5867280" y="4376880"/>
            <a:ext cx="0" cy="380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8153280" y="2014560"/>
            <a:ext cx="0" cy="38088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09480" y="3157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458200" y="31575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200" y="502776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-44280" y="1220760"/>
            <a:ext cx="67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o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531720" y="4710240"/>
            <a:ext cx="1520640" cy="590400"/>
            <a:chOff x="531720" y="4710240"/>
            <a:chExt cx="1520640" cy="590400"/>
          </a:xfrm>
        </p:grpSpPr>
        <p:sp>
          <p:nvSpPr>
            <p:cNvPr id="823" name=""/>
            <p:cNvSpPr/>
            <p:nvPr/>
          </p:nvSpPr>
          <p:spPr>
            <a:xfrm>
              <a:off x="1099800" y="4754520"/>
              <a:ext cx="381240" cy="38124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101960" y="4710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1720" y="5092920"/>
              <a:ext cx="635040" cy="207720"/>
            </a:xfrm>
            <a:custGeom>
              <a:avLst/>
              <a:gdLst/>
              <a:ahLst/>
              <a:rect l="l" t="t" r="r" b="b"/>
              <a:pathLst>
                <a:path w="400" h="131">
                  <a:moveTo>
                    <a:pt x="0" y="131"/>
                  </a:moveTo>
                  <a:cubicBezTo>
                    <a:pt x="90" y="131"/>
                    <a:pt x="179" y="131"/>
                    <a:pt x="269" y="131"/>
                  </a:cubicBezTo>
                  <a:lnTo>
                    <a:pt x="40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1417320" y="5089680"/>
              <a:ext cx="635040" cy="207720"/>
            </a:xfrm>
            <a:custGeom>
              <a:avLst/>
              <a:gdLst/>
              <a:ahLst/>
              <a:rect l="l" t="t" r="r" b="b"/>
              <a:pathLst>
                <a:path w="400" h="131">
                  <a:moveTo>
                    <a:pt x="0" y="131"/>
                  </a:moveTo>
                  <a:cubicBezTo>
                    <a:pt x="90" y="131"/>
                    <a:pt x="179" y="131"/>
                    <a:pt x="269" y="131"/>
                  </a:cubicBezTo>
                  <a:lnTo>
                    <a:pt x="40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403280" y="50673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116680" y="4711680"/>
            <a:ext cx="1520640" cy="590400"/>
            <a:chOff x="5116680" y="4711680"/>
            <a:chExt cx="1520640" cy="590400"/>
          </a:xfrm>
        </p:grpSpPr>
        <p:sp>
          <p:nvSpPr>
            <p:cNvPr id="829" name=""/>
            <p:cNvSpPr/>
            <p:nvPr/>
          </p:nvSpPr>
          <p:spPr>
            <a:xfrm>
              <a:off x="5684760" y="4755960"/>
              <a:ext cx="381240" cy="38124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686920" y="4711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16680" y="5094360"/>
              <a:ext cx="635040" cy="207720"/>
            </a:xfrm>
            <a:custGeom>
              <a:avLst/>
              <a:gdLst/>
              <a:ahLst/>
              <a:rect l="l" t="t" r="r" b="b"/>
              <a:pathLst>
                <a:path w="400" h="131">
                  <a:moveTo>
                    <a:pt x="0" y="131"/>
                  </a:moveTo>
                  <a:cubicBezTo>
                    <a:pt x="90" y="131"/>
                    <a:pt x="179" y="131"/>
                    <a:pt x="269" y="131"/>
                  </a:cubicBezTo>
                  <a:lnTo>
                    <a:pt x="40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6002280" y="5091120"/>
              <a:ext cx="635040" cy="207720"/>
            </a:xfrm>
            <a:custGeom>
              <a:avLst/>
              <a:gdLst/>
              <a:ahLst/>
              <a:rect l="l" t="t" r="r" b="b"/>
              <a:pathLst>
                <a:path w="400" h="131">
                  <a:moveTo>
                    <a:pt x="0" y="131"/>
                  </a:moveTo>
                  <a:cubicBezTo>
                    <a:pt x="90" y="131"/>
                    <a:pt x="179" y="131"/>
                    <a:pt x="269" y="131"/>
                  </a:cubicBezTo>
                  <a:lnTo>
                    <a:pt x="40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988240" y="5068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819520" y="1468080"/>
            <a:ext cx="1520280" cy="590040"/>
            <a:chOff x="2819520" y="1468080"/>
            <a:chExt cx="1520280" cy="590040"/>
          </a:xfrm>
        </p:grpSpPr>
        <p:sp>
          <p:nvSpPr>
            <p:cNvPr id="835" name=""/>
            <p:cNvSpPr/>
            <p:nvPr/>
          </p:nvSpPr>
          <p:spPr>
            <a:xfrm flipV="1">
              <a:off x="3387960" y="1632600"/>
              <a:ext cx="380880" cy="38124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90120" y="159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819520" y="1467720"/>
              <a:ext cx="635040" cy="207720"/>
            </a:xfrm>
            <a:custGeom>
              <a:avLst/>
              <a:gdLst/>
              <a:ahLst/>
              <a:rect l="l" t="t" r="r" b="b"/>
              <a:pathLst>
                <a:path w="400" h="131">
                  <a:moveTo>
                    <a:pt x="0" y="131"/>
                  </a:moveTo>
                  <a:cubicBezTo>
                    <a:pt x="90" y="131"/>
                    <a:pt x="179" y="131"/>
                    <a:pt x="269" y="131"/>
                  </a:cubicBezTo>
                  <a:lnTo>
                    <a:pt x="40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3704760" y="1471320"/>
              <a:ext cx="634680" cy="208080"/>
            </a:xfrm>
            <a:custGeom>
              <a:avLst/>
              <a:gdLst/>
              <a:ahLst/>
              <a:rect l="l" t="t" r="r" b="b"/>
              <a:pathLst>
                <a:path w="400" h="131">
                  <a:moveTo>
                    <a:pt x="0" y="131"/>
                  </a:moveTo>
                  <a:cubicBezTo>
                    <a:pt x="90" y="131"/>
                    <a:pt x="179" y="131"/>
                    <a:pt x="269" y="131"/>
                  </a:cubicBezTo>
                  <a:lnTo>
                    <a:pt x="40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3691080" y="1596240"/>
              <a:ext cx="104760" cy="104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 flipV="1">
            <a:off x="7962840" y="1633680"/>
            <a:ext cx="381240" cy="38088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965000" y="1598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7394400" y="1468440"/>
            <a:ext cx="635040" cy="208080"/>
          </a:xfrm>
          <a:custGeom>
            <a:avLst/>
            <a:gdLst/>
            <a:ahLst/>
            <a:rect l="l" t="t" r="r" b="b"/>
            <a:pathLst>
              <a:path w="400" h="131">
                <a:moveTo>
                  <a:pt x="0" y="131"/>
                </a:moveTo>
                <a:cubicBezTo>
                  <a:pt x="90" y="131"/>
                  <a:pt x="179" y="131"/>
                  <a:pt x="269" y="131"/>
                </a:cubicBezTo>
                <a:lnTo>
                  <a:pt x="400" y="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282160" y="1473120"/>
            <a:ext cx="388800" cy="208080"/>
          </a:xfrm>
          <a:custGeom>
            <a:avLst/>
            <a:gdLst/>
            <a:ahLst/>
            <a:rect l="l" t="t" r="r" b="b"/>
            <a:pathLst>
              <a:path w="245" h="131">
                <a:moveTo>
                  <a:pt x="245" y="1"/>
                </a:moveTo>
                <a:cubicBezTo>
                  <a:pt x="175" y="1"/>
                  <a:pt x="173" y="0"/>
                  <a:pt x="103" y="0"/>
                </a:cubicBezTo>
                <a:lnTo>
                  <a:pt x="0" y="131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8265960" y="1596240"/>
            <a:ext cx="104760" cy="104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531720" y="1467000"/>
            <a:ext cx="23083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316160" y="1464840"/>
            <a:ext cx="0" cy="9270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4284720" y="1471680"/>
            <a:ext cx="31384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877000" y="1474560"/>
            <a:ext cx="0" cy="9270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1978200" y="5297400"/>
            <a:ext cx="31384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3625920" y="4376520"/>
            <a:ext cx="0" cy="9270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6594120" y="5302080"/>
            <a:ext cx="192708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197920" y="4374720"/>
            <a:ext cx="0" cy="9270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541000" y="5057640"/>
            <a:ext cx="67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o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624880" y="123192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2071800" y="1258920"/>
            <a:ext cx="840240" cy="398880"/>
            <a:chOff x="2071800" y="1258920"/>
            <a:chExt cx="840240" cy="398880"/>
          </a:xfrm>
        </p:grpSpPr>
        <p:sp>
          <p:nvSpPr>
            <p:cNvPr id="856" name=""/>
            <p:cNvSpPr/>
            <p:nvPr/>
          </p:nvSpPr>
          <p:spPr>
            <a:xfrm>
              <a:off x="2071800" y="1349280"/>
              <a:ext cx="731880" cy="253440"/>
            </a:xfrm>
            <a:prstGeom prst="flowChartTerminator">
              <a:avLst/>
            </a:prstGeom>
            <a:solidFill>
              <a:srgbClr val="ff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080440" y="125892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delay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4387680" y="5087880"/>
            <a:ext cx="840240" cy="398880"/>
            <a:chOff x="4387680" y="5087880"/>
            <a:chExt cx="840240" cy="398880"/>
          </a:xfrm>
        </p:grpSpPr>
        <p:sp>
          <p:nvSpPr>
            <p:cNvPr id="859" name=""/>
            <p:cNvSpPr/>
            <p:nvPr/>
          </p:nvSpPr>
          <p:spPr>
            <a:xfrm>
              <a:off x="4387680" y="5178600"/>
              <a:ext cx="731880" cy="253800"/>
            </a:xfrm>
            <a:prstGeom prst="flowChartTerminator">
              <a:avLst/>
            </a:prstGeom>
            <a:solidFill>
              <a:srgbClr val="ff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396320" y="508788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delay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6667560" y="1268280"/>
            <a:ext cx="840240" cy="398880"/>
            <a:chOff x="6667560" y="1268280"/>
            <a:chExt cx="840240" cy="398880"/>
          </a:xfrm>
        </p:grpSpPr>
        <p:sp>
          <p:nvSpPr>
            <p:cNvPr id="862" name=""/>
            <p:cNvSpPr/>
            <p:nvPr/>
          </p:nvSpPr>
          <p:spPr>
            <a:xfrm>
              <a:off x="6667560" y="1359000"/>
              <a:ext cx="731880" cy="253800"/>
            </a:xfrm>
            <a:prstGeom prst="flowChartTerminator">
              <a:avLst/>
            </a:prstGeom>
            <a:solidFill>
              <a:srgbClr val="ff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676200" y="126828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delay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D115E-C8B6-4C97-94A1-42B14509B1FC}" type="slidenum">
              <a:t>27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Data-path / Contro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000080" y="1900080"/>
            <a:ext cx="533520" cy="198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286080" y="1900080"/>
            <a:ext cx="533520" cy="198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080" y="1900080"/>
            <a:ext cx="533520" cy="198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858080" y="1900080"/>
            <a:ext cx="533520" cy="1981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38160" y="1887480"/>
            <a:ext cx="1079640" cy="199404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124160" y="1900080"/>
            <a:ext cx="1079640" cy="199404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410160" y="1913040"/>
            <a:ext cx="1079640" cy="199368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077840" y="2660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57720" y="2660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637240" y="2660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916760" y="2660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991160" y="26607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277160" y="26607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563160" y="26607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533600" y="2662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28880" y="2662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19600" y="2662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114880" y="2662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105600" y="2662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400880" y="2662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42880" y="2662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391600" y="2662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5200" y="432288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602920" y="4322880"/>
            <a:ext cx="67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o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1131840" y="3881520"/>
            <a:ext cx="276120" cy="457200"/>
            <a:chOff x="1131840" y="3881520"/>
            <a:chExt cx="276120" cy="457200"/>
          </a:xfrm>
        </p:grpSpPr>
        <p:sp>
          <p:nvSpPr>
            <p:cNvPr id="890" name=""/>
            <p:cNvSpPr/>
            <p:nvPr/>
          </p:nvSpPr>
          <p:spPr>
            <a:xfrm flipV="1">
              <a:off x="1131840" y="3881520"/>
              <a:ext cx="0" cy="457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1407960" y="3881520"/>
              <a:ext cx="0" cy="457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2246400" y="3813120"/>
            <a:ext cx="1440" cy="530280"/>
          </a:xfrm>
          <a:custGeom>
            <a:avLst/>
            <a:gdLst/>
            <a:ahLst/>
            <a:rect l="l" t="t" r="r" b="b"/>
            <a:pathLst>
              <a:path w="1" h="334">
                <a:moveTo>
                  <a:pt x="1" y="33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2523960" y="388620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3438360" y="3890880"/>
            <a:ext cx="276480" cy="457200"/>
            <a:chOff x="3438360" y="3890880"/>
            <a:chExt cx="276480" cy="457200"/>
          </a:xfrm>
        </p:grpSpPr>
        <p:sp>
          <p:nvSpPr>
            <p:cNvPr id="895" name=""/>
            <p:cNvSpPr/>
            <p:nvPr/>
          </p:nvSpPr>
          <p:spPr>
            <a:xfrm flipV="1">
              <a:off x="3438360" y="3890880"/>
              <a:ext cx="0" cy="457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3714840" y="3890880"/>
              <a:ext cx="0" cy="457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 flipV="1">
            <a:off x="4781520" y="389556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5724360" y="3900600"/>
            <a:ext cx="276480" cy="457200"/>
            <a:chOff x="5724360" y="3900600"/>
            <a:chExt cx="276480" cy="457200"/>
          </a:xfrm>
        </p:grpSpPr>
        <p:sp>
          <p:nvSpPr>
            <p:cNvPr id="899" name=""/>
            <p:cNvSpPr/>
            <p:nvPr/>
          </p:nvSpPr>
          <p:spPr>
            <a:xfrm flipV="1">
              <a:off x="5724360" y="3900600"/>
              <a:ext cx="0" cy="457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6000840" y="3900600"/>
              <a:ext cx="0" cy="457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 flipV="1">
            <a:off x="7143840" y="390528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8010360" y="3909960"/>
            <a:ext cx="276480" cy="457200"/>
            <a:chOff x="8010360" y="3909960"/>
            <a:chExt cx="276480" cy="457200"/>
          </a:xfrm>
        </p:grpSpPr>
        <p:sp>
          <p:nvSpPr>
            <p:cNvPr id="903" name=""/>
            <p:cNvSpPr/>
            <p:nvPr/>
          </p:nvSpPr>
          <p:spPr>
            <a:xfrm flipV="1">
              <a:off x="8010360" y="3909960"/>
              <a:ext cx="0" cy="457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8286840" y="3909960"/>
              <a:ext cx="0" cy="457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4535640" y="3825720"/>
            <a:ext cx="1440" cy="530280"/>
          </a:xfrm>
          <a:custGeom>
            <a:avLst/>
            <a:gdLst/>
            <a:ahLst/>
            <a:rect l="l" t="t" r="r" b="b"/>
            <a:pathLst>
              <a:path w="1" h="334">
                <a:moveTo>
                  <a:pt x="1" y="33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13720" y="3841920"/>
            <a:ext cx="1440" cy="529920"/>
          </a:xfrm>
          <a:custGeom>
            <a:avLst/>
            <a:gdLst/>
            <a:ahLst/>
            <a:rect l="l" t="t" r="r" b="b"/>
            <a:pathLst>
              <a:path w="1" h="334">
                <a:moveTo>
                  <a:pt x="1" y="33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47880" y="4340160"/>
            <a:ext cx="7434000" cy="91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607200" y="45766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616600" y="466416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-21960" y="4718160"/>
            <a:ext cx="67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o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22360" y="4667400"/>
            <a:ext cx="457200" cy="276120"/>
            <a:chOff x="522360" y="4667400"/>
            <a:chExt cx="457200" cy="276120"/>
          </a:xfrm>
        </p:grpSpPr>
        <p:sp>
          <p:nvSpPr>
            <p:cNvPr id="912" name=""/>
            <p:cNvSpPr/>
            <p:nvPr/>
          </p:nvSpPr>
          <p:spPr>
            <a:xfrm>
              <a:off x="522360" y="466740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22360" y="4943520"/>
              <a:ext cx="457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8388360" y="4635360"/>
            <a:ext cx="271440" cy="276480"/>
            <a:chOff x="8388360" y="4635360"/>
            <a:chExt cx="271440" cy="276480"/>
          </a:xfrm>
        </p:grpSpPr>
        <p:sp>
          <p:nvSpPr>
            <p:cNvPr id="915" name=""/>
            <p:cNvSpPr/>
            <p:nvPr/>
          </p:nvSpPr>
          <p:spPr>
            <a:xfrm>
              <a:off x="8388360" y="4635360"/>
              <a:ext cx="2714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388360" y="4911840"/>
              <a:ext cx="2714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E097-98E0-4E69-9A8A-177B9C0E25A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310120" y="186516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287800" y="29066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311920" y="38955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311920" y="496404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550960" y="2274840"/>
            <a:ext cx="0" cy="646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536920" y="3316320"/>
            <a:ext cx="0" cy="646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22520" y="4357800"/>
            <a:ext cx="0" cy="6458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649520" y="2055960"/>
            <a:ext cx="717480" cy="3139920"/>
          </a:xfrm>
          <a:custGeom>
            <a:avLst/>
            <a:gdLst/>
            <a:ahLst/>
            <a:rect l="l" t="t" r="r" b="b"/>
            <a:pathLst>
              <a:path w="452" h="1978">
                <a:moveTo>
                  <a:pt x="423" y="1978"/>
                </a:moveTo>
                <a:cubicBezTo>
                  <a:pt x="289" y="1971"/>
                  <a:pt x="156" y="1964"/>
                  <a:pt x="95" y="1680"/>
                </a:cubicBezTo>
                <a:cubicBezTo>
                  <a:pt x="34" y="1396"/>
                  <a:pt x="0" y="552"/>
                  <a:pt x="59" y="276"/>
                </a:cubicBezTo>
                <a:cubicBezTo>
                  <a:pt x="118" y="0"/>
                  <a:pt x="285" y="10"/>
                  <a:pt x="452" y="21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617840" y="3497400"/>
            <a:ext cx="183960" cy="196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751200" y="2494080"/>
            <a:ext cx="4098960" cy="531720"/>
          </a:xfrm>
          <a:custGeom>
            <a:avLst/>
            <a:gdLst/>
            <a:ahLst/>
            <a:rect l="l" t="t" r="r" b="b"/>
            <a:pathLst>
              <a:path w="2582" h="335">
                <a:moveTo>
                  <a:pt x="0" y="335"/>
                </a:moveTo>
                <a:lnTo>
                  <a:pt x="378" y="335"/>
                </a:lnTo>
                <a:lnTo>
                  <a:pt x="553" y="0"/>
                </a:lnTo>
                <a:lnTo>
                  <a:pt x="1520" y="0"/>
                </a:lnTo>
                <a:lnTo>
                  <a:pt x="1673" y="335"/>
                </a:lnTo>
                <a:lnTo>
                  <a:pt x="2582" y="3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727440" y="3763800"/>
            <a:ext cx="4491000" cy="543240"/>
          </a:xfrm>
          <a:custGeom>
            <a:avLst/>
            <a:gdLst/>
            <a:ahLst/>
            <a:rect l="l" t="t" r="r" b="b"/>
            <a:pathLst>
              <a:path w="2829" h="342">
                <a:moveTo>
                  <a:pt x="0" y="342"/>
                </a:moveTo>
                <a:lnTo>
                  <a:pt x="888" y="342"/>
                </a:lnTo>
                <a:lnTo>
                  <a:pt x="1019" y="0"/>
                </a:lnTo>
                <a:lnTo>
                  <a:pt x="2175" y="0"/>
                </a:lnTo>
                <a:lnTo>
                  <a:pt x="2349" y="342"/>
                </a:lnTo>
                <a:lnTo>
                  <a:pt x="2829" y="342"/>
                </a:lnTo>
              </a:path>
            </a:pathLst>
          </a:custGeom>
          <a:noFill/>
          <a:ln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481640" y="2711520"/>
            <a:ext cx="752400" cy="1332000"/>
          </a:xfrm>
          <a:custGeom>
            <a:avLst/>
            <a:gdLst/>
            <a:ahLst/>
            <a:rect l="l" t="t" r="r" b="b"/>
            <a:pathLst>
              <a:path w="474" h="839">
                <a:moveTo>
                  <a:pt x="0" y="30"/>
                </a:moveTo>
                <a:cubicBezTo>
                  <a:pt x="74" y="15"/>
                  <a:pt x="149" y="0"/>
                  <a:pt x="170" y="103"/>
                </a:cubicBezTo>
                <a:cubicBezTo>
                  <a:pt x="191" y="206"/>
                  <a:pt x="74" y="527"/>
                  <a:pt x="125" y="650"/>
                </a:cubicBezTo>
                <a:cubicBezTo>
                  <a:pt x="176" y="773"/>
                  <a:pt x="325" y="806"/>
                  <a:pt x="474" y="839"/>
                </a:cubicBezTo>
              </a:path>
            </a:pathLst>
          </a:custGeom>
          <a:noFill/>
          <a:ln w="1260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234040" y="2747880"/>
            <a:ext cx="1025640" cy="1322640"/>
          </a:xfrm>
          <a:custGeom>
            <a:avLst/>
            <a:gdLst/>
            <a:ahLst/>
            <a:rect l="l" t="t" r="r" b="b"/>
            <a:pathLst>
              <a:path w="646" h="833">
                <a:moveTo>
                  <a:pt x="0" y="816"/>
                </a:moveTo>
                <a:cubicBezTo>
                  <a:pt x="74" y="824"/>
                  <a:pt x="149" y="833"/>
                  <a:pt x="208" y="784"/>
                </a:cubicBezTo>
                <a:cubicBezTo>
                  <a:pt x="267" y="735"/>
                  <a:pt x="332" y="631"/>
                  <a:pt x="355" y="522"/>
                </a:cubicBezTo>
                <a:cubicBezTo>
                  <a:pt x="378" y="413"/>
                  <a:pt x="301" y="215"/>
                  <a:pt x="349" y="128"/>
                </a:cubicBezTo>
                <a:cubicBezTo>
                  <a:pt x="397" y="41"/>
                  <a:pt x="521" y="20"/>
                  <a:pt x="646" y="0"/>
                </a:cubicBezTo>
              </a:path>
            </a:pathLst>
          </a:custGeom>
          <a:noFill/>
          <a:ln w="1260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270480" y="2746440"/>
            <a:ext cx="1041480" cy="1350720"/>
          </a:xfrm>
          <a:custGeom>
            <a:avLst/>
            <a:gdLst/>
            <a:ahLst/>
            <a:rect l="l" t="t" r="r" b="b"/>
            <a:pathLst>
              <a:path w="656" h="851">
                <a:moveTo>
                  <a:pt x="0" y="1"/>
                </a:moveTo>
                <a:cubicBezTo>
                  <a:pt x="71" y="0"/>
                  <a:pt x="142" y="0"/>
                  <a:pt x="201" y="46"/>
                </a:cubicBezTo>
                <a:cubicBezTo>
                  <a:pt x="260" y="92"/>
                  <a:pt x="325" y="161"/>
                  <a:pt x="352" y="280"/>
                </a:cubicBezTo>
                <a:cubicBezTo>
                  <a:pt x="379" y="399"/>
                  <a:pt x="313" y="669"/>
                  <a:pt x="364" y="760"/>
                </a:cubicBezTo>
                <a:cubicBezTo>
                  <a:pt x="415" y="851"/>
                  <a:pt x="535" y="837"/>
                  <a:pt x="656" y="824"/>
                </a:cubicBezTo>
              </a:path>
            </a:pathLst>
          </a:custGeom>
          <a:noFill/>
          <a:ln w="1260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850160" y="2494080"/>
            <a:ext cx="496800" cy="533160"/>
          </a:xfrm>
          <a:custGeom>
            <a:avLst/>
            <a:gdLst/>
            <a:ahLst/>
            <a:rect l="l" t="t" r="r" b="b"/>
            <a:pathLst>
              <a:path w="313" h="336">
                <a:moveTo>
                  <a:pt x="0" y="336"/>
                </a:moveTo>
                <a:lnTo>
                  <a:pt x="121" y="0"/>
                </a:lnTo>
                <a:lnTo>
                  <a:pt x="3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326360" y="2687760"/>
            <a:ext cx="635040" cy="1366560"/>
          </a:xfrm>
          <a:custGeom>
            <a:avLst/>
            <a:gdLst/>
            <a:ahLst/>
            <a:rect l="l" t="t" r="r" b="b"/>
            <a:pathLst>
              <a:path w="400" h="861">
                <a:moveTo>
                  <a:pt x="0" y="861"/>
                </a:moveTo>
                <a:cubicBezTo>
                  <a:pt x="35" y="860"/>
                  <a:pt x="70" y="859"/>
                  <a:pt x="96" y="832"/>
                </a:cubicBezTo>
                <a:cubicBezTo>
                  <a:pt x="122" y="805"/>
                  <a:pt x="137" y="783"/>
                  <a:pt x="154" y="701"/>
                </a:cubicBezTo>
                <a:cubicBezTo>
                  <a:pt x="171" y="619"/>
                  <a:pt x="191" y="450"/>
                  <a:pt x="199" y="342"/>
                </a:cubicBezTo>
                <a:cubicBezTo>
                  <a:pt x="207" y="234"/>
                  <a:pt x="171" y="108"/>
                  <a:pt x="205" y="54"/>
                </a:cubicBezTo>
                <a:cubicBezTo>
                  <a:pt x="239" y="0"/>
                  <a:pt x="319" y="9"/>
                  <a:pt x="400" y="19"/>
                </a:cubicBezTo>
              </a:path>
            </a:pathLst>
          </a:custGeom>
          <a:noFill/>
          <a:ln w="1260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704040" y="2557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680280" y="38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555520" y="4830840"/>
            <a:ext cx="14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 in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 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F799-283D-4DF1-B6BD-4DCBC948890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Logic Design of</a:t>
            </a:r>
            <a:br>
              <a:rPr sz="4400"/>
            </a:b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Asynchronous Circu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  <a:ea typeface="Arial"/>
              </a:rPr>
              <a:t>Part 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  <a:ea typeface="Arial"/>
              </a:rPr>
              <a:t>Basic concepts on asynchronous circuit desig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981AF-158A-4C17-9125-8C67FAA19B9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310120" y="186516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287800" y="29066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311920" y="38955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311920" y="49626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550960" y="2274840"/>
            <a:ext cx="0" cy="646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536920" y="3316320"/>
            <a:ext cx="0" cy="646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522520" y="4357800"/>
            <a:ext cx="0" cy="6458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49520" y="2055960"/>
            <a:ext cx="717480" cy="3139920"/>
          </a:xfrm>
          <a:custGeom>
            <a:avLst/>
            <a:gdLst/>
            <a:ahLst/>
            <a:rect l="l" t="t" r="r" b="b"/>
            <a:pathLst>
              <a:path w="452" h="1978">
                <a:moveTo>
                  <a:pt x="423" y="1978"/>
                </a:moveTo>
                <a:cubicBezTo>
                  <a:pt x="289" y="1971"/>
                  <a:pt x="156" y="1964"/>
                  <a:pt x="95" y="1680"/>
                </a:cubicBezTo>
                <a:cubicBezTo>
                  <a:pt x="34" y="1396"/>
                  <a:pt x="0" y="552"/>
                  <a:pt x="59" y="276"/>
                </a:cubicBezTo>
                <a:cubicBezTo>
                  <a:pt x="118" y="0"/>
                  <a:pt x="285" y="10"/>
                  <a:pt x="452" y="21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617840" y="3497400"/>
            <a:ext cx="183960" cy="196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006880" y="2563920"/>
            <a:ext cx="2378160" cy="19969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202280" y="3556080"/>
            <a:ext cx="7966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391520" y="3538440"/>
            <a:ext cx="7966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64600" y="3328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15544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5008680" y="3189240"/>
            <a:ext cx="2458800" cy="685800"/>
            <a:chOff x="5008680" y="3189240"/>
            <a:chExt cx="2458800" cy="685800"/>
          </a:xfrm>
        </p:grpSpPr>
        <p:sp>
          <p:nvSpPr>
            <p:cNvPr id="953" name=""/>
            <p:cNvSpPr/>
            <p:nvPr/>
          </p:nvSpPr>
          <p:spPr>
            <a:xfrm rot="5400000">
              <a:off x="5905080" y="32274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08680" y="3556080"/>
              <a:ext cx="9349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553080" y="3538440"/>
              <a:ext cx="9144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EC48-2058-4152-AFA7-F75FC8F59B3D}" type="slidenum">
              <a:t>30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310120" y="186516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288160" y="290664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311920" y="38955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311920" y="496260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550960" y="2274840"/>
            <a:ext cx="0" cy="646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536920" y="3316320"/>
            <a:ext cx="0" cy="646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522520" y="4357800"/>
            <a:ext cx="0" cy="6458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649520" y="2055960"/>
            <a:ext cx="717480" cy="3139920"/>
          </a:xfrm>
          <a:custGeom>
            <a:avLst/>
            <a:gdLst/>
            <a:ahLst/>
            <a:rect l="l" t="t" r="r" b="b"/>
            <a:pathLst>
              <a:path w="452" h="1978">
                <a:moveTo>
                  <a:pt x="423" y="1978"/>
                </a:moveTo>
                <a:cubicBezTo>
                  <a:pt x="289" y="1971"/>
                  <a:pt x="156" y="1964"/>
                  <a:pt x="95" y="1680"/>
                </a:cubicBezTo>
                <a:cubicBezTo>
                  <a:pt x="34" y="1396"/>
                  <a:pt x="0" y="552"/>
                  <a:pt x="59" y="276"/>
                </a:cubicBezTo>
                <a:cubicBezTo>
                  <a:pt x="118" y="0"/>
                  <a:pt x="285" y="10"/>
                  <a:pt x="452" y="21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617840" y="3497400"/>
            <a:ext cx="183960" cy="196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006880" y="2563920"/>
            <a:ext cx="2378160" cy="19969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202280" y="3556080"/>
            <a:ext cx="7966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391520" y="3538440"/>
            <a:ext cx="7966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864600" y="3328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15544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5008680" y="3189240"/>
            <a:ext cx="2458800" cy="685800"/>
            <a:chOff x="5008680" y="3189240"/>
            <a:chExt cx="2458800" cy="685800"/>
          </a:xfrm>
        </p:grpSpPr>
        <p:sp>
          <p:nvSpPr>
            <p:cNvPr id="972" name=""/>
            <p:cNvSpPr/>
            <p:nvPr/>
          </p:nvSpPr>
          <p:spPr>
            <a:xfrm rot="5400000">
              <a:off x="5905080" y="32274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008680" y="3556080"/>
              <a:ext cx="9349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3538440"/>
              <a:ext cx="9144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541920" y="3463920"/>
              <a:ext cx="138240" cy="150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59A3-4B85-48F6-A466-3C75817F73F2}" type="slidenum">
              <a:t>31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76600" y="186516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59360" y="49500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C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778400" y="38955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237040" y="28717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C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017800" y="2274840"/>
            <a:ext cx="288720" cy="6793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2036880" y="3270240"/>
            <a:ext cx="242640" cy="6922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25360" y="2068560"/>
            <a:ext cx="1065240" cy="3127320"/>
          </a:xfrm>
          <a:custGeom>
            <a:avLst/>
            <a:gdLst/>
            <a:ahLst/>
            <a:rect l="l" t="t" r="r" b="b"/>
            <a:pathLst>
              <a:path w="671" h="1970">
                <a:moveTo>
                  <a:pt x="671" y="1970"/>
                </a:moveTo>
                <a:cubicBezTo>
                  <a:pt x="577" y="1922"/>
                  <a:pt x="202" y="1962"/>
                  <a:pt x="101" y="1680"/>
                </a:cubicBezTo>
                <a:cubicBezTo>
                  <a:pt x="0" y="1398"/>
                  <a:pt x="9" y="552"/>
                  <a:pt x="66" y="276"/>
                </a:cubicBezTo>
                <a:cubicBezTo>
                  <a:pt x="123" y="0"/>
                  <a:pt x="285" y="10"/>
                  <a:pt x="446" y="21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073160" y="3497400"/>
            <a:ext cx="184320" cy="196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29080" y="2563920"/>
            <a:ext cx="2378160" cy="19969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91240" y="2967120"/>
            <a:ext cx="542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710480" y="3538440"/>
            <a:ext cx="48564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451760" y="2692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15544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60840" y="18781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B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653200" y="39099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B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2549520" y="2309760"/>
            <a:ext cx="334800" cy="6350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67160" y="3278160"/>
            <a:ext cx="242640" cy="6922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030400" y="4321080"/>
            <a:ext cx="289080" cy="6796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2517840" y="4356000"/>
            <a:ext cx="334800" cy="6350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858400" y="2041560"/>
            <a:ext cx="1065240" cy="3127320"/>
          </a:xfrm>
          <a:custGeom>
            <a:avLst/>
            <a:gdLst/>
            <a:ahLst/>
            <a:rect l="l" t="t" r="r" b="b"/>
            <a:pathLst>
              <a:path w="671" h="1970">
                <a:moveTo>
                  <a:pt x="671" y="1970"/>
                </a:moveTo>
                <a:cubicBezTo>
                  <a:pt x="577" y="1922"/>
                  <a:pt x="202" y="1962"/>
                  <a:pt x="101" y="1680"/>
                </a:cubicBezTo>
                <a:cubicBezTo>
                  <a:pt x="0" y="1398"/>
                  <a:pt x="9" y="552"/>
                  <a:pt x="66" y="276"/>
                </a:cubicBezTo>
                <a:cubicBezTo>
                  <a:pt x="123" y="0"/>
                  <a:pt x="285" y="10"/>
                  <a:pt x="446" y="21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789360" y="3487680"/>
            <a:ext cx="184320" cy="196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788000" y="4097160"/>
            <a:ext cx="542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448880" y="385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5324400" y="2967120"/>
            <a:ext cx="2381040" cy="1138320"/>
            <a:chOff x="5324400" y="2967120"/>
            <a:chExt cx="2381040" cy="1138320"/>
          </a:xfrm>
        </p:grpSpPr>
        <p:sp>
          <p:nvSpPr>
            <p:cNvPr id="1001" name=""/>
            <p:cNvSpPr/>
            <p:nvPr/>
          </p:nvSpPr>
          <p:spPr>
            <a:xfrm>
              <a:off x="6240600" y="3171960"/>
              <a:ext cx="738000" cy="73800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6975000" y="3540240"/>
              <a:ext cx="7304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22040" y="330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24400" y="2967120"/>
              <a:ext cx="974880" cy="3650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5324400" y="3749760"/>
              <a:ext cx="979560" cy="3556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B441-29D1-427A-840F-865502790612}" type="slidenum">
              <a:t>32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776600" y="186516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259360" y="495144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C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256480" y="3529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237040" y="28717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C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017800" y="2274840"/>
            <a:ext cx="288720" cy="6793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125360" y="2068560"/>
            <a:ext cx="1065240" cy="3127320"/>
          </a:xfrm>
          <a:custGeom>
            <a:avLst/>
            <a:gdLst/>
            <a:ahLst/>
            <a:rect l="l" t="t" r="r" b="b"/>
            <a:pathLst>
              <a:path w="671" h="1970">
                <a:moveTo>
                  <a:pt x="671" y="1970"/>
                </a:moveTo>
                <a:cubicBezTo>
                  <a:pt x="577" y="1922"/>
                  <a:pt x="202" y="1962"/>
                  <a:pt x="101" y="1680"/>
                </a:cubicBezTo>
                <a:cubicBezTo>
                  <a:pt x="0" y="1398"/>
                  <a:pt x="9" y="552"/>
                  <a:pt x="66" y="276"/>
                </a:cubicBezTo>
                <a:cubicBezTo>
                  <a:pt x="123" y="0"/>
                  <a:pt x="285" y="10"/>
                  <a:pt x="446" y="21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073160" y="3497400"/>
            <a:ext cx="184320" cy="196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329080" y="2563920"/>
            <a:ext cx="2378160" cy="19969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791240" y="2967120"/>
            <a:ext cx="542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710480" y="3538440"/>
            <a:ext cx="48564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451760" y="2692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155440" y="3305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760840" y="18781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B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253240" y="42321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B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2549520" y="2309760"/>
            <a:ext cx="334800" cy="6350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2858400" y="2041560"/>
            <a:ext cx="1065240" cy="3127320"/>
          </a:xfrm>
          <a:custGeom>
            <a:avLst/>
            <a:gdLst/>
            <a:ahLst/>
            <a:rect l="l" t="t" r="r" b="b"/>
            <a:pathLst>
              <a:path w="671" h="1970">
                <a:moveTo>
                  <a:pt x="671" y="1970"/>
                </a:moveTo>
                <a:cubicBezTo>
                  <a:pt x="577" y="1922"/>
                  <a:pt x="202" y="1962"/>
                  <a:pt x="101" y="1680"/>
                </a:cubicBezTo>
                <a:cubicBezTo>
                  <a:pt x="0" y="1398"/>
                  <a:pt x="9" y="552"/>
                  <a:pt x="66" y="276"/>
                </a:cubicBezTo>
                <a:cubicBezTo>
                  <a:pt x="123" y="0"/>
                  <a:pt x="285" y="10"/>
                  <a:pt x="446" y="21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789360" y="3487680"/>
            <a:ext cx="184320" cy="196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788000" y="4097160"/>
            <a:ext cx="542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448880" y="385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448000" y="3290760"/>
            <a:ext cx="0" cy="335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444760" y="3943440"/>
            <a:ext cx="0" cy="3348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441520" y="4651200"/>
            <a:ext cx="0" cy="335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5324400" y="2967120"/>
            <a:ext cx="2381040" cy="1138320"/>
            <a:chOff x="5324400" y="2967120"/>
            <a:chExt cx="2381040" cy="1138320"/>
          </a:xfrm>
        </p:grpSpPr>
        <p:sp>
          <p:nvSpPr>
            <p:cNvPr id="1030" name=""/>
            <p:cNvSpPr/>
            <p:nvPr/>
          </p:nvSpPr>
          <p:spPr>
            <a:xfrm>
              <a:off x="6240600" y="3171960"/>
              <a:ext cx="738000" cy="73800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6975000" y="3540240"/>
              <a:ext cx="7304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422040" y="330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324400" y="2967120"/>
              <a:ext cx="974880" cy="3650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5324400" y="3749760"/>
              <a:ext cx="979560" cy="3556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9D32-7C3D-4678-8533-7720FDB424B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474560" y="3692520"/>
            <a:ext cx="5952960" cy="2378520"/>
            <a:chOff x="1474560" y="3692520"/>
            <a:chExt cx="5952960" cy="2378520"/>
          </a:xfrm>
        </p:grpSpPr>
        <p:sp>
          <p:nvSpPr>
            <p:cNvPr id="1037" name=""/>
            <p:cNvSpPr/>
            <p:nvPr/>
          </p:nvSpPr>
          <p:spPr>
            <a:xfrm>
              <a:off x="3207960" y="3908520"/>
              <a:ext cx="297000" cy="328320"/>
            </a:xfrm>
            <a:custGeom>
              <a:avLst/>
              <a:gdLst/>
              <a:ahLst/>
              <a:rect l="l" t="t" r="r" b="b"/>
              <a:pathLst>
                <a:path w="187" h="207">
                  <a:moveTo>
                    <a:pt x="187" y="0"/>
                  </a:moveTo>
                  <a:lnTo>
                    <a:pt x="187" y="207"/>
                  </a:lnTo>
                  <a:lnTo>
                    <a:pt x="0" y="207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2590560" y="4137120"/>
              <a:ext cx="738000" cy="738000"/>
              <a:chOff x="2590560" y="4137120"/>
              <a:chExt cx="738000" cy="738000"/>
            </a:xfrm>
          </p:grpSpPr>
          <p:sp>
            <p:nvSpPr>
              <p:cNvPr id="1039" name=""/>
              <p:cNvSpPr/>
              <p:nvPr/>
            </p:nvSpPr>
            <p:spPr>
              <a:xfrm>
                <a:off x="2590560" y="4137120"/>
                <a:ext cx="738000" cy="738000"/>
              </a:xfrm>
              <a:prstGeom prst="ellipse">
                <a:avLst/>
              </a:prstGeom>
              <a:solidFill>
                <a:srgbClr val="ff66ff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772000" y="4267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5493960" y="3886200"/>
              <a:ext cx="738000" cy="738000"/>
              <a:chOff x="5493960" y="3886200"/>
              <a:chExt cx="738000" cy="738000"/>
            </a:xfrm>
          </p:grpSpPr>
          <p:sp>
            <p:nvSpPr>
              <p:cNvPr id="1042" name=""/>
              <p:cNvSpPr/>
              <p:nvPr/>
            </p:nvSpPr>
            <p:spPr>
              <a:xfrm>
                <a:off x="5493960" y="3886200"/>
                <a:ext cx="738000" cy="738000"/>
              </a:xfrm>
              <a:prstGeom prst="ellipse">
                <a:avLst/>
              </a:prstGeom>
              <a:solidFill>
                <a:srgbClr val="ff66ff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675400" y="4016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>
              <a:off x="6248160" y="4255920"/>
              <a:ext cx="7160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4240080" y="5218200"/>
              <a:ext cx="717480" cy="554040"/>
              <a:chOff x="4240080" y="5218200"/>
              <a:chExt cx="717480" cy="554040"/>
            </a:xfrm>
          </p:grpSpPr>
          <p:sp>
            <p:nvSpPr>
              <p:cNvPr id="1046" name=""/>
              <p:cNvSpPr/>
              <p:nvPr/>
            </p:nvSpPr>
            <p:spPr>
              <a:xfrm>
                <a:off x="4240080" y="5218200"/>
                <a:ext cx="598320" cy="554040"/>
              </a:xfrm>
              <a:prstGeom prst="flowChartDelay">
                <a:avLst/>
              </a:prstGeom>
              <a:solidFill>
                <a:srgbClr val="ff66ff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854240" y="5436000"/>
                <a:ext cx="103320" cy="126720"/>
              </a:xfrm>
              <a:prstGeom prst="ellipse">
                <a:avLst/>
              </a:prstGeom>
              <a:solidFill>
                <a:srgbClr val="ff66ff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4165560" y="3781440"/>
              <a:ext cx="817560" cy="601560"/>
              <a:chOff x="4165560" y="3781440"/>
              <a:chExt cx="817560" cy="601560"/>
            </a:xfrm>
          </p:grpSpPr>
          <p:sp>
            <p:nvSpPr>
              <p:cNvPr id="1049" name=""/>
              <p:cNvSpPr/>
              <p:nvPr/>
            </p:nvSpPr>
            <p:spPr>
              <a:xfrm>
                <a:off x="4880160" y="4022640"/>
                <a:ext cx="102960" cy="126360"/>
              </a:xfrm>
              <a:prstGeom prst="ellipse">
                <a:avLst/>
              </a:prstGeom>
              <a:solidFill>
                <a:srgbClr val="ff66ff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4205160" y="3781440"/>
                <a:ext cx="657360" cy="60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18" y="3164"/>
                      <a:pt x="17635" y="5080"/>
                      <a:pt x="17635" y="10800"/>
                    </a:cubicBezTo>
                    <a:cubicBezTo>
                      <a:pt x="17635" y="16520"/>
                      <a:pt x="19618" y="1843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66ff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165560" y="3841560"/>
                <a:ext cx="103320" cy="126720"/>
              </a:xfrm>
              <a:prstGeom prst="ellipse">
                <a:avLst/>
              </a:prstGeom>
              <a:solidFill>
                <a:srgbClr val="ff66ff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52" name=""/>
            <p:cNvSpPr/>
            <p:nvPr/>
          </p:nvSpPr>
          <p:spPr>
            <a:xfrm>
              <a:off x="5001840" y="4092480"/>
              <a:ext cx="5432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3904560" y="5904000"/>
              <a:ext cx="30704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916080" y="4305240"/>
              <a:ext cx="336600" cy="1598760"/>
            </a:xfrm>
            <a:custGeom>
              <a:avLst/>
              <a:gdLst/>
              <a:ahLst/>
              <a:rect l="l" t="t" r="r" b="b"/>
              <a:pathLst>
                <a:path w="212" h="350">
                  <a:moveTo>
                    <a:pt x="0" y="350"/>
                  </a:moveTo>
                  <a:lnTo>
                    <a:pt x="0" y="0"/>
                  </a:lnTo>
                  <a:lnTo>
                    <a:pt x="21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68440" y="4251240"/>
              <a:ext cx="3270240" cy="480960"/>
            </a:xfrm>
            <a:custGeom>
              <a:avLst/>
              <a:gdLst/>
              <a:ahLst/>
              <a:rect l="l" t="t" r="r" b="b"/>
              <a:pathLst>
                <a:path w="2060" h="303">
                  <a:moveTo>
                    <a:pt x="2060" y="0"/>
                  </a:moveTo>
                  <a:lnTo>
                    <a:pt x="2060" y="303"/>
                  </a:lnTo>
                  <a:lnTo>
                    <a:pt x="0" y="303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1904760" y="3908520"/>
              <a:ext cx="22557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1904400" y="4503600"/>
              <a:ext cx="6778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85640" y="4503600"/>
              <a:ext cx="1951200" cy="852480"/>
            </a:xfrm>
            <a:custGeom>
              <a:avLst/>
              <a:gdLst/>
              <a:ahLst/>
              <a:rect l="l" t="t" r="r" b="b"/>
              <a:pathLst>
                <a:path w="1229" h="744">
                  <a:moveTo>
                    <a:pt x="0" y="0"/>
                  </a:moveTo>
                  <a:lnTo>
                    <a:pt x="0" y="744"/>
                  </a:lnTo>
                  <a:lnTo>
                    <a:pt x="1229" y="744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916080" y="5654520"/>
              <a:ext cx="312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60800" y="4479840"/>
              <a:ext cx="593640" cy="1022400"/>
            </a:xfrm>
            <a:custGeom>
              <a:avLst/>
              <a:gdLst/>
              <a:ahLst/>
              <a:rect l="l" t="t" r="r" b="b"/>
              <a:pathLst>
                <a:path w="374" h="644">
                  <a:moveTo>
                    <a:pt x="0" y="644"/>
                  </a:moveTo>
                  <a:lnTo>
                    <a:pt x="197" y="644"/>
                  </a:lnTo>
                  <a:lnTo>
                    <a:pt x="197" y="0"/>
                  </a:lnTo>
                  <a:lnTo>
                    <a:pt x="374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749400" y="4098960"/>
              <a:ext cx="571680" cy="1251000"/>
            </a:xfrm>
            <a:custGeom>
              <a:avLst/>
              <a:gdLst/>
              <a:ahLst/>
              <a:rect l="l" t="t" r="r" b="b"/>
              <a:pathLst>
                <a:path w="360" h="788">
                  <a:moveTo>
                    <a:pt x="0" y="788"/>
                  </a:moveTo>
                  <a:lnTo>
                    <a:pt x="0" y="0"/>
                  </a:lnTo>
                  <a:lnTo>
                    <a:pt x="36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552320" y="369252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Ri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06960" y="404964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910200" y="567216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i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474560" y="430200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A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581800" y="1393920"/>
            <a:ext cx="2458800" cy="2451600"/>
            <a:chOff x="5581800" y="1393920"/>
            <a:chExt cx="2458800" cy="2451600"/>
          </a:xfrm>
        </p:grpSpPr>
        <p:sp>
          <p:nvSpPr>
            <p:cNvPr id="1067" name=""/>
            <p:cNvSpPr/>
            <p:nvPr/>
          </p:nvSpPr>
          <p:spPr>
            <a:xfrm>
              <a:off x="5939280" y="1401840"/>
              <a:ext cx="58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Ri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875920" y="207360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Ao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907960" y="27640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Ri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887440" y="34466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Ao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85880" y="139392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o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96680" y="2081520"/>
              <a:ext cx="58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i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68600" y="27529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o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66800" y="343224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i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51680" y="1746360"/>
              <a:ext cx="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151680" y="2432160"/>
              <a:ext cx="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151680" y="3117960"/>
              <a:ext cx="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646600" y="1665360"/>
              <a:ext cx="343080" cy="1960560"/>
            </a:xfrm>
            <a:custGeom>
              <a:avLst/>
              <a:gdLst/>
              <a:ahLst/>
              <a:rect l="l" t="t" r="r" b="b"/>
              <a:pathLst>
                <a:path w="216" h="1235">
                  <a:moveTo>
                    <a:pt x="184" y="1235"/>
                  </a:moveTo>
                  <a:cubicBezTo>
                    <a:pt x="123" y="1152"/>
                    <a:pt x="62" y="1069"/>
                    <a:pt x="36" y="889"/>
                  </a:cubicBezTo>
                  <a:cubicBezTo>
                    <a:pt x="10" y="709"/>
                    <a:pt x="0" y="301"/>
                    <a:pt x="30" y="153"/>
                  </a:cubicBezTo>
                  <a:cubicBezTo>
                    <a:pt x="60" y="5"/>
                    <a:pt x="138" y="2"/>
                    <a:pt x="216" y="0"/>
                  </a:cubicBezTo>
                </a:path>
              </a:pathLst>
            </a:custGeom>
            <a:noFill/>
            <a:ln w="2844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43640" y="1746360"/>
              <a:ext cx="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326360" y="2427480"/>
              <a:ext cx="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308720" y="3108600"/>
              <a:ext cx="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543800" y="1624320"/>
              <a:ext cx="439560" cy="2031840"/>
            </a:xfrm>
            <a:custGeom>
              <a:avLst/>
              <a:gdLst/>
              <a:ahLst/>
              <a:rect l="l" t="t" r="r" b="b"/>
              <a:pathLst>
                <a:path w="277" h="1280">
                  <a:moveTo>
                    <a:pt x="0" y="1280"/>
                  </a:moveTo>
                  <a:cubicBezTo>
                    <a:pt x="98" y="1244"/>
                    <a:pt x="197" y="1208"/>
                    <a:pt x="237" y="1024"/>
                  </a:cubicBezTo>
                  <a:cubicBezTo>
                    <a:pt x="277" y="840"/>
                    <a:pt x="270" y="350"/>
                    <a:pt x="243" y="179"/>
                  </a:cubicBezTo>
                  <a:cubicBezTo>
                    <a:pt x="216" y="8"/>
                    <a:pt x="146" y="4"/>
                    <a:pt x="77" y="0"/>
                  </a:cubicBezTo>
                </a:path>
              </a:pathLst>
            </a:custGeom>
            <a:noFill/>
            <a:ln w="2844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581800" y="2487600"/>
              <a:ext cx="172800" cy="1731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867800" y="2471760"/>
              <a:ext cx="172800" cy="1731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645840" y="1755720"/>
            <a:ext cx="3765240" cy="1565280"/>
            <a:chOff x="645840" y="1755720"/>
            <a:chExt cx="3765240" cy="1565280"/>
          </a:xfrm>
        </p:grpSpPr>
        <p:sp>
          <p:nvSpPr>
            <p:cNvPr id="1086" name=""/>
            <p:cNvSpPr/>
            <p:nvPr/>
          </p:nvSpPr>
          <p:spPr>
            <a:xfrm>
              <a:off x="1887120" y="1755720"/>
              <a:ext cx="1251000" cy="15652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95120" y="2141280"/>
              <a:ext cx="781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144600" y="2146320"/>
              <a:ext cx="781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1095120" y="2827080"/>
              <a:ext cx="781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138120" y="2827080"/>
              <a:ext cx="781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17120" y="191772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Ri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890520" y="19414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45840" y="26128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A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68200" y="261756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i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089080" y="2044440"/>
              <a:ext cx="87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FIF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ntr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6472080" y="1604880"/>
            <a:ext cx="6400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6431040" y="1747800"/>
            <a:ext cx="722160" cy="4669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400800" y="2367000"/>
            <a:ext cx="711360" cy="5493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6359040" y="3057480"/>
            <a:ext cx="762120" cy="5079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9EF4-34B5-42D8-B294-BEEE4F388A5B}" type="slidenum">
              <a:t>34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A simple filter: 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964440" y="2025720"/>
            <a:ext cx="3684240" cy="2288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y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:= 0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loo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   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x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:= READ (IN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  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WRITE (OUT, (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x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+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y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)/2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   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y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:= 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x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end loo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242040" y="2184480"/>
            <a:ext cx="1676520" cy="18986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236000" y="1692360"/>
            <a:ext cx="406080" cy="488880"/>
          </a:xfrm>
          <a:prstGeom prst="downArrow">
            <a:avLst>
              <a:gd name="adj1" fmla="val 50000"/>
              <a:gd name="adj2" fmla="val 30098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236000" y="4091040"/>
            <a:ext cx="406080" cy="488880"/>
          </a:xfrm>
          <a:prstGeom prst="downArrow">
            <a:avLst>
              <a:gd name="adj1" fmla="val 50000"/>
              <a:gd name="adj2" fmla="val 30098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810480" y="1685880"/>
            <a:ext cx="0" cy="49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429240" y="1685880"/>
            <a:ext cx="0" cy="49860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3320" y="4084560"/>
            <a:ext cx="0" cy="49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34280" y="4084560"/>
            <a:ext cx="0" cy="49860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620040" y="1287360"/>
            <a:ext cx="49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193080" y="1287360"/>
            <a:ext cx="49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150600" y="4500720"/>
            <a:ext cx="59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o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626880" y="4508640"/>
            <a:ext cx="59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o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162560" y="1238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088040" y="45212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O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627240" y="286848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fil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21B32-C7D0-4CC6-85E5-DD2D69D13FF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A simple filter: block diagr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809640" y="1152360"/>
            <a:ext cx="7702200" cy="2801520"/>
            <a:chOff x="809640" y="1152360"/>
            <a:chExt cx="7702200" cy="2801520"/>
          </a:xfrm>
        </p:grpSpPr>
        <p:sp>
          <p:nvSpPr>
            <p:cNvPr id="1118" name=""/>
            <p:cNvSpPr/>
            <p:nvPr/>
          </p:nvSpPr>
          <p:spPr>
            <a:xfrm>
              <a:off x="6505560" y="2017800"/>
              <a:ext cx="1143000" cy="231480"/>
            </a:xfrm>
            <a:prstGeom prst="rightArrow">
              <a:avLst>
                <a:gd name="adj1" fmla="val 50000"/>
                <a:gd name="adj2" fmla="val 12344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524480" y="2365200"/>
              <a:ext cx="1143000" cy="230400"/>
            </a:xfrm>
            <a:prstGeom prst="rightArrow">
              <a:avLst>
                <a:gd name="adj1" fmla="val 50000"/>
                <a:gd name="adj2" fmla="val 12402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924280" y="2365200"/>
              <a:ext cx="1143000" cy="230400"/>
            </a:xfrm>
            <a:prstGeom prst="rightArrow">
              <a:avLst>
                <a:gd name="adj1" fmla="val 50000"/>
                <a:gd name="adj2" fmla="val 12402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467080" y="1787400"/>
              <a:ext cx="457200" cy="12700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67280" y="1787400"/>
              <a:ext cx="457200" cy="12700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667480" y="1152360"/>
              <a:ext cx="838080" cy="19051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45200" y="2192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145400" y="2192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897520" y="1881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524480" y="1382760"/>
              <a:ext cx="1143000" cy="231480"/>
            </a:xfrm>
            <a:prstGeom prst="rightArrow">
              <a:avLst>
                <a:gd name="adj1" fmla="val 50000"/>
                <a:gd name="adj2" fmla="val 12344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33760" y="1441440"/>
              <a:ext cx="990720" cy="115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409920" y="1442880"/>
              <a:ext cx="127080" cy="1030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324080" y="2365200"/>
              <a:ext cx="1143000" cy="230400"/>
            </a:xfrm>
            <a:prstGeom prst="rightArrow">
              <a:avLst>
                <a:gd name="adj1" fmla="val 50000"/>
                <a:gd name="adj2" fmla="val 12402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2581200" y="305604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809800" y="305604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4176720" y="305604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405320" y="305604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5934240" y="305604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162840" y="305604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359080" y="3378240"/>
              <a:ext cx="4267080" cy="41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77840" y="332748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ntro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2021040" y="3698640"/>
              <a:ext cx="3348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021040" y="3470040"/>
              <a:ext cx="3348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6625800" y="3700440"/>
              <a:ext cx="3351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626160" y="3471840"/>
              <a:ext cx="3351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592640" y="3201840"/>
              <a:ext cx="462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592640" y="3487680"/>
              <a:ext cx="462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972840" y="326232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972840" y="354816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238120" y="30099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806200" y="30207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09520" y="3000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00280" y="3000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565240" y="30207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185880" y="30207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09640" y="2214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688160" y="19191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OU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654120" y="4292640"/>
            <a:ext cx="848988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x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and 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y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are level-sensitive latches (transparent when R=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+ is a bundled-data adder (matched delay between 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and 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in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indicates the validity of 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After  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A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in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+ the environment is allowed to change 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(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out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,A</a:t>
            </a:r>
            <a:r>
              <a:rPr b="1" i="1" lang="es-ES_tradnl" sz="20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out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) control a level-sensitive latch at the outp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FCE4D-2170-4C33-B461-25CC542FF70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A simple filter: control spec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577440" y="1197000"/>
            <a:ext cx="7522920" cy="2386080"/>
            <a:chOff x="577440" y="1197000"/>
            <a:chExt cx="7522920" cy="2386080"/>
          </a:xfrm>
        </p:grpSpPr>
        <p:sp>
          <p:nvSpPr>
            <p:cNvPr id="1158" name=""/>
            <p:cNvSpPr/>
            <p:nvPr/>
          </p:nvSpPr>
          <p:spPr>
            <a:xfrm>
              <a:off x="6123600" y="1795320"/>
              <a:ext cx="1112760" cy="209520"/>
            </a:xfrm>
            <a:prstGeom prst="rightArrow">
              <a:avLst>
                <a:gd name="adj1" fmla="val 50000"/>
                <a:gd name="adj2" fmla="val 13277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194720" y="2109600"/>
              <a:ext cx="1112760" cy="207720"/>
            </a:xfrm>
            <a:prstGeom prst="rightArrow">
              <a:avLst>
                <a:gd name="adj1" fmla="val 50000"/>
                <a:gd name="adj2" fmla="val 13392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36640" y="2109600"/>
              <a:ext cx="1112760" cy="207720"/>
            </a:xfrm>
            <a:prstGeom prst="rightArrow">
              <a:avLst>
                <a:gd name="adj1" fmla="val 50000"/>
                <a:gd name="adj2" fmla="val 13392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91320" y="1587240"/>
              <a:ext cx="444960" cy="11480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49400" y="1587240"/>
              <a:ext cx="444960" cy="11480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307480" y="1197000"/>
              <a:ext cx="815760" cy="15382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267640" y="195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25720" y="195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32120" y="1671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94720" y="1221120"/>
              <a:ext cx="1112760" cy="209520"/>
            </a:xfrm>
            <a:prstGeom prst="rightArrow">
              <a:avLst>
                <a:gd name="adj1" fmla="val 50000"/>
                <a:gd name="adj2" fmla="val 13277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229920" y="1274400"/>
              <a:ext cx="96444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09320" y="1275480"/>
              <a:ext cx="123480" cy="931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078560" y="2109600"/>
              <a:ext cx="1112760" cy="207720"/>
            </a:xfrm>
            <a:prstGeom prst="rightArrow">
              <a:avLst>
                <a:gd name="adj1" fmla="val 50000"/>
                <a:gd name="adj2" fmla="val 13392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2302560" y="2734200"/>
              <a:ext cx="0" cy="3024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525040" y="2734200"/>
              <a:ext cx="0" cy="3024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3855960" y="2734200"/>
              <a:ext cx="0" cy="3024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800" y="2734200"/>
              <a:ext cx="0" cy="3024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5567400" y="2734200"/>
              <a:ext cx="0" cy="3024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789880" y="2734200"/>
              <a:ext cx="0" cy="3024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086200" y="3025440"/>
              <a:ext cx="4154760" cy="377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467880" y="29793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ntro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1756800" y="3315240"/>
              <a:ext cx="3258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757160" y="3108600"/>
              <a:ext cx="3258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6240960" y="3316680"/>
              <a:ext cx="3261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40960" y="3110040"/>
              <a:ext cx="3261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339920" y="2865960"/>
              <a:ext cx="462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339920" y="3124440"/>
              <a:ext cx="462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79000" y="292068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579000" y="317736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968480" y="26924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521440" y="27025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498480" y="26834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074120" y="26834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07760" y="27025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812560" y="27025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i="1" lang="es-ES_tradnl" sz="18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77440" y="1973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276680" y="17060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OU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561960" y="3541680"/>
            <a:ext cx="7161480" cy="2683080"/>
            <a:chOff x="561960" y="3541680"/>
            <a:chExt cx="7161480" cy="2683080"/>
          </a:xfrm>
        </p:grpSpPr>
        <p:grpSp>
          <p:nvGrpSpPr>
            <p:cNvPr id="1196" name=""/>
            <p:cNvGrpSpPr/>
            <p:nvPr/>
          </p:nvGrpSpPr>
          <p:grpSpPr>
            <a:xfrm>
              <a:off x="561960" y="3637080"/>
              <a:ext cx="1179360" cy="2500920"/>
              <a:chOff x="561960" y="3637080"/>
              <a:chExt cx="1179360" cy="2500920"/>
            </a:xfrm>
          </p:grpSpPr>
          <p:sp>
            <p:nvSpPr>
              <p:cNvPr id="1197" name=""/>
              <p:cNvSpPr/>
              <p:nvPr/>
            </p:nvSpPr>
            <p:spPr>
              <a:xfrm>
                <a:off x="1005840" y="363708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002600" y="430092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999360" y="4964400"/>
                <a:ext cx="659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996120" y="5627880"/>
                <a:ext cx="659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330200" y="411660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8120" y="4780080"/>
                <a:ext cx="0" cy="3463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346040" y="544392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06240" y="3897720"/>
                <a:ext cx="439200" cy="191592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61960" y="4775400"/>
                <a:ext cx="149040" cy="1494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2025720" y="3624480"/>
              <a:ext cx="5697720" cy="2533320"/>
              <a:chOff x="2025720" y="3624480"/>
              <a:chExt cx="5697720" cy="2533320"/>
            </a:xfrm>
          </p:grpSpPr>
          <p:sp>
            <p:nvSpPr>
              <p:cNvPr id="1207" name=""/>
              <p:cNvSpPr/>
              <p:nvPr/>
            </p:nvSpPr>
            <p:spPr>
              <a:xfrm>
                <a:off x="2464920" y="363420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x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461680" y="430524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x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458440" y="497664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x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455200" y="564768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x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794320" y="4118760"/>
                <a:ext cx="0" cy="350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802240" y="479052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810160" y="546156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070360" y="3897360"/>
                <a:ext cx="439560" cy="193788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025720" y="4785120"/>
                <a:ext cx="149400" cy="150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28320" y="363096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y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25440" y="430200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y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21840" y="497304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y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918960" y="564480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y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257720" y="411588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265640" y="478728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273560" y="545832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533760" y="3894120"/>
                <a:ext cx="439920" cy="193824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489480" y="4782240"/>
                <a:ext cx="149400" cy="150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392080" y="362772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380200" y="4300560"/>
                <a:ext cx="66672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85600" y="496980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382360" y="564156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721480" y="411264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729400" y="478368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737320" y="5455080"/>
                <a:ext cx="0" cy="350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997520" y="3890880"/>
                <a:ext cx="439920" cy="193824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953240" y="4779000"/>
                <a:ext cx="149040" cy="150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869160" y="3624480"/>
                <a:ext cx="854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out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865920" y="4295520"/>
                <a:ext cx="854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out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862680" y="4966920"/>
                <a:ext cx="778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out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859440" y="5638320"/>
                <a:ext cx="778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out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185240" y="410940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193160" y="4780440"/>
                <a:ext cx="0" cy="349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201080" y="5451840"/>
                <a:ext cx="0" cy="350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461280" y="3887640"/>
                <a:ext cx="439560" cy="193824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417000" y="4775760"/>
                <a:ext cx="149040" cy="150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43" name=""/>
            <p:cNvSpPr/>
            <p:nvPr/>
          </p:nvSpPr>
          <p:spPr>
            <a:xfrm>
              <a:off x="1589040" y="3708360"/>
              <a:ext cx="878040" cy="74880"/>
            </a:xfrm>
            <a:custGeom>
              <a:avLst/>
              <a:gdLst/>
              <a:ahLst/>
              <a:rect l="l" t="t" r="r" b="b"/>
              <a:pathLst>
                <a:path w="509" h="75">
                  <a:moveTo>
                    <a:pt x="0" y="75"/>
                  </a:moveTo>
                  <a:cubicBezTo>
                    <a:pt x="44" y="39"/>
                    <a:pt x="89" y="4"/>
                    <a:pt x="174" y="2"/>
                  </a:cubicBezTo>
                  <a:cubicBezTo>
                    <a:pt x="259" y="0"/>
                    <a:pt x="384" y="30"/>
                    <a:pt x="509" y="60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519200" y="4692600"/>
              <a:ext cx="958680" cy="1347840"/>
            </a:xfrm>
            <a:custGeom>
              <a:avLst/>
              <a:gdLst/>
              <a:ahLst/>
              <a:rect l="l" t="t" r="r" b="b"/>
              <a:pathLst>
                <a:path w="604" h="849">
                  <a:moveTo>
                    <a:pt x="604" y="764"/>
                  </a:moveTo>
                  <a:cubicBezTo>
                    <a:pt x="504" y="806"/>
                    <a:pt x="404" y="849"/>
                    <a:pt x="335" y="750"/>
                  </a:cubicBezTo>
                  <a:cubicBezTo>
                    <a:pt x="266" y="651"/>
                    <a:pt x="245" y="293"/>
                    <a:pt x="189" y="168"/>
                  </a:cubicBezTo>
                  <a:cubicBezTo>
                    <a:pt x="133" y="43"/>
                    <a:pt x="66" y="21"/>
                    <a:pt x="0" y="0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021120" y="3541680"/>
              <a:ext cx="2412720" cy="897120"/>
            </a:xfrm>
            <a:custGeom>
              <a:avLst/>
              <a:gdLst/>
              <a:ahLst/>
              <a:rect l="l" t="t" r="r" b="b"/>
              <a:pathLst>
                <a:path w="1520" h="565">
                  <a:moveTo>
                    <a:pt x="0" y="565"/>
                  </a:moveTo>
                  <a:cubicBezTo>
                    <a:pt x="19" y="522"/>
                    <a:pt x="76" y="379"/>
                    <a:pt x="116" y="304"/>
                  </a:cubicBezTo>
                  <a:cubicBezTo>
                    <a:pt x="156" y="229"/>
                    <a:pt x="166" y="162"/>
                    <a:pt x="240" y="114"/>
                  </a:cubicBezTo>
                  <a:cubicBezTo>
                    <a:pt x="314" y="66"/>
                    <a:pt x="405" y="26"/>
                    <a:pt x="560" y="13"/>
                  </a:cubicBezTo>
                  <a:cubicBezTo>
                    <a:pt x="715" y="0"/>
                    <a:pt x="1010" y="10"/>
                    <a:pt x="1170" y="34"/>
                  </a:cubicBezTo>
                  <a:cubicBezTo>
                    <a:pt x="1330" y="58"/>
                    <a:pt x="1425" y="108"/>
                    <a:pt x="1520" y="158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894280" y="3664080"/>
              <a:ext cx="982800" cy="741240"/>
            </a:xfrm>
            <a:custGeom>
              <a:avLst/>
              <a:gdLst/>
              <a:ahLst/>
              <a:rect l="l" t="t" r="r" b="b"/>
              <a:pathLst>
                <a:path w="619" h="467">
                  <a:moveTo>
                    <a:pt x="0" y="467"/>
                  </a:moveTo>
                  <a:cubicBezTo>
                    <a:pt x="19" y="419"/>
                    <a:pt x="61" y="251"/>
                    <a:pt x="124" y="176"/>
                  </a:cubicBezTo>
                  <a:cubicBezTo>
                    <a:pt x="187" y="101"/>
                    <a:pt x="297" y="32"/>
                    <a:pt x="379" y="16"/>
                  </a:cubicBezTo>
                  <a:cubicBezTo>
                    <a:pt x="461" y="0"/>
                    <a:pt x="569" y="68"/>
                    <a:pt x="619" y="81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464000" y="3954600"/>
              <a:ext cx="2413080" cy="2270160"/>
            </a:xfrm>
            <a:custGeom>
              <a:avLst/>
              <a:gdLst/>
              <a:ahLst/>
              <a:rect l="l" t="t" r="r" b="b"/>
              <a:pathLst>
                <a:path w="1520" h="1430">
                  <a:moveTo>
                    <a:pt x="1520" y="1222"/>
                  </a:moveTo>
                  <a:cubicBezTo>
                    <a:pt x="1500" y="1261"/>
                    <a:pt x="1481" y="1301"/>
                    <a:pt x="1338" y="1331"/>
                  </a:cubicBezTo>
                  <a:cubicBezTo>
                    <a:pt x="1195" y="1361"/>
                    <a:pt x="829" y="1410"/>
                    <a:pt x="661" y="1404"/>
                  </a:cubicBezTo>
                  <a:cubicBezTo>
                    <a:pt x="493" y="1398"/>
                    <a:pt x="406" y="1430"/>
                    <a:pt x="327" y="1295"/>
                  </a:cubicBezTo>
                  <a:cubicBezTo>
                    <a:pt x="248" y="1160"/>
                    <a:pt x="214" y="777"/>
                    <a:pt x="189" y="596"/>
                  </a:cubicBezTo>
                  <a:cubicBezTo>
                    <a:pt x="164" y="415"/>
                    <a:pt x="205" y="310"/>
                    <a:pt x="174" y="211"/>
                  </a:cubicBezTo>
                  <a:cubicBezTo>
                    <a:pt x="143" y="112"/>
                    <a:pt x="76" y="54"/>
                    <a:pt x="0" y="0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928960" y="4046760"/>
              <a:ext cx="981000" cy="1912680"/>
            </a:xfrm>
            <a:custGeom>
              <a:avLst/>
              <a:gdLst/>
              <a:ahLst/>
              <a:rect l="l" t="t" r="r" b="b"/>
              <a:pathLst>
                <a:path w="618" h="1205">
                  <a:moveTo>
                    <a:pt x="618" y="1171"/>
                  </a:moveTo>
                  <a:cubicBezTo>
                    <a:pt x="546" y="1188"/>
                    <a:pt x="475" y="1205"/>
                    <a:pt x="414" y="1171"/>
                  </a:cubicBezTo>
                  <a:cubicBezTo>
                    <a:pt x="353" y="1137"/>
                    <a:pt x="283" y="1097"/>
                    <a:pt x="254" y="967"/>
                  </a:cubicBezTo>
                  <a:cubicBezTo>
                    <a:pt x="225" y="837"/>
                    <a:pt x="281" y="554"/>
                    <a:pt x="239" y="393"/>
                  </a:cubicBezTo>
                  <a:cubicBezTo>
                    <a:pt x="197" y="232"/>
                    <a:pt x="98" y="116"/>
                    <a:pt x="0" y="0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62320" y="5027760"/>
              <a:ext cx="138240" cy="137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9F18-6CD1-48DD-9AF6-EFBCBAF9B37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A simple filter: control impl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849240" y="3571920"/>
            <a:ext cx="7161480" cy="2682720"/>
            <a:chOff x="849240" y="3571920"/>
            <a:chExt cx="7161480" cy="2682720"/>
          </a:xfrm>
        </p:grpSpPr>
        <p:grpSp>
          <p:nvGrpSpPr>
            <p:cNvPr id="1252" name=""/>
            <p:cNvGrpSpPr/>
            <p:nvPr/>
          </p:nvGrpSpPr>
          <p:grpSpPr>
            <a:xfrm>
              <a:off x="849240" y="3666960"/>
              <a:ext cx="1179720" cy="2500920"/>
              <a:chOff x="849240" y="3666960"/>
              <a:chExt cx="1179720" cy="2500920"/>
            </a:xfrm>
          </p:grpSpPr>
          <p:sp>
            <p:nvSpPr>
              <p:cNvPr id="1253" name=""/>
              <p:cNvSpPr/>
              <p:nvPr/>
            </p:nvSpPr>
            <p:spPr>
              <a:xfrm>
                <a:off x="1293480" y="366696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290600" y="433080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287000" y="4994280"/>
                <a:ext cx="659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283760" y="5657760"/>
                <a:ext cx="659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617840" y="414648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625760" y="4809960"/>
                <a:ext cx="0" cy="3463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633680" y="547380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93880" y="3927600"/>
                <a:ext cx="439560" cy="191592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49240" y="4805280"/>
                <a:ext cx="149400" cy="1494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2313000" y="3654360"/>
              <a:ext cx="5697720" cy="2510280"/>
              <a:chOff x="2313000" y="3654360"/>
              <a:chExt cx="5697720" cy="2510280"/>
            </a:xfrm>
          </p:grpSpPr>
          <p:sp>
            <p:nvSpPr>
              <p:cNvPr id="1263" name=""/>
              <p:cNvSpPr/>
              <p:nvPr/>
            </p:nvSpPr>
            <p:spPr>
              <a:xfrm>
                <a:off x="2752200" y="366408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x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748960" y="432756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x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745720" y="499104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x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742480" y="565452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x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081600" y="4143240"/>
                <a:ext cx="0" cy="3463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089520" y="480708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097440" y="547056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357640" y="3924360"/>
                <a:ext cx="439560" cy="191592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313000" y="4802040"/>
                <a:ext cx="149400" cy="1494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215600" y="366084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y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212720" y="432432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y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209120" y="498780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y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206240" y="565164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y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545000" y="414036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552920" y="480384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560840" y="546732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821040" y="3921120"/>
                <a:ext cx="439920" cy="191628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776760" y="4799160"/>
                <a:ext cx="149400" cy="1490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679360" y="365760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676120" y="4321080"/>
                <a:ext cx="677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672880" y="498456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669640" y="5648400"/>
                <a:ext cx="60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008760" y="413712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016680" y="480060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024600" y="5464080"/>
                <a:ext cx="0" cy="3463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284800" y="3917880"/>
                <a:ext cx="439920" cy="191628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240520" y="4795920"/>
                <a:ext cx="149040" cy="1490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156440" y="3654360"/>
                <a:ext cx="854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out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153200" y="4317840"/>
                <a:ext cx="854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out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149960" y="4981680"/>
                <a:ext cx="778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4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out</a:t>
                </a:r>
                <a:r>
                  <a:rPr b="1" lang="es-ES_tradnl" sz="24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146720" y="5645160"/>
                <a:ext cx="778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4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out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472520" y="413388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480440" y="4797360"/>
                <a:ext cx="0" cy="3459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488360" y="5460840"/>
                <a:ext cx="0" cy="3463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748560" y="3914640"/>
                <a:ext cx="439560" cy="1916280"/>
              </a:xfrm>
              <a:custGeom>
                <a:avLst/>
                <a:gdLst/>
                <a:ahLst/>
                <a:rect l="l" t="t" r="r" b="b"/>
                <a:pathLst>
                  <a:path w="277" h="1207">
                    <a:moveTo>
                      <a:pt x="255" y="1207"/>
                    </a:moveTo>
                    <a:cubicBezTo>
                      <a:pt x="171" y="1205"/>
                      <a:pt x="88" y="1204"/>
                      <a:pt x="52" y="1032"/>
                    </a:cubicBezTo>
                    <a:cubicBezTo>
                      <a:pt x="16" y="860"/>
                      <a:pt x="0" y="346"/>
                      <a:pt x="37" y="174"/>
                    </a:cubicBezTo>
                    <a:cubicBezTo>
                      <a:pt x="74" y="2"/>
                      <a:pt x="175" y="1"/>
                      <a:pt x="277" y="0"/>
                    </a:cubicBez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704280" y="4792680"/>
                <a:ext cx="149040" cy="1490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99" name=""/>
            <p:cNvSpPr/>
            <p:nvPr/>
          </p:nvSpPr>
          <p:spPr>
            <a:xfrm>
              <a:off x="1876680" y="3738600"/>
              <a:ext cx="877680" cy="74520"/>
            </a:xfrm>
            <a:custGeom>
              <a:avLst/>
              <a:gdLst/>
              <a:ahLst/>
              <a:rect l="l" t="t" r="r" b="b"/>
              <a:pathLst>
                <a:path w="509" h="75">
                  <a:moveTo>
                    <a:pt x="0" y="75"/>
                  </a:moveTo>
                  <a:cubicBezTo>
                    <a:pt x="44" y="39"/>
                    <a:pt x="89" y="4"/>
                    <a:pt x="174" y="2"/>
                  </a:cubicBezTo>
                  <a:cubicBezTo>
                    <a:pt x="259" y="0"/>
                    <a:pt x="384" y="30"/>
                    <a:pt x="509" y="60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806840" y="4722840"/>
              <a:ext cx="958680" cy="1347840"/>
            </a:xfrm>
            <a:custGeom>
              <a:avLst/>
              <a:gdLst/>
              <a:ahLst/>
              <a:rect l="l" t="t" r="r" b="b"/>
              <a:pathLst>
                <a:path w="604" h="849">
                  <a:moveTo>
                    <a:pt x="604" y="764"/>
                  </a:moveTo>
                  <a:cubicBezTo>
                    <a:pt x="504" y="806"/>
                    <a:pt x="404" y="849"/>
                    <a:pt x="335" y="750"/>
                  </a:cubicBezTo>
                  <a:cubicBezTo>
                    <a:pt x="266" y="651"/>
                    <a:pt x="245" y="293"/>
                    <a:pt x="189" y="168"/>
                  </a:cubicBezTo>
                  <a:cubicBezTo>
                    <a:pt x="133" y="43"/>
                    <a:pt x="66" y="21"/>
                    <a:pt x="0" y="0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308400" y="3571920"/>
              <a:ext cx="2413080" cy="896760"/>
            </a:xfrm>
            <a:custGeom>
              <a:avLst/>
              <a:gdLst/>
              <a:ahLst/>
              <a:rect l="l" t="t" r="r" b="b"/>
              <a:pathLst>
                <a:path w="1520" h="565">
                  <a:moveTo>
                    <a:pt x="0" y="565"/>
                  </a:moveTo>
                  <a:cubicBezTo>
                    <a:pt x="19" y="522"/>
                    <a:pt x="76" y="379"/>
                    <a:pt x="116" y="304"/>
                  </a:cubicBezTo>
                  <a:cubicBezTo>
                    <a:pt x="156" y="229"/>
                    <a:pt x="166" y="162"/>
                    <a:pt x="240" y="114"/>
                  </a:cubicBezTo>
                  <a:cubicBezTo>
                    <a:pt x="314" y="66"/>
                    <a:pt x="405" y="26"/>
                    <a:pt x="560" y="13"/>
                  </a:cubicBezTo>
                  <a:cubicBezTo>
                    <a:pt x="715" y="0"/>
                    <a:pt x="1010" y="10"/>
                    <a:pt x="1170" y="34"/>
                  </a:cubicBezTo>
                  <a:cubicBezTo>
                    <a:pt x="1330" y="58"/>
                    <a:pt x="1425" y="108"/>
                    <a:pt x="1520" y="158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81920" y="3693960"/>
              <a:ext cx="982440" cy="741600"/>
            </a:xfrm>
            <a:custGeom>
              <a:avLst/>
              <a:gdLst/>
              <a:ahLst/>
              <a:rect l="l" t="t" r="r" b="b"/>
              <a:pathLst>
                <a:path w="619" h="467">
                  <a:moveTo>
                    <a:pt x="0" y="467"/>
                  </a:moveTo>
                  <a:cubicBezTo>
                    <a:pt x="19" y="419"/>
                    <a:pt x="61" y="251"/>
                    <a:pt x="124" y="176"/>
                  </a:cubicBezTo>
                  <a:cubicBezTo>
                    <a:pt x="187" y="101"/>
                    <a:pt x="297" y="32"/>
                    <a:pt x="379" y="16"/>
                  </a:cubicBezTo>
                  <a:cubicBezTo>
                    <a:pt x="461" y="0"/>
                    <a:pt x="569" y="68"/>
                    <a:pt x="619" y="81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751640" y="3984480"/>
              <a:ext cx="2412720" cy="2270160"/>
            </a:xfrm>
            <a:custGeom>
              <a:avLst/>
              <a:gdLst/>
              <a:ahLst/>
              <a:rect l="l" t="t" r="r" b="b"/>
              <a:pathLst>
                <a:path w="1520" h="1430">
                  <a:moveTo>
                    <a:pt x="1520" y="1222"/>
                  </a:moveTo>
                  <a:cubicBezTo>
                    <a:pt x="1500" y="1261"/>
                    <a:pt x="1481" y="1301"/>
                    <a:pt x="1338" y="1331"/>
                  </a:cubicBezTo>
                  <a:cubicBezTo>
                    <a:pt x="1195" y="1361"/>
                    <a:pt x="829" y="1410"/>
                    <a:pt x="661" y="1404"/>
                  </a:cubicBezTo>
                  <a:cubicBezTo>
                    <a:pt x="493" y="1398"/>
                    <a:pt x="406" y="1430"/>
                    <a:pt x="327" y="1295"/>
                  </a:cubicBezTo>
                  <a:cubicBezTo>
                    <a:pt x="248" y="1160"/>
                    <a:pt x="214" y="777"/>
                    <a:pt x="189" y="596"/>
                  </a:cubicBezTo>
                  <a:cubicBezTo>
                    <a:pt x="164" y="415"/>
                    <a:pt x="205" y="310"/>
                    <a:pt x="174" y="211"/>
                  </a:cubicBezTo>
                  <a:cubicBezTo>
                    <a:pt x="143" y="112"/>
                    <a:pt x="76" y="54"/>
                    <a:pt x="0" y="0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216240" y="4076640"/>
              <a:ext cx="981360" cy="1913040"/>
            </a:xfrm>
            <a:custGeom>
              <a:avLst/>
              <a:gdLst/>
              <a:ahLst/>
              <a:rect l="l" t="t" r="r" b="b"/>
              <a:pathLst>
                <a:path w="618" h="1205">
                  <a:moveTo>
                    <a:pt x="618" y="1171"/>
                  </a:moveTo>
                  <a:cubicBezTo>
                    <a:pt x="546" y="1188"/>
                    <a:pt x="475" y="1205"/>
                    <a:pt x="414" y="1171"/>
                  </a:cubicBezTo>
                  <a:cubicBezTo>
                    <a:pt x="353" y="1137"/>
                    <a:pt x="283" y="1097"/>
                    <a:pt x="254" y="967"/>
                  </a:cubicBezTo>
                  <a:cubicBezTo>
                    <a:pt x="225" y="837"/>
                    <a:pt x="281" y="554"/>
                    <a:pt x="239" y="393"/>
                  </a:cubicBezTo>
                  <a:cubicBezTo>
                    <a:pt x="197" y="232"/>
                    <a:pt x="98" y="116"/>
                    <a:pt x="0" y="0"/>
                  </a:cubicBezTo>
                </a:path>
              </a:pathLst>
            </a:custGeom>
            <a:noFill/>
            <a:ln w="19080">
              <a:solidFill>
                <a:srgbClr val="cc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549600" y="5057640"/>
              <a:ext cx="138240" cy="138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929160" y="950760"/>
            <a:ext cx="7497720" cy="2738880"/>
            <a:chOff x="929160" y="950760"/>
            <a:chExt cx="7497720" cy="2738880"/>
          </a:xfrm>
        </p:grpSpPr>
        <p:sp>
          <p:nvSpPr>
            <p:cNvPr id="1307" name=""/>
            <p:cNvSpPr/>
            <p:nvPr/>
          </p:nvSpPr>
          <p:spPr>
            <a:xfrm flipV="1">
              <a:off x="7226640" y="2781000"/>
              <a:ext cx="385920" cy="39348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7109280" y="2824200"/>
              <a:ext cx="110880" cy="1065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6968160" y="2875320"/>
              <a:ext cx="1368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7607880" y="2979360"/>
              <a:ext cx="2642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6972840" y="3090240"/>
              <a:ext cx="249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12" name=""/>
            <p:cNvGrpSpPr/>
            <p:nvPr/>
          </p:nvGrpSpPr>
          <p:grpSpPr>
            <a:xfrm>
              <a:off x="6258960" y="2287080"/>
              <a:ext cx="729000" cy="404640"/>
              <a:chOff x="6258960" y="2287080"/>
              <a:chExt cx="729000" cy="404640"/>
            </a:xfrm>
          </p:grpSpPr>
          <p:sp>
            <p:nvSpPr>
              <p:cNvPr id="1313" name=""/>
              <p:cNvSpPr/>
              <p:nvPr/>
            </p:nvSpPr>
            <p:spPr>
              <a:xfrm flipH="1">
                <a:off x="6437880" y="2287080"/>
                <a:ext cx="408960" cy="3934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6258960" y="2484720"/>
                <a:ext cx="1789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6808680" y="2373120"/>
                <a:ext cx="1792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6804360" y="2610360"/>
                <a:ext cx="1789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6469200" y="22928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5662440" y="3145680"/>
              <a:ext cx="325080" cy="543960"/>
              <a:chOff x="5662440" y="3145680"/>
              <a:chExt cx="325080" cy="543960"/>
            </a:xfrm>
          </p:grpSpPr>
          <p:sp>
            <p:nvSpPr>
              <p:cNvPr id="1319" name=""/>
              <p:cNvSpPr/>
              <p:nvPr/>
            </p:nvSpPr>
            <p:spPr>
              <a:xfrm>
                <a:off x="5817600" y="3562560"/>
                <a:ext cx="0" cy="1270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735520" y="3145680"/>
                <a:ext cx="0" cy="1270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917680" y="3150000"/>
                <a:ext cx="0" cy="1270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 rot="16200000">
                <a:off x="5664240" y="3234240"/>
                <a:ext cx="321480" cy="3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70" y="3182"/>
                      <a:pt x="17739" y="5080"/>
                      <a:pt x="17739" y="10800"/>
                    </a:cubicBezTo>
                    <a:cubicBezTo>
                      <a:pt x="17739" y="16520"/>
                      <a:pt x="19670" y="184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23" name=""/>
            <p:cNvSpPr/>
            <p:nvPr/>
          </p:nvSpPr>
          <p:spPr>
            <a:xfrm flipH="1" flipV="1" rot="5400000">
              <a:off x="4095360" y="1659240"/>
              <a:ext cx="371520" cy="40860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 flipV="1" rot="5400000">
              <a:off x="4333680" y="2053800"/>
              <a:ext cx="106560" cy="1108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90920" y="2172960"/>
              <a:ext cx="0" cy="583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82920" y="1431360"/>
              <a:ext cx="0" cy="2487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67720" y="2053440"/>
              <a:ext cx="0" cy="2401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 flipV="1" rot="5400000">
              <a:off x="1817640" y="1505880"/>
              <a:ext cx="371520" cy="40860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 flipV="1" rot="5400000">
              <a:off x="2055960" y="1900080"/>
              <a:ext cx="106560" cy="1108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113200" y="2013480"/>
              <a:ext cx="0" cy="1317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005560" y="1277640"/>
              <a:ext cx="0" cy="253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890000" y="1899720"/>
              <a:ext cx="0" cy="2401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 flipV="1">
              <a:off x="2315520" y="2479680"/>
              <a:ext cx="385920" cy="39348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 flipV="1">
              <a:off x="2707200" y="2522520"/>
              <a:ext cx="110880" cy="1065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823120" y="2574000"/>
              <a:ext cx="1364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060280" y="2677680"/>
              <a:ext cx="2444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705760" y="2788920"/>
              <a:ext cx="249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94160" y="2217960"/>
              <a:ext cx="3471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6972840" y="2228040"/>
              <a:ext cx="0" cy="1400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70600" y="2118600"/>
              <a:ext cx="2107440" cy="371520"/>
            </a:xfrm>
            <a:custGeom>
              <a:avLst/>
              <a:gdLst/>
              <a:ahLst/>
              <a:rect l="l" t="t" r="r" b="b"/>
              <a:pathLst>
                <a:path w="1387" h="254">
                  <a:moveTo>
                    <a:pt x="1387" y="254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47720" y="2475720"/>
              <a:ext cx="838440" cy="401040"/>
            </a:xfrm>
            <a:custGeom>
              <a:avLst/>
              <a:gdLst/>
              <a:ahLst/>
              <a:rect l="l" t="t" r="r" b="b"/>
              <a:pathLst>
                <a:path w="552" h="274">
                  <a:moveTo>
                    <a:pt x="0" y="0"/>
                  </a:moveTo>
                  <a:lnTo>
                    <a:pt x="0" y="274"/>
                  </a:lnTo>
                  <a:cubicBezTo>
                    <a:pt x="184" y="274"/>
                    <a:pt x="368" y="274"/>
                    <a:pt x="552" y="274"/>
                  </a:cubicBez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 flipV="1">
              <a:off x="5912280" y="1276920"/>
              <a:ext cx="4320" cy="1873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5911920" y="3085920"/>
              <a:ext cx="1069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814720" y="2607480"/>
              <a:ext cx="1151640" cy="1063800"/>
            </a:xfrm>
            <a:custGeom>
              <a:avLst/>
              <a:gdLst/>
              <a:ahLst/>
              <a:rect l="l" t="t" r="r" b="b"/>
              <a:pathLst>
                <a:path w="787" h="727">
                  <a:moveTo>
                    <a:pt x="0" y="727"/>
                  </a:moveTo>
                  <a:lnTo>
                    <a:pt x="787" y="727"/>
                  </a:lnTo>
                  <a:lnTo>
                    <a:pt x="787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07440" y="1291680"/>
              <a:ext cx="1774440" cy="842760"/>
            </a:xfrm>
            <a:custGeom>
              <a:avLst/>
              <a:gdLst/>
              <a:ahLst/>
              <a:rect l="l" t="t" r="r" b="b"/>
              <a:pathLst>
                <a:path w="1200" h="576">
                  <a:moveTo>
                    <a:pt x="0" y="576"/>
                  </a:moveTo>
                  <a:lnTo>
                    <a:pt x="1200" y="576"/>
                  </a:lnTo>
                  <a:lnTo>
                    <a:pt x="120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354760" y="1284480"/>
              <a:ext cx="591120" cy="1292400"/>
            </a:xfrm>
            <a:custGeom>
              <a:avLst/>
              <a:gdLst/>
              <a:ahLst/>
              <a:rect l="l" t="t" r="r" b="b"/>
              <a:pathLst>
                <a:path w="389" h="883">
                  <a:moveTo>
                    <a:pt x="389" y="883"/>
                  </a:moveTo>
                  <a:lnTo>
                    <a:pt x="389" y="91"/>
                  </a:lnTo>
                  <a:lnTo>
                    <a:pt x="0" y="9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347200" y="1284480"/>
              <a:ext cx="3209400" cy="132840"/>
            </a:xfrm>
            <a:custGeom>
              <a:avLst/>
              <a:gdLst/>
              <a:ahLst/>
              <a:rect l="l" t="t" r="r" b="b"/>
              <a:pathLst>
                <a:path w="2112" h="91">
                  <a:moveTo>
                    <a:pt x="0" y="91"/>
                  </a:moveTo>
                  <a:lnTo>
                    <a:pt x="2112" y="91"/>
                  </a:lnTo>
                  <a:lnTo>
                    <a:pt x="211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280400" y="1278360"/>
              <a:ext cx="1080" cy="14184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1" y="97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946240" y="1553760"/>
              <a:ext cx="1336680" cy="1236600"/>
            </a:xfrm>
            <a:custGeom>
              <a:avLst/>
              <a:gdLst/>
              <a:ahLst/>
              <a:rect l="l" t="t" r="r" b="b"/>
              <a:pathLst>
                <a:path w="880" h="883">
                  <a:moveTo>
                    <a:pt x="880" y="0"/>
                  </a:moveTo>
                  <a:lnTo>
                    <a:pt x="675" y="0"/>
                  </a:lnTo>
                  <a:lnTo>
                    <a:pt x="675" y="880"/>
                  </a:lnTo>
                  <a:lnTo>
                    <a:pt x="0" y="883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1288080" y="3146040"/>
              <a:ext cx="44427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890000" y="2115720"/>
              <a:ext cx="0" cy="10213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1288440" y="2677680"/>
              <a:ext cx="7869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929160" y="294120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939600" y="2482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06480" y="9507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189160" y="9608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091760" y="980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707640" y="982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745240" y="97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388120" y="9813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826760" y="2023560"/>
              <a:ext cx="59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ou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833240" y="2780280"/>
              <a:ext cx="59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ou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2EA2-7D0E-457E-9B42-3B4B490397D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Control: observable behavior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710280" y="4094280"/>
            <a:ext cx="7634160" cy="1719720"/>
            <a:chOff x="710280" y="4094280"/>
            <a:chExt cx="7634160" cy="1719720"/>
          </a:xfrm>
        </p:grpSpPr>
        <p:sp>
          <p:nvSpPr>
            <p:cNvPr id="1365" name=""/>
            <p:cNvSpPr/>
            <p:nvPr/>
          </p:nvSpPr>
          <p:spPr>
            <a:xfrm>
              <a:off x="710280" y="4512960"/>
              <a:ext cx="59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6699ff"/>
                  </a:solidFill>
                  <a:latin typeface="Arial"/>
                  <a:ea typeface="Arial"/>
                </a:rPr>
                <a:t>x</a:t>
              </a: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353240" y="410184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in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30800" y="5373360"/>
              <a:ext cx="59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x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586520" y="5373360"/>
              <a:ext cx="59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6699ff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416680" y="5373360"/>
              <a:ext cx="59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271320" y="5373360"/>
              <a:ext cx="74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6699ff"/>
                  </a:solidFill>
                  <a:latin typeface="Arial"/>
                  <a:ea typeface="Arial"/>
                </a:rPr>
                <a:t>out</a:t>
              </a: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239720" y="5373360"/>
              <a:ext cx="74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out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08480" y="5373360"/>
              <a:ext cx="4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924520" y="5373360"/>
              <a:ext cx="678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6699ff"/>
                  </a:solidFill>
                  <a:latin typeface="Arial"/>
                  <a:ea typeface="Arial"/>
                </a:rPr>
                <a:t>out</a:t>
              </a: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833880" y="5373360"/>
              <a:ext cx="678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out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747560" y="5373360"/>
              <a:ext cx="59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6699ff"/>
                  </a:solidFill>
                  <a:latin typeface="Arial"/>
                  <a:ea typeface="Arial"/>
                </a:rPr>
                <a:t>y</a:t>
              </a: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734200" y="4555800"/>
              <a:ext cx="532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6699ff"/>
                  </a:solidFill>
                  <a:latin typeface="Arial"/>
                  <a:ea typeface="Arial"/>
                </a:rPr>
                <a:t>y</a:t>
              </a: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717320" y="4566960"/>
              <a:ext cx="59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y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896880" y="4555800"/>
              <a:ext cx="532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6699ff"/>
                  </a:solidFill>
                  <a:latin typeface="Arial"/>
                  <a:ea typeface="Arial"/>
                </a:rPr>
                <a:t>x</a:t>
              </a: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004440" y="4555800"/>
              <a:ext cx="532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x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776960" y="4701960"/>
              <a:ext cx="532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y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134440" y="4094280"/>
              <a:ext cx="58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6699ff"/>
                  </a:solidFill>
                  <a:latin typeface="Arial"/>
                  <a:ea typeface="Arial"/>
                </a:rPr>
                <a:t>in</a:t>
              </a:r>
              <a:r>
                <a:rPr b="1" lang="es-ES_tradnl" sz="2000" spc="-1" strike="noStrike">
                  <a:solidFill>
                    <a:srgbClr val="6699ff"/>
                  </a:solidFill>
                  <a:latin typeface="Arial"/>
                  <a:ea typeface="Arial"/>
                </a:rPr>
                <a:t>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261800" y="5574960"/>
              <a:ext cx="375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092320" y="5574960"/>
              <a:ext cx="375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38320" y="5574960"/>
              <a:ext cx="375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906720" y="5574960"/>
              <a:ext cx="375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889160" y="5574960"/>
              <a:ext cx="3762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89360" y="5574960"/>
              <a:ext cx="375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00520" y="5574960"/>
              <a:ext cx="375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424640" y="5574960"/>
              <a:ext cx="375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90" name=""/>
            <p:cNvGrpSpPr/>
            <p:nvPr/>
          </p:nvGrpSpPr>
          <p:grpSpPr>
            <a:xfrm>
              <a:off x="5077440" y="4314600"/>
              <a:ext cx="645480" cy="919800"/>
              <a:chOff x="5077440" y="4314600"/>
              <a:chExt cx="645480" cy="919800"/>
            </a:xfrm>
          </p:grpSpPr>
          <p:sp>
            <p:nvSpPr>
              <p:cNvPr id="1391" name=""/>
              <p:cNvSpPr/>
              <p:nvPr/>
            </p:nvSpPr>
            <p:spPr>
              <a:xfrm>
                <a:off x="5077440" y="4793760"/>
                <a:ext cx="64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0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0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137560" y="4314600"/>
                <a:ext cx="532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000" spc="-1" strike="noStrike" baseline="-25000">
                    <a:solidFill>
                      <a:srgbClr val="6699ff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0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4220640" y="4323960"/>
              <a:ext cx="581400" cy="903960"/>
              <a:chOff x="4220640" y="4323960"/>
              <a:chExt cx="581400" cy="903960"/>
            </a:xfrm>
          </p:grpSpPr>
          <p:sp>
            <p:nvSpPr>
              <p:cNvPr id="1394" name=""/>
              <p:cNvSpPr/>
              <p:nvPr/>
            </p:nvSpPr>
            <p:spPr>
              <a:xfrm>
                <a:off x="4220640" y="4787280"/>
                <a:ext cx="581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R</a:t>
                </a:r>
                <a:r>
                  <a:rPr b="1" lang="es-ES_tradnl" sz="20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in</a:t>
                </a: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235760" y="4323960"/>
                <a:ext cx="532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000" spc="-1" strike="noStrike" baseline="-25000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96" name=""/>
            <p:cNvSpPr/>
            <p:nvPr/>
          </p:nvSpPr>
          <p:spPr>
            <a:xfrm>
              <a:off x="3540240" y="455580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z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7380000" y="4781160"/>
              <a:ext cx="366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6507000" y="4792320"/>
              <a:ext cx="366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4748040" y="5016240"/>
              <a:ext cx="366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4759200" y="4559040"/>
              <a:ext cx="366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3195360" y="4792320"/>
              <a:ext cx="366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 flipV="1">
              <a:off x="5590800" y="4617720"/>
              <a:ext cx="396360" cy="133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5621040" y="4873320"/>
              <a:ext cx="406080" cy="160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3843000" y="4600440"/>
              <a:ext cx="406080" cy="1598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 flipV="1">
              <a:off x="3843000" y="4862160"/>
              <a:ext cx="396720" cy="1332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flipV="1">
              <a:off x="2554200" y="4496760"/>
              <a:ext cx="182160" cy="1918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2259000" y="4790880"/>
              <a:ext cx="477360" cy="1425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1884240" y="4303440"/>
              <a:ext cx="3376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1152000" y="4414680"/>
              <a:ext cx="253800" cy="1933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 flipV="1">
              <a:off x="1182600" y="4852800"/>
              <a:ext cx="639360" cy="80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928440" y="4943160"/>
              <a:ext cx="0" cy="4363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7968960" y="4993920"/>
              <a:ext cx="0" cy="406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023920" y="4240080"/>
              <a:ext cx="132840" cy="13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457280" y="4830480"/>
              <a:ext cx="132840" cy="133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928800" y="950760"/>
            <a:ext cx="7804800" cy="2970720"/>
            <a:chOff x="928800" y="950760"/>
            <a:chExt cx="7804800" cy="2970720"/>
          </a:xfrm>
        </p:grpSpPr>
        <p:sp>
          <p:nvSpPr>
            <p:cNvPr id="1416" name=""/>
            <p:cNvSpPr/>
            <p:nvPr/>
          </p:nvSpPr>
          <p:spPr>
            <a:xfrm flipV="1">
              <a:off x="7508880" y="2936880"/>
              <a:ext cx="403200" cy="426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7386480" y="298296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7238520" y="3038400"/>
              <a:ext cx="1429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7907040" y="3151080"/>
              <a:ext cx="276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7243560" y="3271680"/>
              <a:ext cx="2602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6497280" y="2400480"/>
              <a:ext cx="762120" cy="426960"/>
              <a:chOff x="6497280" y="2400480"/>
              <a:chExt cx="762120" cy="426960"/>
            </a:xfrm>
          </p:grpSpPr>
          <p:sp>
            <p:nvSpPr>
              <p:cNvPr id="1422" name=""/>
              <p:cNvSpPr/>
              <p:nvPr/>
            </p:nvSpPr>
            <p:spPr>
              <a:xfrm flipH="1">
                <a:off x="6684120" y="2400480"/>
                <a:ext cx="427320" cy="42696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6497280" y="2615040"/>
                <a:ext cx="1872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7071840" y="2494080"/>
                <a:ext cx="18756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>
                <a:off x="7067160" y="2751480"/>
                <a:ext cx="1872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6659280" y="2408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5875200" y="3331440"/>
              <a:ext cx="339840" cy="590040"/>
              <a:chOff x="5875200" y="3331440"/>
              <a:chExt cx="339840" cy="590040"/>
            </a:xfrm>
          </p:grpSpPr>
          <p:sp>
            <p:nvSpPr>
              <p:cNvPr id="1428" name=""/>
              <p:cNvSpPr/>
              <p:nvPr/>
            </p:nvSpPr>
            <p:spPr>
              <a:xfrm>
                <a:off x="6037200" y="3783600"/>
                <a:ext cx="0" cy="1378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951520" y="3331440"/>
                <a:ext cx="0" cy="1378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141960" y="3336120"/>
                <a:ext cx="0" cy="1378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V="1" rot="16200000">
                <a:off x="5870520" y="3433680"/>
                <a:ext cx="348840" cy="33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70" y="3182"/>
                      <a:pt x="17739" y="5080"/>
                      <a:pt x="17739" y="10800"/>
                    </a:cubicBezTo>
                    <a:cubicBezTo>
                      <a:pt x="17739" y="16520"/>
                      <a:pt x="19670" y="184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32" name=""/>
            <p:cNvSpPr/>
            <p:nvPr/>
          </p:nvSpPr>
          <p:spPr>
            <a:xfrm flipH="1" flipV="1" rot="5400000">
              <a:off x="4231440" y="1728000"/>
              <a:ext cx="403200" cy="426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 rot="5400000">
              <a:off x="4484520" y="214956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546440" y="2276640"/>
              <a:ext cx="0" cy="633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33760" y="1473120"/>
              <a:ext cx="0" cy="2700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313160" y="2147760"/>
              <a:ext cx="0" cy="260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 flipV="1" rot="5400000">
              <a:off x="1851840" y="1561320"/>
              <a:ext cx="403200" cy="426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 flipV="1" rot="5400000">
              <a:off x="2104920" y="198288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166840" y="2102760"/>
              <a:ext cx="0" cy="1429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054160" y="1305720"/>
              <a:ext cx="0" cy="2746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933560" y="1981080"/>
              <a:ext cx="0" cy="260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 flipV="1">
              <a:off x="2378160" y="2610000"/>
              <a:ext cx="403200" cy="426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 flipV="1">
              <a:off x="2787480" y="265572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908440" y="2711520"/>
              <a:ext cx="142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11400" y="2824200"/>
              <a:ext cx="2556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86040" y="2944800"/>
              <a:ext cx="2602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549680" y="2325600"/>
              <a:ext cx="36273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7243920" y="2336400"/>
              <a:ext cx="0" cy="152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316400" y="2217600"/>
              <a:ext cx="2201760" cy="403200"/>
            </a:xfrm>
            <a:custGeom>
              <a:avLst/>
              <a:gdLst/>
              <a:ahLst/>
              <a:rect l="l" t="t" r="r" b="b"/>
              <a:pathLst>
                <a:path w="1387" h="254">
                  <a:moveTo>
                    <a:pt x="1387" y="254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81720" y="2604960"/>
              <a:ext cx="876240" cy="435240"/>
            </a:xfrm>
            <a:custGeom>
              <a:avLst/>
              <a:gdLst/>
              <a:ahLst/>
              <a:rect l="l" t="t" r="r" b="b"/>
              <a:pathLst>
                <a:path w="552" h="274">
                  <a:moveTo>
                    <a:pt x="0" y="0"/>
                  </a:moveTo>
                  <a:lnTo>
                    <a:pt x="0" y="274"/>
                  </a:lnTo>
                  <a:cubicBezTo>
                    <a:pt x="184" y="274"/>
                    <a:pt x="368" y="274"/>
                    <a:pt x="552" y="274"/>
                  </a:cubicBez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 flipV="1">
              <a:off x="6135480" y="1305000"/>
              <a:ext cx="4680" cy="20318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135840" y="3267000"/>
              <a:ext cx="11174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033960" y="2747880"/>
              <a:ext cx="1203480" cy="1154160"/>
            </a:xfrm>
            <a:custGeom>
              <a:avLst/>
              <a:gdLst/>
              <a:ahLst/>
              <a:rect l="l" t="t" r="r" b="b"/>
              <a:pathLst>
                <a:path w="787" h="727">
                  <a:moveTo>
                    <a:pt x="0" y="727"/>
                  </a:moveTo>
                  <a:lnTo>
                    <a:pt x="787" y="727"/>
                  </a:lnTo>
                  <a:lnTo>
                    <a:pt x="787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60720" y="1320840"/>
              <a:ext cx="1854000" cy="914400"/>
            </a:xfrm>
            <a:custGeom>
              <a:avLst/>
              <a:gdLst/>
              <a:ahLst/>
              <a:rect l="l" t="t" r="r" b="b"/>
              <a:pathLst>
                <a:path w="1200" h="576">
                  <a:moveTo>
                    <a:pt x="0" y="576"/>
                  </a:moveTo>
                  <a:lnTo>
                    <a:pt x="1200" y="576"/>
                  </a:lnTo>
                  <a:lnTo>
                    <a:pt x="120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419200" y="1312920"/>
              <a:ext cx="617760" cy="1401840"/>
            </a:xfrm>
            <a:custGeom>
              <a:avLst/>
              <a:gdLst/>
              <a:ahLst/>
              <a:rect l="l" t="t" r="r" b="b"/>
              <a:pathLst>
                <a:path w="389" h="883">
                  <a:moveTo>
                    <a:pt x="389" y="883"/>
                  </a:moveTo>
                  <a:lnTo>
                    <a:pt x="389" y="91"/>
                  </a:lnTo>
                  <a:lnTo>
                    <a:pt x="0" y="9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411280" y="1312920"/>
              <a:ext cx="3353040" cy="144360"/>
            </a:xfrm>
            <a:custGeom>
              <a:avLst/>
              <a:gdLst/>
              <a:ahLst/>
              <a:rect l="l" t="t" r="r" b="b"/>
              <a:pathLst>
                <a:path w="2112" h="91">
                  <a:moveTo>
                    <a:pt x="0" y="91"/>
                  </a:moveTo>
                  <a:lnTo>
                    <a:pt x="2112" y="91"/>
                  </a:lnTo>
                  <a:lnTo>
                    <a:pt x="211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430880" y="1306440"/>
              <a:ext cx="144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1" y="97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036960" y="1604880"/>
              <a:ext cx="1396800" cy="1341360"/>
            </a:xfrm>
            <a:custGeom>
              <a:avLst/>
              <a:gdLst/>
              <a:ahLst/>
              <a:rect l="l" t="t" r="r" b="b"/>
              <a:pathLst>
                <a:path w="880" h="883">
                  <a:moveTo>
                    <a:pt x="880" y="0"/>
                  </a:moveTo>
                  <a:lnTo>
                    <a:pt x="675" y="0"/>
                  </a:lnTo>
                  <a:lnTo>
                    <a:pt x="675" y="880"/>
                  </a:lnTo>
                  <a:lnTo>
                    <a:pt x="0" y="883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1305000" y="3332160"/>
              <a:ext cx="4641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933560" y="2214720"/>
              <a:ext cx="0" cy="1108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1305000" y="2824200"/>
              <a:ext cx="8222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928800" y="31100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939960" y="261288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i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846440" y="9507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246400" y="960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233960" y="9810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832200" y="9856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961240" y="9730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589720" y="9842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134920" y="2114640"/>
              <a:ext cx="59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ou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139960" y="2935440"/>
              <a:ext cx="59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r>
                <a:rPr b="1" lang="es-ES_tradnl" sz="2000" spc="-1" strike="noStrike" baseline="-25000">
                  <a:solidFill>
                    <a:srgbClr val="ffffcc"/>
                  </a:solidFill>
                  <a:latin typeface="Arial"/>
                  <a:ea typeface="Arial"/>
                </a:rPr>
                <a:t>ou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72" name=""/>
          <p:cNvSpPr/>
          <p:nvPr/>
        </p:nvSpPr>
        <p:spPr>
          <a:xfrm>
            <a:off x="6266880" y="2270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C80D-A4CE-45C1-BB17-97AE5932B68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Outli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What is an asynchronous circuit 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Asynchronous commun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Async Design Styles (Micropipelines, …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Asynchronous logic building blo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Control specification and implemen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Delay models and classes of async circu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Why asynchronous circuits 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66CE-5F55-4E55-848A-962FC279D3A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Taking delays into accou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836280" y="1403280"/>
            <a:ext cx="3030120" cy="1906200"/>
            <a:chOff x="836280" y="1403280"/>
            <a:chExt cx="3030120" cy="1906200"/>
          </a:xfrm>
        </p:grpSpPr>
        <p:sp>
          <p:nvSpPr>
            <p:cNvPr id="1475" name=""/>
            <p:cNvSpPr/>
            <p:nvPr/>
          </p:nvSpPr>
          <p:spPr>
            <a:xfrm>
              <a:off x="836280" y="20890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665080" y="1403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055600" y="20890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Arial"/>
                  <a:ea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055600" y="285120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Arial"/>
                  <a:ea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598040" y="14032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426840" y="208908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1235160" y="1801440"/>
              <a:ext cx="836640" cy="532080"/>
              <a:chOff x="1235160" y="1801440"/>
              <a:chExt cx="836640" cy="532080"/>
            </a:xfrm>
          </p:grpSpPr>
          <p:sp>
            <p:nvSpPr>
              <p:cNvPr id="1482" name=""/>
              <p:cNvSpPr/>
              <p:nvPr/>
            </p:nvSpPr>
            <p:spPr>
              <a:xfrm flipV="1">
                <a:off x="1235160" y="1801440"/>
                <a:ext cx="378000" cy="3776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312920" y="2333520"/>
                <a:ext cx="75888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84" name=""/>
            <p:cNvSpPr/>
            <p:nvPr/>
          </p:nvSpPr>
          <p:spPr>
            <a:xfrm>
              <a:off x="2151000" y="1647720"/>
              <a:ext cx="53028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85" name=""/>
            <p:cNvGrpSpPr/>
            <p:nvPr/>
          </p:nvGrpSpPr>
          <p:grpSpPr>
            <a:xfrm>
              <a:off x="2608200" y="1803240"/>
              <a:ext cx="910800" cy="530280"/>
              <a:chOff x="2608200" y="1803240"/>
              <a:chExt cx="910800" cy="530280"/>
            </a:xfrm>
          </p:grpSpPr>
          <p:sp>
            <p:nvSpPr>
              <p:cNvPr id="1486" name=""/>
              <p:cNvSpPr/>
              <p:nvPr/>
            </p:nvSpPr>
            <p:spPr>
              <a:xfrm>
                <a:off x="2989080" y="1803240"/>
                <a:ext cx="529920" cy="3776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608200" y="2333520"/>
                <a:ext cx="83484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88" name=""/>
            <p:cNvSpPr/>
            <p:nvPr/>
          </p:nvSpPr>
          <p:spPr>
            <a:xfrm flipH="1">
              <a:off x="2455920" y="2489040"/>
              <a:ext cx="1063440" cy="53028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 flipV="1">
              <a:off x="1082160" y="2487600"/>
              <a:ext cx="987480" cy="60624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500120" y="2698560"/>
              <a:ext cx="196920" cy="196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4876920" y="1795320"/>
            <a:ext cx="2820240" cy="1007280"/>
            <a:chOff x="4876920" y="1795320"/>
            <a:chExt cx="2820240" cy="1007280"/>
          </a:xfrm>
        </p:grpSpPr>
        <p:grpSp>
          <p:nvGrpSpPr>
            <p:cNvPr id="1492" name=""/>
            <p:cNvGrpSpPr/>
            <p:nvPr/>
          </p:nvGrpSpPr>
          <p:grpSpPr>
            <a:xfrm>
              <a:off x="5986080" y="2055600"/>
              <a:ext cx="1377720" cy="681120"/>
              <a:chOff x="5986080" y="2055600"/>
              <a:chExt cx="1377720" cy="681120"/>
            </a:xfrm>
          </p:grpSpPr>
          <p:sp>
            <p:nvSpPr>
              <p:cNvPr id="1493" name=""/>
              <p:cNvSpPr/>
              <p:nvPr/>
            </p:nvSpPr>
            <p:spPr>
              <a:xfrm>
                <a:off x="6281640" y="2055600"/>
                <a:ext cx="668160" cy="681120"/>
              </a:xfrm>
              <a:prstGeom prst="flowChartDelay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948360" y="2331720"/>
                <a:ext cx="127080" cy="1270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5986080" y="2187360"/>
                <a:ext cx="2905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5990760" y="2611080"/>
                <a:ext cx="2905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H="1">
                <a:off x="7073280" y="2396880"/>
                <a:ext cx="2905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5182560" y="2020680"/>
              <a:ext cx="803160" cy="325440"/>
              <a:chOff x="5182560" y="2020680"/>
              <a:chExt cx="803160" cy="325440"/>
            </a:xfrm>
          </p:grpSpPr>
          <p:sp>
            <p:nvSpPr>
              <p:cNvPr id="1499" name=""/>
              <p:cNvSpPr/>
              <p:nvPr/>
            </p:nvSpPr>
            <p:spPr>
              <a:xfrm rot="5400000">
                <a:off x="5379120" y="2049120"/>
                <a:ext cx="325440" cy="268200"/>
              </a:xfrm>
              <a:prstGeom prst="triangle">
                <a:avLst>
                  <a:gd name="adj" fmla="val 50000"/>
                </a:avLst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684400" y="2146320"/>
                <a:ext cx="74520" cy="74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5182560" y="2185920"/>
                <a:ext cx="2221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5763600" y="2185920"/>
                <a:ext cx="2221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5187600" y="2444400"/>
              <a:ext cx="803160" cy="325440"/>
              <a:chOff x="5187600" y="2444400"/>
              <a:chExt cx="803160" cy="325440"/>
            </a:xfrm>
          </p:grpSpPr>
          <p:sp>
            <p:nvSpPr>
              <p:cNvPr id="1504" name=""/>
              <p:cNvSpPr/>
              <p:nvPr/>
            </p:nvSpPr>
            <p:spPr>
              <a:xfrm rot="5400000">
                <a:off x="5384160" y="2472840"/>
                <a:ext cx="325440" cy="268200"/>
              </a:xfrm>
              <a:prstGeom prst="triangle">
                <a:avLst>
                  <a:gd name="adj" fmla="val 50000"/>
                </a:avLst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689440" y="2570040"/>
                <a:ext cx="74520" cy="74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5187600" y="2609640"/>
                <a:ext cx="2221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>
                <a:off x="5768640" y="2609640"/>
                <a:ext cx="22212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08" name=""/>
            <p:cNvSpPr/>
            <p:nvPr/>
          </p:nvSpPr>
          <p:spPr>
            <a:xfrm>
              <a:off x="4876920" y="1928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889520" y="2342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347240" y="2089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808240" y="17953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x’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807880" y="22334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z’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3" name=""/>
          <p:cNvSpPr/>
          <p:nvPr/>
        </p:nvSpPr>
        <p:spPr>
          <a:xfrm>
            <a:off x="281520" y="3618000"/>
            <a:ext cx="474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Delay assump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Environment: 3 times uni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Gates: 1 time un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65040" y="5067360"/>
            <a:ext cx="73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events: x+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x’-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y+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z+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z’-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x-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x’+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z-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z’+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 y- </a:t>
            </a:r>
            <a:r>
              <a:rPr b="1" lang="es-ES_tradnl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94920" y="5549760"/>
            <a:ext cx="75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  <a:ea typeface="Arial"/>
              </a:rPr>
              <a:t>time: 3        4         5        6        7        9       10       12      13      1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17EE4-9A1C-4C31-9AAC-FD60CEA7D91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Taking delays into accou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836280" y="1403280"/>
            <a:ext cx="3030120" cy="1906200"/>
            <a:chOff x="836280" y="1403280"/>
            <a:chExt cx="3030120" cy="1906200"/>
          </a:xfrm>
        </p:grpSpPr>
        <p:sp>
          <p:nvSpPr>
            <p:cNvPr id="1518" name=""/>
            <p:cNvSpPr/>
            <p:nvPr/>
          </p:nvSpPr>
          <p:spPr>
            <a:xfrm>
              <a:off x="836280" y="20890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665080" y="140328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055600" y="20890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Arial"/>
                  <a:ea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055600" y="285120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Arial"/>
                  <a:ea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598040" y="14032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426840" y="208908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1235160" y="1801440"/>
              <a:ext cx="836640" cy="532080"/>
              <a:chOff x="1235160" y="1801440"/>
              <a:chExt cx="836640" cy="532080"/>
            </a:xfrm>
          </p:grpSpPr>
          <p:sp>
            <p:nvSpPr>
              <p:cNvPr id="1525" name=""/>
              <p:cNvSpPr/>
              <p:nvPr/>
            </p:nvSpPr>
            <p:spPr>
              <a:xfrm flipV="1">
                <a:off x="1235160" y="1801440"/>
                <a:ext cx="378000" cy="3776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312920" y="2333520"/>
                <a:ext cx="75888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27" name=""/>
            <p:cNvSpPr/>
            <p:nvPr/>
          </p:nvSpPr>
          <p:spPr>
            <a:xfrm>
              <a:off x="2151000" y="1647720"/>
              <a:ext cx="53028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28" name=""/>
            <p:cNvGrpSpPr/>
            <p:nvPr/>
          </p:nvGrpSpPr>
          <p:grpSpPr>
            <a:xfrm>
              <a:off x="2608200" y="1803240"/>
              <a:ext cx="910800" cy="530280"/>
              <a:chOff x="2608200" y="1803240"/>
              <a:chExt cx="910800" cy="530280"/>
            </a:xfrm>
          </p:grpSpPr>
          <p:sp>
            <p:nvSpPr>
              <p:cNvPr id="1529" name=""/>
              <p:cNvSpPr/>
              <p:nvPr/>
            </p:nvSpPr>
            <p:spPr>
              <a:xfrm>
                <a:off x="2989080" y="1803240"/>
                <a:ext cx="529920" cy="3776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608200" y="2333520"/>
                <a:ext cx="83484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31" name=""/>
            <p:cNvSpPr/>
            <p:nvPr/>
          </p:nvSpPr>
          <p:spPr>
            <a:xfrm flipH="1">
              <a:off x="2455920" y="2489040"/>
              <a:ext cx="1063440" cy="53028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 flipV="1">
              <a:off x="1082160" y="2487600"/>
              <a:ext cx="987480" cy="60624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00120" y="2698560"/>
              <a:ext cx="196920" cy="196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5986080" y="2055960"/>
            <a:ext cx="1377720" cy="680760"/>
            <a:chOff x="5986080" y="2055960"/>
            <a:chExt cx="1377720" cy="680760"/>
          </a:xfrm>
        </p:grpSpPr>
        <p:sp>
          <p:nvSpPr>
            <p:cNvPr id="1535" name=""/>
            <p:cNvSpPr/>
            <p:nvPr/>
          </p:nvSpPr>
          <p:spPr>
            <a:xfrm>
              <a:off x="6281640" y="2055960"/>
              <a:ext cx="668160" cy="6807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948360" y="2331720"/>
              <a:ext cx="127080" cy="1267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5986080" y="2187360"/>
              <a:ext cx="2905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5990760" y="2611080"/>
              <a:ext cx="2905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7073280" y="2396880"/>
              <a:ext cx="2905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5182920" y="2021040"/>
            <a:ext cx="803160" cy="325440"/>
            <a:chOff x="5182920" y="2021040"/>
            <a:chExt cx="803160" cy="325440"/>
          </a:xfrm>
        </p:grpSpPr>
        <p:sp>
          <p:nvSpPr>
            <p:cNvPr id="1541" name=""/>
            <p:cNvSpPr/>
            <p:nvPr/>
          </p:nvSpPr>
          <p:spPr>
            <a:xfrm rot="5400000">
              <a:off x="5379480" y="2049480"/>
              <a:ext cx="325440" cy="26820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684760" y="2146680"/>
              <a:ext cx="74520" cy="74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5182920" y="2186280"/>
              <a:ext cx="222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5763960" y="2186280"/>
              <a:ext cx="222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5187600" y="2444760"/>
            <a:ext cx="803160" cy="325440"/>
            <a:chOff x="5187600" y="2444760"/>
            <a:chExt cx="803160" cy="325440"/>
          </a:xfrm>
        </p:grpSpPr>
        <p:sp>
          <p:nvSpPr>
            <p:cNvPr id="1546" name=""/>
            <p:cNvSpPr/>
            <p:nvPr/>
          </p:nvSpPr>
          <p:spPr>
            <a:xfrm rot="5400000">
              <a:off x="5384160" y="2473200"/>
              <a:ext cx="325440" cy="268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689440" y="25704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5187600" y="2610000"/>
              <a:ext cx="222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5768640" y="2610000"/>
              <a:ext cx="222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4877280" y="192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889520" y="234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347240" y="208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808600" y="179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x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808240" y="2233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z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83680" y="3618000"/>
            <a:ext cx="58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Delay assumptions: unbounded del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18960" y="4541760"/>
            <a:ext cx="62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events: x+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x’-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y+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z+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x-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x’+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y-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81600" y="5025960"/>
            <a:ext cx="65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time: 3        4         5        6        9       10       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565960" y="3017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very slo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 flipV="1">
            <a:off x="5564160" y="2770200"/>
            <a:ext cx="195120" cy="32400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707160" y="455148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failure 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A10F-239A-4EC4-83E1-6A54AA2957DC}" type="slidenum">
              <a:t>41</a:t>
            </a:fld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Gate vs wire delay mode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Gate delay model: delays in gates, no delays in wire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Wire delay model: delays in gates and wi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63" name=""/>
          <p:cNvGrpSpPr/>
          <p:nvPr/>
        </p:nvGrpSpPr>
        <p:grpSpPr>
          <a:xfrm>
            <a:off x="2174400" y="1916280"/>
            <a:ext cx="4845240" cy="1581120"/>
            <a:chOff x="2174400" y="1916280"/>
            <a:chExt cx="4845240" cy="1581120"/>
          </a:xfrm>
        </p:grpSpPr>
        <p:sp>
          <p:nvSpPr>
            <p:cNvPr id="1564" name=""/>
            <p:cNvSpPr/>
            <p:nvPr/>
          </p:nvSpPr>
          <p:spPr>
            <a:xfrm>
              <a:off x="3333600" y="2443320"/>
              <a:ext cx="527040" cy="527040"/>
            </a:xfrm>
            <a:prstGeom prst="flowChartDelay">
              <a:avLst/>
            </a:prstGeom>
            <a:solidFill>
              <a:srgbClr val="ff9933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335560" y="2970360"/>
              <a:ext cx="527040" cy="527040"/>
            </a:xfrm>
            <a:prstGeom prst="flowChartDelay">
              <a:avLst/>
            </a:prstGeom>
            <a:solidFill>
              <a:srgbClr val="ff9933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311800" y="1916280"/>
              <a:ext cx="527040" cy="527040"/>
            </a:xfrm>
            <a:prstGeom prst="flowChartDelay">
              <a:avLst/>
            </a:prstGeom>
            <a:solidFill>
              <a:srgbClr val="ff9933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2184480" y="2565360"/>
              <a:ext cx="1149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174400" y="2851200"/>
              <a:ext cx="1149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184480" y="2005200"/>
              <a:ext cx="3130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2193840" y="3397320"/>
              <a:ext cx="3130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5851080" y="2179800"/>
              <a:ext cx="1149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5870160" y="3235320"/>
              <a:ext cx="1149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871800" y="2320920"/>
              <a:ext cx="1432080" cy="385920"/>
            </a:xfrm>
            <a:custGeom>
              <a:avLst/>
              <a:gdLst/>
              <a:ahLst/>
              <a:rect l="l" t="t" r="r" b="b"/>
              <a:pathLst>
                <a:path w="902" h="192">
                  <a:moveTo>
                    <a:pt x="0" y="192"/>
                  </a:moveTo>
                  <a:lnTo>
                    <a:pt x="640" y="192"/>
                  </a:lnTo>
                  <a:lnTo>
                    <a:pt x="640" y="0"/>
                  </a:lnTo>
                  <a:lnTo>
                    <a:pt x="90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3871800" y="2701800"/>
              <a:ext cx="1432080" cy="385920"/>
            </a:xfrm>
            <a:custGeom>
              <a:avLst/>
              <a:gdLst/>
              <a:ahLst/>
              <a:rect l="l" t="t" r="r" b="b"/>
              <a:pathLst>
                <a:path w="902" h="192">
                  <a:moveTo>
                    <a:pt x="0" y="192"/>
                  </a:moveTo>
                  <a:lnTo>
                    <a:pt x="640" y="192"/>
                  </a:lnTo>
                  <a:lnTo>
                    <a:pt x="640" y="0"/>
                  </a:lnTo>
                  <a:lnTo>
                    <a:pt x="90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4044960" y="2624040"/>
              <a:ext cx="639720" cy="173160"/>
              <a:chOff x="4044960" y="2624040"/>
              <a:chExt cx="639720" cy="173160"/>
            </a:xfrm>
          </p:grpSpPr>
          <p:sp>
            <p:nvSpPr>
              <p:cNvPr id="1576" name=""/>
              <p:cNvSpPr/>
              <p:nvPr/>
            </p:nvSpPr>
            <p:spPr>
              <a:xfrm>
                <a:off x="4044960" y="2624040"/>
                <a:ext cx="639720" cy="17316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552920" y="2624040"/>
                <a:ext cx="0" cy="173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6035760" y="2085840"/>
              <a:ext cx="639720" cy="173160"/>
              <a:chOff x="6035760" y="2085840"/>
              <a:chExt cx="639720" cy="173160"/>
            </a:xfrm>
          </p:grpSpPr>
          <p:sp>
            <p:nvSpPr>
              <p:cNvPr id="1579" name=""/>
              <p:cNvSpPr/>
              <p:nvPr/>
            </p:nvSpPr>
            <p:spPr>
              <a:xfrm>
                <a:off x="6035760" y="2085840"/>
                <a:ext cx="639720" cy="17316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543720" y="2085840"/>
                <a:ext cx="0" cy="173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6054840" y="3152880"/>
              <a:ext cx="639720" cy="172800"/>
              <a:chOff x="6054840" y="3152880"/>
              <a:chExt cx="639720" cy="172800"/>
            </a:xfrm>
          </p:grpSpPr>
          <p:sp>
            <p:nvSpPr>
              <p:cNvPr id="1582" name=""/>
              <p:cNvSpPr/>
              <p:nvPr/>
            </p:nvSpPr>
            <p:spPr>
              <a:xfrm>
                <a:off x="6054840" y="3152880"/>
                <a:ext cx="639720" cy="17280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562800" y="3152880"/>
                <a:ext cx="0" cy="172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4" name=""/>
          <p:cNvGrpSpPr/>
          <p:nvPr/>
        </p:nvGrpSpPr>
        <p:grpSpPr>
          <a:xfrm>
            <a:off x="2174400" y="4632480"/>
            <a:ext cx="4845240" cy="1581120"/>
            <a:chOff x="2174400" y="4632480"/>
            <a:chExt cx="4845240" cy="1581120"/>
          </a:xfrm>
        </p:grpSpPr>
        <p:sp>
          <p:nvSpPr>
            <p:cNvPr id="1585" name=""/>
            <p:cNvSpPr/>
            <p:nvPr/>
          </p:nvSpPr>
          <p:spPr>
            <a:xfrm>
              <a:off x="3333600" y="5159520"/>
              <a:ext cx="527040" cy="527040"/>
            </a:xfrm>
            <a:prstGeom prst="flowChartDelay">
              <a:avLst/>
            </a:prstGeom>
            <a:solidFill>
              <a:srgbClr val="ff9933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335560" y="5686560"/>
              <a:ext cx="527040" cy="527040"/>
            </a:xfrm>
            <a:prstGeom prst="flowChartDelay">
              <a:avLst/>
            </a:prstGeom>
            <a:solidFill>
              <a:srgbClr val="ff9933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311800" y="4632480"/>
              <a:ext cx="527040" cy="527040"/>
            </a:xfrm>
            <a:prstGeom prst="flowChartDelay">
              <a:avLst/>
            </a:prstGeom>
            <a:solidFill>
              <a:srgbClr val="ff9933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2184480" y="5281560"/>
              <a:ext cx="11491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2174400" y="5567400"/>
              <a:ext cx="1149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2184480" y="4721400"/>
              <a:ext cx="3130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2193840" y="6113520"/>
              <a:ext cx="3130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5851080" y="4896000"/>
              <a:ext cx="1149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5870160" y="5951520"/>
              <a:ext cx="11494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871800" y="5037120"/>
              <a:ext cx="1432080" cy="390600"/>
            </a:xfrm>
            <a:custGeom>
              <a:avLst/>
              <a:gdLst/>
              <a:ahLst/>
              <a:rect l="l" t="t" r="r" b="b"/>
              <a:pathLst>
                <a:path w="902" h="246">
                  <a:moveTo>
                    <a:pt x="0" y="243"/>
                  </a:moveTo>
                  <a:lnTo>
                    <a:pt x="211" y="246"/>
                  </a:lnTo>
                  <a:lnTo>
                    <a:pt x="211" y="9"/>
                  </a:lnTo>
                  <a:lnTo>
                    <a:pt x="90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4379760" y="4964040"/>
              <a:ext cx="639720" cy="173160"/>
              <a:chOff x="4379760" y="4964040"/>
              <a:chExt cx="639720" cy="173160"/>
            </a:xfrm>
          </p:grpSpPr>
          <p:sp>
            <p:nvSpPr>
              <p:cNvPr id="1596" name=""/>
              <p:cNvSpPr/>
              <p:nvPr/>
            </p:nvSpPr>
            <p:spPr>
              <a:xfrm>
                <a:off x="4379760" y="4964040"/>
                <a:ext cx="639720" cy="17316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887720" y="4964040"/>
                <a:ext cx="0" cy="173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35760" y="4802400"/>
              <a:ext cx="639720" cy="172800"/>
              <a:chOff x="6035760" y="4802400"/>
              <a:chExt cx="639720" cy="17280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35760" y="4802400"/>
                <a:ext cx="639720" cy="17280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543720" y="4802400"/>
                <a:ext cx="0" cy="172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6054840" y="5869080"/>
              <a:ext cx="639720" cy="173160"/>
              <a:chOff x="6054840" y="5869080"/>
              <a:chExt cx="639720" cy="173160"/>
            </a:xfrm>
          </p:grpSpPr>
          <p:sp>
            <p:nvSpPr>
              <p:cNvPr id="1602" name=""/>
              <p:cNvSpPr/>
              <p:nvPr/>
            </p:nvSpPr>
            <p:spPr>
              <a:xfrm>
                <a:off x="6054840" y="5869080"/>
                <a:ext cx="639720" cy="17316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562800" y="5869080"/>
                <a:ext cx="0" cy="173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04" name=""/>
            <p:cNvGrpSpPr/>
            <p:nvPr/>
          </p:nvGrpSpPr>
          <p:grpSpPr>
            <a:xfrm>
              <a:off x="3191040" y="4638600"/>
              <a:ext cx="639720" cy="173160"/>
              <a:chOff x="3191040" y="4638600"/>
              <a:chExt cx="639720" cy="173160"/>
            </a:xfrm>
          </p:grpSpPr>
          <p:sp>
            <p:nvSpPr>
              <p:cNvPr id="1605" name=""/>
              <p:cNvSpPr/>
              <p:nvPr/>
            </p:nvSpPr>
            <p:spPr>
              <a:xfrm>
                <a:off x="3191040" y="4638600"/>
                <a:ext cx="639720" cy="17316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699000" y="4638600"/>
                <a:ext cx="0" cy="173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3191040" y="6029280"/>
              <a:ext cx="639720" cy="173160"/>
              <a:chOff x="3191040" y="6029280"/>
              <a:chExt cx="639720" cy="173160"/>
            </a:xfrm>
          </p:grpSpPr>
          <p:sp>
            <p:nvSpPr>
              <p:cNvPr id="1608" name=""/>
              <p:cNvSpPr/>
              <p:nvPr/>
            </p:nvSpPr>
            <p:spPr>
              <a:xfrm>
                <a:off x="3191040" y="6029280"/>
                <a:ext cx="639720" cy="17316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699000" y="6029280"/>
                <a:ext cx="0" cy="173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10" name=""/>
            <p:cNvGrpSpPr/>
            <p:nvPr/>
          </p:nvGrpSpPr>
          <p:grpSpPr>
            <a:xfrm>
              <a:off x="2449440" y="5197680"/>
              <a:ext cx="639720" cy="172800"/>
              <a:chOff x="2449440" y="5197680"/>
              <a:chExt cx="639720" cy="172800"/>
            </a:xfrm>
          </p:grpSpPr>
          <p:sp>
            <p:nvSpPr>
              <p:cNvPr id="1611" name=""/>
              <p:cNvSpPr/>
              <p:nvPr/>
            </p:nvSpPr>
            <p:spPr>
              <a:xfrm>
                <a:off x="2449440" y="5197680"/>
                <a:ext cx="639720" cy="17280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957400" y="5197680"/>
                <a:ext cx="0" cy="172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13" name=""/>
            <p:cNvGrpSpPr/>
            <p:nvPr/>
          </p:nvGrpSpPr>
          <p:grpSpPr>
            <a:xfrm>
              <a:off x="2451240" y="5481720"/>
              <a:ext cx="639720" cy="173160"/>
              <a:chOff x="2451240" y="5481720"/>
              <a:chExt cx="639720" cy="173160"/>
            </a:xfrm>
          </p:grpSpPr>
          <p:sp>
            <p:nvSpPr>
              <p:cNvPr id="1614" name=""/>
              <p:cNvSpPr/>
              <p:nvPr/>
            </p:nvSpPr>
            <p:spPr>
              <a:xfrm>
                <a:off x="2451240" y="5481720"/>
                <a:ext cx="639720" cy="17316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959200" y="5481720"/>
                <a:ext cx="0" cy="173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16" name=""/>
            <p:cNvSpPr/>
            <p:nvPr/>
          </p:nvSpPr>
          <p:spPr>
            <a:xfrm flipV="1">
              <a:off x="3871800" y="5418360"/>
              <a:ext cx="1432080" cy="390240"/>
            </a:xfrm>
            <a:custGeom>
              <a:avLst/>
              <a:gdLst/>
              <a:ahLst/>
              <a:rect l="l" t="t" r="r" b="b"/>
              <a:pathLst>
                <a:path w="902" h="246">
                  <a:moveTo>
                    <a:pt x="0" y="243"/>
                  </a:moveTo>
                  <a:lnTo>
                    <a:pt x="211" y="246"/>
                  </a:lnTo>
                  <a:lnTo>
                    <a:pt x="211" y="9"/>
                  </a:lnTo>
                  <a:lnTo>
                    <a:pt x="90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17" name=""/>
            <p:cNvGrpSpPr/>
            <p:nvPr/>
          </p:nvGrpSpPr>
          <p:grpSpPr>
            <a:xfrm>
              <a:off x="4379760" y="5716800"/>
              <a:ext cx="639720" cy="172800"/>
              <a:chOff x="4379760" y="5716800"/>
              <a:chExt cx="639720" cy="172800"/>
            </a:xfrm>
          </p:grpSpPr>
          <p:sp>
            <p:nvSpPr>
              <p:cNvPr id="1618" name=""/>
              <p:cNvSpPr/>
              <p:nvPr/>
            </p:nvSpPr>
            <p:spPr>
              <a:xfrm>
                <a:off x="4379760" y="5716800"/>
                <a:ext cx="639720" cy="172800"/>
              </a:xfrm>
              <a:prstGeom prst="flowChartTerminator">
                <a:avLst/>
              </a:prstGeom>
              <a:solidFill>
                <a:srgbClr val="ff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887720" y="5716800"/>
                <a:ext cx="0" cy="172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62BD-9D83-4764-A79D-02F93154F56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3960" y="75960"/>
            <a:ext cx="8004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Delay models for async. circui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298080" y="1219320"/>
            <a:ext cx="62895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Bounded delays (BD):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 realistic for gates and wir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Technology mapping is easy, verification is difficult</a:t>
            </a:r>
            <a:br>
              <a:rPr sz="1800"/>
            </a:b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Speed independent (SI):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 Unbounded (pessimistic) delays for gates and “negligible” (optimistic) delays for wir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Technology mapping is more difficult, verification is easy</a:t>
            </a:r>
            <a:br>
              <a:rPr sz="1800"/>
            </a:b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Delay insensitive (DI):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 Unbounded (pessimistic) delays for gates and wir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DI class (built out of basic gates) is almost empty</a:t>
            </a:r>
            <a:br>
              <a:rPr sz="1800"/>
            </a:b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Quasi-delay insensitive (QDI):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 Delay insensitive except for critical wire forks (</a:t>
            </a:r>
            <a:r>
              <a:rPr b="1" i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isochronic forks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  <a:ea typeface="Arial"/>
              </a:rPr>
              <a:t>In practice it is the same as speed independe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032600" y="1846440"/>
            <a:ext cx="1824120" cy="182376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081920" y="2498760"/>
            <a:ext cx="1824120" cy="182412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644960" y="20257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B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337520" y="370368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SI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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 QD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8157960" y="2814480"/>
            <a:ext cx="485640" cy="484200"/>
            <a:chOff x="8157960" y="2814480"/>
            <a:chExt cx="485640" cy="484200"/>
          </a:xfrm>
        </p:grpSpPr>
        <p:sp>
          <p:nvSpPr>
            <p:cNvPr id="1627" name=""/>
            <p:cNvSpPr/>
            <p:nvPr/>
          </p:nvSpPr>
          <p:spPr>
            <a:xfrm>
              <a:off x="8157960" y="2814480"/>
              <a:ext cx="484200" cy="484200"/>
            </a:xfrm>
            <a:prstGeom prst="ellipse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157960" y="2819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DI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62DD-A331-496F-BCE3-EFFCB4936A18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Motivation (designer’s view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Modularity for system-on-chip desig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Plug-and-play interconnectiv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Average-case peform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No worst-case delay synchroniz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Many interfaces are asynchrono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Buses, networks, 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D215-F5C2-4ECB-B7EF-425E1230BF0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09320" y="75960"/>
            <a:ext cx="8048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Motivation (technology aspects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ow pow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Automatic clock ga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Electromagnetic compatibi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No peak currents around clock ed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Secur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No  ‘electro-magnetic difference’ between logical ‘0’ and ‘1’in dual rail c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obust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High immunity to technology and environment variations (temperature, power supply, ...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5D3B-776D-4AC5-8E87-47486133615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Dissua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Concurrent models for specif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CSP, Petri nets, ...: no more FS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Difficult to desig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Hazards, synchroniz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Complex timing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Difficult to estimate perform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Difficult to t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No way to stop the clo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DB80E-2DD8-4E6B-82FE-C2831A5195E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Arial"/>
                <a:ea typeface="Arial"/>
              </a:rPr>
              <a:t>But ... some successful stor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6931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Phili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AMULET microprocess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Shar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Intel (RAPPID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Start-up compani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Theseus logic, ADD Inc., Self-Timed Solu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ecent blurb: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It's Time for Clockless Chips, by Claire Trist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am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(MIT Technology Review, v. 104, no.8, October 2001: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  <a:ea typeface="Arial"/>
                <a:hlinkClick r:id="rId1"/>
              </a:rPr>
              <a:t>http://www.technologyreview.com/magazine/oct01/tristram.asp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…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A6503-575D-4C5B-8446-926340D1C356}" type="slidenum">
              <a:t>47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Synchronous circui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320" y="5205240"/>
            <a:ext cx="837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Implicit (global) synchronization between blo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Clock Period  &gt; Max Delay (CL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9480" y="1816200"/>
            <a:ext cx="8305920" cy="3137760"/>
            <a:chOff x="609480" y="1816200"/>
            <a:chExt cx="8305920" cy="3137760"/>
          </a:xfrm>
        </p:grpSpPr>
        <p:sp>
          <p:nvSpPr>
            <p:cNvPr id="96" name=""/>
            <p:cNvSpPr/>
            <p:nvPr/>
          </p:nvSpPr>
          <p:spPr>
            <a:xfrm>
              <a:off x="1066680" y="1828800"/>
              <a:ext cx="533520" cy="19810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2680" y="1828800"/>
              <a:ext cx="533520" cy="19810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1828800"/>
              <a:ext cx="533520" cy="19810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24680" y="1828800"/>
              <a:ext cx="533520" cy="19810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05120" y="1816200"/>
              <a:ext cx="1079280" cy="1993680"/>
            </a:xfrm>
            <a:custGeom>
              <a:avLst/>
              <a:gdLst/>
              <a:ahLst/>
              <a:rect l="l" t="t" r="r" b="b"/>
              <a:pathLst>
                <a:path w="680" h="1256">
                  <a:moveTo>
                    <a:pt x="336" y="8"/>
                  </a:moveTo>
                  <a:cubicBezTo>
                    <a:pt x="392" y="16"/>
                    <a:pt x="528" y="40"/>
                    <a:pt x="576" y="56"/>
                  </a:cubicBezTo>
                  <a:cubicBezTo>
                    <a:pt x="624" y="72"/>
                    <a:pt x="608" y="64"/>
                    <a:pt x="624" y="104"/>
                  </a:cubicBezTo>
                  <a:cubicBezTo>
                    <a:pt x="640" y="144"/>
                    <a:pt x="672" y="240"/>
                    <a:pt x="672" y="296"/>
                  </a:cubicBezTo>
                  <a:cubicBezTo>
                    <a:pt x="672" y="352"/>
                    <a:pt x="632" y="384"/>
                    <a:pt x="624" y="440"/>
                  </a:cubicBezTo>
                  <a:cubicBezTo>
                    <a:pt x="616" y="496"/>
                    <a:pt x="616" y="576"/>
                    <a:pt x="624" y="632"/>
                  </a:cubicBezTo>
                  <a:cubicBezTo>
                    <a:pt x="632" y="688"/>
                    <a:pt x="664" y="728"/>
                    <a:pt x="672" y="776"/>
                  </a:cubicBezTo>
                  <a:cubicBezTo>
                    <a:pt x="680" y="824"/>
                    <a:pt x="680" y="872"/>
                    <a:pt x="672" y="920"/>
                  </a:cubicBezTo>
                  <a:cubicBezTo>
                    <a:pt x="664" y="968"/>
                    <a:pt x="640" y="1016"/>
                    <a:pt x="624" y="1064"/>
                  </a:cubicBezTo>
                  <a:cubicBezTo>
                    <a:pt x="608" y="1112"/>
                    <a:pt x="608" y="1176"/>
                    <a:pt x="576" y="1208"/>
                  </a:cubicBezTo>
                  <a:cubicBezTo>
                    <a:pt x="544" y="1240"/>
                    <a:pt x="488" y="1256"/>
                    <a:pt x="432" y="1256"/>
                  </a:cubicBezTo>
                  <a:cubicBezTo>
                    <a:pt x="376" y="1256"/>
                    <a:pt x="296" y="1216"/>
                    <a:pt x="240" y="1208"/>
                  </a:cubicBezTo>
                  <a:cubicBezTo>
                    <a:pt x="184" y="1200"/>
                    <a:pt x="136" y="1256"/>
                    <a:pt x="96" y="1208"/>
                  </a:cubicBezTo>
                  <a:cubicBezTo>
                    <a:pt x="56" y="1160"/>
                    <a:pt x="0" y="1016"/>
                    <a:pt x="0" y="920"/>
                  </a:cubicBezTo>
                  <a:cubicBezTo>
                    <a:pt x="0" y="824"/>
                    <a:pt x="80" y="704"/>
                    <a:pt x="96" y="632"/>
                  </a:cubicBezTo>
                  <a:cubicBezTo>
                    <a:pt x="112" y="560"/>
                    <a:pt x="104" y="544"/>
                    <a:pt x="96" y="488"/>
                  </a:cubicBezTo>
                  <a:cubicBezTo>
                    <a:pt x="88" y="432"/>
                    <a:pt x="56" y="352"/>
                    <a:pt x="48" y="296"/>
                  </a:cubicBezTo>
                  <a:cubicBezTo>
                    <a:pt x="40" y="240"/>
                    <a:pt x="40" y="192"/>
                    <a:pt x="48" y="152"/>
                  </a:cubicBezTo>
                  <a:cubicBezTo>
                    <a:pt x="56" y="112"/>
                    <a:pt x="64" y="80"/>
                    <a:pt x="96" y="56"/>
                  </a:cubicBezTo>
                  <a:cubicBezTo>
                    <a:pt x="128" y="32"/>
                    <a:pt x="200" y="16"/>
                    <a:pt x="240" y="8"/>
                  </a:cubicBezTo>
                  <a:cubicBezTo>
                    <a:pt x="280" y="0"/>
                    <a:pt x="280" y="0"/>
                    <a:pt x="336" y="8"/>
                  </a:cubicBezTo>
                  <a:close/>
                </a:path>
              </a:pathLst>
            </a:custGeom>
            <a:solidFill>
              <a:srgbClr val="ff66ff"/>
            </a:solidFill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91120" y="1828800"/>
              <a:ext cx="1079280" cy="1994040"/>
            </a:xfrm>
            <a:custGeom>
              <a:avLst/>
              <a:gdLst/>
              <a:ahLst/>
              <a:rect l="l" t="t" r="r" b="b"/>
              <a:pathLst>
                <a:path w="680" h="1256">
                  <a:moveTo>
                    <a:pt x="336" y="8"/>
                  </a:moveTo>
                  <a:cubicBezTo>
                    <a:pt x="392" y="16"/>
                    <a:pt x="528" y="40"/>
                    <a:pt x="576" y="56"/>
                  </a:cubicBezTo>
                  <a:cubicBezTo>
                    <a:pt x="624" y="72"/>
                    <a:pt x="608" y="64"/>
                    <a:pt x="624" y="104"/>
                  </a:cubicBezTo>
                  <a:cubicBezTo>
                    <a:pt x="640" y="144"/>
                    <a:pt x="672" y="240"/>
                    <a:pt x="672" y="296"/>
                  </a:cubicBezTo>
                  <a:cubicBezTo>
                    <a:pt x="672" y="352"/>
                    <a:pt x="632" y="384"/>
                    <a:pt x="624" y="440"/>
                  </a:cubicBezTo>
                  <a:cubicBezTo>
                    <a:pt x="616" y="496"/>
                    <a:pt x="616" y="576"/>
                    <a:pt x="624" y="632"/>
                  </a:cubicBezTo>
                  <a:cubicBezTo>
                    <a:pt x="632" y="688"/>
                    <a:pt x="664" y="728"/>
                    <a:pt x="672" y="776"/>
                  </a:cubicBezTo>
                  <a:cubicBezTo>
                    <a:pt x="680" y="824"/>
                    <a:pt x="680" y="872"/>
                    <a:pt x="672" y="920"/>
                  </a:cubicBezTo>
                  <a:cubicBezTo>
                    <a:pt x="664" y="968"/>
                    <a:pt x="640" y="1016"/>
                    <a:pt x="624" y="1064"/>
                  </a:cubicBezTo>
                  <a:cubicBezTo>
                    <a:pt x="608" y="1112"/>
                    <a:pt x="608" y="1176"/>
                    <a:pt x="576" y="1208"/>
                  </a:cubicBezTo>
                  <a:cubicBezTo>
                    <a:pt x="544" y="1240"/>
                    <a:pt x="488" y="1256"/>
                    <a:pt x="432" y="1256"/>
                  </a:cubicBezTo>
                  <a:cubicBezTo>
                    <a:pt x="376" y="1256"/>
                    <a:pt x="296" y="1216"/>
                    <a:pt x="240" y="1208"/>
                  </a:cubicBezTo>
                  <a:cubicBezTo>
                    <a:pt x="184" y="1200"/>
                    <a:pt x="136" y="1256"/>
                    <a:pt x="96" y="1208"/>
                  </a:cubicBezTo>
                  <a:cubicBezTo>
                    <a:pt x="56" y="1160"/>
                    <a:pt x="0" y="1016"/>
                    <a:pt x="0" y="920"/>
                  </a:cubicBezTo>
                  <a:cubicBezTo>
                    <a:pt x="0" y="824"/>
                    <a:pt x="80" y="704"/>
                    <a:pt x="96" y="632"/>
                  </a:cubicBezTo>
                  <a:cubicBezTo>
                    <a:pt x="112" y="560"/>
                    <a:pt x="104" y="544"/>
                    <a:pt x="96" y="488"/>
                  </a:cubicBezTo>
                  <a:cubicBezTo>
                    <a:pt x="88" y="432"/>
                    <a:pt x="56" y="352"/>
                    <a:pt x="48" y="296"/>
                  </a:cubicBezTo>
                  <a:cubicBezTo>
                    <a:pt x="40" y="240"/>
                    <a:pt x="40" y="192"/>
                    <a:pt x="48" y="152"/>
                  </a:cubicBezTo>
                  <a:cubicBezTo>
                    <a:pt x="56" y="112"/>
                    <a:pt x="64" y="80"/>
                    <a:pt x="96" y="56"/>
                  </a:cubicBezTo>
                  <a:cubicBezTo>
                    <a:pt x="128" y="32"/>
                    <a:pt x="200" y="16"/>
                    <a:pt x="240" y="8"/>
                  </a:cubicBezTo>
                  <a:cubicBezTo>
                    <a:pt x="280" y="0"/>
                    <a:pt x="280" y="0"/>
                    <a:pt x="336" y="8"/>
                  </a:cubicBezTo>
                  <a:close/>
                </a:path>
              </a:pathLst>
            </a:custGeom>
            <a:solidFill>
              <a:srgbClr val="ff66ff"/>
            </a:solidFill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7120" y="1841400"/>
              <a:ext cx="1079280" cy="1994040"/>
            </a:xfrm>
            <a:custGeom>
              <a:avLst/>
              <a:gdLst/>
              <a:ahLst/>
              <a:rect l="l" t="t" r="r" b="b"/>
              <a:pathLst>
                <a:path w="680" h="1256">
                  <a:moveTo>
                    <a:pt x="336" y="8"/>
                  </a:moveTo>
                  <a:cubicBezTo>
                    <a:pt x="392" y="16"/>
                    <a:pt x="528" y="40"/>
                    <a:pt x="576" y="56"/>
                  </a:cubicBezTo>
                  <a:cubicBezTo>
                    <a:pt x="624" y="72"/>
                    <a:pt x="608" y="64"/>
                    <a:pt x="624" y="104"/>
                  </a:cubicBezTo>
                  <a:cubicBezTo>
                    <a:pt x="640" y="144"/>
                    <a:pt x="672" y="240"/>
                    <a:pt x="672" y="296"/>
                  </a:cubicBezTo>
                  <a:cubicBezTo>
                    <a:pt x="672" y="352"/>
                    <a:pt x="632" y="384"/>
                    <a:pt x="624" y="440"/>
                  </a:cubicBezTo>
                  <a:cubicBezTo>
                    <a:pt x="616" y="496"/>
                    <a:pt x="616" y="576"/>
                    <a:pt x="624" y="632"/>
                  </a:cubicBezTo>
                  <a:cubicBezTo>
                    <a:pt x="632" y="688"/>
                    <a:pt x="664" y="728"/>
                    <a:pt x="672" y="776"/>
                  </a:cubicBezTo>
                  <a:cubicBezTo>
                    <a:pt x="680" y="824"/>
                    <a:pt x="680" y="872"/>
                    <a:pt x="672" y="920"/>
                  </a:cubicBezTo>
                  <a:cubicBezTo>
                    <a:pt x="664" y="968"/>
                    <a:pt x="640" y="1016"/>
                    <a:pt x="624" y="1064"/>
                  </a:cubicBezTo>
                  <a:cubicBezTo>
                    <a:pt x="608" y="1112"/>
                    <a:pt x="608" y="1176"/>
                    <a:pt x="576" y="1208"/>
                  </a:cubicBezTo>
                  <a:cubicBezTo>
                    <a:pt x="544" y="1240"/>
                    <a:pt x="488" y="1256"/>
                    <a:pt x="432" y="1256"/>
                  </a:cubicBezTo>
                  <a:cubicBezTo>
                    <a:pt x="376" y="1256"/>
                    <a:pt x="296" y="1216"/>
                    <a:pt x="240" y="1208"/>
                  </a:cubicBezTo>
                  <a:cubicBezTo>
                    <a:pt x="184" y="1200"/>
                    <a:pt x="136" y="1256"/>
                    <a:pt x="96" y="1208"/>
                  </a:cubicBezTo>
                  <a:cubicBezTo>
                    <a:pt x="56" y="1160"/>
                    <a:pt x="0" y="1016"/>
                    <a:pt x="0" y="920"/>
                  </a:cubicBezTo>
                  <a:cubicBezTo>
                    <a:pt x="0" y="824"/>
                    <a:pt x="80" y="704"/>
                    <a:pt x="96" y="632"/>
                  </a:cubicBezTo>
                  <a:cubicBezTo>
                    <a:pt x="112" y="560"/>
                    <a:pt x="104" y="544"/>
                    <a:pt x="96" y="488"/>
                  </a:cubicBezTo>
                  <a:cubicBezTo>
                    <a:pt x="88" y="432"/>
                    <a:pt x="56" y="352"/>
                    <a:pt x="48" y="296"/>
                  </a:cubicBezTo>
                  <a:cubicBezTo>
                    <a:pt x="40" y="240"/>
                    <a:pt x="40" y="192"/>
                    <a:pt x="48" y="152"/>
                  </a:cubicBezTo>
                  <a:cubicBezTo>
                    <a:pt x="56" y="112"/>
                    <a:pt x="64" y="80"/>
                    <a:pt x="96" y="56"/>
                  </a:cubicBezTo>
                  <a:cubicBezTo>
                    <a:pt x="128" y="32"/>
                    <a:pt x="200" y="16"/>
                    <a:pt x="240" y="8"/>
                  </a:cubicBezTo>
                  <a:cubicBezTo>
                    <a:pt x="280" y="0"/>
                    <a:pt x="280" y="0"/>
                    <a:pt x="336" y="8"/>
                  </a:cubicBezTo>
                  <a:close/>
                </a:path>
              </a:pathLst>
            </a:custGeom>
            <a:solidFill>
              <a:srgbClr val="ff66ff"/>
            </a:solidFill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5160" y="2589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24680" y="2589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04560" y="2589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84080" y="2589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11840" y="25891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97840" y="25891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83840" y="25891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0200" y="25909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95480" y="25909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6200" y="25909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1480" y="25909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72200" y="25909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67480" y="25909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295280" y="3809520"/>
              <a:ext cx="0" cy="3812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581280" y="3809520"/>
              <a:ext cx="0" cy="3812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867280" y="3809520"/>
              <a:ext cx="0" cy="3812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153280" y="3809520"/>
              <a:ext cx="0" cy="3812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95280" y="4191120"/>
              <a:ext cx="68580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4191120"/>
              <a:ext cx="0" cy="3808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45920" y="44942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Arial"/>
                  <a:ea typeface="Arial"/>
                </a:rPr>
                <a:t>CLK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25909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58200" y="259092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C0C6-D84E-472F-98D4-8F17F05675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  <a:ea typeface="Arial"/>
              </a:rPr>
              <a:t>Asynchronous circui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828800"/>
            <a:ext cx="533520" cy="19810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1828800"/>
            <a:ext cx="533520" cy="19810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1828800"/>
            <a:ext cx="533520" cy="19810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24680" y="1828800"/>
            <a:ext cx="533520" cy="19810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1816200"/>
            <a:ext cx="1079280" cy="199368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1828800"/>
            <a:ext cx="1079280" cy="199404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1841400"/>
            <a:ext cx="1079280" cy="199404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5160" y="258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4680" y="258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4560" y="258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84080" y="258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11840" y="25891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C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7840" y="25891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C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3840" y="25891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C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295280" y="3809520"/>
            <a:ext cx="0" cy="3812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581280" y="3809520"/>
            <a:ext cx="0" cy="3812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867280" y="3809520"/>
            <a:ext cx="0" cy="3812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153280" y="3809520"/>
            <a:ext cx="0" cy="3812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080" y="5073480"/>
            <a:ext cx="84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  <a:ea typeface="Arial"/>
              </a:rPr>
              <a:t>Explicit (Local) synchronization: Req/Ack handshak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458200" y="25909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191120"/>
            <a:ext cx="5331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09880"/>
            <a:ext cx="914400" cy="3812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0"/>
                </a:moveTo>
                <a:lnTo>
                  <a:pt x="0" y="240"/>
                </a:lnTo>
                <a:lnTo>
                  <a:pt x="576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3809880"/>
            <a:ext cx="914400" cy="3812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0"/>
                </a:moveTo>
                <a:lnTo>
                  <a:pt x="0" y="240"/>
                </a:lnTo>
                <a:lnTo>
                  <a:pt x="576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3809880"/>
            <a:ext cx="914400" cy="3812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0"/>
                </a:moveTo>
                <a:lnTo>
                  <a:pt x="0" y="240"/>
                </a:lnTo>
                <a:lnTo>
                  <a:pt x="576" y="240"/>
                </a:ln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358128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358128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358128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458200" y="358128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205740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205740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205740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2057400"/>
            <a:ext cx="38088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20574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0574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20574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0574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800" y="38847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e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73440" y="17510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687CF-8EC4-4DD1-BA8C-05F796349E2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cc66"/>
                </a:solidFill>
                <a:latin typeface="Arial"/>
                <a:ea typeface="Arial"/>
              </a:rPr>
              <a:t>Motivation for asynchronou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synchronous design is often unavoidabl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synchronous interfaces, arbiters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Modern clocking is multi-phase and distributed – and virtually ‘asynchronous’ (cf. GALS – next slide)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Mesachronous (clock travels together with da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Local (possibly stretchable) clock gener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obust asynchronous design flow is  coming (e.g. VLSI programming from Philips, Balsa from Univ of Manchester, NCL from Theseus Logic …)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467F-4FED-43D0-8E8C-B2285F2F65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3600" y="75960"/>
            <a:ext cx="830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66"/>
                </a:solidFill>
                <a:latin typeface="Arial"/>
                <a:ea typeface="Arial"/>
              </a:rPr>
              <a:t>Globally Async Locally Sync (GALS)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51160" y="1379520"/>
            <a:ext cx="5197320" cy="4657680"/>
          </a:xfrm>
          <a:prstGeom prst="rect">
            <a:avLst/>
          </a:prstGeom>
          <a:solidFill>
            <a:srgbClr val="cc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1200" y="1363680"/>
            <a:ext cx="3744720" cy="37162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72840" y="4100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Local CL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9200" y="1871640"/>
            <a:ext cx="533520" cy="19810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75200" y="1871640"/>
            <a:ext cx="533520" cy="19810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1859040"/>
            <a:ext cx="1079280" cy="1993680"/>
          </a:xfrm>
          <a:custGeom>
            <a:avLst/>
            <a:gdLst/>
            <a:ahLst/>
            <a:rect l="l" t="t" r="r" b="b"/>
            <a:pathLst>
              <a:path w="680" h="1256">
                <a:moveTo>
                  <a:pt x="336" y="8"/>
                </a:moveTo>
                <a:cubicBezTo>
                  <a:pt x="392" y="16"/>
                  <a:pt x="528" y="40"/>
                  <a:pt x="576" y="56"/>
                </a:cubicBezTo>
                <a:cubicBezTo>
                  <a:pt x="624" y="72"/>
                  <a:pt x="608" y="64"/>
                  <a:pt x="624" y="104"/>
                </a:cubicBezTo>
                <a:cubicBezTo>
                  <a:pt x="640" y="144"/>
                  <a:pt x="672" y="240"/>
                  <a:pt x="672" y="296"/>
                </a:cubicBezTo>
                <a:cubicBezTo>
                  <a:pt x="672" y="352"/>
                  <a:pt x="632" y="384"/>
                  <a:pt x="624" y="440"/>
                </a:cubicBezTo>
                <a:cubicBezTo>
                  <a:pt x="616" y="496"/>
                  <a:pt x="616" y="576"/>
                  <a:pt x="624" y="632"/>
                </a:cubicBezTo>
                <a:cubicBezTo>
                  <a:pt x="632" y="688"/>
                  <a:pt x="664" y="728"/>
                  <a:pt x="672" y="776"/>
                </a:cubicBezTo>
                <a:cubicBezTo>
                  <a:pt x="680" y="824"/>
                  <a:pt x="680" y="872"/>
                  <a:pt x="672" y="920"/>
                </a:cubicBezTo>
                <a:cubicBezTo>
                  <a:pt x="664" y="968"/>
                  <a:pt x="640" y="1016"/>
                  <a:pt x="624" y="1064"/>
                </a:cubicBezTo>
                <a:cubicBezTo>
                  <a:pt x="608" y="1112"/>
                  <a:pt x="608" y="1176"/>
                  <a:pt x="576" y="1208"/>
                </a:cubicBezTo>
                <a:cubicBezTo>
                  <a:pt x="544" y="1240"/>
                  <a:pt x="488" y="1256"/>
                  <a:pt x="432" y="1256"/>
                </a:cubicBezTo>
                <a:cubicBezTo>
                  <a:pt x="376" y="1256"/>
                  <a:pt x="296" y="1216"/>
                  <a:pt x="240" y="1208"/>
                </a:cubicBezTo>
                <a:cubicBezTo>
                  <a:pt x="184" y="1200"/>
                  <a:pt x="136" y="1256"/>
                  <a:pt x="96" y="1208"/>
                </a:cubicBezTo>
                <a:cubicBezTo>
                  <a:pt x="56" y="1160"/>
                  <a:pt x="0" y="1016"/>
                  <a:pt x="0" y="920"/>
                </a:cubicBezTo>
                <a:cubicBezTo>
                  <a:pt x="0" y="824"/>
                  <a:pt x="80" y="704"/>
                  <a:pt x="96" y="632"/>
                </a:cubicBezTo>
                <a:cubicBezTo>
                  <a:pt x="112" y="560"/>
                  <a:pt x="104" y="544"/>
                  <a:pt x="96" y="488"/>
                </a:cubicBezTo>
                <a:cubicBezTo>
                  <a:pt x="88" y="432"/>
                  <a:pt x="56" y="352"/>
                  <a:pt x="48" y="296"/>
                </a:cubicBezTo>
                <a:cubicBezTo>
                  <a:pt x="40" y="240"/>
                  <a:pt x="40" y="192"/>
                  <a:pt x="48" y="152"/>
                </a:cubicBezTo>
                <a:cubicBezTo>
                  <a:pt x="56" y="112"/>
                  <a:pt x="64" y="80"/>
                  <a:pt x="96" y="56"/>
                </a:cubicBezTo>
                <a:cubicBezTo>
                  <a:pt x="128" y="32"/>
                  <a:pt x="200" y="16"/>
                  <a:pt x="240" y="8"/>
                </a:cubicBezTo>
                <a:cubicBezTo>
                  <a:pt x="280" y="0"/>
                  <a:pt x="280" y="0"/>
                  <a:pt x="336" y="8"/>
                </a:cubicBezTo>
                <a:close/>
              </a:path>
            </a:pathLst>
          </a:custGeom>
          <a:solidFill>
            <a:srgbClr val="ff66ff"/>
          </a:solidFill>
          <a:ln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67680" y="2631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7200" y="2631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34000" y="26337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  <a:ea typeface="Arial"/>
              </a:rPr>
              <a:t>C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22720" y="26337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18000" y="26337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8720" y="26337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26337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7" name=""/>
          <p:cNvCxnSpPr/>
          <p:nvPr/>
        </p:nvCxnSpPr>
        <p:spPr>
          <a:xfrm flipV="1" rot="16200000">
            <a:off x="3850200" y="3882960"/>
            <a:ext cx="1211760" cy="1191600"/>
          </a:xfrm>
          <a:prstGeom prst="bentConnector5">
            <a:avLst>
              <a:gd name="adj1" fmla="val 34977"/>
              <a:gd name="adj2" fmla="val 100664"/>
              <a:gd name="adj3" fmla="val 50044"/>
            </a:avLst>
          </a:prstGeom>
          <a:ln w="28440">
            <a:solidFill>
              <a:srgbClr val="ffffcc"/>
            </a:solidFill>
            <a:miter/>
            <a:tailEnd len="sm" type="triangle" w="sm"/>
          </a:ln>
        </p:spPr>
      </p:cxnSp>
      <p:cxnSp>
        <p:nvCxnSpPr>
          <p:cNvPr id="188" name=""/>
          <p:cNvCxnSpPr>
            <a:endCxn id="178" idx="2"/>
          </p:cNvCxnSpPr>
          <p:nvPr/>
        </p:nvCxnSpPr>
        <p:spPr>
          <a:xfrm flipV="1">
            <a:off x="5036760" y="3852000"/>
            <a:ext cx="1105560" cy="807480"/>
          </a:xfrm>
          <a:prstGeom prst="bentConnector2">
            <a:avLst/>
          </a:prstGeom>
          <a:ln w="28440">
            <a:solidFill>
              <a:srgbClr val="ffffcc"/>
            </a:solidFill>
            <a:miter/>
            <a:tailEnd len="sm" type="triangle" w="sm"/>
          </a:ln>
        </p:spPr>
      </p:cxnSp>
      <p:sp>
        <p:nvSpPr>
          <p:cNvPr id="189" name=""/>
          <p:cNvSpPr/>
          <p:nvPr/>
        </p:nvSpPr>
        <p:spPr>
          <a:xfrm>
            <a:off x="1523880" y="3003480"/>
            <a:ext cx="798480" cy="434880"/>
          </a:xfrm>
          <a:prstGeom prst="rightArrow">
            <a:avLst>
              <a:gd name="adj1" fmla="val 50000"/>
              <a:gd name="adj2" fmla="val 45902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84440" y="2728800"/>
            <a:ext cx="652320" cy="288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699920" y="3700440"/>
            <a:ext cx="609480" cy="14400"/>
          </a:xfrm>
          <a:prstGeom prst="line">
            <a:avLst/>
          </a:prstGeom>
          <a:ln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24160" y="5369040"/>
            <a:ext cx="3759120" cy="459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sync-to-sync Wrapp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58200" y="2943360"/>
            <a:ext cx="798480" cy="434880"/>
          </a:xfrm>
          <a:prstGeom prst="rightArrow">
            <a:avLst>
              <a:gd name="adj1" fmla="val 50000"/>
              <a:gd name="adj2" fmla="val 45902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75480" y="2654280"/>
            <a:ext cx="652680" cy="28440"/>
          </a:xfrm>
          <a:prstGeom prst="line">
            <a:avLst/>
          </a:prstGeom>
          <a:ln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7532280" y="3682800"/>
            <a:ext cx="609480" cy="14040"/>
          </a:xfrm>
          <a:prstGeom prst="line">
            <a:avLst/>
          </a:prstGeom>
          <a:ln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65280" y="4816440"/>
            <a:ext cx="798480" cy="434880"/>
          </a:xfrm>
          <a:prstGeom prst="rightArrow">
            <a:avLst>
              <a:gd name="adj1" fmla="val 50000"/>
              <a:gd name="adj2" fmla="val 45902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97040" y="4556160"/>
            <a:ext cx="652320" cy="28440"/>
          </a:xfrm>
          <a:prstGeom prst="line">
            <a:avLst/>
          </a:prstGeom>
          <a:ln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726920" y="5484600"/>
            <a:ext cx="609480" cy="14040"/>
          </a:xfrm>
          <a:prstGeom prst="line">
            <a:avLst/>
          </a:prstGeom>
          <a:ln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72240" y="4700520"/>
            <a:ext cx="798480" cy="434880"/>
          </a:xfrm>
          <a:prstGeom prst="rightArrow">
            <a:avLst>
              <a:gd name="adj1" fmla="val 50000"/>
              <a:gd name="adj2" fmla="val 45902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89880" y="4511520"/>
            <a:ext cx="652320" cy="28800"/>
          </a:xfrm>
          <a:prstGeom prst="line">
            <a:avLst/>
          </a:prstGeom>
          <a:ln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561080" y="5452920"/>
            <a:ext cx="609480" cy="14400"/>
          </a:xfrm>
          <a:prstGeom prst="line">
            <a:avLst/>
          </a:prstGeom>
          <a:ln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6720" y="236520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eq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400" y="4352760"/>
            <a:ext cx="9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eq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29600" y="233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eq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58320" y="417816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Req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28160" y="3422520"/>
            <a:ext cx="9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ck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167680" y="5219640"/>
            <a:ext cx="9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ck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4880" y="52912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ck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344664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Ack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30320" y="6400800"/>
            <a:ext cx="714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6120" y="13334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Arial"/>
                <a:ea typeface="Arial"/>
              </a:rPr>
              <a:t>Asynchronous Wor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32200" y="1376280"/>
            <a:ext cx="30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cc"/>
                </a:solidFill>
                <a:latin typeface="Arial"/>
                <a:ea typeface="Arial"/>
              </a:rPr>
              <a:t>Clocked Doma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57446-76EA-4CFA-A5A9-0D777C76865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cc66"/>
                </a:solidFill>
                <a:latin typeface="Arial"/>
                <a:ea typeface="Arial"/>
              </a:rPr>
              <a:t>Key Design Differenc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Synchronous logic desig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proceeds without taking timing correctness (hazards, signal ack-ing etc.) into accou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Combinational logic and memory latches (registers) are built separate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Static timing analysis of CL is sufficient to determine the Max Delay (clock perio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  <a:ea typeface="Arial"/>
              </a:rPr>
              <a:t>Fixed set-up and hold conditions for latch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CACC-B735-48E4-B9A9-0AA6C292BFF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1:54:46Z</dcterms:created>
  <dc:creator>Compaq</dc:creator>
  <dc:description/>
  <dc:language>en-US</dc:language>
  <cp:lastModifiedBy>Yakovlev</cp:lastModifiedBy>
  <cp:lastPrinted>2001-10-19T14:00:48Z</cp:lastPrinted>
  <dcterms:modified xsi:type="dcterms:W3CDTF">2001-11-29T16:55:36Z</dcterms:modified>
  <cp:revision>44</cp:revision>
  <dc:subject/>
  <dc:title>Introduction to basic concepts on asynchronous circuit design</dc:title>
</cp:coreProperties>
</file>