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7B74-BA9F-4CB4-B81E-314FDDDEC4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2A10-1A26-4E46-BB2E-6EE7873D24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1A1-3BAF-4E75-BA0D-10C8C9D4C8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611B-B6C0-4D6B-A6A0-49DD1F60BD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A182-363D-479C-9645-5B7B513029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C6A7-BBE3-4DAF-ACED-2D16C10682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6D5B-167C-4ADE-A81A-FD74831173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CDD7-C458-4C4B-923D-E713BACDA8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698E-6499-4425-B68A-54A07A4EBA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1AA4-8198-4CB1-8D17-E02FBA0D1E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860C-C8C9-46CF-9DDB-44DA7A3F96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F0E6-F14A-40E9-ADA3-4191D53B86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C855-3ADD-4180-9B57-ADCCC20D95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5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6B00-59F2-4D7E-B6A1-D7FC631EC1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371-FA0F-41AA-8002-15189DD08CB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7F47-FF8F-46AE-95EC-574C6F8F8A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0358-6374-4C6B-9ADA-A000F8E8FE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27FF-B089-492E-9FC1-0C94452353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20BB-1C80-4E31-8272-0B0D733336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1404-67B0-45DD-8989-73492B8B37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305D-A0F9-447C-B27B-91C5936E02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D52A-07E7-4EE6-BFF9-464A9BA06B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1CC7-4586-4B03-A22E-A327D9855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8EDB-A48A-4391-8583-7729422F9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3176-4F4C-4C21-B45E-F9566154A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3AA6-20FD-4171-A3B4-2B1809E6F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AEE99-39BF-445D-83CE-F65E9BF4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ECBB-1829-4B8B-A48F-AEE4E4A9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37199-7AF9-40BA-9E63-E555F252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B88F8-2FE5-4884-9882-A7112345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CF8C0-471C-470D-9B5A-63BA49F7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CFD93-41BE-432E-9ACF-C0225EC7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5DE21-5F6E-432B-8976-F629955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E5DC-2EBD-4714-B81F-E9012C52B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5E7DA-FE3F-402C-88A1-00DF84E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72E12-1367-439C-A741-15EAAA26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063DF-20E3-4D0F-BC01-6E45B2CF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FA523-C3D7-42DA-9C89-B70663EA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FC92D-DE7C-4BAE-9657-34A149A3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1E4C-5ED6-48B7-9823-194B752C1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5B51-A865-4DB3-856C-0B4078D61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B7E4-4E34-43F6-B02C-DAB5EEBCC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4A7E-8674-40D2-9E2D-3839A9CAA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BD1E-50BB-4D90-9E07-1235160F3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6F13-A96C-4B44-99AF-ABC35C076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BCA8-330A-4C00-A1D6-263F80BE6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00200" y="6324480"/>
            <a:ext cx="594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2760" y="6324480"/>
            <a:ext cx="865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3D8C-2FC0-4267-B4F7-E544A8B712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1F03-A645-44FC-B0A0-AD3737A44C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ogic design of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t I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gic synthesis from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current specif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CEEDD-61DC-4BDA-AEC6-FF7F4F9F86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G for the READ cyc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6720" y="2552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79840" y="2552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11600" y="2552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06800" y="2552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12200" y="255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79120" y="2552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188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64880" y="3467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50280" y="346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8160" y="1676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8576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0996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2928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9152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48000" y="365760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019400" y="1847880"/>
            <a:ext cx="13716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182880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93364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77120" y="1905120"/>
            <a:ext cx="1790640" cy="62856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24480" y="293364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17334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79800" y="4843440"/>
            <a:ext cx="103680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91200" y="4952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18400" y="54100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016240" y="574344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16600" y="524340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584600" y="4343040"/>
            <a:ext cx="0" cy="5000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86400" y="445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ff33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35280" y="524340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634920" y="574344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32280" y="5043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S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74160" y="5543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12920" y="50626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VME Bu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AB6F-3B63-4EF7-83ED-D2E127BA50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068840" y="1589040"/>
            <a:ext cx="3088080" cy="4508640"/>
            <a:chOff x="1068840" y="1589040"/>
            <a:chExt cx="3088080" cy="4508640"/>
          </a:xfrm>
        </p:grpSpPr>
        <p:sp>
          <p:nvSpPr>
            <p:cNvPr id="483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81160" y="1790640"/>
              <a:ext cx="741600" cy="1943280"/>
            </a:xfrm>
            <a:custGeom>
              <a:avLst/>
              <a:gdLst/>
              <a:ahLst/>
              <a:rect l="l" t="t" r="r" b="b"/>
              <a:pathLst>
                <a:path w="467" h="1224">
                  <a:moveTo>
                    <a:pt x="426" y="1224"/>
                  </a:moveTo>
                  <a:cubicBezTo>
                    <a:pt x="421" y="1060"/>
                    <a:pt x="467" y="444"/>
                    <a:pt x="396" y="240"/>
                  </a:cubicBezTo>
                  <a:cubicBezTo>
                    <a:pt x="325" y="36"/>
                    <a:pt x="82" y="50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62200" y="25336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650120" y="1589040"/>
            <a:ext cx="3672720" cy="4508640"/>
            <a:chOff x="4650120" y="1589040"/>
            <a:chExt cx="3672720" cy="4508640"/>
          </a:xfrm>
        </p:grpSpPr>
        <p:sp>
          <p:nvSpPr>
            <p:cNvPr id="507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05520" y="1781280"/>
              <a:ext cx="942840" cy="1952640"/>
            </a:xfrm>
            <a:custGeom>
              <a:avLst/>
              <a:gdLst/>
              <a:ahLst/>
              <a:rect l="l" t="t" r="r" b="b"/>
              <a:pathLst>
                <a:path w="594" h="1230">
                  <a:moveTo>
                    <a:pt x="0" y="1230"/>
                  </a:moveTo>
                  <a:cubicBezTo>
                    <a:pt x="17" y="1062"/>
                    <a:pt x="3" y="427"/>
                    <a:pt x="102" y="222"/>
                  </a:cubicBezTo>
                  <a:cubicBezTo>
                    <a:pt x="201" y="17"/>
                    <a:pt x="492" y="46"/>
                    <a:pt x="59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8560" y="255276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ED55-10E0-47D9-8CA0-5EF4299F8C3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068840" y="1589040"/>
            <a:ext cx="7254000" cy="4508640"/>
            <a:chOff x="1068840" y="1589040"/>
            <a:chExt cx="7254000" cy="4508640"/>
          </a:xfrm>
        </p:grpSpPr>
        <p:sp>
          <p:nvSpPr>
            <p:cNvPr id="532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29280" y="2467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1480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19720" y="1771560"/>
              <a:ext cx="1619280" cy="609840"/>
            </a:xfrm>
            <a:custGeom>
              <a:avLst/>
              <a:gdLst/>
              <a:ahLst/>
              <a:rect l="l" t="t" r="r" b="b"/>
              <a:pathLst>
                <a:path w="972" h="372">
                  <a:moveTo>
                    <a:pt x="0" y="372"/>
                  </a:moveTo>
                  <a:cubicBezTo>
                    <a:pt x="21" y="271"/>
                    <a:pt x="42" y="170"/>
                    <a:pt x="204" y="108"/>
                  </a:cubicBezTo>
                  <a:cubicBezTo>
                    <a:pt x="366" y="46"/>
                    <a:pt x="669" y="23"/>
                    <a:pt x="9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00240" y="1781280"/>
              <a:ext cx="1257480" cy="581040"/>
            </a:xfrm>
            <a:custGeom>
              <a:avLst/>
              <a:gdLst/>
              <a:ahLst/>
              <a:rect l="l" t="t" r="r" b="b"/>
              <a:pathLst>
                <a:path w="792" h="366">
                  <a:moveTo>
                    <a:pt x="792" y="366"/>
                  </a:moveTo>
                  <a:cubicBezTo>
                    <a:pt x="767" y="325"/>
                    <a:pt x="780" y="181"/>
                    <a:pt x="648" y="120"/>
                  </a:cubicBezTo>
                  <a:cubicBezTo>
                    <a:pt x="516" y="59"/>
                    <a:pt x="135" y="25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57600" y="2781360"/>
              <a:ext cx="552600" cy="952560"/>
            </a:xfrm>
            <a:custGeom>
              <a:avLst/>
              <a:gdLst/>
              <a:ahLst/>
              <a:rect l="l" t="t" r="r" b="b"/>
              <a:pathLst>
                <a:path w="348" h="600">
                  <a:moveTo>
                    <a:pt x="0" y="600"/>
                  </a:moveTo>
                  <a:cubicBezTo>
                    <a:pt x="15" y="539"/>
                    <a:pt x="32" y="334"/>
                    <a:pt x="90" y="234"/>
                  </a:cubicBezTo>
                  <a:cubicBezTo>
                    <a:pt x="148" y="134"/>
                    <a:pt x="294" y="49"/>
                    <a:pt x="34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95680" y="2771640"/>
              <a:ext cx="609840" cy="962280"/>
            </a:xfrm>
            <a:custGeom>
              <a:avLst/>
              <a:gdLst/>
              <a:ahLst/>
              <a:rect l="l" t="t" r="r" b="b"/>
              <a:pathLst>
                <a:path w="384" h="606">
                  <a:moveTo>
                    <a:pt x="384" y="606"/>
                  </a:moveTo>
                  <a:cubicBezTo>
                    <a:pt x="369" y="546"/>
                    <a:pt x="358" y="347"/>
                    <a:pt x="294" y="246"/>
                  </a:cubicBezTo>
                  <a:cubicBezTo>
                    <a:pt x="230" y="145"/>
                    <a:pt x="61" y="51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7CF4-6366-4971-9EA3-B4DA8EB33F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ircuit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nthe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56024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oa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rive a hazard-free circuit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 a given delay model and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 of ope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C87B-9BDE-4058-9E20-08EF90F25B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ed independ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lay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bounded gate / environment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rtain wire delays shorter than certain paths in the circuit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ditions for implementabil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lete State C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890C-C185-4B86-A43C-3C2ABD44D92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G for the READ cyc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6720" y="2552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79840" y="2552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11600" y="2552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906800" y="2552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12200" y="255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9120" y="2552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188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64880" y="3467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50280" y="346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278160" y="1676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576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0996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2928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1992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9152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48000" y="365760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019400" y="1847880"/>
            <a:ext cx="13716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82880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93364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77120" y="1905120"/>
            <a:ext cx="1790640" cy="62856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324480" y="293364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17334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79800" y="4843440"/>
            <a:ext cx="1036800" cy="11001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91200" y="4952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18400" y="54100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016240" y="574344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16600" y="524340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584600" y="4343040"/>
            <a:ext cx="0" cy="5000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86400" y="445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ff33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635280" y="524340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634920" y="574344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32280" y="5043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S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74160" y="5543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12920" y="50626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VME Bu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01B2-2E22-43DD-A1CC-75188E534F3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nary encoding of sign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101600" y="1619280"/>
            <a:ext cx="7851960" cy="4068720"/>
            <a:chOff x="1101600" y="1619280"/>
            <a:chExt cx="7851960" cy="4068720"/>
          </a:xfrm>
        </p:grpSpPr>
        <p:sp>
          <p:nvSpPr>
            <p:cNvPr id="673" name=""/>
            <p:cNvSpPr/>
            <p:nvPr/>
          </p:nvSpPr>
          <p:spPr>
            <a:xfrm>
              <a:off x="3570120" y="1784520"/>
              <a:ext cx="3821400" cy="17017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1525680" y="2755800"/>
              <a:ext cx="5865840" cy="2932200"/>
              <a:chOff x="1525680" y="2755800"/>
              <a:chExt cx="5865840" cy="2932200"/>
            </a:xfrm>
          </p:grpSpPr>
          <p:sp>
            <p:nvSpPr>
              <p:cNvPr id="675" name=""/>
              <p:cNvSpPr/>
              <p:nvPr/>
            </p:nvSpPr>
            <p:spPr>
              <a:xfrm>
                <a:off x="1525680" y="3943440"/>
                <a:ext cx="5865840" cy="1744560"/>
              </a:xfrm>
              <a:prstGeom prst="roundRect">
                <a:avLst>
                  <a:gd name="adj" fmla="val 16667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25680" y="2755800"/>
                <a:ext cx="1850760" cy="1906560"/>
              </a:xfrm>
              <a:custGeom>
                <a:avLst/>
                <a:gdLst>
                  <a:gd name="textAreaLeft" fmla="*/ 90360 w 1850760"/>
                  <a:gd name="textAreaRight" fmla="*/ 1760400 w 1850760"/>
                  <a:gd name="textAreaTop" fmla="*/ 90360 h 1906560"/>
                  <a:gd name="textAreaBottom" fmla="*/ 1816200 h 1906560"/>
                </a:gdLst>
                <a:ahLst/>
                <a:rect l="textAreaLeft" t="textAreaTop" r="textAreaRight" b="textAreaBottom"/>
                <a:pathLst>
                  <a:path w="21600" h="22251">
                    <a:moveTo>
                      <a:pt x="3600" y="0"/>
                    </a:moveTo>
                    <a:arcTo wR="3600" hR="3600" stAng="16200000" swAng="-5400000"/>
                    <a:lnTo>
                      <a:pt x="0" y="18651"/>
                    </a:lnTo>
                    <a:arcTo wR="3600" hR="3600" stAng="10800000" swAng="-5400000"/>
                    <a:lnTo>
                      <a:pt x="18000" y="222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 txBox="1"/>
            <p:nvPr/>
          </p:nvSpPr>
          <p:spPr>
            <a:xfrm>
              <a:off x="4716360" y="236232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= 0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3376440" y="463716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= 1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6840360" y="2786760"/>
              <a:ext cx="684360" cy="1535400"/>
            </a:xfrm>
            <a:custGeom>
              <a:avLst/>
              <a:gdLst>
                <a:gd name="textAreaLeft" fmla="*/ 91440 w 684360"/>
                <a:gd name="textAreaRight" fmla="*/ 592920 w 684360"/>
                <a:gd name="textAreaTop" fmla="*/ 268200 h 1535400"/>
                <a:gd name="textAreaBottom" fmla="*/ 1112760 h 153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7639200" y="3314880"/>
              <a:ext cx="13143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-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>
              <a:off x="1101600" y="161928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+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rot="16200000">
              <a:off x="2104920" y="1655640"/>
              <a:ext cx="1306440" cy="185904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6D7D-EEEF-4E63-8E36-6313C28B0EB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nary encoding of sign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89640" y="1784520"/>
            <a:ext cx="88956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75280" y="2870280"/>
            <a:ext cx="88920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75280" y="4002120"/>
            <a:ext cx="88956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69360" y="4052880"/>
            <a:ext cx="88992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648680" y="2971800"/>
            <a:ext cx="2870640" cy="1846800"/>
            <a:chOff x="4648680" y="2971800"/>
            <a:chExt cx="2870640" cy="1846800"/>
          </a:xfrm>
        </p:grpSpPr>
        <p:sp>
          <p:nvSpPr>
            <p:cNvPr id="740" name=""/>
            <p:cNvSpPr/>
            <p:nvPr/>
          </p:nvSpPr>
          <p:spPr>
            <a:xfrm>
              <a:off x="6630120" y="2971800"/>
              <a:ext cx="88920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11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48680" y="4419720"/>
              <a:ext cx="88956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1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3267360" y="4419720"/>
            <a:ext cx="88956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69720" y="5383080"/>
            <a:ext cx="33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ff"/>
                </a:solidFill>
                <a:latin typeface="Arial"/>
              </a:rPr>
              <a:t>(DSr , DTACK , LDTACK , LDS , 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F325-5529-4D3B-A13E-468DDB0917F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209680" y="289548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1752480"/>
            <a:ext cx="342900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4960" y="4038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QR (LDS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83120" y="2438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Q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Excitation / Quiescent Reg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86240" y="3905280"/>
            <a:ext cx="3371760" cy="647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70120" y="178452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53440" y="16527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ER (LDS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93560" y="39625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E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2416320" y="1969920"/>
            <a:ext cx="4594320" cy="3508560"/>
            <a:chOff x="2416320" y="1969920"/>
            <a:chExt cx="4594320" cy="3508560"/>
          </a:xfrm>
        </p:grpSpPr>
        <p:sp>
          <p:nvSpPr>
            <p:cNvPr id="754" name=""/>
            <p:cNvSpPr/>
            <p:nvPr/>
          </p:nvSpPr>
          <p:spPr>
            <a:xfrm>
              <a:off x="3722760" y="196992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29200" y="1969920"/>
              <a:ext cx="260280" cy="2700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35640" y="196992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72276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920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3564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72276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2920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3564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2276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29200" y="520848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1632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1632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1632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529596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984480" y="2109960"/>
              <a:ext cx="10382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98952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529596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98952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5289120" y="426888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984480" y="4268880"/>
              <a:ext cx="10382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677680" y="535932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989520" y="535932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70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70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165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65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5920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20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5276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52760" y="439884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2456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1132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44640" y="236232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660760" y="2190600"/>
              <a:ext cx="1092240" cy="9334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5264280" y="4349880"/>
              <a:ext cx="1092240" cy="90792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06960" y="35053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D80B-C30C-4AF8-BB42-85420595704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2209680" y="289548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29000" y="1752480"/>
            <a:ext cx="342900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xt-state fun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86240" y="3905280"/>
            <a:ext cx="3371760" cy="647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70120" y="178452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619360" y="1738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0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416320" y="1969920"/>
            <a:ext cx="4594320" cy="3508560"/>
            <a:chOff x="2416320" y="1969920"/>
            <a:chExt cx="4594320" cy="3508560"/>
          </a:xfrm>
        </p:grpSpPr>
        <p:sp>
          <p:nvSpPr>
            <p:cNvPr id="798" name=""/>
            <p:cNvSpPr/>
            <p:nvPr/>
          </p:nvSpPr>
          <p:spPr>
            <a:xfrm>
              <a:off x="3722760" y="196992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29200" y="1969920"/>
              <a:ext cx="260280" cy="2700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35640" y="196992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2276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2920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3564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2276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2920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3564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2276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29200" y="520848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632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1632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632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29596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984480" y="2109960"/>
              <a:ext cx="10382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98952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529596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98952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289120" y="426888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984480" y="4268880"/>
              <a:ext cx="10382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677680" y="535932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989520" y="535932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70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70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65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65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85920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5920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5276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52760" y="439884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42456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1132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44640" y="236232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2660760" y="2190600"/>
              <a:ext cx="1092240" cy="9334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5264280" y="4349880"/>
              <a:ext cx="1092240" cy="90792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06960" y="35053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6886440" y="4024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1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86440" y="24242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0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47760" y="35053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1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448280" y="4191120"/>
            <a:ext cx="2742120" cy="663840"/>
            <a:chOff x="1448280" y="4191120"/>
            <a:chExt cx="2742120" cy="663840"/>
          </a:xfrm>
        </p:grpSpPr>
        <p:sp>
          <p:nvSpPr>
            <p:cNvPr id="839" name=""/>
            <p:cNvSpPr/>
            <p:nvPr/>
          </p:nvSpPr>
          <p:spPr>
            <a:xfrm>
              <a:off x="1448280" y="4191120"/>
              <a:ext cx="88956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1011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00840" y="4456080"/>
              <a:ext cx="88956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1011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C581-77A1-46EF-B038-6CC595487A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verview of the synthesis 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pec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tate graph and next-state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tate enco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lementability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peed-independent circu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x g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-element architec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E72E-3C5F-4249-9A9E-EBBA0045CFD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Karnaugh map for L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851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870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63060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932240" y="50594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/1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2B32-D9DB-4F48-8133-378F2CD73C9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currency re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106960" y="35053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48280" y="411480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300840" y="44560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429000" y="3733920"/>
            <a:ext cx="762120" cy="990360"/>
          </a:xfrm>
          <a:custGeom>
            <a:avLst/>
            <a:gdLst/>
            <a:ahLst/>
            <a:rect l="l" t="t" r="r" b="b"/>
            <a:pathLst>
              <a:path w="480" h="624">
                <a:moveTo>
                  <a:pt x="0" y="0"/>
                </a:moveTo>
                <a:cubicBezTo>
                  <a:pt x="200" y="260"/>
                  <a:pt x="400" y="520"/>
                  <a:pt x="480" y="6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581280" y="3733920"/>
            <a:ext cx="60984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224" y="260"/>
                  <a:pt x="64" y="520"/>
                  <a:pt x="0" y="6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159080" y="1784520"/>
            <a:ext cx="624240" cy="2466000"/>
            <a:chOff x="4159080" y="1784520"/>
            <a:chExt cx="624240" cy="2466000"/>
          </a:xfrm>
        </p:grpSpPr>
        <p:sp>
          <p:nvSpPr>
            <p:cNvPr id="965" name=""/>
            <p:cNvSpPr/>
            <p:nvPr/>
          </p:nvSpPr>
          <p:spPr>
            <a:xfrm>
              <a:off x="4192560" y="178452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159080" y="28638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159080" y="394344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267080" y="388620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cubicBezTo>
                  <a:pt x="80" y="120"/>
                  <a:pt x="160" y="240"/>
                  <a:pt x="192" y="2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67080" y="388620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92" y="0"/>
                </a:moveTo>
                <a:cubicBezTo>
                  <a:pt x="112" y="120"/>
                  <a:pt x="32" y="240"/>
                  <a:pt x="0" y="2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B07B-9B06-4A2E-81A8-4C5AFFF11E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currency re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6720" y="354348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779840" y="354348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11600" y="35434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06800" y="35434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12200" y="3543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079120" y="3543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11880" y="2666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564880" y="4457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50280" y="445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78160" y="2666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8576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00996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22928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1992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248000" y="464832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4019400" y="2838600"/>
            <a:ext cx="13716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81952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92436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77120" y="2895480"/>
            <a:ext cx="1790640" cy="6289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324480" y="392436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572000" y="27241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23880" y="44956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000680" y="2959200"/>
            <a:ext cx="1562040" cy="1695240"/>
            <a:chOff x="4000680" y="2959200"/>
            <a:chExt cx="1562040" cy="1695240"/>
          </a:xfrm>
        </p:grpSpPr>
        <p:sp>
          <p:nvSpPr>
            <p:cNvPr id="995" name=""/>
            <p:cNvSpPr/>
            <p:nvPr/>
          </p:nvSpPr>
          <p:spPr>
            <a:xfrm>
              <a:off x="4000680" y="2959200"/>
              <a:ext cx="1562040" cy="1695240"/>
            </a:xfrm>
            <a:custGeom>
              <a:avLst/>
              <a:gdLst/>
              <a:ahLst/>
              <a:rect l="l" t="t" r="r" b="b"/>
              <a:pathLst>
                <a:path w="984" h="1068">
                  <a:moveTo>
                    <a:pt x="984" y="1040"/>
                  </a:moveTo>
                  <a:cubicBezTo>
                    <a:pt x="898" y="1020"/>
                    <a:pt x="560" y="1068"/>
                    <a:pt x="456" y="920"/>
                  </a:cubicBezTo>
                  <a:cubicBezTo>
                    <a:pt x="352" y="772"/>
                    <a:pt x="436" y="304"/>
                    <a:pt x="360" y="152"/>
                  </a:cubicBezTo>
                  <a:cubicBezTo>
                    <a:pt x="284" y="0"/>
                    <a:pt x="75" y="38"/>
                    <a:pt x="0" y="8"/>
                  </a:cubicBezTo>
                </a:path>
              </a:pathLst>
            </a:custGeom>
            <a:noFill/>
            <a:ln w="38160">
              <a:solidFill>
                <a:srgbClr val="ff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5720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83C4-EE4E-42EE-8C29-3CB9E29C0FE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encoding confli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508400" y="40384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00840" y="44560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1F56-525D-4F91-AA95-1A3C65298B8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ignal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3564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1632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2677680" y="210996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29596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7064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5276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424560" y="466236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882800" y="24512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2889720" y="1784520"/>
            <a:ext cx="3112200" cy="3905640"/>
            <a:chOff x="2889720" y="1784520"/>
            <a:chExt cx="3112200" cy="3905640"/>
          </a:xfrm>
        </p:grpSpPr>
        <p:sp>
          <p:nvSpPr>
            <p:cNvPr id="1082" name=""/>
            <p:cNvSpPr/>
            <p:nvPr/>
          </p:nvSpPr>
          <p:spPr>
            <a:xfrm>
              <a:off x="5386680" y="5383080"/>
              <a:ext cx="615240" cy="3070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CSC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89720" y="1784520"/>
              <a:ext cx="659160" cy="3070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CSC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1371600" y="4038480"/>
            <a:ext cx="103140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267360" y="4479840"/>
            <a:ext cx="103104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6FBF-FE04-41B6-B0AC-2E249831296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mplex-gate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789200" y="1722600"/>
                <a:ext cx="5837040" cy="37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DS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ACK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DTAC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TACK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A7ED-9A8A-48CE-BA7B-70F9FAF90D0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bility cond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ising and falling transitions of each signal alternate in any trace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mplete state coding (CS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ext-state functions correctly defined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event can be disabled by another event (unless they are both input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A04D-4AD1-4509-A5D8-003B870A731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bility cond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istency + CSC + persistency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here exists a speed-independent circuit that implements the behavior of the STG</a:t>
            </a:r>
            <a:br>
              <a:rPr sz="3200"/>
            </a:br>
            <a:br>
              <a:rPr sz="32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under the assumption that ay Boolean function can be implemented with one complex gat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87960" y="2031840"/>
            <a:ext cx="566640" cy="1062360"/>
          </a:xfrm>
          <a:prstGeom prst="downArrow">
            <a:avLst>
              <a:gd name="adj1" fmla="val 50000"/>
              <a:gd name="adj2" fmla="val 46871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DEFD-D77F-48B5-8CC1-2B259DACECD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ersistenc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33960" y="1346040"/>
            <a:ext cx="4120560" cy="1037880"/>
            <a:chOff x="633960" y="1346040"/>
            <a:chExt cx="4120560" cy="1037880"/>
          </a:xfrm>
        </p:grpSpPr>
        <p:sp>
          <p:nvSpPr>
            <p:cNvPr id="1095" name=""/>
            <p:cNvSpPr/>
            <p:nvPr/>
          </p:nvSpPr>
          <p:spPr>
            <a:xfrm>
              <a:off x="63396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4352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85488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96800" y="1755720"/>
              <a:ext cx="819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27240" y="1757520"/>
              <a:ext cx="819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93600" y="196380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205160" y="196056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593360" y="1346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186000" y="1373040"/>
              <a:ext cx="52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39320" y="1924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49440" y="19144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5853240" y="1393920"/>
            <a:ext cx="2172960" cy="892080"/>
            <a:chOff x="5853240" y="1393920"/>
            <a:chExt cx="2172960" cy="892080"/>
          </a:xfrm>
        </p:grpSpPr>
        <p:grpSp>
          <p:nvGrpSpPr>
            <p:cNvPr id="1107" name=""/>
            <p:cNvGrpSpPr/>
            <p:nvPr/>
          </p:nvGrpSpPr>
          <p:grpSpPr>
            <a:xfrm>
              <a:off x="6161040" y="1465200"/>
              <a:ext cx="1550520" cy="820800"/>
              <a:chOff x="6161040" y="1465200"/>
              <a:chExt cx="1550520" cy="820800"/>
            </a:xfrm>
          </p:grpSpPr>
          <p:sp>
            <p:nvSpPr>
              <p:cNvPr id="1108" name=""/>
              <p:cNvSpPr/>
              <p:nvPr/>
            </p:nvSpPr>
            <p:spPr>
              <a:xfrm flipH="1">
                <a:off x="6465600" y="1465200"/>
                <a:ext cx="818640" cy="82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549" y="3139"/>
                      <a:pt x="17498" y="5080"/>
                      <a:pt x="17498" y="10800"/>
                    </a:cubicBezTo>
                    <a:cubicBezTo>
                      <a:pt x="17498" y="16520"/>
                      <a:pt x="19549" y="1846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295760" y="1881360"/>
                <a:ext cx="4158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167160" y="1663920"/>
                <a:ext cx="41544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161040" y="2087640"/>
                <a:ext cx="4158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>
              <a:off x="5853240" y="139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865480" y="1819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693200" y="161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448000" y="2685960"/>
            <a:ext cx="4687920" cy="554040"/>
          </a:xfrm>
          <a:custGeom>
            <a:avLst/>
            <a:gdLst/>
            <a:ahLst/>
            <a:rect l="l" t="t" r="r" b="b"/>
            <a:pathLst>
              <a:path w="2953" h="349">
                <a:moveTo>
                  <a:pt x="0" y="37"/>
                </a:moveTo>
                <a:cubicBezTo>
                  <a:pt x="41" y="39"/>
                  <a:pt x="181" y="0"/>
                  <a:pt x="248" y="45"/>
                </a:cubicBezTo>
                <a:cubicBezTo>
                  <a:pt x="315" y="90"/>
                  <a:pt x="302" y="265"/>
                  <a:pt x="400" y="307"/>
                </a:cubicBezTo>
                <a:cubicBezTo>
                  <a:pt x="498" y="349"/>
                  <a:pt x="667" y="301"/>
                  <a:pt x="837" y="299"/>
                </a:cubicBezTo>
                <a:cubicBezTo>
                  <a:pt x="1007" y="297"/>
                  <a:pt x="1201" y="293"/>
                  <a:pt x="1418" y="292"/>
                </a:cubicBezTo>
                <a:cubicBezTo>
                  <a:pt x="1635" y="291"/>
                  <a:pt x="1882" y="292"/>
                  <a:pt x="2138" y="292"/>
                </a:cubicBezTo>
                <a:cubicBezTo>
                  <a:pt x="2394" y="292"/>
                  <a:pt x="2673" y="292"/>
                  <a:pt x="2953" y="292"/>
                </a:cubicBez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401920" y="3608280"/>
            <a:ext cx="4755960" cy="498600"/>
          </a:xfrm>
          <a:custGeom>
            <a:avLst/>
            <a:gdLst/>
            <a:ahLst/>
            <a:rect l="l" t="t" r="r" b="b"/>
            <a:pathLst>
              <a:path w="2996" h="314">
                <a:moveTo>
                  <a:pt x="0" y="293"/>
                </a:moveTo>
                <a:cubicBezTo>
                  <a:pt x="310" y="303"/>
                  <a:pt x="621" y="314"/>
                  <a:pt x="793" y="293"/>
                </a:cubicBezTo>
                <a:cubicBezTo>
                  <a:pt x="965" y="272"/>
                  <a:pt x="970" y="214"/>
                  <a:pt x="1033" y="169"/>
                </a:cubicBezTo>
                <a:cubicBezTo>
                  <a:pt x="1096" y="124"/>
                  <a:pt x="1049" y="48"/>
                  <a:pt x="1171" y="24"/>
                </a:cubicBezTo>
                <a:cubicBezTo>
                  <a:pt x="1293" y="0"/>
                  <a:pt x="1610" y="20"/>
                  <a:pt x="1767" y="24"/>
                </a:cubicBezTo>
                <a:cubicBezTo>
                  <a:pt x="1924" y="28"/>
                  <a:pt x="1911" y="45"/>
                  <a:pt x="2116" y="46"/>
                </a:cubicBezTo>
                <a:cubicBezTo>
                  <a:pt x="2321" y="47"/>
                  <a:pt x="2658" y="39"/>
                  <a:pt x="2996" y="31"/>
                </a:cubicBez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460600" y="4584600"/>
            <a:ext cx="4743360" cy="426960"/>
          </a:xfrm>
          <a:custGeom>
            <a:avLst/>
            <a:gdLst/>
            <a:ahLst/>
            <a:rect l="l" t="t" r="r" b="b"/>
            <a:pathLst>
              <a:path w="2988" h="269">
                <a:moveTo>
                  <a:pt x="0" y="267"/>
                </a:moveTo>
                <a:cubicBezTo>
                  <a:pt x="26" y="268"/>
                  <a:pt x="53" y="269"/>
                  <a:pt x="116" y="245"/>
                </a:cubicBezTo>
                <a:cubicBezTo>
                  <a:pt x="179" y="221"/>
                  <a:pt x="304" y="144"/>
                  <a:pt x="378" y="122"/>
                </a:cubicBezTo>
                <a:cubicBezTo>
                  <a:pt x="452" y="100"/>
                  <a:pt x="501" y="103"/>
                  <a:pt x="559" y="114"/>
                </a:cubicBezTo>
                <a:cubicBezTo>
                  <a:pt x="617" y="125"/>
                  <a:pt x="680" y="169"/>
                  <a:pt x="727" y="187"/>
                </a:cubicBezTo>
                <a:cubicBezTo>
                  <a:pt x="774" y="205"/>
                  <a:pt x="806" y="218"/>
                  <a:pt x="843" y="223"/>
                </a:cubicBezTo>
                <a:cubicBezTo>
                  <a:pt x="880" y="228"/>
                  <a:pt x="895" y="228"/>
                  <a:pt x="952" y="216"/>
                </a:cubicBezTo>
                <a:cubicBezTo>
                  <a:pt x="1009" y="204"/>
                  <a:pt x="1124" y="173"/>
                  <a:pt x="1185" y="151"/>
                </a:cubicBezTo>
                <a:cubicBezTo>
                  <a:pt x="1246" y="129"/>
                  <a:pt x="1277" y="104"/>
                  <a:pt x="1316" y="85"/>
                </a:cubicBezTo>
                <a:cubicBezTo>
                  <a:pt x="1355" y="66"/>
                  <a:pt x="1361" y="47"/>
                  <a:pt x="1418" y="34"/>
                </a:cubicBezTo>
                <a:cubicBezTo>
                  <a:pt x="1475" y="21"/>
                  <a:pt x="1526" y="10"/>
                  <a:pt x="1658" y="5"/>
                </a:cubicBezTo>
                <a:cubicBezTo>
                  <a:pt x="1790" y="0"/>
                  <a:pt x="1988" y="5"/>
                  <a:pt x="2210" y="5"/>
                </a:cubicBezTo>
                <a:cubicBezTo>
                  <a:pt x="2432" y="5"/>
                  <a:pt x="2710" y="5"/>
                  <a:pt x="2988" y="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989360" y="271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003040" y="36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028960" y="457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224600" y="502920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s this a pulse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268800" y="4998960"/>
            <a:ext cx="900000" cy="366840"/>
          </a:xfrm>
          <a:custGeom>
            <a:avLst/>
            <a:gdLst/>
            <a:ahLst/>
            <a:rect l="l" t="t" r="r" b="b"/>
            <a:pathLst>
              <a:path w="567" h="231">
                <a:moveTo>
                  <a:pt x="567" y="204"/>
                </a:moveTo>
                <a:cubicBezTo>
                  <a:pt x="458" y="217"/>
                  <a:pt x="349" y="231"/>
                  <a:pt x="254" y="197"/>
                </a:cubicBezTo>
                <a:cubicBezTo>
                  <a:pt x="159" y="163"/>
                  <a:pt x="79" y="81"/>
                  <a:pt x="0" y="0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4680" y="5691240"/>
            <a:ext cx="83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peed independence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glitch-free output behavior under any 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DEBC-272B-4E6D-9F51-13EE7AFEB5E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"/>
          <p:cNvGrpSpPr/>
          <p:nvPr/>
        </p:nvGrpSpPr>
        <p:grpSpPr>
          <a:xfrm>
            <a:off x="1460520" y="547560"/>
            <a:ext cx="1922760" cy="5841360"/>
            <a:chOff x="1460520" y="547560"/>
            <a:chExt cx="1922760" cy="5841360"/>
          </a:xfrm>
        </p:grpSpPr>
        <p:sp>
          <p:nvSpPr>
            <p:cNvPr id="1125" name=""/>
            <p:cNvSpPr/>
            <p:nvPr/>
          </p:nvSpPr>
          <p:spPr>
            <a:xfrm>
              <a:off x="2436120" y="5475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26760" y="12193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b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36120" y="25653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26760" y="3238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99ff"/>
                  </a:solidFill>
                  <a:latin typeface="Times New Roman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71400" y="189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62040" y="4583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62040" y="5929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99ff"/>
                  </a:solidFill>
                  <a:latin typeface="Times New Roman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36120" y="39099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1976040" y="5256360"/>
              <a:ext cx="1407240" cy="459720"/>
              <a:chOff x="1976040" y="5256360"/>
              <a:chExt cx="1407240" cy="459720"/>
            </a:xfrm>
          </p:grpSpPr>
          <p:sp>
            <p:nvSpPr>
              <p:cNvPr id="1134" name=""/>
              <p:cNvSpPr/>
              <p:nvPr/>
            </p:nvSpPr>
            <p:spPr>
              <a:xfrm>
                <a:off x="2964960" y="5256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976040" y="5256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2640240" y="9349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637000" y="16207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33760" y="23065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30520" y="297036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27280" y="365616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624400" y="433080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2223720" y="4987800"/>
              <a:ext cx="335160" cy="416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2742840" y="5629320"/>
              <a:ext cx="33516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710080" y="4984920"/>
              <a:ext cx="33480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214720" y="5651640"/>
              <a:ext cx="33480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543320" y="843120"/>
              <a:ext cx="934920" cy="5368680"/>
            </a:xfrm>
            <a:custGeom>
              <a:avLst/>
              <a:gdLst/>
              <a:ahLst/>
              <a:rect l="l" t="t" r="r" b="b"/>
              <a:pathLst>
                <a:path w="589" h="3382">
                  <a:moveTo>
                    <a:pt x="589" y="3382"/>
                  </a:moveTo>
                  <a:lnTo>
                    <a:pt x="0" y="3382"/>
                  </a:lnTo>
                  <a:lnTo>
                    <a:pt x="0" y="0"/>
                  </a:lnTo>
                  <a:lnTo>
                    <a:pt x="58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60520" y="3487680"/>
              <a:ext cx="174600" cy="174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54760" y="642960"/>
            <a:ext cx="2446200" cy="5752440"/>
            <a:chOff x="5054760" y="642960"/>
            <a:chExt cx="2446200" cy="5752440"/>
          </a:xfrm>
        </p:grpSpPr>
        <p:sp>
          <p:nvSpPr>
            <p:cNvPr id="1149" name=""/>
            <p:cNvSpPr/>
            <p:nvPr/>
          </p:nvSpPr>
          <p:spPr>
            <a:xfrm>
              <a:off x="5613480" y="6429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615280" y="1230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615280" y="1817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615280" y="24066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615280" y="2994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1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15280" y="3583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15280" y="4170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615280" y="4759200"/>
              <a:ext cx="78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054760" y="5346720"/>
              <a:ext cx="1909440" cy="459720"/>
              <a:chOff x="5054760" y="5346720"/>
              <a:chExt cx="1909440" cy="4597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054760" y="53467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174000" y="53467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>
              <a:off x="5615280" y="5935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00840" y="100476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7600" y="15908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4360" y="217656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1120" y="276228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87880" y="334800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85000" y="393372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81760" y="451944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5562720" y="5138640"/>
              <a:ext cx="33480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106680" y="5742000"/>
              <a:ext cx="33516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08840" y="5153040"/>
              <a:ext cx="33480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53000" y="5743440"/>
              <a:ext cx="335160" cy="287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70560" y="888840"/>
              <a:ext cx="1130400" cy="5288040"/>
            </a:xfrm>
            <a:custGeom>
              <a:avLst/>
              <a:gdLst/>
              <a:ahLst/>
              <a:rect l="l" t="t" r="r" b="b"/>
              <a:pathLst>
                <a:path w="712" h="3331">
                  <a:moveTo>
                    <a:pt x="7" y="3331"/>
                  </a:moveTo>
                  <a:lnTo>
                    <a:pt x="712" y="3331"/>
                  </a:lnTo>
                  <a:lnTo>
                    <a:pt x="71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015960" y="9586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08400" y="15843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b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15960" y="27306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45120" y="2154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037200" y="4522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b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234120" y="502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014520" y="39052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70360" y="5626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41760" y="501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5800" y="562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097760" y="3311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99ff"/>
                  </a:solidFill>
                  <a:latin typeface="Times New Roman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08400" y="33177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99ff"/>
                  </a:solidFill>
                  <a:latin typeface="Times New Roman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0923-115B-4FA8-A383-F3C8BA26F1A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B2BB-71EC-4489-BDE4-ADDAE0FEDE1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186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190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198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1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6" name=""/>
          <p:cNvGrpSpPr/>
          <p:nvPr/>
        </p:nvGrpSpPr>
        <p:grpSpPr>
          <a:xfrm>
            <a:off x="485280" y="620640"/>
            <a:ext cx="3794760" cy="3664080"/>
            <a:chOff x="485280" y="620640"/>
            <a:chExt cx="3794760" cy="3664080"/>
          </a:xfrm>
        </p:grpSpPr>
        <p:sp>
          <p:nvSpPr>
            <p:cNvPr id="1227" name=""/>
            <p:cNvSpPr/>
            <p:nvPr/>
          </p:nvSpPr>
          <p:spPr>
            <a:xfrm>
              <a:off x="1920960" y="3522600"/>
              <a:ext cx="761760" cy="7574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154160" y="1998720"/>
              <a:ext cx="762120" cy="757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55600" y="1236600"/>
              <a:ext cx="312444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1772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67984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44160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155600" y="199872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155600" y="276084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55600" y="352260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 flipV="1">
              <a:off x="698400" y="77940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85520" y="620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99ff"/>
                  </a:solidFill>
                  <a:latin typeface="Arial"/>
                </a:rPr>
                <a:t>ab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85280" y="8589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99ff"/>
                  </a:solidFill>
                  <a:latin typeface="Arial"/>
                </a:rPr>
                <a:t>cd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25316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9124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5336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9144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00560" y="1479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00560" y="2165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0560" y="3003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0560" y="3765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118960" y="3616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118960" y="282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871360" y="282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79200" y="282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363320" y="282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679200" y="207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363320" y="2076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36476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7920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87280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1896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45320" y="277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R(d+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800240" y="596124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R(d-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578560" y="3119400"/>
            <a:ext cx="304560" cy="101520"/>
          </a:xfrm>
          <a:prstGeom prst="line">
            <a:avLst/>
          </a:prstGeom>
          <a:ln w="1908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619600" y="618804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C53F-F262-4986-94F7-78F54A93E4F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9840" y="2874960"/>
            <a:ext cx="136044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84600" y="2103480"/>
            <a:ext cx="136044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512720" y="4703760"/>
                <a:ext cx="2470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98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299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300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303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9" name=""/>
          <p:cNvSpPr/>
          <p:nvPr/>
        </p:nvSpPr>
        <p:spPr>
          <a:xfrm>
            <a:off x="1786680" y="57675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lex g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BA50-E5B4-4FBF-84D2-B7627693E54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tion with C ele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2590560" y="1149480"/>
            <a:ext cx="3953160" cy="1128600"/>
            <a:chOff x="2590560" y="1149480"/>
            <a:chExt cx="3953160" cy="1128600"/>
          </a:xfrm>
        </p:grpSpPr>
        <p:sp>
          <p:nvSpPr>
            <p:cNvPr id="1342" name=""/>
            <p:cNvSpPr/>
            <p:nvPr/>
          </p:nvSpPr>
          <p:spPr>
            <a:xfrm flipH="1" rot="16200000">
              <a:off x="3186720" y="1622880"/>
              <a:ext cx="538200" cy="771840"/>
            </a:xfrm>
            <a:prstGeom prst="flowChartOffpageConnector">
              <a:avLst/>
            </a:prstGeom>
            <a:solidFill>
              <a:srgbClr val="6699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75040" y="1241640"/>
              <a:ext cx="925560" cy="925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991040" y="13827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664160" y="1892520"/>
              <a:ext cx="191880" cy="191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3819600" y="1425600"/>
              <a:ext cx="10476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3819600" y="1994040"/>
              <a:ext cx="84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5699160" y="1710000"/>
              <a:ext cx="84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197880" y="1754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rot="16200000">
              <a:off x="3186720" y="1032480"/>
              <a:ext cx="538200" cy="771840"/>
            </a:xfrm>
            <a:prstGeom prst="flowChartOffpageConnector">
              <a:avLst/>
            </a:prstGeom>
            <a:solidFill>
              <a:srgbClr val="6699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198600" y="1163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147000" y="1217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2590560" y="1425600"/>
              <a:ext cx="476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2590560" y="2005200"/>
              <a:ext cx="476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1217880" y="270036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• • •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z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R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z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R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• • •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1920" y="3781440"/>
            <a:ext cx="8148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set) and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reset) must be mutually exclus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must cover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+)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must not intersect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-)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 QR(z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must cover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-)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must not intersect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+)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 QR(z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701C-733F-4BB8-A864-28FA0CC1F3F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270080" y="1351080"/>
            <a:ext cx="1290600" cy="1311120"/>
          </a:xfrm>
          <a:custGeom>
            <a:avLst/>
            <a:gdLst>
              <a:gd name="textAreaLeft" fmla="*/ 63000 w 1290600"/>
              <a:gd name="textAreaRight" fmla="*/ 1227600 w 1290600"/>
              <a:gd name="textAreaTop" fmla="*/ 63000 h 1311120"/>
              <a:gd name="textAreaBottom" fmla="*/ 1248120 h 1311120"/>
            </a:gdLst>
            <a:ahLst/>
            <a:rect l="textAreaLeft" t="textAreaTop" r="textAreaRight" b="textAreaBottom"/>
            <a:pathLst>
              <a:path w="21600" h="21943">
                <a:moveTo>
                  <a:pt x="3600" y="0"/>
                </a:moveTo>
                <a:arcTo wR="3600" hR="3600" stAng="16200000" swAng="-5400000"/>
                <a:lnTo>
                  <a:pt x="0" y="18343"/>
                </a:lnTo>
                <a:arcTo wR="3600" hR="3600" stAng="10800000" swAng="-5400000"/>
                <a:lnTo>
                  <a:pt x="18000" y="21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60360" y="2874960"/>
            <a:ext cx="2905200" cy="13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394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395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398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406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9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4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34A1-0C0A-4073-A450-451DF767922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449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450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453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461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9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500" name=""/>
          <p:cNvGrpSpPr/>
          <p:nvPr/>
        </p:nvGrpSpPr>
        <p:grpSpPr>
          <a:xfrm>
            <a:off x="64440" y="623880"/>
            <a:ext cx="5622840" cy="459720"/>
            <a:chOff x="64440" y="623880"/>
            <a:chExt cx="5622840" cy="459720"/>
          </a:xfrm>
        </p:grpSpPr>
        <p:sp>
          <p:nvSpPr>
            <p:cNvPr id="1501" name=""/>
            <p:cNvSpPr/>
            <p:nvPr/>
          </p:nvSpPr>
          <p:spPr>
            <a:xfrm>
              <a:off x="64440" y="623880"/>
              <a:ext cx="562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ssume that  </a:t>
              </a: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R=ac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  has an unbounded dela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249280" y="773280"/>
              <a:ext cx="1112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395440" y="773280"/>
              <a:ext cx="1112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79560" y="105732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tarting from state 0000 (R=1 and S=0)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5600" y="2016000"/>
            <a:ext cx="39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+ ; R- ; b+ ; a- ; c+ ; S+ ; d+ 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672120" y="2509920"/>
            <a:ext cx="3772800" cy="859680"/>
            <a:chOff x="672120" y="2509920"/>
            <a:chExt cx="3772800" cy="859680"/>
          </a:xfrm>
        </p:grpSpPr>
        <p:sp>
          <p:nvSpPr>
            <p:cNvPr id="1507" name=""/>
            <p:cNvSpPr/>
            <p:nvPr/>
          </p:nvSpPr>
          <p:spPr>
            <a:xfrm flipV="1">
              <a:off x="2554560" y="2509920"/>
              <a:ext cx="0" cy="426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2120" y="290988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R+ disabled (potential glitch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1F76-823F-47FC-A0AF-81BBAC652F2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5842080" y="546120"/>
            <a:ext cx="2444760" cy="5945040"/>
          </a:xfrm>
          <a:custGeom>
            <a:avLst/>
            <a:gdLst/>
            <a:ahLst/>
            <a:rect l="l" t="t" r="r" b="b"/>
            <a:pathLst>
              <a:path w="1540" h="3745">
                <a:moveTo>
                  <a:pt x="83" y="3451"/>
                </a:moveTo>
                <a:cubicBezTo>
                  <a:pt x="132" y="3426"/>
                  <a:pt x="223" y="3374"/>
                  <a:pt x="326" y="3362"/>
                </a:cubicBezTo>
                <a:cubicBezTo>
                  <a:pt x="429" y="3350"/>
                  <a:pt x="596" y="3379"/>
                  <a:pt x="704" y="3381"/>
                </a:cubicBezTo>
                <a:cubicBezTo>
                  <a:pt x="812" y="3383"/>
                  <a:pt x="916" y="3422"/>
                  <a:pt x="973" y="3374"/>
                </a:cubicBezTo>
                <a:cubicBezTo>
                  <a:pt x="1030" y="3326"/>
                  <a:pt x="1032" y="3372"/>
                  <a:pt x="1043" y="3093"/>
                </a:cubicBezTo>
                <a:cubicBezTo>
                  <a:pt x="1054" y="2814"/>
                  <a:pt x="1042" y="1953"/>
                  <a:pt x="1037" y="1698"/>
                </a:cubicBezTo>
                <a:cubicBezTo>
                  <a:pt x="1032" y="1443"/>
                  <a:pt x="1016" y="1598"/>
                  <a:pt x="1010" y="1562"/>
                </a:cubicBezTo>
                <a:cubicBezTo>
                  <a:pt x="1004" y="1526"/>
                  <a:pt x="1009" y="1510"/>
                  <a:pt x="1003" y="1482"/>
                </a:cubicBezTo>
                <a:cubicBezTo>
                  <a:pt x="997" y="1454"/>
                  <a:pt x="980" y="1423"/>
                  <a:pt x="974" y="1394"/>
                </a:cubicBezTo>
                <a:cubicBezTo>
                  <a:pt x="968" y="1365"/>
                  <a:pt x="967" y="1335"/>
                  <a:pt x="967" y="1307"/>
                </a:cubicBezTo>
                <a:cubicBezTo>
                  <a:pt x="967" y="1279"/>
                  <a:pt x="974" y="1252"/>
                  <a:pt x="974" y="1227"/>
                </a:cubicBezTo>
                <a:cubicBezTo>
                  <a:pt x="974" y="1202"/>
                  <a:pt x="969" y="1185"/>
                  <a:pt x="967" y="1154"/>
                </a:cubicBezTo>
                <a:cubicBezTo>
                  <a:pt x="965" y="1123"/>
                  <a:pt x="964" y="1094"/>
                  <a:pt x="960" y="1038"/>
                </a:cubicBezTo>
                <a:cubicBezTo>
                  <a:pt x="956" y="982"/>
                  <a:pt x="949" y="888"/>
                  <a:pt x="945" y="820"/>
                </a:cubicBezTo>
                <a:cubicBezTo>
                  <a:pt x="941" y="752"/>
                  <a:pt x="950" y="696"/>
                  <a:pt x="938" y="631"/>
                </a:cubicBezTo>
                <a:cubicBezTo>
                  <a:pt x="926" y="566"/>
                  <a:pt x="972" y="469"/>
                  <a:pt x="872" y="427"/>
                </a:cubicBezTo>
                <a:cubicBezTo>
                  <a:pt x="772" y="385"/>
                  <a:pt x="459" y="388"/>
                  <a:pt x="339" y="379"/>
                </a:cubicBezTo>
                <a:cubicBezTo>
                  <a:pt x="219" y="370"/>
                  <a:pt x="203" y="392"/>
                  <a:pt x="154" y="373"/>
                </a:cubicBezTo>
                <a:cubicBezTo>
                  <a:pt x="105" y="354"/>
                  <a:pt x="61" y="302"/>
                  <a:pt x="45" y="264"/>
                </a:cubicBezTo>
                <a:cubicBezTo>
                  <a:pt x="29" y="226"/>
                  <a:pt x="30" y="176"/>
                  <a:pt x="58" y="142"/>
                </a:cubicBezTo>
                <a:cubicBezTo>
                  <a:pt x="86" y="108"/>
                  <a:pt x="61" y="74"/>
                  <a:pt x="211" y="59"/>
                </a:cubicBezTo>
                <a:cubicBezTo>
                  <a:pt x="361" y="44"/>
                  <a:pt x="770" y="50"/>
                  <a:pt x="960" y="53"/>
                </a:cubicBezTo>
                <a:cubicBezTo>
                  <a:pt x="1150" y="56"/>
                  <a:pt x="1262" y="31"/>
                  <a:pt x="1350" y="78"/>
                </a:cubicBezTo>
                <a:cubicBezTo>
                  <a:pt x="1438" y="125"/>
                  <a:pt x="1458" y="0"/>
                  <a:pt x="1485" y="334"/>
                </a:cubicBezTo>
                <a:cubicBezTo>
                  <a:pt x="1512" y="668"/>
                  <a:pt x="1506" y="1598"/>
                  <a:pt x="1510" y="2082"/>
                </a:cubicBezTo>
                <a:cubicBezTo>
                  <a:pt x="1514" y="2566"/>
                  <a:pt x="1517" y="2984"/>
                  <a:pt x="1510" y="3240"/>
                </a:cubicBezTo>
                <a:cubicBezTo>
                  <a:pt x="1503" y="3496"/>
                  <a:pt x="1540" y="3538"/>
                  <a:pt x="1466" y="3618"/>
                </a:cubicBezTo>
                <a:cubicBezTo>
                  <a:pt x="1392" y="3698"/>
                  <a:pt x="1250" y="3701"/>
                  <a:pt x="1069" y="3720"/>
                </a:cubicBezTo>
                <a:cubicBezTo>
                  <a:pt x="888" y="3739"/>
                  <a:pt x="546" y="3745"/>
                  <a:pt x="378" y="3733"/>
                </a:cubicBezTo>
                <a:cubicBezTo>
                  <a:pt x="210" y="3721"/>
                  <a:pt x="116" y="3686"/>
                  <a:pt x="58" y="3650"/>
                </a:cubicBezTo>
                <a:cubicBezTo>
                  <a:pt x="0" y="3614"/>
                  <a:pt x="32" y="3549"/>
                  <a:pt x="32" y="3515"/>
                </a:cubicBezTo>
                <a:cubicBezTo>
                  <a:pt x="32" y="3481"/>
                  <a:pt x="34" y="3476"/>
                  <a:pt x="83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270080" y="1351080"/>
            <a:ext cx="552240" cy="1311120"/>
          </a:xfrm>
          <a:custGeom>
            <a:avLst/>
            <a:gdLst>
              <a:gd name="textAreaLeft" fmla="*/ 26640 w 552240"/>
              <a:gd name="textAreaRight" fmla="*/ 525600 w 552240"/>
              <a:gd name="textAreaTop" fmla="*/ 26640 h 1311120"/>
              <a:gd name="textAreaBottom" fmla="*/ 1284480 h 1311120"/>
            </a:gdLst>
            <a:ahLst/>
            <a:rect l="textAreaLeft" t="textAreaTop" r="textAreaRight" b="textAreaBottom"/>
            <a:pathLst>
              <a:path w="21600" h="51263">
                <a:moveTo>
                  <a:pt x="3600" y="0"/>
                </a:moveTo>
                <a:arcTo wR="3600" hR="3600" stAng="16200000" swAng="-5400000"/>
                <a:lnTo>
                  <a:pt x="0" y="47663"/>
                </a:lnTo>
                <a:arcTo wR="3600" hR="3600" stAng="10800000" swAng="-5400000"/>
                <a:lnTo>
                  <a:pt x="18000" y="51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260360" y="2874960"/>
            <a:ext cx="2905200" cy="13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546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547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550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558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1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6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2025720" y="5446800"/>
                <a:ext cx="914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97" name=""/>
          <p:cNvSpPr/>
          <p:nvPr/>
        </p:nvSpPr>
        <p:spPr>
          <a:xfrm>
            <a:off x="1123920" y="62946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onotonic co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ED78A-5643-40E8-BE1B-D706BBDBC1D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-based implement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1727280" y="212256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1727280" y="159876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400480" y="1477800"/>
            <a:ext cx="75060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573640" y="1604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381400" y="2066760"/>
            <a:ext cx="122040" cy="1224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003040" y="125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87560" y="1782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160800" y="184320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353040" y="142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1362240" y="1316160"/>
                <a:ext cx="382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836640" y="1752480"/>
                <a:ext cx="9144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610" name=""/>
          <p:cNvSpPr/>
          <p:nvPr/>
        </p:nvSpPr>
        <p:spPr>
          <a:xfrm flipH="1">
            <a:off x="6337440" y="213048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4929120" y="1606680"/>
            <a:ext cx="21909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010280" y="1486080"/>
            <a:ext cx="750960" cy="750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183800" y="161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202440" y="2063880"/>
            <a:ext cx="12204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770960" y="1851120"/>
            <a:ext cx="468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963200" y="143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5505480" y="1773360"/>
            <a:ext cx="690480" cy="69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88" y="3117"/>
                  <a:pt x="17375" y="5080"/>
                  <a:pt x="17375" y="10800"/>
                </a:cubicBezTo>
                <a:cubicBezTo>
                  <a:pt x="17375" y="16520"/>
                  <a:pt x="19488" y="1848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rot="5400000">
            <a:off x="6467400" y="1957320"/>
            <a:ext cx="392400" cy="3477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43600" y="207180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5181120" y="1884240"/>
            <a:ext cx="3970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5186520" y="2351160"/>
            <a:ext cx="396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5186160" y="2117880"/>
            <a:ext cx="447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903560" y="2087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899240" y="18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674960" y="1335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5197320" y="1603440"/>
            <a:ext cx="0" cy="2793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85880" y="3209760"/>
            <a:ext cx="304920" cy="266724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192" y="0"/>
                </a:moveTo>
                <a:lnTo>
                  <a:pt x="192" y="96"/>
                </a:lnTo>
                <a:lnTo>
                  <a:pt x="0" y="96"/>
                </a:lnTo>
                <a:lnTo>
                  <a:pt x="0" y="336"/>
                </a:lnTo>
                <a:lnTo>
                  <a:pt x="192" y="336"/>
                </a:lnTo>
                <a:lnTo>
                  <a:pt x="192" y="576"/>
                </a:lnTo>
                <a:lnTo>
                  <a:pt x="0" y="576"/>
                </a:lnTo>
                <a:lnTo>
                  <a:pt x="0" y="811"/>
                </a:lnTo>
                <a:lnTo>
                  <a:pt x="192" y="806"/>
                </a:lnTo>
                <a:lnTo>
                  <a:pt x="192" y="912"/>
                </a:lnTo>
                <a:lnTo>
                  <a:pt x="0" y="912"/>
                </a:lnTo>
                <a:lnTo>
                  <a:pt x="0" y="1152"/>
                </a:lnTo>
                <a:lnTo>
                  <a:pt x="192" y="1152"/>
                </a:lnTo>
                <a:lnTo>
                  <a:pt x="192" y="1248"/>
                </a:lnTo>
                <a:lnTo>
                  <a:pt x="0" y="1248"/>
                </a:lnTo>
                <a:lnTo>
                  <a:pt x="0" y="1488"/>
                </a:lnTo>
                <a:lnTo>
                  <a:pt x="192" y="1488"/>
                </a:lnTo>
                <a:lnTo>
                  <a:pt x="192" y="168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509920" y="33624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09920" y="412416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09920" y="465768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09920" y="51912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433600" y="3514680"/>
            <a:ext cx="76320" cy="763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890800" y="3895560"/>
            <a:ext cx="10666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814480" y="5877000"/>
            <a:ext cx="1526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2814480" y="2981160"/>
            <a:ext cx="152280" cy="152280"/>
            <a:chOff x="2814480" y="2981160"/>
            <a:chExt cx="152280" cy="152280"/>
          </a:xfrm>
        </p:grpSpPr>
        <p:sp>
          <p:nvSpPr>
            <p:cNvPr id="1636" name=""/>
            <p:cNvSpPr/>
            <p:nvPr/>
          </p:nvSpPr>
          <p:spPr>
            <a:xfrm>
              <a:off x="2814480" y="305748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890440" y="298116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 flipH="1">
            <a:off x="2204640" y="431316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2204640" y="48466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2204640" y="538020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2128320" y="35542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 rot="10885800">
            <a:off x="3299760" y="3438360"/>
            <a:ext cx="152280" cy="1526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343320" y="3608280"/>
            <a:ext cx="74520" cy="7488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1427040" y="3379680"/>
            <a:ext cx="723960" cy="328680"/>
            <a:chOff x="1427040" y="3379680"/>
            <a:chExt cx="723960" cy="328680"/>
          </a:xfrm>
        </p:grpSpPr>
        <p:sp>
          <p:nvSpPr>
            <p:cNvPr id="1645" name=""/>
            <p:cNvSpPr/>
            <p:nvPr/>
          </p:nvSpPr>
          <p:spPr>
            <a:xfrm rot="5400000">
              <a:off x="1564200" y="339948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892160" y="350028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990800" y="35528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427040" y="35528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1571760" y="4675320"/>
            <a:ext cx="723240" cy="328320"/>
            <a:chOff x="1571760" y="4675320"/>
            <a:chExt cx="723240" cy="328320"/>
          </a:xfrm>
        </p:grpSpPr>
        <p:sp>
          <p:nvSpPr>
            <p:cNvPr id="1650" name=""/>
            <p:cNvSpPr/>
            <p:nvPr/>
          </p:nvSpPr>
          <p:spPr>
            <a:xfrm rot="5400000">
              <a:off x="1708200" y="4695120"/>
              <a:ext cx="328320" cy="28836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36520" y="4795560"/>
              <a:ext cx="91800" cy="9180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135160" y="4848120"/>
              <a:ext cx="1598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571760" y="484812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577880" y="5207040"/>
            <a:ext cx="723960" cy="328680"/>
            <a:chOff x="1577880" y="5207040"/>
            <a:chExt cx="723960" cy="328680"/>
          </a:xfrm>
        </p:grpSpPr>
        <p:sp>
          <p:nvSpPr>
            <p:cNvPr id="1655" name=""/>
            <p:cNvSpPr/>
            <p:nvPr/>
          </p:nvSpPr>
          <p:spPr>
            <a:xfrm rot="5400000">
              <a:off x="1715040" y="522684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43000" y="532764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41640" y="538020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77880" y="538020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 flipV="1">
            <a:off x="2209680" y="3557160"/>
            <a:ext cx="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288800" y="459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281240" y="513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155240" y="3297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92760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811240" y="33480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578640" y="3521160"/>
            <a:ext cx="304920" cy="1977840"/>
          </a:xfrm>
          <a:custGeom>
            <a:avLst/>
            <a:gdLst/>
            <a:ahLst/>
            <a:rect l="l" t="t" r="r" b="b"/>
            <a:pathLst>
              <a:path w="192" h="1246">
                <a:moveTo>
                  <a:pt x="192" y="0"/>
                </a:moveTo>
                <a:lnTo>
                  <a:pt x="192" y="96"/>
                </a:lnTo>
                <a:lnTo>
                  <a:pt x="0" y="96"/>
                </a:lnTo>
                <a:lnTo>
                  <a:pt x="0" y="336"/>
                </a:lnTo>
                <a:lnTo>
                  <a:pt x="192" y="336"/>
                </a:lnTo>
                <a:lnTo>
                  <a:pt x="192" y="576"/>
                </a:lnTo>
                <a:lnTo>
                  <a:pt x="0" y="576"/>
                </a:lnTo>
                <a:lnTo>
                  <a:pt x="0" y="811"/>
                </a:lnTo>
                <a:lnTo>
                  <a:pt x="192" y="806"/>
                </a:lnTo>
                <a:lnTo>
                  <a:pt x="192" y="912"/>
                </a:lnTo>
                <a:lnTo>
                  <a:pt x="0" y="912"/>
                </a:lnTo>
                <a:lnTo>
                  <a:pt x="0" y="1152"/>
                </a:lnTo>
                <a:lnTo>
                  <a:pt x="192" y="1152"/>
                </a:lnTo>
                <a:lnTo>
                  <a:pt x="192" y="1241"/>
                </a:lnTo>
                <a:lnTo>
                  <a:pt x="191" y="1242"/>
                </a:lnTo>
                <a:lnTo>
                  <a:pt x="192" y="1246"/>
                </a:lnTo>
                <a:lnTo>
                  <a:pt x="192" y="1227"/>
                </a:lnTo>
                <a:lnTo>
                  <a:pt x="191" y="1244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502320" y="367344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502320" y="443556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502320" y="496872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26360" y="3825720"/>
            <a:ext cx="75960" cy="763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883560" y="4206960"/>
            <a:ext cx="10666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807240" y="54990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6807240" y="3292560"/>
            <a:ext cx="152280" cy="152280"/>
            <a:chOff x="6807240" y="3292560"/>
            <a:chExt cx="152280" cy="152280"/>
          </a:xfrm>
        </p:grpSpPr>
        <p:sp>
          <p:nvSpPr>
            <p:cNvPr id="1673" name=""/>
            <p:cNvSpPr/>
            <p:nvPr/>
          </p:nvSpPr>
          <p:spPr>
            <a:xfrm>
              <a:off x="6807240" y="336888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83200" y="329256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75" name=""/>
          <p:cNvSpPr/>
          <p:nvPr/>
        </p:nvSpPr>
        <p:spPr>
          <a:xfrm flipH="1">
            <a:off x="6197760" y="4624560"/>
            <a:ext cx="3045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6197760" y="5157720"/>
            <a:ext cx="3045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6121080" y="38656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419800" y="3691080"/>
            <a:ext cx="723960" cy="328320"/>
            <a:chOff x="5419800" y="3691080"/>
            <a:chExt cx="723960" cy="328320"/>
          </a:xfrm>
        </p:grpSpPr>
        <p:sp>
          <p:nvSpPr>
            <p:cNvPr id="1679" name=""/>
            <p:cNvSpPr/>
            <p:nvPr/>
          </p:nvSpPr>
          <p:spPr>
            <a:xfrm rot="5400000">
              <a:off x="5557320" y="3710880"/>
              <a:ext cx="32832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84920" y="3811320"/>
              <a:ext cx="92160" cy="9180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83560" y="386388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419800" y="386388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564160" y="4986360"/>
            <a:ext cx="723960" cy="328680"/>
            <a:chOff x="5564160" y="4986360"/>
            <a:chExt cx="723960" cy="328680"/>
          </a:xfrm>
        </p:grpSpPr>
        <p:sp>
          <p:nvSpPr>
            <p:cNvPr id="1684" name=""/>
            <p:cNvSpPr/>
            <p:nvPr/>
          </p:nvSpPr>
          <p:spPr>
            <a:xfrm rot="5400000">
              <a:off x="5701320" y="500616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029280" y="510696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27920" y="515952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64160" y="515952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8" name=""/>
          <p:cNvSpPr/>
          <p:nvPr/>
        </p:nvSpPr>
        <p:spPr>
          <a:xfrm flipV="1">
            <a:off x="6202440" y="3868200"/>
            <a:ext cx="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281200" y="4902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148000" y="36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920360" y="394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146760" y="56721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eneralized C elements (g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rot="21583200">
            <a:off x="3556440" y="3475080"/>
            <a:ext cx="160560" cy="2001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rot="11164200">
            <a:off x="3600360" y="3388680"/>
            <a:ext cx="74880" cy="745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376440" y="3673440"/>
            <a:ext cx="0" cy="217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638520" y="3672000"/>
            <a:ext cx="0" cy="218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697" name=""/>
          <p:cNvCxnSpPr>
            <a:stCxn id="1642" idx="3"/>
            <a:endCxn id="1694" idx="4"/>
          </p:cNvCxnSpPr>
          <p:nvPr/>
        </p:nvCxnSpPr>
        <p:spPr>
          <a:xfrm flipH="1" flipV="1" rot="5400000">
            <a:off x="3486600" y="3272400"/>
            <a:ext cx="48240" cy="265680"/>
          </a:xfrm>
          <a:prstGeom prst="bentConnector3">
            <a:avLst>
              <a:gd name="adj1" fmla="val 572932"/>
            </a:avLst>
          </a:prstGeom>
          <a:ln w="19080">
            <a:solidFill>
              <a:srgbClr val="ffffcc"/>
            </a:solidFill>
            <a:miter/>
          </a:ln>
        </p:spPr>
      </p:cxnSp>
      <p:sp>
        <p:nvSpPr>
          <p:cNvPr id="1698" name=""/>
          <p:cNvSpPr/>
          <p:nvPr/>
        </p:nvSpPr>
        <p:spPr>
          <a:xfrm flipH="1" rot="10705200">
            <a:off x="7309440" y="3733560"/>
            <a:ext cx="152280" cy="152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353360" y="3898800"/>
            <a:ext cx="74520" cy="7488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21280" y="3643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 rot="21583200">
            <a:off x="7566480" y="3770280"/>
            <a:ext cx="160560" cy="2001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rot="11164200">
            <a:off x="7610040" y="3683880"/>
            <a:ext cx="74520" cy="745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391520" y="3981600"/>
            <a:ext cx="0" cy="2235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648560" y="3967200"/>
            <a:ext cx="0" cy="2379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705" name=""/>
          <p:cNvCxnSpPr>
            <a:stCxn id="1698" idx="3"/>
            <a:endCxn id="1702" idx="4"/>
          </p:cNvCxnSpPr>
          <p:nvPr/>
        </p:nvCxnSpPr>
        <p:spPr>
          <a:xfrm flipH="1" flipV="1" rot="5400000">
            <a:off x="7494120" y="3565080"/>
            <a:ext cx="48240" cy="270360"/>
          </a:xfrm>
          <a:prstGeom prst="bentConnector3">
            <a:avLst>
              <a:gd name="adj1" fmla="val 572932"/>
            </a:avLst>
          </a:prstGeom>
          <a:ln w="19080">
            <a:solidFill>
              <a:srgbClr val="ffffc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527D-B41A-47C3-90BB-583FAB0F3C6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Speed-independent implement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lementability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te state co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ircuit archite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x (hazard-free) g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 elements with monotonic co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1352-8CC7-46BD-9CC4-CC90B1C6551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548280" y="1147680"/>
            <a:ext cx="2680920" cy="4493160"/>
            <a:chOff x="548280" y="1147680"/>
            <a:chExt cx="2680920" cy="4493160"/>
          </a:xfrm>
        </p:grpSpPr>
        <p:sp>
          <p:nvSpPr>
            <p:cNvPr id="1710" name=""/>
            <p:cNvSpPr/>
            <p:nvPr/>
          </p:nvSpPr>
          <p:spPr>
            <a:xfrm>
              <a:off x="1154160" y="114768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58800" y="282384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527480" y="2823840"/>
              <a:ext cx="61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07320" y="3966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521360" y="3966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02320" y="5109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608200" y="396684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512440" y="2823840"/>
              <a:ext cx="716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931320" y="1714320"/>
              <a:ext cx="301320" cy="12160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88880" y="1714320"/>
              <a:ext cx="377280" cy="12160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52120" y="331452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66520" y="331452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931680" y="4457520"/>
              <a:ext cx="30132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1465200" y="4457520"/>
              <a:ext cx="30096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2833560" y="331308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48280" y="3692520"/>
              <a:ext cx="22845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52960" y="1487520"/>
              <a:ext cx="228456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74" swAng="54047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74" swAng="5404774"/>
                </a:path>
              </a:pathLst>
            </a:custGeom>
            <a:noFill/>
            <a:ln cap="rnd"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425320" y="1869840"/>
              <a:ext cx="21564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8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1732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91800" y="5734080"/>
            <a:ext cx="91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rive circuits for signals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complex gates and monotonic cov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385D-3104-42C3-A815-1182024CFF0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636480" y="4656240"/>
            <a:ext cx="727200" cy="72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35040" y="2436840"/>
            <a:ext cx="727200" cy="1477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362240" y="3914640"/>
            <a:ext cx="72684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8069400" y="4952880"/>
            <a:ext cx="855360" cy="47304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410000" y="2101680"/>
            <a:ext cx="2835360" cy="2759400"/>
          </a:xfrm>
          <a:custGeom>
            <a:avLst/>
            <a:gdLst/>
            <a:ahLst/>
            <a:rect l="l" t="t" r="r" b="b"/>
            <a:pathLst>
              <a:path w="1786" h="1738">
                <a:moveTo>
                  <a:pt x="982" y="225"/>
                </a:moveTo>
                <a:cubicBezTo>
                  <a:pt x="1135" y="98"/>
                  <a:pt x="1270" y="14"/>
                  <a:pt x="1403" y="7"/>
                </a:cubicBezTo>
                <a:cubicBezTo>
                  <a:pt x="1536" y="0"/>
                  <a:pt x="1786" y="72"/>
                  <a:pt x="1782" y="182"/>
                </a:cubicBezTo>
                <a:cubicBezTo>
                  <a:pt x="1778" y="292"/>
                  <a:pt x="1583" y="436"/>
                  <a:pt x="1382" y="669"/>
                </a:cubicBezTo>
                <a:cubicBezTo>
                  <a:pt x="1181" y="902"/>
                  <a:pt x="781" y="1418"/>
                  <a:pt x="574" y="1578"/>
                </a:cubicBezTo>
                <a:cubicBezTo>
                  <a:pt x="367" y="1738"/>
                  <a:pt x="224" y="1673"/>
                  <a:pt x="138" y="1629"/>
                </a:cubicBezTo>
                <a:cubicBezTo>
                  <a:pt x="52" y="1585"/>
                  <a:pt x="0" y="1459"/>
                  <a:pt x="58" y="1316"/>
                </a:cubicBezTo>
                <a:cubicBezTo>
                  <a:pt x="116" y="1173"/>
                  <a:pt x="332" y="949"/>
                  <a:pt x="487" y="771"/>
                </a:cubicBezTo>
                <a:cubicBezTo>
                  <a:pt x="642" y="593"/>
                  <a:pt x="829" y="352"/>
                  <a:pt x="982" y="225"/>
                </a:cubicBez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1784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25" name=""/>
          <p:cNvSpPr/>
          <p:nvPr/>
        </p:nvSpPr>
        <p:spPr>
          <a:xfrm>
            <a:off x="638280" y="2440080"/>
            <a:ext cx="2973240" cy="29415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3636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0890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8144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38280" y="317484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38280" y="390996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38280" y="464652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 flipV="1">
            <a:off x="202680" y="1998720"/>
            <a:ext cx="435240" cy="441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86920" y="18446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w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20" y="2075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y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73224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5292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2546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05172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05200" y="26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05200" y="333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05200" y="414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05200" y="4879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298960" y="24782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295720" y="3208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292480" y="39387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289240" y="46688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511280" y="55483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98120" y="3255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548720" y="399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88400" y="2519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2512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550520" y="3252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540800" y="2516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577520" y="4711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12160" y="3998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020400" y="400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017160" y="325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01428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01104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0217-9D88-4B30-9558-B6F2FF0FEE8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03520" y="1344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87320" y="18781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3520" y="2411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876920" y="1360080"/>
            <a:ext cx="3124080" cy="228960"/>
            <a:chOff x="4876920" y="1360080"/>
            <a:chExt cx="3124080" cy="228960"/>
          </a:xfrm>
        </p:grpSpPr>
        <p:sp>
          <p:nvSpPr>
            <p:cNvPr id="116" name=""/>
            <p:cNvSpPr/>
            <p:nvPr/>
          </p:nvSpPr>
          <p:spPr>
            <a:xfrm>
              <a:off x="4876920" y="1589040"/>
              <a:ext cx="6858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562720" y="136008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1360440"/>
              <a:ext cx="9144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136044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589040"/>
              <a:ext cx="9907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772400" y="136008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24680" y="1360440"/>
              <a:ext cx="763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1893600"/>
            <a:ext cx="3200400" cy="228960"/>
            <a:chOff x="4876920" y="1893600"/>
            <a:chExt cx="3200400" cy="228960"/>
          </a:xfrm>
        </p:grpSpPr>
        <p:sp>
          <p:nvSpPr>
            <p:cNvPr id="124" name=""/>
            <p:cNvSpPr/>
            <p:nvPr/>
          </p:nvSpPr>
          <p:spPr>
            <a:xfrm>
              <a:off x="4876920" y="2122560"/>
              <a:ext cx="99036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867280" y="1893600"/>
              <a:ext cx="15264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1893960"/>
              <a:ext cx="11430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89396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2122560"/>
              <a:ext cx="7621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876920" y="2426760"/>
            <a:ext cx="3200400" cy="228960"/>
            <a:chOff x="4876920" y="2426760"/>
            <a:chExt cx="3200400" cy="228960"/>
          </a:xfrm>
        </p:grpSpPr>
        <p:sp>
          <p:nvSpPr>
            <p:cNvPr id="130" name=""/>
            <p:cNvSpPr/>
            <p:nvPr/>
          </p:nvSpPr>
          <p:spPr>
            <a:xfrm>
              <a:off x="4876920" y="2655720"/>
              <a:ext cx="129528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172200" y="242676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2427120"/>
              <a:ext cx="6858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280" y="2427120"/>
              <a:ext cx="15264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2655720"/>
              <a:ext cx="9144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1360080"/>
            <a:ext cx="2361960" cy="228600"/>
            <a:chOff x="5562720" y="1360080"/>
            <a:chExt cx="2361960" cy="228600"/>
          </a:xfrm>
        </p:grpSpPr>
        <p:sp>
          <p:nvSpPr>
            <p:cNvPr id="136" name=""/>
            <p:cNvSpPr/>
            <p:nvPr/>
          </p:nvSpPr>
          <p:spPr>
            <a:xfrm flipV="1">
              <a:off x="5562720" y="1360080"/>
              <a:ext cx="152280" cy="22860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772400" y="1360080"/>
              <a:ext cx="152280" cy="22860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78920" y="4011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136044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07720" y="332568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867280" y="1893600"/>
            <a:ext cx="15264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98240" y="4011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189396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98240" y="47736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172200" y="242676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41040" y="33256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2427120"/>
            <a:ext cx="15264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69840" y="401148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30640" y="1438200"/>
            <a:ext cx="1218960" cy="2133720"/>
            <a:chOff x="5030640" y="1438200"/>
            <a:chExt cx="1218960" cy="2133720"/>
          </a:xfrm>
        </p:grpSpPr>
        <p:sp>
          <p:nvSpPr>
            <p:cNvPr id="150" name=""/>
            <p:cNvSpPr/>
            <p:nvPr/>
          </p:nvSpPr>
          <p:spPr>
            <a:xfrm>
              <a:off x="5030640" y="1438200"/>
              <a:ext cx="1218960" cy="213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54089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5408952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560" y="1514520"/>
              <a:ext cx="6091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905" swAng="54179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905" swAng="5417905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76720" y="3722400"/>
            <a:ext cx="838080" cy="533520"/>
            <a:chOff x="3276720" y="3722400"/>
            <a:chExt cx="838080" cy="533520"/>
          </a:xfrm>
        </p:grpSpPr>
        <p:sp>
          <p:nvSpPr>
            <p:cNvPr id="153" name=""/>
            <p:cNvSpPr/>
            <p:nvPr/>
          </p:nvSpPr>
          <p:spPr>
            <a:xfrm flipV="1">
              <a:off x="3276720" y="3722400"/>
              <a:ext cx="380880" cy="3805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52680" y="4255920"/>
              <a:ext cx="7621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791320" y="522000"/>
            <a:ext cx="9140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cc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570120"/>
            <a:ext cx="533160" cy="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945040" y="522360"/>
            <a:ext cx="2285280" cy="2056680"/>
            <a:chOff x="5945040" y="522360"/>
            <a:chExt cx="2285280" cy="2056680"/>
          </a:xfrm>
        </p:grpSpPr>
        <p:sp>
          <p:nvSpPr>
            <p:cNvPr id="158" name=""/>
            <p:cNvSpPr/>
            <p:nvPr/>
          </p:nvSpPr>
          <p:spPr>
            <a:xfrm>
              <a:off x="5945040" y="1512360"/>
              <a:ext cx="22852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7160" y="522360"/>
              <a:ext cx="76140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48320" y="3722760"/>
            <a:ext cx="914400" cy="533160"/>
            <a:chOff x="4648320" y="3722760"/>
            <a:chExt cx="914400" cy="533160"/>
          </a:xfrm>
        </p:grpSpPr>
        <p:sp>
          <p:nvSpPr>
            <p:cNvPr id="161" name=""/>
            <p:cNvSpPr/>
            <p:nvPr/>
          </p:nvSpPr>
          <p:spPr>
            <a:xfrm>
              <a:off x="5029200" y="3722760"/>
              <a:ext cx="533520" cy="3805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4255920"/>
              <a:ext cx="838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934320" y="1512720"/>
            <a:ext cx="304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cc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95680" y="4408560"/>
            <a:ext cx="1067040" cy="53316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40680" y="1438200"/>
            <a:ext cx="1218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1260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124080" y="4408200"/>
            <a:ext cx="990720" cy="60948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88800" y="5840280"/>
            <a:ext cx="455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cc66"/>
                </a:solidFill>
                <a:latin typeface="Arial"/>
              </a:rPr>
              <a:t>Signal Transition Graph (ST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131840"/>
            <a:ext cx="1066680" cy="16002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1131840"/>
            <a:ext cx="1066680" cy="16002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23520" y="14367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18939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523520" y="23511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120" y="1055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120" y="14367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120" y="1969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AB34-161E-4735-87F7-42F8F6760AA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646200" y="3186000"/>
            <a:ext cx="1442880" cy="728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830680" y="3189240"/>
            <a:ext cx="78408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362240" y="4654440"/>
            <a:ext cx="72684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194440" y="1274760"/>
            <a:ext cx="2705040" cy="2643120"/>
          </a:xfrm>
          <a:custGeom>
            <a:avLst/>
            <a:gdLst/>
            <a:ahLst/>
            <a:rect l="l" t="t" r="r" b="b"/>
            <a:pathLst>
              <a:path w="1704" h="1665">
                <a:moveTo>
                  <a:pt x="262" y="33"/>
                </a:moveTo>
                <a:cubicBezTo>
                  <a:pt x="387" y="0"/>
                  <a:pt x="595" y="1"/>
                  <a:pt x="771" y="121"/>
                </a:cubicBezTo>
                <a:cubicBezTo>
                  <a:pt x="947" y="241"/>
                  <a:pt x="1164" y="559"/>
                  <a:pt x="1317" y="753"/>
                </a:cubicBezTo>
                <a:cubicBezTo>
                  <a:pt x="1470" y="947"/>
                  <a:pt x="1670" y="1136"/>
                  <a:pt x="1687" y="1284"/>
                </a:cubicBezTo>
                <a:cubicBezTo>
                  <a:pt x="1704" y="1432"/>
                  <a:pt x="1536" y="1617"/>
                  <a:pt x="1418" y="1641"/>
                </a:cubicBezTo>
                <a:cubicBezTo>
                  <a:pt x="1300" y="1665"/>
                  <a:pt x="1146" y="1577"/>
                  <a:pt x="975" y="1430"/>
                </a:cubicBezTo>
                <a:cubicBezTo>
                  <a:pt x="804" y="1283"/>
                  <a:pt x="552" y="947"/>
                  <a:pt x="393" y="761"/>
                </a:cubicBezTo>
                <a:cubicBezTo>
                  <a:pt x="234" y="575"/>
                  <a:pt x="44" y="439"/>
                  <a:pt x="22" y="317"/>
                </a:cubicBezTo>
                <a:cubicBezTo>
                  <a:pt x="0" y="195"/>
                  <a:pt x="137" y="66"/>
                  <a:pt x="262" y="33"/>
                </a:cubicBez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332320" y="4975200"/>
            <a:ext cx="855720" cy="47304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69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1870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638280" y="2440080"/>
            <a:ext cx="2973240" cy="29415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3636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0890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8144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38280" y="317484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38280" y="390996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38280" y="464652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H="1" flipV="1">
            <a:off x="202680" y="1998720"/>
            <a:ext cx="435240" cy="441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86920" y="18446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w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0" y="2075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y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3224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5292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2546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05172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05200" y="26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05200" y="333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05200" y="414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05200" y="4879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298960" y="24782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295720" y="3208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292480" y="39387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289240" y="46688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512000" y="5548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577520" y="4711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93080" y="3251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017160" y="325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1428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01104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574280" y="399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80424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031560" y="398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534680" y="3259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809280" y="251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54080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806040" y="47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0F08-15B8-49C3-B900-80D4DDDF1E24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346120" y="1711440"/>
            <a:ext cx="3673800" cy="3887280"/>
            <a:chOff x="2346120" y="1711440"/>
            <a:chExt cx="3673800" cy="3887280"/>
          </a:xfrm>
        </p:grpSpPr>
        <p:sp>
          <p:nvSpPr>
            <p:cNvPr id="178" name=""/>
            <p:cNvSpPr/>
            <p:nvPr/>
          </p:nvSpPr>
          <p:spPr>
            <a:xfrm>
              <a:off x="2346120" y="1711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6120" y="2244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46120" y="277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822400" y="1727280"/>
              <a:ext cx="3121200" cy="228600"/>
              <a:chOff x="2822400" y="1727280"/>
              <a:chExt cx="3121200" cy="228600"/>
            </a:xfrm>
          </p:grpSpPr>
          <p:sp>
            <p:nvSpPr>
              <p:cNvPr id="182" name=""/>
              <p:cNvSpPr/>
              <p:nvPr/>
            </p:nvSpPr>
            <p:spPr>
              <a:xfrm>
                <a:off x="2822400" y="1955880"/>
                <a:ext cx="6829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506760" y="172908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60840" y="1727280"/>
                <a:ext cx="91116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5240" y="1730520"/>
                <a:ext cx="14904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27520" y="1955880"/>
                <a:ext cx="9874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716440" y="172908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70520" y="1727280"/>
                <a:ext cx="730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822400" y="2260800"/>
              <a:ext cx="3197520" cy="228600"/>
              <a:chOff x="2822400" y="2260800"/>
              <a:chExt cx="3197520" cy="228600"/>
            </a:xfrm>
          </p:grpSpPr>
          <p:sp>
            <p:nvSpPr>
              <p:cNvPr id="190" name=""/>
              <p:cNvSpPr/>
              <p:nvPr/>
            </p:nvSpPr>
            <p:spPr>
              <a:xfrm>
                <a:off x="2822400" y="2489400"/>
                <a:ext cx="9874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811680" y="2261880"/>
                <a:ext cx="149040" cy="22572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65400" y="2260800"/>
                <a:ext cx="11401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8400" y="226404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61040" y="2489400"/>
                <a:ext cx="7588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822400" y="2794320"/>
              <a:ext cx="3197520" cy="228600"/>
              <a:chOff x="2822400" y="2794320"/>
              <a:chExt cx="3197520" cy="228600"/>
            </a:xfrm>
          </p:grpSpPr>
          <p:sp>
            <p:nvSpPr>
              <p:cNvPr id="196" name=""/>
              <p:cNvSpPr/>
              <p:nvPr/>
            </p:nvSpPr>
            <p:spPr>
              <a:xfrm>
                <a:off x="2822400" y="3022920"/>
                <a:ext cx="129240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16240" y="279576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70320" y="2794320"/>
                <a:ext cx="68256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56120" y="2797200"/>
                <a:ext cx="149400" cy="22572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8400" y="3022920"/>
                <a:ext cx="9115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878920" y="4378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07720" y="36928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98240" y="4378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98240" y="5140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1040" y="36928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69840" y="43786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278160" y="4091040"/>
              <a:ext cx="836640" cy="532080"/>
              <a:chOff x="3278160" y="4091040"/>
              <a:chExt cx="836640" cy="532080"/>
            </a:xfrm>
          </p:grpSpPr>
          <p:sp>
            <p:nvSpPr>
              <p:cNvPr id="208" name=""/>
              <p:cNvSpPr/>
              <p:nvPr/>
            </p:nvSpPr>
            <p:spPr>
              <a:xfrm flipV="1">
                <a:off x="3278160" y="4091040"/>
                <a:ext cx="378000" cy="37800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55920" y="4623120"/>
                <a:ext cx="75888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194000" y="3937320"/>
              <a:ext cx="5302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651200" y="4092840"/>
              <a:ext cx="911520" cy="530280"/>
              <a:chOff x="4651200" y="4092840"/>
              <a:chExt cx="911520" cy="530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032440" y="4092840"/>
                <a:ext cx="530280" cy="37764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51200" y="4623120"/>
                <a:ext cx="83520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>
              <a:off x="4498560" y="4778640"/>
              <a:ext cx="1063800" cy="5302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125520" y="4776480"/>
              <a:ext cx="987480" cy="60660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530520" y="5000760"/>
            <a:ext cx="216000" cy="215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22400" y="1955880"/>
            <a:ext cx="378000" cy="1066680"/>
            <a:chOff x="2822400" y="1955880"/>
            <a:chExt cx="378000" cy="1066680"/>
          </a:xfrm>
        </p:grpSpPr>
        <p:sp>
          <p:nvSpPr>
            <p:cNvPr id="218" name=""/>
            <p:cNvSpPr/>
            <p:nvPr/>
          </p:nvSpPr>
          <p:spPr>
            <a:xfrm>
              <a:off x="2822400" y="195588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22400" y="248904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2400" y="302256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03640" y="1955880"/>
            <a:ext cx="301680" cy="1066680"/>
            <a:chOff x="3203640" y="1955880"/>
            <a:chExt cx="301680" cy="1066680"/>
          </a:xfrm>
        </p:grpSpPr>
        <p:sp>
          <p:nvSpPr>
            <p:cNvPr id="222" name=""/>
            <p:cNvSpPr/>
            <p:nvPr/>
          </p:nvSpPr>
          <p:spPr>
            <a:xfrm>
              <a:off x="3203640" y="19558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364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03640" y="302256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V="1">
            <a:off x="3506760" y="1728720"/>
            <a:ext cx="149400" cy="2253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08200" y="1727280"/>
            <a:ext cx="454320" cy="1295280"/>
            <a:chOff x="3508200" y="1727280"/>
            <a:chExt cx="454320" cy="1295280"/>
          </a:xfrm>
        </p:grpSpPr>
        <p:sp>
          <p:nvSpPr>
            <p:cNvPr id="227" name=""/>
            <p:cNvSpPr/>
            <p:nvPr/>
          </p:nvSpPr>
          <p:spPr>
            <a:xfrm>
              <a:off x="350820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811680" y="2261880"/>
              <a:ext cx="149040" cy="225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6084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8200" y="3022560"/>
              <a:ext cx="4543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965400" y="1727280"/>
            <a:ext cx="301680" cy="1295280"/>
            <a:chOff x="3965400" y="1727280"/>
            <a:chExt cx="301680" cy="1295280"/>
          </a:xfrm>
        </p:grpSpPr>
        <p:sp>
          <p:nvSpPr>
            <p:cNvPr id="232" name=""/>
            <p:cNvSpPr/>
            <p:nvPr/>
          </p:nvSpPr>
          <p:spPr>
            <a:xfrm>
              <a:off x="3965400" y="302256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116240" y="2795040"/>
              <a:ext cx="14940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65400" y="22604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540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270320" y="1727280"/>
            <a:ext cx="453960" cy="1066680"/>
            <a:chOff x="4270320" y="1727280"/>
            <a:chExt cx="453960" cy="1066680"/>
          </a:xfrm>
        </p:grpSpPr>
        <p:sp>
          <p:nvSpPr>
            <p:cNvPr id="237" name=""/>
            <p:cNvSpPr/>
            <p:nvPr/>
          </p:nvSpPr>
          <p:spPr>
            <a:xfrm>
              <a:off x="427032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5240" y="1730160"/>
              <a:ext cx="14904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70320" y="2260440"/>
              <a:ext cx="4539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70320" y="2793960"/>
              <a:ext cx="4539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27520" y="1955880"/>
            <a:ext cx="378000" cy="1066320"/>
            <a:chOff x="4727520" y="1955880"/>
            <a:chExt cx="378000" cy="1066320"/>
          </a:xfrm>
        </p:grpSpPr>
        <p:sp>
          <p:nvSpPr>
            <p:cNvPr id="242" name=""/>
            <p:cNvSpPr/>
            <p:nvPr/>
          </p:nvSpPr>
          <p:spPr>
            <a:xfrm>
              <a:off x="4727520" y="2793960"/>
              <a:ext cx="2253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6120" y="2796840"/>
              <a:ext cx="149400" cy="225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27520" y="226044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7520" y="195588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108400" y="1955880"/>
            <a:ext cx="149400" cy="1066680"/>
            <a:chOff x="5108400" y="1955880"/>
            <a:chExt cx="149400" cy="1066680"/>
          </a:xfrm>
        </p:grpSpPr>
        <p:sp>
          <p:nvSpPr>
            <p:cNvPr id="247" name=""/>
            <p:cNvSpPr/>
            <p:nvPr/>
          </p:nvSpPr>
          <p:spPr>
            <a:xfrm>
              <a:off x="5108400" y="2263680"/>
              <a:ext cx="14940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8400" y="195588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8400" y="302256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30520" y="5000760"/>
            <a:ext cx="216000" cy="215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261040" y="1955880"/>
            <a:ext cx="301680" cy="1066680"/>
            <a:chOff x="5261040" y="1955880"/>
            <a:chExt cx="301680" cy="1066680"/>
          </a:xfrm>
        </p:grpSpPr>
        <p:sp>
          <p:nvSpPr>
            <p:cNvPr id="252" name=""/>
            <p:cNvSpPr/>
            <p:nvPr/>
          </p:nvSpPr>
          <p:spPr>
            <a:xfrm>
              <a:off x="5261040" y="19558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104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61040" y="302256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oke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D81F-D987-4FF1-AC9F-FFE6F4A7B1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126440" y="2664000"/>
            <a:ext cx="3030480" cy="1905840"/>
            <a:chOff x="1126440" y="2664000"/>
            <a:chExt cx="3030480" cy="1905840"/>
          </a:xfrm>
        </p:grpSpPr>
        <p:sp>
          <p:nvSpPr>
            <p:cNvPr id="257" name=""/>
            <p:cNvSpPr/>
            <p:nvPr/>
          </p:nvSpPr>
          <p:spPr>
            <a:xfrm>
              <a:off x="1126440" y="334944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55240" y="26640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5760" y="334944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45760" y="4111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88560" y="2664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17360" y="3349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525680" y="3062160"/>
              <a:ext cx="836640" cy="531360"/>
              <a:chOff x="1525680" y="3062160"/>
              <a:chExt cx="836640" cy="531360"/>
            </a:xfrm>
          </p:grpSpPr>
          <p:sp>
            <p:nvSpPr>
              <p:cNvPr id="264" name=""/>
              <p:cNvSpPr/>
              <p:nvPr/>
            </p:nvSpPr>
            <p:spPr>
              <a:xfrm flipV="1">
                <a:off x="1525680" y="3062160"/>
                <a:ext cx="377640" cy="37728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03440" y="3593520"/>
                <a:ext cx="75888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441520" y="2908080"/>
              <a:ext cx="5302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898720" y="3063600"/>
              <a:ext cx="911160" cy="529920"/>
              <a:chOff x="2898720" y="3063600"/>
              <a:chExt cx="911160" cy="529920"/>
            </a:xfrm>
          </p:grpSpPr>
          <p:sp>
            <p:nvSpPr>
              <p:cNvPr id="268" name=""/>
              <p:cNvSpPr/>
              <p:nvPr/>
            </p:nvSpPr>
            <p:spPr>
              <a:xfrm>
                <a:off x="3279600" y="3063600"/>
                <a:ext cx="530280" cy="37764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98720" y="3593520"/>
                <a:ext cx="83520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2746440" y="3749400"/>
              <a:ext cx="1063440" cy="5299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1372680" y="3747600"/>
              <a:ext cx="987480" cy="6058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797120" y="397188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337880" y="1003320"/>
            <a:ext cx="692640" cy="858240"/>
            <a:chOff x="7337880" y="1003320"/>
            <a:chExt cx="692640" cy="858240"/>
          </a:xfrm>
        </p:grpSpPr>
        <p:sp>
          <p:nvSpPr>
            <p:cNvPr id="274" name=""/>
            <p:cNvSpPr/>
            <p:nvPr/>
          </p:nvSpPr>
          <p:spPr>
            <a:xfrm>
              <a:off x="7346520" y="100332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66"/>
                  </a:solidFill>
                  <a:latin typeface="Arial"/>
                </a:rPr>
                <a:t>xy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37880" y="14032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347240" y="1773360"/>
            <a:ext cx="793800" cy="945360"/>
            <a:chOff x="7347240" y="1773360"/>
            <a:chExt cx="793800" cy="945360"/>
          </a:xfrm>
        </p:grpSpPr>
        <p:sp>
          <p:nvSpPr>
            <p:cNvPr id="277" name=""/>
            <p:cNvSpPr/>
            <p:nvPr/>
          </p:nvSpPr>
          <p:spPr>
            <a:xfrm>
              <a:off x="7696080" y="1822320"/>
              <a:ext cx="0" cy="4536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78800" y="17733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47240" y="2260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699600" y="2496960"/>
            <a:ext cx="1978560" cy="1802880"/>
            <a:chOff x="6699600" y="2496960"/>
            <a:chExt cx="1978560" cy="1802880"/>
          </a:xfrm>
        </p:grpSpPr>
        <p:sp>
          <p:nvSpPr>
            <p:cNvPr id="281" name=""/>
            <p:cNvSpPr/>
            <p:nvPr/>
          </p:nvSpPr>
          <p:spPr>
            <a:xfrm flipH="1">
              <a:off x="708948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2792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92756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984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07200" y="24969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93000" y="25063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07200" y="362088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69160" y="356364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99600" y="3079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85520" y="30603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5696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813640" y="3344760"/>
            <a:ext cx="1806480" cy="1755000"/>
            <a:chOff x="5813640" y="3344760"/>
            <a:chExt cx="1806480" cy="1755000"/>
          </a:xfrm>
        </p:grpSpPr>
        <p:sp>
          <p:nvSpPr>
            <p:cNvPr id="293" name=""/>
            <p:cNvSpPr/>
            <p:nvPr/>
          </p:nvSpPr>
          <p:spPr>
            <a:xfrm flipH="1">
              <a:off x="7013160" y="42606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251400" y="3498480"/>
              <a:ext cx="45432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54920" y="33447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21600" y="43923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364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51920" y="46414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51400" y="4260600"/>
              <a:ext cx="37800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02280" y="43639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451920" y="5049720"/>
            <a:ext cx="711000" cy="1031400"/>
            <a:chOff x="6451920" y="5049720"/>
            <a:chExt cx="711000" cy="1031400"/>
          </a:xfrm>
        </p:grpSpPr>
        <p:sp>
          <p:nvSpPr>
            <p:cNvPr id="302" name=""/>
            <p:cNvSpPr/>
            <p:nvPr/>
          </p:nvSpPr>
          <p:spPr>
            <a:xfrm>
              <a:off x="6781680" y="5098680"/>
              <a:ext cx="0" cy="530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64400" y="50497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51920" y="56228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797120" y="397188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164200" y="1590840"/>
            <a:ext cx="2151000" cy="4267080"/>
            <a:chOff x="5164200" y="1590840"/>
            <a:chExt cx="2151000" cy="4267080"/>
          </a:xfrm>
        </p:grpSpPr>
        <p:sp>
          <p:nvSpPr>
            <p:cNvPr id="307" name=""/>
            <p:cNvSpPr/>
            <p:nvPr/>
          </p:nvSpPr>
          <p:spPr>
            <a:xfrm flipH="1">
              <a:off x="5565600" y="5857920"/>
              <a:ext cx="91152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62720" y="3268800"/>
              <a:ext cx="0" cy="25876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562720" y="1592280"/>
              <a:ext cx="0" cy="1673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5600" y="1590840"/>
              <a:ext cx="174960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64200" y="35258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tate grap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96A5-C73C-42ED-A720-0D594A5E49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50840" y="2395440"/>
                <a:ext cx="2513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510080" y="3886200"/>
                <a:ext cx="130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050840" y="3241800"/>
                <a:ext cx="1763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050840" y="4121280"/>
                <a:ext cx="220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ext-state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337880" y="1003320"/>
            <a:ext cx="692640" cy="858240"/>
            <a:chOff x="7337880" y="1003320"/>
            <a:chExt cx="692640" cy="858240"/>
          </a:xfrm>
        </p:grpSpPr>
        <p:sp>
          <p:nvSpPr>
            <p:cNvPr id="319" name=""/>
            <p:cNvSpPr/>
            <p:nvPr/>
          </p:nvSpPr>
          <p:spPr>
            <a:xfrm>
              <a:off x="7346520" y="100332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66"/>
                  </a:solidFill>
                  <a:latin typeface="Arial"/>
                </a:rPr>
                <a:t>xy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37880" y="14032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347240" y="1773360"/>
            <a:ext cx="793800" cy="945360"/>
            <a:chOff x="7347240" y="1773360"/>
            <a:chExt cx="793800" cy="945360"/>
          </a:xfrm>
        </p:grpSpPr>
        <p:sp>
          <p:nvSpPr>
            <p:cNvPr id="322" name=""/>
            <p:cNvSpPr/>
            <p:nvPr/>
          </p:nvSpPr>
          <p:spPr>
            <a:xfrm>
              <a:off x="7696080" y="1822320"/>
              <a:ext cx="0" cy="4536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8800" y="17733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47240" y="2260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699600" y="2496960"/>
            <a:ext cx="1978560" cy="1802880"/>
            <a:chOff x="6699600" y="2496960"/>
            <a:chExt cx="1978560" cy="1802880"/>
          </a:xfrm>
        </p:grpSpPr>
        <p:sp>
          <p:nvSpPr>
            <p:cNvPr id="326" name=""/>
            <p:cNvSpPr/>
            <p:nvPr/>
          </p:nvSpPr>
          <p:spPr>
            <a:xfrm flipH="1">
              <a:off x="708948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756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984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07200" y="24969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93000" y="25063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07200" y="362088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69160" y="356364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99600" y="3079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85520" y="30603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5696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813640" y="3344760"/>
            <a:ext cx="1806480" cy="1755000"/>
            <a:chOff x="5813640" y="3344760"/>
            <a:chExt cx="1806480" cy="1755000"/>
          </a:xfrm>
        </p:grpSpPr>
        <p:sp>
          <p:nvSpPr>
            <p:cNvPr id="338" name=""/>
            <p:cNvSpPr/>
            <p:nvPr/>
          </p:nvSpPr>
          <p:spPr>
            <a:xfrm flipH="1">
              <a:off x="7013160" y="42606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251400" y="3498480"/>
              <a:ext cx="45432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54920" y="33447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21600" y="43923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1364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51920" y="46414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51400" y="4260600"/>
              <a:ext cx="37800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02280" y="43639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451920" y="5049720"/>
            <a:ext cx="711000" cy="1031400"/>
            <a:chOff x="6451920" y="5049720"/>
            <a:chExt cx="711000" cy="1031400"/>
          </a:xfrm>
        </p:grpSpPr>
        <p:sp>
          <p:nvSpPr>
            <p:cNvPr id="347" name=""/>
            <p:cNvSpPr/>
            <p:nvPr/>
          </p:nvSpPr>
          <p:spPr>
            <a:xfrm>
              <a:off x="6781680" y="5098680"/>
              <a:ext cx="0" cy="530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64400" y="50497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1920" y="56228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164200" y="1590840"/>
            <a:ext cx="2151000" cy="4267080"/>
            <a:chOff x="5164200" y="1590840"/>
            <a:chExt cx="2151000" cy="4267080"/>
          </a:xfrm>
        </p:grpSpPr>
        <p:sp>
          <p:nvSpPr>
            <p:cNvPr id="351" name=""/>
            <p:cNvSpPr/>
            <p:nvPr/>
          </p:nvSpPr>
          <p:spPr>
            <a:xfrm flipH="1">
              <a:off x="5565600" y="5857920"/>
              <a:ext cx="91152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562720" y="3268800"/>
              <a:ext cx="0" cy="25876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562720" y="1592280"/>
              <a:ext cx="0" cy="1673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65600" y="1590840"/>
              <a:ext cx="174960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64200" y="35258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B1AB-2290-4D95-8F46-DB152791CD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786800" y="300528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24680" y="3195720"/>
            <a:ext cx="2588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45080" y="2295360"/>
            <a:ext cx="1528920" cy="709920"/>
          </a:xfrm>
          <a:custGeom>
            <a:avLst/>
            <a:gdLst/>
            <a:ahLst/>
            <a:rect l="l" t="t" r="r" b="b"/>
            <a:pathLst>
              <a:path w="963" h="447">
                <a:moveTo>
                  <a:pt x="963" y="447"/>
                </a:moveTo>
                <a:lnTo>
                  <a:pt x="963" y="0"/>
                </a:lnTo>
                <a:lnTo>
                  <a:pt x="0" y="0"/>
                </a:lnTo>
                <a:lnTo>
                  <a:pt x="1" y="17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77240" y="3005280"/>
            <a:ext cx="2347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67320" y="2705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39080" y="410040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75520" y="3909960"/>
            <a:ext cx="2588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02400" y="4100400"/>
            <a:ext cx="1463760" cy="692280"/>
          </a:xfrm>
          <a:custGeom>
            <a:avLst/>
            <a:gdLst/>
            <a:ahLst/>
            <a:rect l="l" t="t" r="r" b="b"/>
            <a:pathLst>
              <a:path w="922" h="436">
                <a:moveTo>
                  <a:pt x="921" y="0"/>
                </a:moveTo>
                <a:lnTo>
                  <a:pt x="921" y="435"/>
                </a:lnTo>
                <a:lnTo>
                  <a:pt x="0" y="435"/>
                </a:lnTo>
                <a:lnTo>
                  <a:pt x="0" y="30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74080" y="3014640"/>
            <a:ext cx="801360" cy="897120"/>
          </a:xfrm>
          <a:custGeom>
            <a:avLst/>
            <a:gdLst/>
            <a:ahLst/>
            <a:rect l="l" t="t" r="r" b="b"/>
            <a:pathLst>
              <a:path w="505" h="565">
                <a:moveTo>
                  <a:pt x="504" y="0"/>
                </a:moveTo>
                <a:lnTo>
                  <a:pt x="504" y="118"/>
                </a:lnTo>
                <a:lnTo>
                  <a:pt x="0" y="469"/>
                </a:lnTo>
                <a:lnTo>
                  <a:pt x="0" y="564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02360" y="3195720"/>
            <a:ext cx="1068480" cy="906480"/>
          </a:xfrm>
          <a:custGeom>
            <a:avLst/>
            <a:gdLst/>
            <a:ahLst/>
            <a:rect l="l" t="t" r="r" b="b"/>
            <a:pathLst>
              <a:path w="673" h="571">
                <a:moveTo>
                  <a:pt x="672" y="570"/>
                </a:moveTo>
                <a:lnTo>
                  <a:pt x="672" y="456"/>
                </a:lnTo>
                <a:lnTo>
                  <a:pt x="0" y="126"/>
                </a:lnTo>
                <a:lnTo>
                  <a:pt x="0" y="0"/>
                </a:lnTo>
                <a:lnTo>
                  <a:pt x="90" y="0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37640" y="2968560"/>
            <a:ext cx="74520" cy="74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20160" y="410040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28000" y="4059360"/>
            <a:ext cx="74520" cy="74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95760" y="37926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6960" y="34480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556320" y="2413080"/>
            <a:ext cx="658800" cy="588960"/>
            <a:chOff x="6556320" y="2413080"/>
            <a:chExt cx="658800" cy="588960"/>
          </a:xfrm>
        </p:grpSpPr>
        <p:sp>
          <p:nvSpPr>
            <p:cNvPr id="372" name=""/>
            <p:cNvSpPr/>
            <p:nvPr/>
          </p:nvSpPr>
          <p:spPr>
            <a:xfrm>
              <a:off x="6672240" y="241308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6320" y="251640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662880" y="4087800"/>
            <a:ext cx="658800" cy="588960"/>
            <a:chOff x="6662880" y="4087800"/>
            <a:chExt cx="658800" cy="588960"/>
          </a:xfrm>
        </p:grpSpPr>
        <p:sp>
          <p:nvSpPr>
            <p:cNvPr id="375" name=""/>
            <p:cNvSpPr/>
            <p:nvPr/>
          </p:nvSpPr>
          <p:spPr>
            <a:xfrm>
              <a:off x="6778800" y="408780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62880" y="419112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H="1">
            <a:off x="7319160" y="3800520"/>
            <a:ext cx="66996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06480" y="2687760"/>
            <a:ext cx="66996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59400" y="2860560"/>
            <a:ext cx="311400" cy="801720"/>
          </a:xfrm>
          <a:custGeom>
            <a:avLst/>
            <a:gdLst/>
            <a:ahLst/>
            <a:rect l="l" t="t" r="r" b="b"/>
            <a:pathLst>
              <a:path w="196" h="470">
                <a:moveTo>
                  <a:pt x="0" y="470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608800" y="3349800"/>
            <a:ext cx="66960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78400" y="3662280"/>
            <a:ext cx="381240" cy="584280"/>
          </a:xfrm>
          <a:custGeom>
            <a:avLst/>
            <a:gdLst/>
            <a:ahLst/>
            <a:rect l="l" t="t" r="r" b="b"/>
            <a:pathLst>
              <a:path w="240" h="368">
                <a:moveTo>
                  <a:pt x="0" y="0"/>
                </a:moveTo>
                <a:lnTo>
                  <a:pt x="51" y="0"/>
                </a:lnTo>
                <a:lnTo>
                  <a:pt x="51" y="368"/>
                </a:lnTo>
                <a:lnTo>
                  <a:pt x="240" y="368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42200" y="2570040"/>
            <a:ext cx="110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02240" y="2295360"/>
            <a:ext cx="939960" cy="1203480"/>
          </a:xfrm>
          <a:custGeom>
            <a:avLst/>
            <a:gdLst/>
            <a:ahLst/>
            <a:rect l="l" t="t" r="r" b="b"/>
            <a:pathLst>
              <a:path w="592" h="758">
                <a:moveTo>
                  <a:pt x="592" y="0"/>
                </a:moveTo>
                <a:lnTo>
                  <a:pt x="0" y="0"/>
                </a:lnTo>
                <a:lnTo>
                  <a:pt x="0" y="758"/>
                </a:lnTo>
                <a:lnTo>
                  <a:pt x="102" y="758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77040" y="3860640"/>
            <a:ext cx="1131840" cy="928800"/>
          </a:xfrm>
          <a:custGeom>
            <a:avLst/>
            <a:gdLst/>
            <a:ahLst/>
            <a:rect l="l" t="t" r="r" b="b"/>
            <a:pathLst>
              <a:path w="713" h="585">
                <a:moveTo>
                  <a:pt x="713" y="585"/>
                </a:moveTo>
                <a:cubicBezTo>
                  <a:pt x="475" y="585"/>
                  <a:pt x="238" y="585"/>
                  <a:pt x="0" y="585"/>
                </a:cubicBez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03840" y="457200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Gate net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050840" y="2395440"/>
                <a:ext cx="2513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050840" y="3241800"/>
                <a:ext cx="1763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1050840" y="4121280"/>
                <a:ext cx="220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C9E6-2609-44B4-AB01-795D133853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1060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VME b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83040" y="1789200"/>
            <a:ext cx="3930840" cy="2664360"/>
            <a:chOff x="383040" y="1789200"/>
            <a:chExt cx="3930840" cy="2664360"/>
          </a:xfrm>
        </p:grpSpPr>
        <p:sp>
          <p:nvSpPr>
            <p:cNvPr id="392" name=""/>
            <p:cNvSpPr/>
            <p:nvPr/>
          </p:nvSpPr>
          <p:spPr>
            <a:xfrm>
              <a:off x="3200040" y="2394000"/>
              <a:ext cx="1067040" cy="198108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3640" y="317988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99ff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28440" y="2394000"/>
              <a:ext cx="304920" cy="762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7560" y="3537000"/>
              <a:ext cx="914400" cy="83808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6040" y="35370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4120" y="388944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361960" y="422280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61960" y="384192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981080" y="315612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3241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42640" y="368928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42640" y="399420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142280" y="429912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0920" y="3537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5680" y="38419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w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3040" y="414648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15520" y="3703680"/>
              <a:ext cx="103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ff33"/>
                  </a:solidFill>
                  <a:latin typeface="Arial"/>
                </a:rPr>
                <a:t>VME Bu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ff33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60160" y="1908360"/>
              <a:ext cx="111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33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33"/>
                  </a:solidFill>
                  <a:latin typeface="Arial"/>
                </a:rPr>
                <a:t>Transceiv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33360" y="2746440"/>
              <a:ext cx="10666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1760" y="2746440"/>
              <a:ext cx="10666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1760" y="2125800"/>
              <a:ext cx="0" cy="111600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8480" y="17892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ff33"/>
                  </a:solidFill>
                  <a:latin typeface="Arial"/>
                </a:rPr>
                <a:t>B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802400" y="1600200"/>
            <a:ext cx="3884400" cy="3965040"/>
            <a:chOff x="4802400" y="1600200"/>
            <a:chExt cx="3884400" cy="3965040"/>
          </a:xfrm>
        </p:grpSpPr>
        <p:grpSp>
          <p:nvGrpSpPr>
            <p:cNvPr id="415" name=""/>
            <p:cNvGrpSpPr/>
            <p:nvPr/>
          </p:nvGrpSpPr>
          <p:grpSpPr>
            <a:xfrm>
              <a:off x="4876920" y="1600200"/>
              <a:ext cx="3809880" cy="380880"/>
              <a:chOff x="4876920" y="1600200"/>
              <a:chExt cx="3809880" cy="380880"/>
            </a:xfrm>
          </p:grpSpPr>
          <p:sp>
            <p:nvSpPr>
              <p:cNvPr id="416" name=""/>
              <p:cNvSpPr/>
              <p:nvPr/>
            </p:nvSpPr>
            <p:spPr>
              <a:xfrm>
                <a:off x="4876920" y="1981080"/>
                <a:ext cx="3808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5257800" y="1600200"/>
                <a:ext cx="15228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410080" y="1600200"/>
                <a:ext cx="137160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81680" y="1600200"/>
                <a:ext cx="15264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34320" y="1981080"/>
                <a:ext cx="99036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7924680" y="1600200"/>
                <a:ext cx="15264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077320" y="1600200"/>
                <a:ext cx="6094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4876920" y="22860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384" y="240"/>
                  </a:lnTo>
                  <a:lnTo>
                    <a:pt x="480" y="0"/>
                  </a:lnTo>
                  <a:lnTo>
                    <a:pt x="1632" y="0"/>
                  </a:lnTo>
                  <a:lnTo>
                    <a:pt x="1728" y="240"/>
                  </a:lnTo>
                  <a:lnTo>
                    <a:pt x="2208" y="240"/>
                  </a:lnTo>
                  <a:lnTo>
                    <a:pt x="2304" y="0"/>
                  </a:lnTo>
                  <a:lnTo>
                    <a:pt x="2400" y="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76920" y="29718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576" y="240"/>
                  </a:lnTo>
                  <a:lnTo>
                    <a:pt x="672" y="0"/>
                  </a:lnTo>
                  <a:lnTo>
                    <a:pt x="1920" y="0"/>
                  </a:lnTo>
                  <a:lnTo>
                    <a:pt x="2016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76920" y="36576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720" y="240"/>
                  </a:lnTo>
                  <a:lnTo>
                    <a:pt x="816" y="0"/>
                  </a:lnTo>
                  <a:lnTo>
                    <a:pt x="1488" y="0"/>
                  </a:lnTo>
                  <a:lnTo>
                    <a:pt x="1584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76920" y="43434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912" y="240"/>
                  </a:lnTo>
                  <a:lnTo>
                    <a:pt x="1008" y="0"/>
                  </a:lnTo>
                  <a:lnTo>
                    <a:pt x="1728" y="0"/>
                  </a:lnTo>
                  <a:lnTo>
                    <a:pt x="1824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34120" y="182880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62720" y="2514600"/>
              <a:ext cx="30456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7280" y="320040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5880" y="3886200"/>
              <a:ext cx="30492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5240" y="1752480"/>
              <a:ext cx="482760" cy="2819520"/>
            </a:xfrm>
            <a:custGeom>
              <a:avLst/>
              <a:gdLst/>
              <a:ahLst/>
              <a:rect l="l" t="t" r="r" b="b"/>
              <a:pathLst>
                <a:path w="304" h="1776">
                  <a:moveTo>
                    <a:pt x="16" y="1776"/>
                  </a:moveTo>
                  <a:cubicBezTo>
                    <a:pt x="112" y="1624"/>
                    <a:pt x="208" y="1472"/>
                    <a:pt x="208" y="1248"/>
                  </a:cubicBezTo>
                  <a:cubicBezTo>
                    <a:pt x="208" y="1024"/>
                    <a:pt x="0" y="640"/>
                    <a:pt x="16" y="432"/>
                  </a:cubicBezTo>
                  <a:cubicBezTo>
                    <a:pt x="32" y="224"/>
                    <a:pt x="168" y="112"/>
                    <a:pt x="304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19840" y="1752480"/>
              <a:ext cx="495360" cy="2273400"/>
            </a:xfrm>
            <a:custGeom>
              <a:avLst/>
              <a:gdLst/>
              <a:ahLst/>
              <a:rect l="l" t="t" r="r" b="b"/>
              <a:pathLst>
                <a:path w="312" h="1432">
                  <a:moveTo>
                    <a:pt x="24" y="0"/>
                  </a:moveTo>
                  <a:cubicBezTo>
                    <a:pt x="96" y="16"/>
                    <a:pt x="168" y="32"/>
                    <a:pt x="168" y="240"/>
                  </a:cubicBezTo>
                  <a:cubicBezTo>
                    <a:pt x="168" y="448"/>
                    <a:pt x="0" y="1064"/>
                    <a:pt x="24" y="1248"/>
                  </a:cubicBezTo>
                  <a:cubicBezTo>
                    <a:pt x="48" y="1432"/>
                    <a:pt x="180" y="1388"/>
                    <a:pt x="312" y="13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89640" y="2514600"/>
              <a:ext cx="254160" cy="1371600"/>
            </a:xfrm>
            <a:custGeom>
              <a:avLst/>
              <a:gdLst/>
              <a:ahLst/>
              <a:rect l="l" t="t" r="r" b="b"/>
              <a:pathLst>
                <a:path w="160" h="864">
                  <a:moveTo>
                    <a:pt x="16" y="864"/>
                  </a:moveTo>
                  <a:cubicBezTo>
                    <a:pt x="40" y="844"/>
                    <a:pt x="64" y="824"/>
                    <a:pt x="64" y="720"/>
                  </a:cubicBezTo>
                  <a:cubicBezTo>
                    <a:pt x="64" y="616"/>
                    <a:pt x="0" y="360"/>
                    <a:pt x="16" y="240"/>
                  </a:cubicBezTo>
                  <a:cubicBezTo>
                    <a:pt x="32" y="120"/>
                    <a:pt x="96" y="60"/>
                    <a:pt x="16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543800" y="2489040"/>
              <a:ext cx="457200" cy="736920"/>
            </a:xfrm>
            <a:custGeom>
              <a:avLst/>
              <a:gdLst/>
              <a:ahLst/>
              <a:rect l="l" t="t" r="r" b="b"/>
              <a:pathLst>
                <a:path w="288" h="464">
                  <a:moveTo>
                    <a:pt x="0" y="16"/>
                  </a:moveTo>
                  <a:cubicBezTo>
                    <a:pt x="36" y="8"/>
                    <a:pt x="72" y="0"/>
                    <a:pt x="96" y="64"/>
                  </a:cubicBezTo>
                  <a:cubicBezTo>
                    <a:pt x="120" y="128"/>
                    <a:pt x="112" y="336"/>
                    <a:pt x="144" y="400"/>
                  </a:cubicBezTo>
                  <a:cubicBezTo>
                    <a:pt x="176" y="464"/>
                    <a:pt x="232" y="456"/>
                    <a:pt x="288" y="44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01000" y="25146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cubicBezTo>
                    <a:pt x="36" y="392"/>
                    <a:pt x="72" y="352"/>
                    <a:pt x="96" y="288"/>
                  </a:cubicBezTo>
                  <a:cubicBezTo>
                    <a:pt x="120" y="224"/>
                    <a:pt x="112" y="96"/>
                    <a:pt x="144" y="48"/>
                  </a:cubicBezTo>
                  <a:cubicBezTo>
                    <a:pt x="176" y="0"/>
                    <a:pt x="232" y="0"/>
                    <a:pt x="288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01000" y="18288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16" y="0"/>
                    <a:pt x="32" y="0"/>
                    <a:pt x="48" y="48"/>
                  </a:cubicBezTo>
                  <a:cubicBezTo>
                    <a:pt x="64" y="96"/>
                    <a:pt x="56" y="224"/>
                    <a:pt x="96" y="288"/>
                  </a:cubicBezTo>
                  <a:cubicBezTo>
                    <a:pt x="136" y="352"/>
                    <a:pt x="212" y="392"/>
                    <a:pt x="288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15200" y="3886200"/>
              <a:ext cx="380880" cy="68580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0" y="0"/>
                  </a:moveTo>
                  <a:cubicBezTo>
                    <a:pt x="64" y="44"/>
                    <a:pt x="128" y="88"/>
                    <a:pt x="144" y="144"/>
                  </a:cubicBezTo>
                  <a:cubicBezTo>
                    <a:pt x="160" y="200"/>
                    <a:pt x="80" y="288"/>
                    <a:pt x="96" y="336"/>
                  </a:cubicBezTo>
                  <a:cubicBezTo>
                    <a:pt x="112" y="384"/>
                    <a:pt x="176" y="408"/>
                    <a:pt x="240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83480" y="1738440"/>
              <a:ext cx="318960" cy="2833560"/>
            </a:xfrm>
            <a:custGeom>
              <a:avLst/>
              <a:gdLst/>
              <a:ahLst/>
              <a:rect l="l" t="t" r="r" b="b"/>
              <a:pathLst>
                <a:path w="201" h="1785">
                  <a:moveTo>
                    <a:pt x="8" y="1785"/>
                  </a:moveTo>
                  <a:cubicBezTo>
                    <a:pt x="108" y="1749"/>
                    <a:pt x="201" y="1707"/>
                    <a:pt x="200" y="1448"/>
                  </a:cubicBezTo>
                  <a:cubicBezTo>
                    <a:pt x="199" y="1189"/>
                    <a:pt x="0" y="466"/>
                    <a:pt x="0" y="233"/>
                  </a:cubicBezTo>
                  <a:cubicBezTo>
                    <a:pt x="0" y="0"/>
                    <a:pt x="158" y="87"/>
                    <a:pt x="200" y="49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2400" y="1676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02400" y="23623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02760" y="30481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02400" y="37339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2760" y="441972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99120" y="5105520"/>
              <a:ext cx="18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33"/>
                  </a:solidFill>
                  <a:latin typeface="Arial"/>
                </a:rPr>
                <a:t>Read Cyc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73E6-FE11-4E53-A908-FBBA389680B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ageno</cp:lastModifiedBy>
  <cp:lastPrinted>2001-10-19T14:28:57Z</cp:lastPrinted>
  <dcterms:modified xsi:type="dcterms:W3CDTF">2001-11-29T13:18:06Z</dcterms:modified>
  <cp:revision>33</cp:revision>
  <dc:subject/>
  <dc:title>Introduction to basic concepts on asynchronous circuit design</dc:title>
</cp:coreProperties>
</file>