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D2B8-8758-48E2-9F66-A0183F6733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D96-1147-455B-87A8-DBCD1ABBF3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5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7FD8-7595-4EAD-B691-B90CAEE93A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6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704-8DB1-4F91-BCBE-AB47515DF1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6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E5BE-45B5-4608-B869-8335D6553E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7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A30-1E3D-4AB0-A5EE-724BE0E67D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8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583-3995-41B5-A256-373FE4939C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8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301E-1050-4B07-BB46-79120EBBE4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9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5C9-C85B-4E98-96C1-FE734D2C01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9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E54-225C-43CA-889D-2BB7C1A256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0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557B-E00F-425C-BCCC-8CF426E717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1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064-1460-47EF-A45E-E4E0776051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1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F425-A51E-4C1D-BD9D-FACF613CF8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2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279-FF7C-4F9B-9DEC-7B58AA0DCD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2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18FC-D3AA-4595-B08A-45028EDC34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3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868-E758-4AC7-8D05-AE71A00743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4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B4D-0A3A-4A6F-95B6-C8EC2B7713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4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FB6-9E2B-4A7F-AABC-FE73D85968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DFD-A0C6-4938-868D-279846360E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5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7659-904B-4C97-B6F7-28794BF8C6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6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2369-36CB-4E20-9EEC-F8450E4196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6454-54D7-40FC-8610-B3E004436A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7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835-E6CD-4E14-9E94-42B3265C10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7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2E21-2B31-4197-A47B-46D0851AC7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8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89A0-F664-4A1C-BDA1-53F5371063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8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F9E-884C-4747-BF1E-F69C83CEB3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59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5C6-5D09-4210-ACC6-09913F2B8A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0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FF5-C7D8-4C76-B79F-5C3768F32D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0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E089-FAE3-4148-8F57-65518938FC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1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920-D9C0-4C08-BCCE-182582EA70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1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959-9CD9-4209-A460-7491FB128D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2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DDC4-03F2-41F0-98C8-26814FDF59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2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F2C0-5B30-4648-ACEF-DF0FA2CEDA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3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6017-B527-4CCB-9CB5-B9E4C834BA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3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1412-1F06-4BBD-B04C-05D29CF648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4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6393-F837-400B-8DE3-9317580CD9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4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F577-4B31-4A92-850B-0AC7AC69B1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5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C2A1-5799-4746-9659-6C6249E011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1E6-8F37-474E-AAE3-C500381D1E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6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211-FBF2-4249-A055-DF9310325D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7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95B1-1CBE-4F78-AEFE-23979F4952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7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79F-1F41-498C-AAC2-1DCB1F8C74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3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D26-DB9D-4DD6-8F01-6D1E63D2F5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8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8DA5-1348-4E8A-B571-073FED4ABB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9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D800-B0E8-4759-BB4C-15DE4FD1CE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69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5E29-F52E-44F4-BC7E-7D998335BD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3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E611-DAD1-4A6A-B9CB-F54602441D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4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84E-6DAB-4BE1-B35C-AF56D4F432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DFC7-C007-4950-8D03-0F6322C56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3D1E-1A92-4AD8-8FA1-52B8D2D01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5671-1105-4FC0-AC29-7E1D76BC3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8D9B-5287-4823-9BDF-32C486A19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F578D-28D8-4373-B40F-AD799B82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45943-CCF4-4549-84B0-D7B7FE20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6A108-3D06-45C8-BC14-4A16F53E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C309C-4F3F-4C22-ABD7-C8990243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7027-B652-4A74-92B9-7F726C0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4A891-F5D0-4A19-B194-B564462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40AA1-BF0A-43AA-AB43-EA2CBED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BB2E-29FE-4CB4-B957-8C9EE7A96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1FEE3-AF02-4D2D-A1C4-824FFBA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557CA-75A0-44DA-8BA8-E053A60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EC285-CBC6-4844-B4BE-CDC86FE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4099-47F4-429C-9CB2-4064268B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C400-CEC8-4D8F-87AF-C8A0D1BC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6955-0D10-4AB4-B798-3681760F5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F2AF-12C8-4473-9C4E-9F3585B2B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11E1-8823-449C-928D-64A7A14C2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B766-BB75-47EF-B96F-E70907414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5C6E-2CC0-41C9-9C25-D8AEAC8F2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399D-C350-4920-B8B8-036EC2B58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2B97-7178-4A44-872B-DC93DF7EA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11240" y="6324480"/>
            <a:ext cx="693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87960" y="6324480"/>
            <a:ext cx="56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01D7-BDC5-4702-A76A-0835F2C3CC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26A9-EEC2-4D2B-9993-726ED5978D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dvanced topics on synthe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C7B29-4454-4D12-8AD4-7177865ACE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474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82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4491000" y="4572000"/>
                <a:ext cx="1616040" cy="1373040"/>
                <a:chOff x="4491000" y="4572000"/>
                <a:chExt cx="1616040" cy="137304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4491000" y="4572000"/>
                  <a:ext cx="1365120" cy="1373040"/>
                  <a:chOff x="4491000" y="4572000"/>
                  <a:chExt cx="1365120" cy="13730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4497480" y="45784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491000" y="45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5867280" y="52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4037040" y="48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37040" y="57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037040" y="52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663200" y="4084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869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88760" y="4465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8876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025720" y="3214800"/>
            <a:ext cx="2070000" cy="1373040"/>
            <a:chOff x="2025720" y="3214800"/>
            <a:chExt cx="2070000" cy="1373040"/>
          </a:xfrm>
        </p:grpSpPr>
        <p:grpSp>
          <p:nvGrpSpPr>
            <p:cNvPr id="500" name=""/>
            <p:cNvGrpSpPr/>
            <p:nvPr/>
          </p:nvGrpSpPr>
          <p:grpSpPr>
            <a:xfrm>
              <a:off x="2479680" y="3214800"/>
              <a:ext cx="1616040" cy="1373040"/>
              <a:chOff x="2479680" y="3214800"/>
              <a:chExt cx="1616040" cy="13730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479680" y="3214800"/>
                <a:ext cx="1365120" cy="1373040"/>
                <a:chOff x="2479680" y="3214800"/>
                <a:chExt cx="1365120" cy="1373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486160" y="32209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9680" y="3214800"/>
                  <a:ext cx="68724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3855960" y="38862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2025720" y="34434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2572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638360" y="1409760"/>
            <a:ext cx="457200" cy="3808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30481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35053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22640" y="252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51440" y="29862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2593800"/>
            <a:ext cx="251136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279240" y="2593800"/>
            <a:ext cx="2511720" cy="327348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515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549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B220-4315-4FA7-B561-5345F4D5DA8A}" type="slidenum">
              <a:t>10</a:t>
            </a:fld>
          </a:p>
        </p:txBody>
      </p:sp>
    </p:spTree>
  </p:cSld>
  <p:transition advTm="6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558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4491000" y="2743200"/>
                <a:ext cx="1616040" cy="1373040"/>
                <a:chOff x="4491000" y="2743200"/>
                <a:chExt cx="1616040" cy="137304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4491000" y="2743200"/>
                  <a:ext cx="1365120" cy="1373040"/>
                  <a:chOff x="4491000" y="2743200"/>
                  <a:chExt cx="1365120" cy="13730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4497480" y="27496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491000" y="27432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5867280" y="34146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4037040" y="2971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37040" y="38862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037040" y="3429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568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488760" y="3627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887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84000" y="40086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8400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979640" y="4129200"/>
            <a:ext cx="2070000" cy="1373040"/>
            <a:chOff x="1979640" y="4129200"/>
            <a:chExt cx="2070000" cy="1373040"/>
          </a:xfrm>
        </p:grpSpPr>
        <p:grpSp>
          <p:nvGrpSpPr>
            <p:cNvPr id="584" name=""/>
            <p:cNvGrpSpPr/>
            <p:nvPr/>
          </p:nvGrpSpPr>
          <p:grpSpPr>
            <a:xfrm>
              <a:off x="2433600" y="4129200"/>
              <a:ext cx="1616040" cy="1373040"/>
              <a:chOff x="2433600" y="4129200"/>
              <a:chExt cx="1616040" cy="13730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433600" y="4129200"/>
                <a:ext cx="1365120" cy="1373040"/>
                <a:chOff x="2433600" y="4129200"/>
                <a:chExt cx="1365120" cy="1373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440080" y="41353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433600" y="4129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3809880" y="4800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97964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9640" y="5272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822400" y="2746440"/>
            <a:ext cx="2740320" cy="357804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898360" y="2822400"/>
            <a:ext cx="2739960" cy="357840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594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625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628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9D03-991F-4E03-9885-193FF1E25C1A}" type="slidenum">
              <a:t>11</a:t>
            </a:fld>
          </a:p>
        </p:txBody>
      </p:sp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637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645" name=""/>
            <p:cNvGrpSpPr/>
            <p:nvPr/>
          </p:nvGrpSpPr>
          <p:grpSpPr>
            <a:xfrm>
              <a:off x="4491000" y="4572000"/>
              <a:ext cx="1616040" cy="1373040"/>
              <a:chOff x="4491000" y="4572000"/>
              <a:chExt cx="1616040" cy="137304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4491000" y="4572000"/>
                <a:ext cx="1365120" cy="1373040"/>
                <a:chOff x="4491000" y="4572000"/>
                <a:chExt cx="1365120" cy="137304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497480" y="45784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491000" y="45720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9" name=""/>
              <p:cNvSpPr/>
              <p:nvPr/>
            </p:nvSpPr>
            <p:spPr>
              <a:xfrm>
                <a:off x="5867280" y="52434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4037040" y="48006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37040" y="57150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050480" y="3551400"/>
            <a:ext cx="2466000" cy="1570320"/>
            <a:chOff x="1050480" y="3551400"/>
            <a:chExt cx="2466000" cy="1570320"/>
          </a:xfrm>
        </p:grpSpPr>
        <p:sp>
          <p:nvSpPr>
            <p:cNvPr id="657" name=""/>
            <p:cNvSpPr/>
            <p:nvPr/>
          </p:nvSpPr>
          <p:spPr>
            <a:xfrm>
              <a:off x="10504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50480" y="45417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446120" y="3672000"/>
              <a:ext cx="2070360" cy="1373040"/>
              <a:chOff x="1446120" y="3672000"/>
              <a:chExt cx="2070360" cy="137304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1900080" y="3672000"/>
                <a:ext cx="1616400" cy="1373040"/>
                <a:chOff x="1900080" y="3672000"/>
                <a:chExt cx="1616400" cy="137304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1900080" y="3672000"/>
                  <a:ext cx="1365480" cy="1373040"/>
                  <a:chOff x="1900080" y="3672000"/>
                  <a:chExt cx="1365480" cy="13730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1906560" y="3678120"/>
                    <a:ext cx="1359000" cy="13590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900080" y="36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>
                  <a:off x="3276720" y="43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1446120" y="39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46120" y="48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"/>
          <p:cNvSpPr/>
          <p:nvPr/>
        </p:nvSpPr>
        <p:spPr>
          <a:xfrm>
            <a:off x="4033800" y="3889440"/>
            <a:ext cx="0" cy="911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494160" y="4343400"/>
            <a:ext cx="539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505320" y="2971800"/>
            <a:ext cx="2744640" cy="1220760"/>
            <a:chOff x="3505320" y="2971800"/>
            <a:chExt cx="2744640" cy="1220760"/>
          </a:xfrm>
        </p:grpSpPr>
        <p:sp>
          <p:nvSpPr>
            <p:cNvPr id="670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43600" y="29718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505320" y="3886200"/>
            <a:ext cx="2744640" cy="1220760"/>
            <a:chOff x="3505320" y="3886200"/>
            <a:chExt cx="2744640" cy="1220760"/>
          </a:xfrm>
        </p:grpSpPr>
        <p:sp>
          <p:nvSpPr>
            <p:cNvPr id="673" name=""/>
            <p:cNvSpPr/>
            <p:nvPr/>
          </p:nvSpPr>
          <p:spPr>
            <a:xfrm>
              <a:off x="3505320" y="38862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43600" y="480060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0" y="192"/>
                  </a:moveTo>
                  <a:lnTo>
                    <a:pt x="96" y="192"/>
                  </a:lnTo>
                  <a:lnTo>
                    <a:pt x="96" y="0"/>
                  </a:lnTo>
                  <a:lnTo>
                    <a:pt x="192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75" name=""/>
          <p:cNvGraphicFramePr/>
          <p:nvPr/>
        </p:nvGraphicFramePr>
        <p:xfrm>
          <a:off x="7639200" y="3548160"/>
          <a:ext cx="8809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9200" y="3548160"/>
                    <a:ext cx="8809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7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678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709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712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E3E4-19C2-4B3A-9514-BA1B2263343C}" type="slidenum">
              <a:t>12</a:t>
            </a:fld>
          </a:p>
        </p:txBody>
      </p:sp>
    </p:spTree>
  </p:cSld>
  <p:transition advTm="39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rategy for  logic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440" y="158400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ach decomposition defines a new internal signal 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thod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sert new internal signals such 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resynthesis, some large gates are decompo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new specification is hazard-fre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enerate candidates for decomposition using standard logic factorization techniqu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gebraic facto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olean factorization (boolean relatio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6F17-6774-4B92-BBCE-DF7ED5050B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6096240" y="1170000"/>
            <a:ext cx="2681640" cy="4493160"/>
            <a:chOff x="6096240" y="1170000"/>
            <a:chExt cx="2681640" cy="4493160"/>
          </a:xfrm>
        </p:grpSpPr>
        <p:sp>
          <p:nvSpPr>
            <p:cNvPr id="723" name=""/>
            <p:cNvSpPr/>
            <p:nvPr/>
          </p:nvSpPr>
          <p:spPr>
            <a:xfrm>
              <a:off x="6702840" y="117000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07480" y="2846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6160" y="284616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556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0040" y="3989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51000" y="513216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56880" y="398916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61120" y="284616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480000" y="1736640"/>
              <a:ext cx="30168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37200" y="1736640"/>
              <a:ext cx="378000" cy="12160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008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15200" y="33368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8000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013520" y="4479840"/>
              <a:ext cx="30168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8381880" y="3335040"/>
              <a:ext cx="0" cy="7588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6240" y="3714840"/>
              <a:ext cx="22852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00560" y="1509480"/>
              <a:ext cx="2286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1260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07480" y="189216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1200" y="1184400"/>
            <a:ext cx="5167080" cy="4155480"/>
            <a:chOff x="61200" y="1184400"/>
            <a:chExt cx="5167080" cy="4155480"/>
          </a:xfrm>
        </p:grpSpPr>
        <p:sp>
          <p:nvSpPr>
            <p:cNvPr id="742" name=""/>
            <p:cNvSpPr/>
            <p:nvPr/>
          </p:nvSpPr>
          <p:spPr>
            <a:xfrm>
              <a:off x="16232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66440" y="1451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112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0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99480" y="22514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232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10896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112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99480" y="40420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232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6440" y="49183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66440" y="312768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441160" y="165744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1450800" y="181296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886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28888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051000" y="35658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137448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136600" y="44802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90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27120" y="44802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89240" y="35658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50800" y="265140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5040" y="265140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12920" y="181296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7840" y="516276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876920" y="356400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876920" y="181116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83840" y="11844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0640" y="2480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03160" y="4080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3840" y="2556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27560" y="225144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22440" y="1717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07520" y="47660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78720" y="16416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60680" y="25560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6280" y="339444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93120" y="255600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31560" y="33944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78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1716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21720" y="339444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83640" y="4232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-38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F8B4-B9F6-4CE0-9F03-41C050C76CBB}" type="slidenum">
              <a:t>14</a:t>
            </a:fld>
          </a:p>
        </p:txBody>
      </p:sp>
    </p:spTree>
  </p:cSld>
  <p:transition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4114800" y="1352520"/>
            <a:ext cx="1371600" cy="4785840"/>
            <a:chOff x="4114800" y="1352520"/>
            <a:chExt cx="1371600" cy="4785840"/>
          </a:xfrm>
        </p:grpSpPr>
        <p:sp>
          <p:nvSpPr>
            <p:cNvPr id="788" name=""/>
            <p:cNvSpPr/>
            <p:nvPr/>
          </p:nvSpPr>
          <p:spPr>
            <a:xfrm>
              <a:off x="4114800" y="1352520"/>
              <a:ext cx="1371600" cy="4267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03520" y="5680080"/>
              <a:ext cx="837360" cy="45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76320" y="1504800"/>
            <a:ext cx="3887640" cy="4633560"/>
            <a:chOff x="76320" y="1504800"/>
            <a:chExt cx="3887640" cy="4633560"/>
          </a:xfrm>
        </p:grpSpPr>
        <p:sp>
          <p:nvSpPr>
            <p:cNvPr id="791" name=""/>
            <p:cNvSpPr/>
            <p:nvPr/>
          </p:nvSpPr>
          <p:spPr>
            <a:xfrm>
              <a:off x="76320" y="1504800"/>
              <a:ext cx="3887640" cy="3888000"/>
            </a:xfrm>
            <a:custGeom>
              <a:avLst/>
              <a:gdLst/>
              <a:ahLst/>
              <a:rect l="l" t="t" r="r" b="b"/>
              <a:pathLst>
                <a:path w="2449" h="2449">
                  <a:moveTo>
                    <a:pt x="1008" y="0"/>
                  </a:moveTo>
                  <a:lnTo>
                    <a:pt x="0" y="1008"/>
                  </a:lnTo>
                  <a:lnTo>
                    <a:pt x="0" y="1488"/>
                  </a:lnTo>
                  <a:lnTo>
                    <a:pt x="960" y="2448"/>
                  </a:lnTo>
                  <a:lnTo>
                    <a:pt x="1488" y="2448"/>
                  </a:lnTo>
                  <a:lnTo>
                    <a:pt x="2448" y="1488"/>
                  </a:lnTo>
                  <a:lnTo>
                    <a:pt x="2448" y="1056"/>
                  </a:lnTo>
                  <a:lnTo>
                    <a:pt x="1392" y="0"/>
                  </a:lnTo>
                  <a:lnTo>
                    <a:pt x="1008" y="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320" y="5680080"/>
              <a:ext cx="837360" cy="45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z=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795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57240" y="1514520"/>
            <a:ext cx="2611440" cy="2211480"/>
          </a:xfrm>
          <a:custGeom>
            <a:avLst/>
            <a:gdLst/>
            <a:ahLst/>
            <a:rect l="l" t="t" r="r" b="b"/>
            <a:pathLst>
              <a:path w="1645" h="1393">
                <a:moveTo>
                  <a:pt x="1026" y="0"/>
                </a:moveTo>
                <a:lnTo>
                  <a:pt x="0" y="1026"/>
                </a:lnTo>
                <a:lnTo>
                  <a:pt x="0" y="1392"/>
                </a:lnTo>
                <a:lnTo>
                  <a:pt x="504" y="1392"/>
                </a:lnTo>
                <a:lnTo>
                  <a:pt x="1644" y="252"/>
                </a:lnTo>
                <a:lnTo>
                  <a:pt x="1398" y="6"/>
                </a:lnTo>
                <a:lnTo>
                  <a:pt x="1026" y="6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232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5899320" y="1174680"/>
            <a:ext cx="2910240" cy="4953960"/>
            <a:chOff x="5899320" y="1174680"/>
            <a:chExt cx="2910240" cy="4953960"/>
          </a:xfrm>
        </p:grpSpPr>
        <p:grpSp>
          <p:nvGrpSpPr>
            <p:cNvPr id="885" name=""/>
            <p:cNvGrpSpPr/>
            <p:nvPr/>
          </p:nvGrpSpPr>
          <p:grpSpPr>
            <a:xfrm>
              <a:off x="6603840" y="1976040"/>
              <a:ext cx="1825920" cy="2057040"/>
              <a:chOff x="6603840" y="1976040"/>
              <a:chExt cx="1825920" cy="205704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6603840" y="1976040"/>
                <a:ext cx="1825920" cy="2057040"/>
                <a:chOff x="6603840" y="1976040"/>
                <a:chExt cx="1825920" cy="2057040"/>
              </a:xfrm>
            </p:grpSpPr>
            <p:grpSp>
              <p:nvGrpSpPr>
                <p:cNvPr id="887" name=""/>
                <p:cNvGrpSpPr/>
                <p:nvPr/>
              </p:nvGrpSpPr>
              <p:grpSpPr>
                <a:xfrm>
                  <a:off x="6710400" y="1976040"/>
                  <a:ext cx="1605240" cy="2057040"/>
                  <a:chOff x="6710400" y="1976040"/>
                  <a:chExt cx="1605240" cy="205704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 rot="10800000">
                    <a:off x="6717240" y="197604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710400" y="266184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407360" y="266364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400880" y="265716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6603840" y="2314440"/>
                  <a:ext cx="905040" cy="687240"/>
                  <a:chOff x="6603840" y="2314440"/>
                  <a:chExt cx="905040" cy="687240"/>
                </a:xfrm>
              </p:grpSpPr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6829560" y="2314440"/>
                    <a:ext cx="679320" cy="687240"/>
                    <a:chOff x="6829560" y="2314440"/>
                    <a:chExt cx="679320" cy="68724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835680" y="23205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6829560" y="23144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6" name=""/>
                  <p:cNvSpPr/>
                  <p:nvPr/>
                </p:nvSpPr>
                <p:spPr>
                  <a:xfrm>
                    <a:off x="6603840" y="24285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603840" y="288576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>
                  <a:off x="8204040" y="3000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289640" y="322884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8207280" y="294948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7413120" y="1380960"/>
              <a:ext cx="1041840" cy="687240"/>
              <a:chOff x="7413120" y="1380960"/>
              <a:chExt cx="1041840" cy="68724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7421400" y="1380960"/>
                <a:ext cx="1033560" cy="687240"/>
                <a:chOff x="7421400" y="1380960"/>
                <a:chExt cx="1033560" cy="687240"/>
              </a:xfrm>
            </p:grpSpPr>
            <p:grpSp>
              <p:nvGrpSpPr>
                <p:cNvPr id="903" name=""/>
                <p:cNvGrpSpPr/>
                <p:nvPr/>
              </p:nvGrpSpPr>
              <p:grpSpPr>
                <a:xfrm>
                  <a:off x="7647120" y="1380960"/>
                  <a:ext cx="807840" cy="687240"/>
                  <a:chOff x="7647120" y="1380960"/>
                  <a:chExt cx="807840" cy="687240"/>
                </a:xfrm>
              </p:grpSpPr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7647120" y="1380960"/>
                    <a:ext cx="679320" cy="687240"/>
                    <a:chOff x="7647120" y="1380960"/>
                    <a:chExt cx="679320" cy="68724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7653240" y="1387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7647120" y="1380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" name=""/>
                  <p:cNvSpPr/>
                  <p:nvPr/>
                </p:nvSpPr>
                <p:spPr>
                  <a:xfrm>
                    <a:off x="8335800" y="1717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>
                  <a:off x="7421400" y="1495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421400" y="195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 flipH="1">
                <a:off x="7413120" y="172368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540560" y="144432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6278400" y="5121000"/>
              <a:ext cx="2189520" cy="919080"/>
              <a:chOff x="6278400" y="5121000"/>
              <a:chExt cx="2189520" cy="91908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6278400" y="5352840"/>
                <a:ext cx="1033560" cy="687240"/>
                <a:chOff x="6278400" y="5352840"/>
                <a:chExt cx="1033560" cy="68724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6504120" y="5352840"/>
                  <a:ext cx="807840" cy="687240"/>
                  <a:chOff x="6504120" y="5352840"/>
                  <a:chExt cx="807840" cy="687240"/>
                </a:xfrm>
              </p:grpSpPr>
              <p:grpSp>
                <p:nvGrpSpPr>
                  <p:cNvPr id="915" name=""/>
                  <p:cNvGrpSpPr/>
                  <p:nvPr/>
                </p:nvGrpSpPr>
                <p:grpSpPr>
                  <a:xfrm>
                    <a:off x="6504120" y="5352840"/>
                    <a:ext cx="679320" cy="687240"/>
                    <a:chOff x="6504120" y="5352840"/>
                    <a:chExt cx="679320" cy="687240"/>
                  </a:xfrm>
                </p:grpSpPr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6510240" y="535932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6504120" y="53528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8" name=""/>
                  <p:cNvSpPr/>
                  <p:nvPr/>
                </p:nvSpPr>
                <p:spPr>
                  <a:xfrm>
                    <a:off x="7192800" y="56894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9" name=""/>
                <p:cNvSpPr/>
                <p:nvPr/>
              </p:nvSpPr>
              <p:spPr>
                <a:xfrm>
                  <a:off x="6278400" y="54669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278400" y="592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7327800" y="5121000"/>
                <a:ext cx="1140120" cy="673200"/>
                <a:chOff x="7327800" y="5121000"/>
                <a:chExt cx="1140120" cy="67320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7327800" y="5229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327800" y="5686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559640" y="5121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637040" y="5186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242200" y="5457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7" name=""/>
            <p:cNvGrpSpPr/>
            <p:nvPr/>
          </p:nvGrpSpPr>
          <p:grpSpPr>
            <a:xfrm>
              <a:off x="6261120" y="3666960"/>
              <a:ext cx="2206800" cy="907920"/>
              <a:chOff x="6261120" y="3666960"/>
              <a:chExt cx="2206800" cy="90792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7327800" y="3901680"/>
                <a:ext cx="1140120" cy="673200"/>
                <a:chOff x="7327800" y="3901680"/>
                <a:chExt cx="1140120" cy="67320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7327800" y="40096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327800" y="44668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559640" y="39016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637040" y="39668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242200" y="4238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6261120" y="3666960"/>
                <a:ext cx="1139760" cy="687240"/>
                <a:chOff x="6261120" y="3666960"/>
                <a:chExt cx="1139760" cy="68724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6486480" y="3666960"/>
                  <a:ext cx="914400" cy="687240"/>
                  <a:chOff x="6486480" y="3666960"/>
                  <a:chExt cx="914400" cy="687240"/>
                </a:xfrm>
              </p:grpSpPr>
              <p:grpSp>
                <p:nvGrpSpPr>
                  <p:cNvPr id="936" name=""/>
                  <p:cNvGrpSpPr/>
                  <p:nvPr/>
                </p:nvGrpSpPr>
                <p:grpSpPr>
                  <a:xfrm>
                    <a:off x="6486480" y="3666960"/>
                    <a:ext cx="679680" cy="687240"/>
                    <a:chOff x="6486480" y="3666960"/>
                    <a:chExt cx="679680" cy="687240"/>
                  </a:xfrm>
                </p:grpSpPr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6492960" y="367308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6486480" y="3666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7175520" y="400968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7178760" y="395892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1" name=""/>
                <p:cNvSpPr/>
                <p:nvPr/>
              </p:nvSpPr>
              <p:spPr>
                <a:xfrm>
                  <a:off x="6261120" y="37810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261120" y="423828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>
                <a:off x="7502400" y="441612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597492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74920" y="5670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72240" y="2774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7224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04200" y="1479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72240" y="5213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41960" y="1174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41960" y="1479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41960" y="1784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79840" y="2165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79840" y="262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89680" y="300348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74920" y="39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99320" y="35366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65640" y="4222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041960" y="4984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219720" y="1571760"/>
            <a:ext cx="1676520" cy="1523880"/>
            <a:chOff x="6219720" y="1571760"/>
            <a:chExt cx="1676520" cy="1523880"/>
          </a:xfrm>
        </p:grpSpPr>
        <p:sp>
          <p:nvSpPr>
            <p:cNvPr id="961" name=""/>
            <p:cNvSpPr/>
            <p:nvPr/>
          </p:nvSpPr>
          <p:spPr>
            <a:xfrm>
              <a:off x="6981840" y="1571760"/>
              <a:ext cx="914400" cy="6094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19720" y="2257560"/>
              <a:ext cx="1371600" cy="8380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BEAE-877C-4552-A1F4-D44D1EB06425}" type="slidenum">
              <a:t>15</a:t>
            </a:fld>
          </a:p>
        </p:txBody>
      </p:sp>
    </p:spTree>
  </p:cSld>
  <p:transition spd="slow" advTm="13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003720" y="1170000"/>
            <a:ext cx="3139200" cy="4953960"/>
            <a:chOff x="6003720" y="1170000"/>
            <a:chExt cx="3139200" cy="4953960"/>
          </a:xfrm>
        </p:grpSpPr>
        <p:grpSp>
          <p:nvGrpSpPr>
            <p:cNvPr id="1028" name=""/>
            <p:cNvGrpSpPr/>
            <p:nvPr/>
          </p:nvGrpSpPr>
          <p:grpSpPr>
            <a:xfrm>
              <a:off x="7754760" y="1376280"/>
              <a:ext cx="1033560" cy="687240"/>
              <a:chOff x="7754760" y="1376280"/>
              <a:chExt cx="1033560" cy="68724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7980480" y="1376280"/>
                <a:ext cx="807840" cy="687240"/>
                <a:chOff x="7980480" y="1376280"/>
                <a:chExt cx="807840" cy="68724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7980480" y="1376280"/>
                  <a:ext cx="679320" cy="687240"/>
                  <a:chOff x="7980480" y="1376280"/>
                  <a:chExt cx="679320" cy="68724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7986600" y="13824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7980480" y="13762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3" name=""/>
                <p:cNvSpPr/>
                <p:nvPr/>
              </p:nvSpPr>
              <p:spPr>
                <a:xfrm>
                  <a:off x="8669160" y="17128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7754760" y="1490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754760" y="19476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7873920" y="14396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611760" y="5116320"/>
              <a:ext cx="2189520" cy="919080"/>
              <a:chOff x="6611760" y="5116320"/>
              <a:chExt cx="2189520" cy="91908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6611760" y="5348160"/>
                <a:ext cx="1033560" cy="687240"/>
                <a:chOff x="6611760" y="5348160"/>
                <a:chExt cx="1033560" cy="687240"/>
              </a:xfrm>
            </p:grpSpPr>
            <p:grpSp>
              <p:nvGrpSpPr>
                <p:cNvPr id="1039" name=""/>
                <p:cNvGrpSpPr/>
                <p:nvPr/>
              </p:nvGrpSpPr>
              <p:grpSpPr>
                <a:xfrm>
                  <a:off x="6837480" y="5348160"/>
                  <a:ext cx="807840" cy="687240"/>
                  <a:chOff x="6837480" y="5348160"/>
                  <a:chExt cx="807840" cy="687240"/>
                </a:xfrm>
              </p:grpSpPr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6837480" y="5348160"/>
                    <a:ext cx="679320" cy="687240"/>
                    <a:chOff x="6837480" y="5348160"/>
                    <a:chExt cx="679320" cy="68724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6843600" y="53546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6837480" y="53481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3" name=""/>
                  <p:cNvSpPr/>
                  <p:nvPr/>
                </p:nvSpPr>
                <p:spPr>
                  <a:xfrm>
                    <a:off x="7526160" y="56847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4" name=""/>
                <p:cNvSpPr/>
                <p:nvPr/>
              </p:nvSpPr>
              <p:spPr>
                <a:xfrm>
                  <a:off x="6611760" y="5462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611760" y="59194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7661160" y="5116320"/>
                <a:ext cx="1140120" cy="673200"/>
                <a:chOff x="7661160" y="5116320"/>
                <a:chExt cx="1140120" cy="6732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7661160" y="5224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661160" y="56815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893000" y="51163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70400" y="51814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575560" y="54529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2" name=""/>
            <p:cNvGrpSpPr/>
            <p:nvPr/>
          </p:nvGrpSpPr>
          <p:grpSpPr>
            <a:xfrm>
              <a:off x="6594480" y="3662280"/>
              <a:ext cx="2206800" cy="907920"/>
              <a:chOff x="6594480" y="3662280"/>
              <a:chExt cx="2206800" cy="90792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7661160" y="3897000"/>
                <a:ext cx="1140120" cy="673200"/>
                <a:chOff x="7661160" y="3897000"/>
                <a:chExt cx="1140120" cy="6732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661160" y="4005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661160" y="44622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893000" y="38970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970400" y="39621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575560" y="42336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6594480" y="3662280"/>
                <a:ext cx="1139760" cy="687240"/>
                <a:chOff x="6594480" y="3662280"/>
                <a:chExt cx="1139760" cy="687240"/>
              </a:xfrm>
            </p:grpSpPr>
            <p:grpSp>
              <p:nvGrpSpPr>
                <p:cNvPr id="1060" name=""/>
                <p:cNvGrpSpPr/>
                <p:nvPr/>
              </p:nvGrpSpPr>
              <p:grpSpPr>
                <a:xfrm>
                  <a:off x="6819840" y="3662280"/>
                  <a:ext cx="914400" cy="687240"/>
                  <a:chOff x="6819840" y="3662280"/>
                  <a:chExt cx="914400" cy="687240"/>
                </a:xfrm>
              </p:grpSpPr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6819840" y="3662280"/>
                    <a:ext cx="679680" cy="687240"/>
                    <a:chOff x="6819840" y="3662280"/>
                    <a:chExt cx="679680" cy="68724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6826320" y="36684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6819840" y="36622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08880" y="40050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2120" y="39542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6" name=""/>
                <p:cNvSpPr/>
                <p:nvPr/>
              </p:nvSpPr>
              <p:spPr>
                <a:xfrm>
                  <a:off x="6594480" y="3776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594480" y="42336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>
                <a:off x="7835760" y="44114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630828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08280" y="5665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805600" y="27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0560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737560" y="1474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805600" y="520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375320" y="1170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03720" y="177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003720" y="223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23040" y="29988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08280" y="398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232680" y="3531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299000" y="4217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7062840" y="1990440"/>
              <a:ext cx="1719360" cy="2057040"/>
              <a:chOff x="7062840" y="1990440"/>
              <a:chExt cx="1719360" cy="205704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062840" y="1990440"/>
                <a:ext cx="1605240" cy="2057040"/>
                <a:chOff x="7062840" y="1990440"/>
                <a:chExt cx="1605240" cy="2057040"/>
              </a:xfrm>
            </p:grpSpPr>
            <p:sp>
              <p:nvSpPr>
                <p:cNvPr id="1084" name=""/>
                <p:cNvSpPr/>
                <p:nvPr/>
              </p:nvSpPr>
              <p:spPr>
                <a:xfrm rot="10800000">
                  <a:off x="7069680" y="19904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062840" y="26762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9800" y="26780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3320" y="26715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8" name=""/>
              <p:cNvSpPr/>
              <p:nvPr/>
            </p:nvSpPr>
            <p:spPr>
              <a:xfrm>
                <a:off x="8556480" y="30146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553600" y="29638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758000" y="27860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756560" y="32432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383160" y="1909800"/>
              <a:ext cx="1033560" cy="687240"/>
              <a:chOff x="6383160" y="1909800"/>
              <a:chExt cx="1033560" cy="68724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6608880" y="1909800"/>
                <a:ext cx="807840" cy="687240"/>
                <a:chOff x="6608880" y="1909800"/>
                <a:chExt cx="807840" cy="687240"/>
              </a:xfrm>
            </p:grpSpPr>
            <p:grpSp>
              <p:nvGrpSpPr>
                <p:cNvPr id="1094" name=""/>
                <p:cNvGrpSpPr/>
                <p:nvPr/>
              </p:nvGrpSpPr>
              <p:grpSpPr>
                <a:xfrm>
                  <a:off x="6608880" y="1909800"/>
                  <a:ext cx="679320" cy="687240"/>
                  <a:chOff x="6608880" y="1909800"/>
                  <a:chExt cx="679320" cy="68724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6615000" y="19159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6608880" y="19098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7297560" y="22460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>
                <a:off x="6383160" y="2023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83160" y="24811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7394400" y="22431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53320" y="19508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75320" y="4979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7298640" y="16462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929F-6C4D-4C58-9AE0-F6C52137087D}" type="slidenum">
              <a:t>16</a:t>
            </a:fld>
          </a:p>
        </p:txBody>
      </p:sp>
    </p:spTree>
  </p:cSld>
  <p:transition advTm="3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7069680" y="13032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574320" y="2979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442640" y="297972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5224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436880" y="4122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017480" y="526572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523720" y="412272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27600" y="297972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6846840" y="1870200"/>
            <a:ext cx="301680" cy="12160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7676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82040" y="34704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4684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7380360" y="461340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8748720" y="346860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67760" y="164304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73960" y="202572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213680" y="209700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7360" y="503064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602480" y="548748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8612280" y="4611240"/>
            <a:ext cx="149040" cy="606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318440" y="187020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547040" y="270828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302200" y="195588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35520" y="506880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505160" y="267984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09920" y="347652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6680" y="233208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4520" y="1681200"/>
            <a:ext cx="5719680" cy="3405240"/>
          </a:xfrm>
          <a:custGeom>
            <a:avLst/>
            <a:gdLst/>
            <a:ahLst/>
            <a:rect l="l" t="t" r="r" b="b"/>
            <a:pathLst>
              <a:path w="3603" h="2145">
                <a:moveTo>
                  <a:pt x="273" y="1368"/>
                </a:moveTo>
                <a:lnTo>
                  <a:pt x="1413" y="228"/>
                </a:lnTo>
                <a:lnTo>
                  <a:pt x="2963" y="228"/>
                </a:lnTo>
                <a:lnTo>
                  <a:pt x="2963" y="2144"/>
                </a:lnTo>
                <a:lnTo>
                  <a:pt x="3602" y="2144"/>
                </a:lnTo>
                <a:lnTo>
                  <a:pt x="3602" y="0"/>
                </a:lnTo>
                <a:lnTo>
                  <a:pt x="866" y="0"/>
                </a:lnTo>
                <a:lnTo>
                  <a:pt x="0" y="866"/>
                </a:lnTo>
                <a:lnTo>
                  <a:pt x="0" y="1368"/>
                </a:lnTo>
                <a:lnTo>
                  <a:pt x="273" y="136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55400" y="11556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36120" y="535932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53720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66120" y="17161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13240" y="2476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2920" y="3308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6120" y="56610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6120" y="30909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317320" y="1911240"/>
            <a:ext cx="2530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37628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65232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14720" y="589284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354640" y="350676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354640" y="2128320"/>
            <a:ext cx="0" cy="938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16520" y="26938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04640" y="370692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59560" y="240336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74160" y="55166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213560" y="18972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9276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611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7236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3720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92760" y="4900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61160" y="57326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895120" y="357984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36190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02680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75076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376280" y="444816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171880" y="5316480"/>
            <a:ext cx="4302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95480" y="444816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0024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548160" y="357984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24200" y="278280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45440" y="3489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021480" y="26938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99320" y="348948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29200" y="42861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05840" y="348948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601080" y="42861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93716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73276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21480" y="42861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26240" y="50817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61160" y="24400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537200" y="320040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6520" y="40323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2100240" y="278280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1376280" y="357984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140480" y="34164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37520" y="26208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00240" y="2058840"/>
            <a:ext cx="4320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76280" y="2855880"/>
            <a:ext cx="43200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9600" y="3651120"/>
            <a:ext cx="43020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66120" y="44672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5354640" y="488160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12440" y="1407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25FA-6F22-423C-92DE-30DAF6206B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232680" y="923760"/>
            <a:ext cx="2910240" cy="4953960"/>
            <a:chOff x="6232680" y="923760"/>
            <a:chExt cx="2910240" cy="4953960"/>
          </a:xfrm>
        </p:grpSpPr>
        <p:grpSp>
          <p:nvGrpSpPr>
            <p:cNvPr id="1198" name=""/>
            <p:cNvGrpSpPr/>
            <p:nvPr/>
          </p:nvGrpSpPr>
          <p:grpSpPr>
            <a:xfrm>
              <a:off x="6937200" y="1725120"/>
              <a:ext cx="1825920" cy="2057040"/>
              <a:chOff x="6937200" y="1725120"/>
              <a:chExt cx="1825920" cy="205704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6937200" y="1725120"/>
                <a:ext cx="1825920" cy="2057040"/>
                <a:chOff x="6937200" y="1725120"/>
                <a:chExt cx="1825920" cy="2057040"/>
              </a:xfrm>
            </p:grpSpPr>
            <p:grpSp>
              <p:nvGrpSpPr>
                <p:cNvPr id="1200" name=""/>
                <p:cNvGrpSpPr/>
                <p:nvPr/>
              </p:nvGrpSpPr>
              <p:grpSpPr>
                <a:xfrm>
                  <a:off x="7043760" y="1725120"/>
                  <a:ext cx="1605240" cy="2057040"/>
                  <a:chOff x="7043760" y="1725120"/>
                  <a:chExt cx="1605240" cy="205704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 rot="10800000">
                    <a:off x="7050600" y="1725120"/>
                    <a:ext cx="15984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28" y="5433"/>
                        </a:moveTo>
                        <a:arcTo wR="10800" hR="10800" stAng="-9012068" swAng="36052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28" y="5433"/>
                        </a:moveTo>
                        <a:arcTo wR="10800" hR="10800" stAng="-9012068" swAng="3605248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043760" y="2410920"/>
                    <a:ext cx="1600200" cy="13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9" y="0"/>
                        </a:moveTo>
                        <a:arcTo wR="10800" hR="10800" stAng="-5406821" swAng="36257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9" y="0"/>
                        </a:moveTo>
                        <a:arcTo wR="10800" hR="10800" stAng="-5406821" swAng="3625793"/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740720" y="2412720"/>
                    <a:ext cx="216000" cy="67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734240" y="2406240"/>
                    <a:ext cx="1159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33">
                        <a:moveTo>
                          <a:pt x="72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72" y="43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6937200" y="2063520"/>
                  <a:ext cx="905040" cy="687240"/>
                  <a:chOff x="6937200" y="2063520"/>
                  <a:chExt cx="905040" cy="687240"/>
                </a:xfrm>
              </p:grpSpPr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7162920" y="2063520"/>
                    <a:ext cx="679320" cy="687240"/>
                    <a:chOff x="7162920" y="2063520"/>
                    <a:chExt cx="679320" cy="68724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7169040" y="206964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7162920" y="20635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9" name=""/>
                  <p:cNvSpPr/>
                  <p:nvPr/>
                </p:nvSpPr>
                <p:spPr>
                  <a:xfrm>
                    <a:off x="6937200" y="21776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6937200" y="2634840"/>
                    <a:ext cx="22572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1" name=""/>
                <p:cNvSpPr/>
                <p:nvPr/>
              </p:nvSpPr>
              <p:spPr>
                <a:xfrm>
                  <a:off x="8537400" y="27493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623000" y="2977920"/>
                  <a:ext cx="3114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3" name=""/>
              <p:cNvSpPr/>
              <p:nvPr/>
            </p:nvSpPr>
            <p:spPr>
              <a:xfrm>
                <a:off x="8540640" y="269856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7746480" y="1130040"/>
              <a:ext cx="1041840" cy="687240"/>
              <a:chOff x="7746480" y="1130040"/>
              <a:chExt cx="1041840" cy="68724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7754760" y="1130040"/>
                <a:ext cx="1033560" cy="687240"/>
                <a:chOff x="7754760" y="1130040"/>
                <a:chExt cx="1033560" cy="687240"/>
              </a:xfrm>
            </p:grpSpPr>
            <p:grpSp>
              <p:nvGrpSpPr>
                <p:cNvPr id="1216" name=""/>
                <p:cNvGrpSpPr/>
                <p:nvPr/>
              </p:nvGrpSpPr>
              <p:grpSpPr>
                <a:xfrm>
                  <a:off x="7980480" y="1130040"/>
                  <a:ext cx="807840" cy="687240"/>
                  <a:chOff x="7980480" y="1130040"/>
                  <a:chExt cx="807840" cy="687240"/>
                </a:xfrm>
              </p:grpSpPr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7980480" y="1130040"/>
                    <a:ext cx="679320" cy="687240"/>
                    <a:chOff x="7980480" y="1130040"/>
                    <a:chExt cx="679320" cy="687240"/>
                  </a:xfrm>
                </p:grpSpPr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7986600" y="1136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7980480" y="1130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0" name=""/>
                  <p:cNvSpPr/>
                  <p:nvPr/>
                </p:nvSpPr>
                <p:spPr>
                  <a:xfrm>
                    <a:off x="8669160" y="146664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754760" y="12441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7754760" y="1701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 flipH="1">
                <a:off x="7746480" y="147276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873920" y="119340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6611760" y="4870080"/>
              <a:ext cx="2189520" cy="919080"/>
              <a:chOff x="6611760" y="4870080"/>
              <a:chExt cx="2189520" cy="919080"/>
            </a:xfrm>
          </p:grpSpPr>
          <p:grpSp>
            <p:nvGrpSpPr>
              <p:cNvPr id="1226" name=""/>
              <p:cNvGrpSpPr/>
              <p:nvPr/>
            </p:nvGrpSpPr>
            <p:grpSpPr>
              <a:xfrm>
                <a:off x="6611760" y="5101920"/>
                <a:ext cx="1033560" cy="687240"/>
                <a:chOff x="6611760" y="5101920"/>
                <a:chExt cx="1033560" cy="687240"/>
              </a:xfrm>
            </p:grpSpPr>
            <p:grpSp>
              <p:nvGrpSpPr>
                <p:cNvPr id="1227" name=""/>
                <p:cNvGrpSpPr/>
                <p:nvPr/>
              </p:nvGrpSpPr>
              <p:grpSpPr>
                <a:xfrm>
                  <a:off x="6837480" y="5101920"/>
                  <a:ext cx="807840" cy="687240"/>
                  <a:chOff x="6837480" y="5101920"/>
                  <a:chExt cx="807840" cy="687240"/>
                </a:xfrm>
              </p:grpSpPr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6837480" y="5101920"/>
                    <a:ext cx="679320" cy="687240"/>
                    <a:chOff x="6837480" y="5101920"/>
                    <a:chExt cx="679320" cy="68724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6843600" y="510840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6837480" y="510192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1" name=""/>
                  <p:cNvSpPr/>
                  <p:nvPr/>
                </p:nvSpPr>
                <p:spPr>
                  <a:xfrm>
                    <a:off x="7526160" y="543852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2" name=""/>
                <p:cNvSpPr/>
                <p:nvPr/>
              </p:nvSpPr>
              <p:spPr>
                <a:xfrm>
                  <a:off x="6611760" y="52160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611760" y="567324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7661160" y="4870080"/>
                <a:ext cx="1140120" cy="673200"/>
                <a:chOff x="7661160" y="4870080"/>
                <a:chExt cx="1140120" cy="6732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7661160" y="49780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661160" y="543528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893000" y="487008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970400" y="493524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575560" y="52066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0" name=""/>
            <p:cNvGrpSpPr/>
            <p:nvPr/>
          </p:nvGrpSpPr>
          <p:grpSpPr>
            <a:xfrm>
              <a:off x="6594480" y="3416040"/>
              <a:ext cx="2206800" cy="907920"/>
              <a:chOff x="6594480" y="3416040"/>
              <a:chExt cx="2206800" cy="90792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7661160" y="3650760"/>
                <a:ext cx="1140120" cy="673200"/>
                <a:chOff x="7661160" y="3650760"/>
                <a:chExt cx="1140120" cy="67320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661160" y="37587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661160" y="421596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893000" y="365076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7970400" y="371592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575560" y="398736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6594480" y="3416040"/>
                <a:ext cx="1139760" cy="687240"/>
                <a:chOff x="6594480" y="3416040"/>
                <a:chExt cx="1139760" cy="687240"/>
              </a:xfrm>
            </p:grpSpPr>
            <p:grpSp>
              <p:nvGrpSpPr>
                <p:cNvPr id="1248" name=""/>
                <p:cNvGrpSpPr/>
                <p:nvPr/>
              </p:nvGrpSpPr>
              <p:grpSpPr>
                <a:xfrm>
                  <a:off x="6819840" y="3416040"/>
                  <a:ext cx="914400" cy="687240"/>
                  <a:chOff x="6819840" y="3416040"/>
                  <a:chExt cx="914400" cy="687240"/>
                </a:xfrm>
              </p:grpSpPr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6819840" y="3416040"/>
                    <a:ext cx="679680" cy="687240"/>
                    <a:chOff x="6819840" y="3416040"/>
                    <a:chExt cx="679680" cy="68724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6826320" y="342216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6819840" y="341604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2" name=""/>
                  <p:cNvSpPr/>
                  <p:nvPr/>
                </p:nvSpPr>
                <p:spPr>
                  <a:xfrm>
                    <a:off x="7508880" y="375876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7512120" y="370800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4" name=""/>
                <p:cNvSpPr/>
                <p:nvPr/>
              </p:nvSpPr>
              <p:spPr>
                <a:xfrm>
                  <a:off x="6594480" y="35301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594480" y="398736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7835760" y="416520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630828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308280" y="5419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805600" y="2523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80560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737560" y="1228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805600" y="4962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75320" y="923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75320" y="1228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75320" y="1533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13200" y="1914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13200" y="2371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23040" y="27525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08280" y="3742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32680" y="3285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99000" y="3971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75320" y="4733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6553080" y="1320840"/>
            <a:ext cx="1676520" cy="1523880"/>
            <a:chOff x="6553080" y="1320840"/>
            <a:chExt cx="1676520" cy="1523880"/>
          </a:xfrm>
        </p:grpSpPr>
        <p:sp>
          <p:nvSpPr>
            <p:cNvPr id="1274" name=""/>
            <p:cNvSpPr/>
            <p:nvPr/>
          </p:nvSpPr>
          <p:spPr>
            <a:xfrm>
              <a:off x="7315200" y="1320840"/>
              <a:ext cx="914400" cy="6094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53080" y="2006640"/>
              <a:ext cx="1371600" cy="838080"/>
            </a:xfrm>
            <a:prstGeom prst="rect">
              <a:avLst/>
            </a:prstGeom>
            <a:solidFill>
              <a:srgbClr val="ff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4114800" y="1352520"/>
            <a:ext cx="1371600" cy="426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03520" y="5680080"/>
            <a:ext cx="837360" cy="45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320" y="1504800"/>
            <a:ext cx="3887640" cy="3888000"/>
          </a:xfrm>
          <a:custGeom>
            <a:avLst/>
            <a:gdLst/>
            <a:ahLst/>
            <a:rect l="l" t="t" r="r" b="b"/>
            <a:pathLst>
              <a:path w="2449" h="2449">
                <a:moveTo>
                  <a:pt x="1008" y="0"/>
                </a:moveTo>
                <a:lnTo>
                  <a:pt x="0" y="1008"/>
                </a:lnTo>
                <a:lnTo>
                  <a:pt x="0" y="1488"/>
                </a:lnTo>
                <a:lnTo>
                  <a:pt x="960" y="2448"/>
                </a:lnTo>
                <a:lnTo>
                  <a:pt x="1488" y="2448"/>
                </a:lnTo>
                <a:lnTo>
                  <a:pt x="2448" y="1488"/>
                </a:lnTo>
                <a:lnTo>
                  <a:pt x="2448" y="1056"/>
                </a:lnTo>
                <a:lnTo>
                  <a:pt x="1392" y="0"/>
                </a:lnTo>
                <a:lnTo>
                  <a:pt x="1008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60320" y="5680080"/>
            <a:ext cx="837360" cy="45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z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257720" y="4971960"/>
            <a:ext cx="108576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60480" y="1260360"/>
            <a:ext cx="5167080" cy="4192200"/>
            <a:chOff x="60480" y="1260360"/>
            <a:chExt cx="5167080" cy="4192200"/>
          </a:xfrm>
        </p:grpSpPr>
        <p:sp>
          <p:nvSpPr>
            <p:cNvPr id="1282" name=""/>
            <p:cNvSpPr/>
            <p:nvPr/>
          </p:nvSpPr>
          <p:spPr>
            <a:xfrm>
              <a:off x="16225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365720" y="152712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6040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048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498760" y="232740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6225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10824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6040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98760" y="41180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225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365720" y="49942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365720" y="32036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2441160" y="1733400"/>
              <a:ext cx="190188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1450800" y="1888920"/>
              <a:ext cx="45432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6886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228888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051000" y="36417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37448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136600" y="45561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90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27120" y="45561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89240" y="36417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50800" y="2727360"/>
              <a:ext cx="45432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75040" y="2727360"/>
              <a:ext cx="453960" cy="4539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12920" y="1888920"/>
              <a:ext cx="453960" cy="4543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7840" y="5238720"/>
              <a:ext cx="182556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4876920" y="3639960"/>
              <a:ext cx="0" cy="13687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4876920" y="1887120"/>
              <a:ext cx="0" cy="136836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83840" y="12603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0640" y="2556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03160" y="4156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83840" y="26319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327560" y="2327400"/>
              <a:ext cx="58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422440" y="179388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07520" y="4842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278720" y="1717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660680" y="263196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6280" y="3470400"/>
              <a:ext cx="50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93120" y="2631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031560" y="34704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78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1716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21720" y="34704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583640" y="43084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4366440" y="15271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6112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120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499480" y="232740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6232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10896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6112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99480" y="41180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6232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66440" y="4994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66440" y="3203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41160" y="1733400"/>
            <a:ext cx="1901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1450800" y="188928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6886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228888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051000" y="36417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137448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2136600" y="45561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890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527120" y="45561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9240" y="36417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450800" y="2727360"/>
            <a:ext cx="4543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75040" y="272736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12920" y="1889280"/>
            <a:ext cx="45396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517840" y="5238720"/>
            <a:ext cx="1825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876920" y="3639960"/>
            <a:ext cx="0" cy="1368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876920" y="1887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183840" y="12603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40640" y="2556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403160" y="41562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83840" y="263196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560" y="2327400"/>
            <a:ext cx="58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422440" y="17938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07520" y="48420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278720" y="17175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26319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46280" y="347040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193120" y="263196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31560" y="347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278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11716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1720" y="347040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83640" y="4308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1447920" y="1469880"/>
            <a:ext cx="1144440" cy="458280"/>
            <a:chOff x="1447920" y="1469880"/>
            <a:chExt cx="1144440" cy="458280"/>
          </a:xfrm>
        </p:grpSpPr>
        <p:sp>
          <p:nvSpPr>
            <p:cNvPr id="1370" name=""/>
            <p:cNvSpPr/>
            <p:nvPr/>
          </p:nvSpPr>
          <p:spPr>
            <a:xfrm>
              <a:off x="1447920" y="1558800"/>
              <a:ext cx="1144440" cy="316080"/>
            </a:xfrm>
            <a:custGeom>
              <a:avLst/>
              <a:gdLst/>
              <a:ahLst/>
              <a:rect l="l" t="t" r="r" b="b"/>
              <a:pathLst>
                <a:path w="721" h="199">
                  <a:moveTo>
                    <a:pt x="198" y="0"/>
                  </a:moveTo>
                  <a:lnTo>
                    <a:pt x="0" y="198"/>
                  </a:lnTo>
                  <a:lnTo>
                    <a:pt x="720" y="198"/>
                  </a:lnTo>
                  <a:lnTo>
                    <a:pt x="522" y="0"/>
                  </a:lnTo>
                  <a:lnTo>
                    <a:pt x="19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566000" y="146988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3CC7-02F7-499D-8522-5FD9591AAB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69680" y="99864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574320" y="2674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442640" y="2674800"/>
            <a:ext cx="61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5224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y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436880" y="3817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017480" y="4960800"/>
            <a:ext cx="627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23720" y="3817800"/>
            <a:ext cx="52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x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427600" y="2674800"/>
            <a:ext cx="71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791400" y="2318400"/>
            <a:ext cx="498960" cy="5115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676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82040" y="3165480"/>
            <a:ext cx="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4684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7380360" y="4308480"/>
            <a:ext cx="301680" cy="7588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8748720" y="3163680"/>
            <a:ext cx="0" cy="75852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467760" y="133812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1260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73960" y="172080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7318440" y="1565280"/>
            <a:ext cx="1442880" cy="3652560"/>
            <a:chOff x="7318440" y="1565280"/>
            <a:chExt cx="1442880" cy="3652560"/>
          </a:xfrm>
        </p:grpSpPr>
        <p:sp>
          <p:nvSpPr>
            <p:cNvPr id="1444" name=""/>
            <p:cNvSpPr/>
            <p:nvPr/>
          </p:nvSpPr>
          <p:spPr>
            <a:xfrm flipV="1">
              <a:off x="7602480" y="5182920"/>
              <a:ext cx="406440" cy="349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8612280" y="4307040"/>
              <a:ext cx="149040" cy="6062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318440" y="1565280"/>
              <a:ext cx="111240" cy="4348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47040" y="2403360"/>
              <a:ext cx="149040" cy="4255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7242120" y="177336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47360" y="4697280"/>
            <a:ext cx="76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7602480" y="5182920"/>
            <a:ext cx="406440" cy="34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8612280" y="4307040"/>
            <a:ext cx="149040" cy="606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318440" y="1565280"/>
            <a:ext cx="111240" cy="434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547040" y="2403360"/>
            <a:ext cx="149040" cy="425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925360" y="5840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z- is delayed by the new transition s-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F3B8-EAFE-4BDB-A66D-2FAF04B61C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gic decompos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zard-free decompos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chnology mapp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ptimization based on timing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lative tim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ming assumptions and con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ther synthesis paradig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HDLs, CSP, burst-mode,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0C0A-FB35-4414-B7A1-CD1AB76B96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6" name=""/>
          <p:cNvGrpSpPr/>
          <p:nvPr/>
        </p:nvGrpSpPr>
        <p:grpSpPr>
          <a:xfrm>
            <a:off x="6003720" y="847800"/>
            <a:ext cx="3139200" cy="4953960"/>
            <a:chOff x="6003720" y="847800"/>
            <a:chExt cx="3139200" cy="4953960"/>
          </a:xfrm>
        </p:grpSpPr>
        <p:grpSp>
          <p:nvGrpSpPr>
            <p:cNvPr id="1457" name=""/>
            <p:cNvGrpSpPr/>
            <p:nvPr/>
          </p:nvGrpSpPr>
          <p:grpSpPr>
            <a:xfrm>
              <a:off x="7754760" y="1054080"/>
              <a:ext cx="1033560" cy="687240"/>
              <a:chOff x="7754760" y="1054080"/>
              <a:chExt cx="1033560" cy="687240"/>
            </a:xfrm>
          </p:grpSpPr>
          <p:grpSp>
            <p:nvGrpSpPr>
              <p:cNvPr id="1458" name=""/>
              <p:cNvGrpSpPr/>
              <p:nvPr/>
            </p:nvGrpSpPr>
            <p:grpSpPr>
              <a:xfrm>
                <a:off x="7980480" y="1054080"/>
                <a:ext cx="807840" cy="687240"/>
                <a:chOff x="7980480" y="1054080"/>
                <a:chExt cx="807840" cy="687240"/>
              </a:xfrm>
            </p:grpSpPr>
            <p:grpSp>
              <p:nvGrpSpPr>
                <p:cNvPr id="1459" name=""/>
                <p:cNvGrpSpPr/>
                <p:nvPr/>
              </p:nvGrpSpPr>
              <p:grpSpPr>
                <a:xfrm>
                  <a:off x="7980480" y="1054080"/>
                  <a:ext cx="679320" cy="687240"/>
                  <a:chOff x="7980480" y="1054080"/>
                  <a:chExt cx="679320" cy="68724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7986600" y="106020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7980480" y="105408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2" name=""/>
                <p:cNvSpPr/>
                <p:nvPr/>
              </p:nvSpPr>
              <p:spPr>
                <a:xfrm>
                  <a:off x="8669160" y="139068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3" name=""/>
              <p:cNvSpPr/>
              <p:nvPr/>
            </p:nvSpPr>
            <p:spPr>
              <a:xfrm>
                <a:off x="7754760" y="11682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754760" y="162540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7873920" y="1117440"/>
              <a:ext cx="101520" cy="101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6611760" y="4794120"/>
              <a:ext cx="2189520" cy="919080"/>
              <a:chOff x="6611760" y="4794120"/>
              <a:chExt cx="2189520" cy="919080"/>
            </a:xfrm>
          </p:grpSpPr>
          <p:grpSp>
            <p:nvGrpSpPr>
              <p:cNvPr id="1467" name=""/>
              <p:cNvGrpSpPr/>
              <p:nvPr/>
            </p:nvGrpSpPr>
            <p:grpSpPr>
              <a:xfrm>
                <a:off x="6611760" y="5025960"/>
                <a:ext cx="1033560" cy="687240"/>
                <a:chOff x="6611760" y="5025960"/>
                <a:chExt cx="1033560" cy="68724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6837480" y="5025960"/>
                  <a:ext cx="807840" cy="687240"/>
                  <a:chOff x="6837480" y="5025960"/>
                  <a:chExt cx="807840" cy="687240"/>
                </a:xfrm>
              </p:grpSpPr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6837480" y="5025960"/>
                    <a:ext cx="679320" cy="687240"/>
                    <a:chOff x="6837480" y="5025960"/>
                    <a:chExt cx="679320" cy="687240"/>
                  </a:xfrm>
                </p:grpSpPr>
                <p:sp>
                  <p:nvSpPr>
                    <p:cNvPr id="1470" name=""/>
                    <p:cNvSpPr/>
                    <p:nvPr/>
                  </p:nvSpPr>
                  <p:spPr>
                    <a:xfrm>
                      <a:off x="6843600" y="5032440"/>
                      <a:ext cx="673200" cy="672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6837480" y="502596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2" name=""/>
                  <p:cNvSpPr/>
                  <p:nvPr/>
                </p:nvSpPr>
                <p:spPr>
                  <a:xfrm>
                    <a:off x="7526160" y="5362560"/>
                    <a:ext cx="1191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3" name=""/>
                <p:cNvSpPr/>
                <p:nvPr/>
              </p:nvSpPr>
              <p:spPr>
                <a:xfrm>
                  <a:off x="6611760" y="51400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611760" y="559728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7661160" y="4794120"/>
                <a:ext cx="1140120" cy="673200"/>
                <a:chOff x="7661160" y="4794120"/>
                <a:chExt cx="1140120" cy="6732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7661160" y="49021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661160" y="535932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893000" y="479412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970400" y="485928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575560" y="513072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1" name=""/>
            <p:cNvGrpSpPr/>
            <p:nvPr/>
          </p:nvGrpSpPr>
          <p:grpSpPr>
            <a:xfrm>
              <a:off x="6594480" y="3340080"/>
              <a:ext cx="2206800" cy="907920"/>
              <a:chOff x="6594480" y="3340080"/>
              <a:chExt cx="2206800" cy="90792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7661160" y="3574800"/>
                <a:ext cx="1140120" cy="673200"/>
                <a:chOff x="7661160" y="3574800"/>
                <a:chExt cx="1140120" cy="67320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7661160" y="36828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661160" y="4140000"/>
                  <a:ext cx="3398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893000" y="3574800"/>
                  <a:ext cx="673200" cy="6732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7970400" y="3639960"/>
                  <a:ext cx="5058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8240" rIns="138240" tIns="69840" bIns="69840" anchor="t">
                  <a:spAutoFit/>
                </a:bodyPr>
                <a:p>
                  <a:pPr>
                    <a:tabLst>
                      <a:tab algn="l" pos="0"/>
                      <a:tab algn="l" pos="2057400"/>
                      <a:tab algn="l" pos="4114800"/>
                      <a:tab algn="l" pos="6172200"/>
                      <a:tab algn="l" pos="8229600"/>
                      <a:tab algn="l" pos="10287000"/>
                    </a:tabLst>
                  </a:pPr>
                  <a:r>
                    <a:rPr b="0" lang="en-US" sz="27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2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575560" y="3911400"/>
                  <a:ext cx="2257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594480" y="3340080"/>
                <a:ext cx="1139760" cy="687240"/>
                <a:chOff x="6594480" y="3340080"/>
                <a:chExt cx="1139760" cy="687240"/>
              </a:xfrm>
            </p:grpSpPr>
            <p:grpSp>
              <p:nvGrpSpPr>
                <p:cNvPr id="1489" name=""/>
                <p:cNvGrpSpPr/>
                <p:nvPr/>
              </p:nvGrpSpPr>
              <p:grpSpPr>
                <a:xfrm>
                  <a:off x="6819840" y="3340080"/>
                  <a:ext cx="914400" cy="687240"/>
                  <a:chOff x="6819840" y="3340080"/>
                  <a:chExt cx="914400" cy="687240"/>
                </a:xfrm>
              </p:grpSpPr>
              <p:grpSp>
                <p:nvGrpSpPr>
                  <p:cNvPr id="1490" name=""/>
                  <p:cNvGrpSpPr/>
                  <p:nvPr/>
                </p:nvGrpSpPr>
                <p:grpSpPr>
                  <a:xfrm>
                    <a:off x="6819840" y="3340080"/>
                    <a:ext cx="679680" cy="687240"/>
                    <a:chOff x="6819840" y="3340080"/>
                    <a:chExt cx="679680" cy="687240"/>
                  </a:xfrm>
                </p:grpSpPr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6826320" y="3346200"/>
                      <a:ext cx="673200" cy="6732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6819840" y="3340080"/>
                      <a:ext cx="34452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33">
                          <a:moveTo>
                            <a:pt x="216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216" y="43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3" name=""/>
                  <p:cNvSpPr/>
                  <p:nvPr/>
                </p:nvSpPr>
                <p:spPr>
                  <a:xfrm>
                    <a:off x="7508880" y="3682800"/>
                    <a:ext cx="2253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7512120" y="3632040"/>
                    <a:ext cx="101520" cy="1015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5" name=""/>
                <p:cNvSpPr/>
                <p:nvPr/>
              </p:nvSpPr>
              <p:spPr>
                <a:xfrm>
                  <a:off x="6594480" y="34542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594480" y="3911400"/>
                  <a:ext cx="2253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7" name=""/>
              <p:cNvSpPr/>
              <p:nvPr/>
            </p:nvSpPr>
            <p:spPr>
              <a:xfrm>
                <a:off x="7835760" y="4089240"/>
                <a:ext cx="10188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"/>
            <p:cNvSpPr/>
            <p:nvPr/>
          </p:nvSpPr>
          <p:spPr>
            <a:xfrm>
              <a:off x="630828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08280" y="534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805600" y="2448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80560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737560" y="11523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805600" y="4886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75320" y="8478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003720" y="1457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03720" y="1914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223040" y="2676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08280" y="3666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232680" y="32097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99000" y="3895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7062840" y="1668240"/>
              <a:ext cx="1719360" cy="2057040"/>
              <a:chOff x="7062840" y="1668240"/>
              <a:chExt cx="1719360" cy="205704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7062840" y="1668240"/>
                <a:ext cx="1605240" cy="2057040"/>
                <a:chOff x="7062840" y="1668240"/>
                <a:chExt cx="1605240" cy="2057040"/>
              </a:xfrm>
            </p:grpSpPr>
            <p:sp>
              <p:nvSpPr>
                <p:cNvPr id="1513" name=""/>
                <p:cNvSpPr/>
                <p:nvPr/>
              </p:nvSpPr>
              <p:spPr>
                <a:xfrm rot="10800000">
                  <a:off x="7069680" y="1668240"/>
                  <a:ext cx="15984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28" y="5433"/>
                      </a:moveTo>
                      <a:arcTo wR="10800" hR="10800" stAng="-9012068" swAng="36052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28" y="5433"/>
                      </a:moveTo>
                      <a:arcTo wR="10800" hR="10800" stAng="-9012068" swAng="3605248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062840" y="2354040"/>
                  <a:ext cx="160020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9" y="0"/>
                      </a:moveTo>
                      <a:arcTo wR="10800" hR="10800" stAng="-5406821" swAng="36257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9" y="0"/>
                      </a:moveTo>
                      <a:arcTo wR="10800" hR="10800" stAng="-5406821" swAng="3625793"/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759800" y="2355840"/>
                  <a:ext cx="21564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53320" y="2349360"/>
                  <a:ext cx="115920" cy="687600"/>
                </a:xfrm>
                <a:custGeom>
                  <a:avLst/>
                  <a:gdLst/>
                  <a:ahLst/>
                  <a:rect l="l" t="t" r="r" b="b"/>
                  <a:pathLst>
                    <a:path w="73" h="433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72" y="43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7" name=""/>
              <p:cNvSpPr/>
              <p:nvPr/>
            </p:nvSpPr>
            <p:spPr>
              <a:xfrm>
                <a:off x="8556480" y="269244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53600" y="2641680"/>
                <a:ext cx="101520" cy="101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758000" y="2463840"/>
                <a:ext cx="1904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756560" y="2921040"/>
                <a:ext cx="196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6383160" y="1587600"/>
              <a:ext cx="1033560" cy="687240"/>
              <a:chOff x="6383160" y="1587600"/>
              <a:chExt cx="1033560" cy="687240"/>
            </a:xfrm>
          </p:grpSpPr>
          <p:grpSp>
            <p:nvGrpSpPr>
              <p:cNvPr id="1522" name=""/>
              <p:cNvGrpSpPr/>
              <p:nvPr/>
            </p:nvGrpSpPr>
            <p:grpSpPr>
              <a:xfrm>
                <a:off x="6608880" y="1587600"/>
                <a:ext cx="807840" cy="687240"/>
                <a:chOff x="6608880" y="1587600"/>
                <a:chExt cx="807840" cy="687240"/>
              </a:xfrm>
            </p:grpSpPr>
            <p:grpSp>
              <p:nvGrpSpPr>
                <p:cNvPr id="1523" name=""/>
                <p:cNvGrpSpPr/>
                <p:nvPr/>
              </p:nvGrpSpPr>
              <p:grpSpPr>
                <a:xfrm>
                  <a:off x="6608880" y="1587600"/>
                  <a:ext cx="679320" cy="687240"/>
                  <a:chOff x="6608880" y="1587600"/>
                  <a:chExt cx="679320" cy="68724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6615000" y="15937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6608880" y="158760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6" name=""/>
                <p:cNvSpPr/>
                <p:nvPr/>
              </p:nvSpPr>
              <p:spPr>
                <a:xfrm>
                  <a:off x="7297560" y="1923840"/>
                  <a:ext cx="1191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"/>
              <p:cNvSpPr/>
              <p:nvPr/>
            </p:nvSpPr>
            <p:spPr>
              <a:xfrm>
                <a:off x="6383160" y="17017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383160" y="2158920"/>
                <a:ext cx="225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7394400" y="192096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753320" y="1628640"/>
              <a:ext cx="0" cy="835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1" name=""/>
          <p:cNvSpPr/>
          <p:nvPr/>
        </p:nvSpPr>
        <p:spPr>
          <a:xfrm>
            <a:off x="7658280" y="4591080"/>
            <a:ext cx="0" cy="311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08280" y="4581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188040" y="1924200"/>
            <a:ext cx="1328760" cy="2439720"/>
          </a:xfrm>
          <a:custGeom>
            <a:avLst/>
            <a:gdLst/>
            <a:ahLst/>
            <a:rect l="l" t="t" r="r" b="b"/>
            <a:pathLst>
              <a:path w="837" h="1537">
                <a:moveTo>
                  <a:pt x="836" y="0"/>
                </a:moveTo>
                <a:lnTo>
                  <a:pt x="836" y="309"/>
                </a:lnTo>
                <a:lnTo>
                  <a:pt x="0" y="309"/>
                </a:lnTo>
                <a:lnTo>
                  <a:pt x="0" y="1536"/>
                </a:lnTo>
                <a:lnTo>
                  <a:pt x="409" y="1536"/>
                </a:lnTo>
              </a:path>
            </a:pathLst>
          </a:custGeom>
          <a:noFill/>
          <a:ln cap="rnd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rot="10800000">
            <a:off x="6084000" y="3578400"/>
            <a:ext cx="1598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8" y="5433"/>
                </a:moveTo>
                <a:arcTo wR="10800" hR="10800" stAng="-9012068" swAng="3605248"/>
                <a:lnTo>
                  <a:pt x="10800" y="10800"/>
                </a:lnTo>
                <a:close/>
              </a:path>
              <a:path fill="none" w="21600" h="21600">
                <a:moveTo>
                  <a:pt x="1428" y="5433"/>
                </a:moveTo>
                <a:arcTo wR="10800" hR="10800" stAng="-9012068" swAng="3605248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77520" y="42642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821" swAng="3625793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821" swAng="3625793"/>
              </a:path>
            </a:pathLst>
          </a:custGeom>
          <a:solidFill>
            <a:srgbClr val="ff3300"/>
          </a:solidFill>
          <a:ln cap="rnd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773760" y="4265640"/>
            <a:ext cx="216000" cy="673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67640" y="4259160"/>
            <a:ext cx="115920" cy="687600"/>
          </a:xfrm>
          <a:custGeom>
            <a:avLst/>
            <a:gdLst/>
            <a:ahLst/>
            <a:rect l="l" t="t" r="r" b="b"/>
            <a:pathLst>
              <a:path w="73" h="433">
                <a:moveTo>
                  <a:pt x="72" y="0"/>
                </a:moveTo>
                <a:lnTo>
                  <a:pt x="0" y="0"/>
                </a:lnTo>
                <a:lnTo>
                  <a:pt x="0" y="432"/>
                </a:lnTo>
                <a:lnTo>
                  <a:pt x="72" y="4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570800" y="4602240"/>
            <a:ext cx="111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72320" y="48308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772320" y="437364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724800" y="4359240"/>
            <a:ext cx="218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301840" y="1133640"/>
            <a:ext cx="3490920" cy="3403440"/>
          </a:xfrm>
          <a:custGeom>
            <a:avLst/>
            <a:gdLst/>
            <a:ahLst/>
            <a:rect l="l" t="t" r="r" b="b"/>
            <a:pathLst>
              <a:path w="2199" h="2144">
                <a:moveTo>
                  <a:pt x="0" y="222"/>
                </a:moveTo>
                <a:lnTo>
                  <a:pt x="9" y="222"/>
                </a:lnTo>
                <a:lnTo>
                  <a:pt x="1560" y="228"/>
                </a:lnTo>
                <a:lnTo>
                  <a:pt x="1560" y="2144"/>
                </a:lnTo>
                <a:lnTo>
                  <a:pt x="2199" y="2144"/>
                </a:lnTo>
                <a:lnTo>
                  <a:pt x="2199" y="0"/>
                </a:lnTo>
                <a:lnTo>
                  <a:pt x="9" y="1"/>
                </a:lnTo>
                <a:lnTo>
                  <a:pt x="9" y="107"/>
                </a:lnTo>
                <a:lnTo>
                  <a:pt x="28" y="232"/>
                </a:lnTo>
                <a:lnTo>
                  <a:pt x="19" y="2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18080" y="1434960"/>
            <a:ext cx="436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835520" y="4521240"/>
            <a:ext cx="50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36680" y="1784520"/>
            <a:ext cx="5284800" cy="3840120"/>
          </a:xfrm>
          <a:custGeom>
            <a:avLst/>
            <a:gdLst/>
            <a:ahLst/>
            <a:rect l="l" t="t" r="r" b="b"/>
            <a:pathLst>
              <a:path w="3329" h="2419">
                <a:moveTo>
                  <a:pt x="1686" y="0"/>
                </a:moveTo>
                <a:lnTo>
                  <a:pt x="2644" y="958"/>
                </a:lnTo>
                <a:lnTo>
                  <a:pt x="2644" y="2007"/>
                </a:lnTo>
                <a:lnTo>
                  <a:pt x="3328" y="2007"/>
                </a:lnTo>
                <a:lnTo>
                  <a:pt x="3328" y="2418"/>
                </a:lnTo>
                <a:lnTo>
                  <a:pt x="1094" y="2418"/>
                </a:lnTo>
                <a:lnTo>
                  <a:pt x="0" y="1323"/>
                </a:lnTo>
                <a:lnTo>
                  <a:pt x="1322" y="0"/>
                </a:lnTo>
                <a:lnTo>
                  <a:pt x="168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07760" y="110340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36120" y="4811760"/>
            <a:ext cx="672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s=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335680" y="11383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10680" y="11685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10680" y="5113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10680" y="25430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3281400" y="136368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059280" y="5345280"/>
            <a:ext cx="173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5299200" y="2958840"/>
            <a:ext cx="0" cy="93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5299200" y="1581120"/>
            <a:ext cx="0" cy="938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48840" y="31590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704120" y="1855800"/>
            <a:ext cx="55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618360" y="496872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3732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053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61656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8140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037320" y="43527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205360" y="518472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2839680" y="303228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35636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197136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9532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320840" y="390060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116080" y="476892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840040" y="3900600"/>
            <a:ext cx="4302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04480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92360" y="3032280"/>
            <a:ext cx="43200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876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90000" y="294156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966040" y="214632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243520" y="294156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760" y="3738600"/>
            <a:ext cx="484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750400" y="294156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545640" y="373860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88172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67696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966040" y="373860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170800" y="453384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05360" y="189216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81400" y="26528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21080" y="348444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044440" y="2235240"/>
            <a:ext cx="431640" cy="430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1320480" y="3032280"/>
            <a:ext cx="43164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84680" y="2868480"/>
            <a:ext cx="49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+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882080" y="2073240"/>
            <a:ext cx="419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z-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690280" y="1526760"/>
            <a:ext cx="360" cy="42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810680" y="3919680"/>
            <a:ext cx="82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5299200" y="433404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412440" y="8604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compositio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D1AF-E8A2-468D-A73D-E2E58B54A8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611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613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630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631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4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6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8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2590920" y="2437560"/>
            <a:ext cx="1828800" cy="915120"/>
            <a:chOff x="2590920" y="2437560"/>
            <a:chExt cx="1828800" cy="915120"/>
          </a:xfrm>
        </p:grpSpPr>
        <p:grpSp>
          <p:nvGrpSpPr>
            <p:cNvPr id="1640" name=""/>
            <p:cNvGrpSpPr/>
            <p:nvPr/>
          </p:nvGrpSpPr>
          <p:grpSpPr>
            <a:xfrm>
              <a:off x="3276720" y="2552760"/>
              <a:ext cx="1143000" cy="687240"/>
              <a:chOff x="3276720" y="2552760"/>
              <a:chExt cx="1143000" cy="687240"/>
            </a:xfrm>
          </p:grpSpPr>
          <p:grpSp>
            <p:nvGrpSpPr>
              <p:cNvPr id="1641" name=""/>
              <p:cNvGrpSpPr/>
              <p:nvPr/>
            </p:nvGrpSpPr>
            <p:grpSpPr>
              <a:xfrm>
                <a:off x="3505320" y="2552760"/>
                <a:ext cx="914400" cy="687240"/>
                <a:chOff x="3505320" y="2552760"/>
                <a:chExt cx="914400" cy="68724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3505320" y="2552760"/>
                  <a:ext cx="679320" cy="687240"/>
                  <a:chOff x="3505320" y="2552760"/>
                  <a:chExt cx="679320" cy="68724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511440" y="255888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505320" y="2552760"/>
                    <a:ext cx="34452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5" name=""/>
                <p:cNvSpPr/>
                <p:nvPr/>
              </p:nvSpPr>
              <p:spPr>
                <a:xfrm>
                  <a:off x="4191120" y="2895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197240" y="284472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7" name=""/>
              <p:cNvSpPr/>
              <p:nvPr/>
            </p:nvSpPr>
            <p:spPr>
              <a:xfrm>
                <a:off x="3276720" y="266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76720" y="3124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 flipH="1" flipV="1" rot="10800000">
              <a:off x="2590920" y="2437200"/>
              <a:ext cx="799920" cy="343080"/>
            </a:xfrm>
            <a:custGeom>
              <a:avLst/>
              <a:gdLst>
                <a:gd name="textAreaLeft" fmla="*/ 175680 w 799920"/>
                <a:gd name="textAreaRight" fmla="*/ 624240 w 799920"/>
                <a:gd name="textAreaTop" fmla="*/ 75240 h 343080"/>
                <a:gd name="textAreaBottom" fmla="*/ 267840 h 3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590920" y="3009960"/>
              <a:ext cx="799920" cy="342720"/>
            </a:xfrm>
            <a:prstGeom prst="parallelogram">
              <a:avLst>
                <a:gd name="adj" fmla="val 58340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2063880" y="4114800"/>
            <a:ext cx="3720960" cy="2050920"/>
            <a:chOff x="2063880" y="4114800"/>
            <a:chExt cx="3720960" cy="2050920"/>
          </a:xfrm>
        </p:grpSpPr>
        <p:sp>
          <p:nvSpPr>
            <p:cNvPr id="1652" name=""/>
            <p:cNvSpPr/>
            <p:nvPr/>
          </p:nvSpPr>
          <p:spPr>
            <a:xfrm>
              <a:off x="2063880" y="4883040"/>
              <a:ext cx="3720960" cy="1282680"/>
            </a:xfrm>
            <a:prstGeom prst="roundRect">
              <a:avLst>
                <a:gd name="adj" fmla="val 12495"/>
              </a:avLst>
            </a:prstGeom>
            <a:solidFill>
              <a:srgbClr val="80808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azard-free ?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Event insertion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653" name=""/>
            <p:cNvGraphicFramePr/>
            <p:nvPr/>
          </p:nvGraphicFramePr>
          <p:xfrm>
            <a:off x="2736720" y="4114800"/>
            <a:ext cx="24526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4114800"/>
                      <a:ext cx="24526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55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656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659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661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4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4495680" y="3162240"/>
            <a:ext cx="1828800" cy="1028880"/>
            <a:chOff x="4495680" y="3162240"/>
            <a:chExt cx="1828800" cy="1028880"/>
          </a:xfrm>
        </p:grpSpPr>
        <p:grpSp>
          <p:nvGrpSpPr>
            <p:cNvPr id="1671" name=""/>
            <p:cNvGrpSpPr/>
            <p:nvPr/>
          </p:nvGrpSpPr>
          <p:grpSpPr>
            <a:xfrm>
              <a:off x="5181480" y="3390840"/>
              <a:ext cx="1143000" cy="687600"/>
              <a:chOff x="5181480" y="3390840"/>
              <a:chExt cx="1143000" cy="68760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5410080" y="3390840"/>
                <a:ext cx="914400" cy="687600"/>
                <a:chOff x="5410080" y="3390840"/>
                <a:chExt cx="914400" cy="68760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5410080" y="3390840"/>
                  <a:ext cx="679320" cy="687600"/>
                  <a:chOff x="5410080" y="3390840"/>
                  <a:chExt cx="679320" cy="68760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>
                    <a:off x="5416200" y="3397320"/>
                    <a:ext cx="673200" cy="6732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5410080" y="3390840"/>
                    <a:ext cx="344520" cy="68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6" name=""/>
                <p:cNvSpPr/>
                <p:nvPr/>
              </p:nvSpPr>
              <p:spPr>
                <a:xfrm>
                  <a:off x="6095880" y="37339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6102000" y="3683160"/>
                  <a:ext cx="101880" cy="101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>
                <a:off x="5181480" y="35053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181480" y="3962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4495680" y="3162240"/>
              <a:ext cx="799920" cy="4572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5680" y="3733920"/>
              <a:ext cx="685800" cy="457200"/>
            </a:xfrm>
            <a:prstGeom prst="hexagon">
              <a:avLst>
                <a:gd name="adj" fmla="val 37493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683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686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687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688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1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3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4210200" y="2076480"/>
            <a:ext cx="2057400" cy="1028160"/>
            <a:chOff x="4210200" y="2076480"/>
            <a:chExt cx="2057400" cy="1028160"/>
          </a:xfrm>
        </p:grpSpPr>
        <p:grpSp>
          <p:nvGrpSpPr>
            <p:cNvPr id="1698" name=""/>
            <p:cNvGrpSpPr/>
            <p:nvPr/>
          </p:nvGrpSpPr>
          <p:grpSpPr>
            <a:xfrm>
              <a:off x="5124600" y="2196720"/>
              <a:ext cx="1143000" cy="672840"/>
              <a:chOff x="5124600" y="2196720"/>
              <a:chExt cx="1143000" cy="672840"/>
            </a:xfrm>
          </p:grpSpPr>
          <p:sp>
            <p:nvSpPr>
              <p:cNvPr id="1699" name=""/>
              <p:cNvSpPr/>
              <p:nvPr/>
            </p:nvSpPr>
            <p:spPr>
              <a:xfrm>
                <a:off x="5124600" y="23043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124600" y="2761560"/>
                <a:ext cx="342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359320" y="2196720"/>
                <a:ext cx="673200" cy="6728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436720" y="22615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039000" y="25329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4210200" y="2076480"/>
              <a:ext cx="914400" cy="342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2533320"/>
              <a:ext cx="457200" cy="57132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707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708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666720" y="2343240"/>
            <a:ext cx="1714320" cy="1028520"/>
            <a:chOff x="666720" y="2343240"/>
            <a:chExt cx="1714320" cy="1028520"/>
          </a:xfrm>
        </p:grpSpPr>
        <p:grpSp>
          <p:nvGrpSpPr>
            <p:cNvPr id="1716" name=""/>
            <p:cNvGrpSpPr/>
            <p:nvPr/>
          </p:nvGrpSpPr>
          <p:grpSpPr>
            <a:xfrm>
              <a:off x="1238040" y="2577960"/>
              <a:ext cx="1143000" cy="673200"/>
              <a:chOff x="1238040" y="2577960"/>
              <a:chExt cx="1143000" cy="673200"/>
            </a:xfrm>
          </p:grpSpPr>
          <p:sp>
            <p:nvSpPr>
              <p:cNvPr id="1717" name=""/>
              <p:cNvSpPr/>
              <p:nvPr/>
            </p:nvSpPr>
            <p:spPr>
              <a:xfrm>
                <a:off x="1238040" y="26859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238040" y="3143160"/>
                <a:ext cx="3430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473120" y="2577960"/>
                <a:ext cx="673200" cy="6732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550520" y="2643120"/>
                <a:ext cx="5058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t">
                <a:spAutoFit/>
              </a:bodyPr>
              <a:p>
                <a:pPr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152440" y="29145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22" name=""/>
            <p:cNvSpPr/>
            <p:nvPr/>
          </p:nvSpPr>
          <p:spPr>
            <a:xfrm>
              <a:off x="666720" y="2343240"/>
              <a:ext cx="799920" cy="457200"/>
            </a:xfrm>
            <a:prstGeom prst="parallelogram">
              <a:avLst>
                <a:gd name="adj" fmla="val 43732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80840" y="2914560"/>
              <a:ext cx="457200" cy="45720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725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726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33320" y="3359160"/>
            <a:ext cx="1485360" cy="793800"/>
            <a:chOff x="2533320" y="3359160"/>
            <a:chExt cx="1485360" cy="793800"/>
          </a:xfrm>
        </p:grpSpPr>
        <p:grpSp>
          <p:nvGrpSpPr>
            <p:cNvPr id="1734" name=""/>
            <p:cNvGrpSpPr/>
            <p:nvPr/>
          </p:nvGrpSpPr>
          <p:grpSpPr>
            <a:xfrm>
              <a:off x="3105000" y="3359160"/>
              <a:ext cx="913680" cy="673200"/>
              <a:chOff x="3105000" y="3359160"/>
              <a:chExt cx="913680" cy="673200"/>
            </a:xfrm>
          </p:grpSpPr>
          <p:sp>
            <p:nvSpPr>
              <p:cNvPr id="1735" name=""/>
              <p:cNvSpPr/>
              <p:nvPr/>
            </p:nvSpPr>
            <p:spPr>
              <a:xfrm>
                <a:off x="3339720" y="3359160"/>
                <a:ext cx="443880" cy="673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10500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105000" y="39243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790440" y="3467160"/>
                <a:ext cx="228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 rot="5400000">
              <a:off x="2647440" y="3353040"/>
              <a:ext cx="343080" cy="57132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647800" y="3810240"/>
              <a:ext cx="570960" cy="342720"/>
            </a:xfrm>
            <a:prstGeom prst="parallelogram">
              <a:avLst>
                <a:gd name="adj" fmla="val 41641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742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743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6058080" y="2733840"/>
            <a:ext cx="1600200" cy="856800"/>
            <a:chOff x="6058080" y="2733840"/>
            <a:chExt cx="1600200" cy="856800"/>
          </a:xfrm>
        </p:grpSpPr>
        <p:grpSp>
          <p:nvGrpSpPr>
            <p:cNvPr id="1750" name=""/>
            <p:cNvGrpSpPr/>
            <p:nvPr/>
          </p:nvGrpSpPr>
          <p:grpSpPr>
            <a:xfrm>
              <a:off x="6743880" y="2797200"/>
              <a:ext cx="914400" cy="672480"/>
              <a:chOff x="6743880" y="2797200"/>
              <a:chExt cx="914400" cy="672480"/>
            </a:xfrm>
          </p:grpSpPr>
          <p:sp>
            <p:nvSpPr>
              <p:cNvPr id="1751" name=""/>
              <p:cNvSpPr/>
              <p:nvPr/>
            </p:nvSpPr>
            <p:spPr>
              <a:xfrm>
                <a:off x="6978600" y="2797200"/>
                <a:ext cx="444600" cy="6724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240" rIns="138240" tIns="69840" bIns="69840" anchor="ctr">
                <a:noAutofit/>
              </a:bodyPr>
              <a:p>
                <a:pPr algn="ctr">
                  <a:tabLst>
                    <a:tab algn="l" pos="0"/>
                    <a:tab algn="l" pos="2057400"/>
                    <a:tab algn="l" pos="4114800"/>
                    <a:tab algn="l" pos="6172200"/>
                    <a:tab algn="l" pos="8229600"/>
                    <a:tab algn="l" pos="10287000"/>
                  </a:tabLst>
                </a:pPr>
                <a:r>
                  <a:rPr b="0" lang="en-US" sz="27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7438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429680" y="29048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743880" y="33620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>
              <a:off x="6058080" y="273384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72200" y="3247920"/>
              <a:ext cx="571680" cy="3427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758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759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63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625320" y="29196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588000" y="368280"/>
            <a:ext cx="768600" cy="596880"/>
          </a:xfrm>
          <a:prstGeom prst="leftArrow">
            <a:avLst>
              <a:gd name="adj1" fmla="val 50000"/>
              <a:gd name="adj2" fmla="val 6437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806560" y="126684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6B70-846B-4319-9EC3-79C8A561BB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60480" y="243000"/>
            <a:ext cx="1082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ff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7319880" y="6480"/>
            <a:ext cx="1816200" cy="1434960"/>
            <a:chOff x="7319880" y="6480"/>
            <a:chExt cx="1816200" cy="1434960"/>
          </a:xfrm>
        </p:grpSpPr>
        <p:sp>
          <p:nvSpPr>
            <p:cNvPr id="1770" name=""/>
            <p:cNvSpPr/>
            <p:nvPr/>
          </p:nvSpPr>
          <p:spPr>
            <a:xfrm>
              <a:off x="7319880" y="6480"/>
              <a:ext cx="1816200" cy="14349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7466040" y="228600"/>
              <a:ext cx="1523880" cy="1060560"/>
              <a:chOff x="7466040" y="228600"/>
              <a:chExt cx="1523880" cy="1060560"/>
            </a:xfrm>
          </p:grpSpPr>
          <p:grpSp>
            <p:nvGrpSpPr>
              <p:cNvPr id="1772" name=""/>
              <p:cNvGrpSpPr/>
              <p:nvPr/>
            </p:nvGrpSpPr>
            <p:grpSpPr>
              <a:xfrm>
                <a:off x="7466040" y="844560"/>
                <a:ext cx="762120" cy="444600"/>
                <a:chOff x="7466040" y="844560"/>
                <a:chExt cx="762120" cy="44460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7466040" y="9144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7466040" y="121932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624800" y="844560"/>
                  <a:ext cx="444600" cy="44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673760" y="885960"/>
                  <a:ext cx="337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075520" y="106668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8380440" y="235080"/>
                <a:ext cx="609480" cy="444240"/>
                <a:chOff x="8380440" y="235080"/>
                <a:chExt cx="609480" cy="44424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8539200" y="235080"/>
                  <a:ext cx="291960" cy="4442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Sr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83804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3804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8376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8380440" y="844560"/>
                <a:ext cx="609480" cy="444600"/>
                <a:chOff x="8380440" y="844560"/>
                <a:chExt cx="609480" cy="44460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8539200" y="844560"/>
                  <a:ext cx="291960" cy="4446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Times New Roman"/>
                    </a:rPr>
                    <a:t>D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83804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8837640" y="9144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380440" y="1219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7466040" y="228600"/>
                <a:ext cx="762120" cy="458640"/>
                <a:chOff x="7466040" y="228600"/>
                <a:chExt cx="762120" cy="458640"/>
              </a:xfrm>
            </p:grpSpPr>
            <p:grpSp>
              <p:nvGrpSpPr>
                <p:cNvPr id="1789" name=""/>
                <p:cNvGrpSpPr/>
                <p:nvPr/>
              </p:nvGrpSpPr>
              <p:grpSpPr>
                <a:xfrm>
                  <a:off x="7618320" y="228600"/>
                  <a:ext cx="609840" cy="458640"/>
                  <a:chOff x="7618320" y="228600"/>
                  <a:chExt cx="609840" cy="458640"/>
                </a:xfrm>
              </p:grpSpPr>
              <p:grpSp>
                <p:nvGrpSpPr>
                  <p:cNvPr id="1790" name=""/>
                  <p:cNvGrpSpPr/>
                  <p:nvPr/>
                </p:nvGrpSpPr>
                <p:grpSpPr>
                  <a:xfrm>
                    <a:off x="7618320" y="228600"/>
                    <a:ext cx="451080" cy="458640"/>
                    <a:chOff x="7618320" y="228600"/>
                    <a:chExt cx="451080" cy="458640"/>
                  </a:xfrm>
                </p:grpSpPr>
                <p:sp>
                  <p:nvSpPr>
                    <p:cNvPr id="1791" name=""/>
                    <p:cNvSpPr/>
                    <p:nvPr/>
                  </p:nvSpPr>
                  <p:spPr>
                    <a:xfrm>
                      <a:off x="7624800" y="235080"/>
                      <a:ext cx="444600" cy="4442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2" name=""/>
                    <p:cNvSpPr/>
                    <p:nvPr/>
                  </p:nvSpPr>
                  <p:spPr>
                    <a:xfrm>
                      <a:off x="7618320" y="228600"/>
                      <a:ext cx="23040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289">
                          <a:moveTo>
                            <a:pt x="144" y="0"/>
                          </a:moveTo>
                          <a:lnTo>
                            <a:pt x="0" y="0"/>
                          </a:lnTo>
                          <a:lnTo>
                            <a:pt x="0" y="288"/>
                          </a:lnTo>
                          <a:lnTo>
                            <a:pt x="144" y="288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3" name=""/>
                  <p:cNvSpPr/>
                  <p:nvPr/>
                </p:nvSpPr>
                <p:spPr>
                  <a:xfrm>
                    <a:off x="8075520" y="4572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8082000" y="425520"/>
                    <a:ext cx="63360" cy="6336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5" name=""/>
                <p:cNvSpPr/>
                <p:nvPr/>
              </p:nvSpPr>
              <p:spPr>
                <a:xfrm>
                  <a:off x="7466040" y="304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466040" y="60948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97" name=""/>
          <p:cNvSpPr/>
          <p:nvPr/>
        </p:nvSpPr>
        <p:spPr>
          <a:xfrm>
            <a:off x="2063880" y="4883040"/>
            <a:ext cx="3720960" cy="128268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-free 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vent inser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98" name=""/>
          <p:cNvGraphicFramePr/>
          <p:nvPr/>
        </p:nvGraphicFramePr>
        <p:xfrm>
          <a:off x="2736720" y="4114800"/>
          <a:ext cx="2452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4114800"/>
                    <a:ext cx="2452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0" name=""/>
          <p:cNvGrpSpPr/>
          <p:nvPr/>
        </p:nvGrpSpPr>
        <p:grpSpPr>
          <a:xfrm>
            <a:off x="365400" y="5187960"/>
            <a:ext cx="1685520" cy="1640160"/>
            <a:chOff x="365400" y="5187960"/>
            <a:chExt cx="1685520" cy="1640160"/>
          </a:xfrm>
        </p:grpSpPr>
        <p:sp>
          <p:nvSpPr>
            <p:cNvPr id="1801" name=""/>
            <p:cNvSpPr/>
            <p:nvPr/>
          </p:nvSpPr>
          <p:spPr>
            <a:xfrm>
              <a:off x="1530360" y="5187960"/>
              <a:ext cx="520560" cy="749160"/>
            </a:xfrm>
            <a:prstGeom prst="leftArrow">
              <a:avLst>
                <a:gd name="adj1" fmla="val 75009"/>
                <a:gd name="adj2" fmla="val 4999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5400" y="6126120"/>
              <a:ext cx="945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NO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0" y="5485680"/>
            <a:ext cx="1219320" cy="610200"/>
            <a:chOff x="0" y="5485680"/>
            <a:chExt cx="1219320" cy="610200"/>
          </a:xfrm>
        </p:grpSpPr>
        <p:grpSp>
          <p:nvGrpSpPr>
            <p:cNvPr id="1804" name=""/>
            <p:cNvGrpSpPr/>
            <p:nvPr/>
          </p:nvGrpSpPr>
          <p:grpSpPr>
            <a:xfrm>
              <a:off x="457200" y="5562720"/>
              <a:ext cx="762120" cy="458640"/>
              <a:chOff x="457200" y="5562720"/>
              <a:chExt cx="762120" cy="458640"/>
            </a:xfrm>
          </p:grpSpPr>
          <p:grpSp>
            <p:nvGrpSpPr>
              <p:cNvPr id="1805" name=""/>
              <p:cNvGrpSpPr/>
              <p:nvPr/>
            </p:nvGrpSpPr>
            <p:grpSpPr>
              <a:xfrm>
                <a:off x="609480" y="5562720"/>
                <a:ext cx="609840" cy="458640"/>
                <a:chOff x="609480" y="5562720"/>
                <a:chExt cx="609840" cy="458640"/>
              </a:xfrm>
            </p:grpSpPr>
            <p:grpSp>
              <p:nvGrpSpPr>
                <p:cNvPr id="1806" name=""/>
                <p:cNvGrpSpPr/>
                <p:nvPr/>
              </p:nvGrpSpPr>
              <p:grpSpPr>
                <a:xfrm>
                  <a:off x="609480" y="5562720"/>
                  <a:ext cx="451080" cy="458640"/>
                  <a:chOff x="609480" y="5562720"/>
                  <a:chExt cx="451080" cy="458640"/>
                </a:xfrm>
              </p:grpSpPr>
              <p:sp>
                <p:nvSpPr>
                  <p:cNvPr id="1807" name=""/>
                  <p:cNvSpPr/>
                  <p:nvPr/>
                </p:nvSpPr>
                <p:spPr>
                  <a:xfrm>
                    <a:off x="615960" y="5568840"/>
                    <a:ext cx="444600" cy="44460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609480" y="5562720"/>
                    <a:ext cx="23040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9" name=""/>
                <p:cNvSpPr/>
                <p:nvPr/>
              </p:nvSpPr>
              <p:spPr>
                <a:xfrm>
                  <a:off x="1066680" y="5791320"/>
                  <a:ext cx="1526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073160" y="5759280"/>
                  <a:ext cx="63360" cy="63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1" name=""/>
              <p:cNvSpPr/>
              <p:nvPr/>
            </p:nvSpPr>
            <p:spPr>
              <a:xfrm>
                <a:off x="457200" y="56386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57200" y="59436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3" name=""/>
            <p:cNvSpPr/>
            <p:nvPr/>
          </p:nvSpPr>
          <p:spPr>
            <a:xfrm flipH="1" flipV="1" rot="10800000">
              <a:off x="0" y="5485320"/>
              <a:ext cx="533520" cy="2286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33"/>
                </a:gs>
                <a:gs pos="100000">
                  <a:srgbClr val="2346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0" y="5867280"/>
              <a:ext cx="533520" cy="228600"/>
            </a:xfrm>
            <a:prstGeom prst="parallelogram">
              <a:avLst>
                <a:gd name="adj" fmla="val 58335"/>
              </a:avLst>
            </a:prstGeom>
            <a:gradFill rotWithShape="0">
              <a:gsLst>
                <a:gs pos="0">
                  <a:srgbClr val="ffe4c9"/>
                </a:gs>
                <a:gs pos="100000">
                  <a:srgbClr val="b19e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5797440" y="5187960"/>
            <a:ext cx="2625480" cy="1643400"/>
            <a:chOff x="5797440" y="5187960"/>
            <a:chExt cx="2625480" cy="1643400"/>
          </a:xfrm>
        </p:grpSpPr>
        <p:sp>
          <p:nvSpPr>
            <p:cNvPr id="1816" name=""/>
            <p:cNvSpPr/>
            <p:nvPr/>
          </p:nvSpPr>
          <p:spPr>
            <a:xfrm>
              <a:off x="5797440" y="5187960"/>
              <a:ext cx="520920" cy="749160"/>
            </a:xfrm>
            <a:prstGeom prst="rightArrow">
              <a:avLst>
                <a:gd name="adj1" fmla="val 75009"/>
                <a:gd name="adj2" fmla="val 5000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b18d4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23040" y="6129360"/>
              <a:ext cx="1199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9ff33"/>
                  </a:solidFill>
                  <a:latin typeface="Arial"/>
                </a:rPr>
                <a:t>Y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6553080" y="5334120"/>
            <a:ext cx="1219320" cy="685800"/>
            <a:chOff x="6553080" y="5334120"/>
            <a:chExt cx="1219320" cy="685800"/>
          </a:xfrm>
        </p:grpSpPr>
        <p:grpSp>
          <p:nvGrpSpPr>
            <p:cNvPr id="1819" name=""/>
            <p:cNvGrpSpPr/>
            <p:nvPr/>
          </p:nvGrpSpPr>
          <p:grpSpPr>
            <a:xfrm>
              <a:off x="7010280" y="5486400"/>
              <a:ext cx="762120" cy="458640"/>
              <a:chOff x="7010280" y="5486400"/>
              <a:chExt cx="762120" cy="4586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7162920" y="5486400"/>
                <a:ext cx="609480" cy="458640"/>
                <a:chOff x="7162920" y="5486400"/>
                <a:chExt cx="609480" cy="45864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7162920" y="5486400"/>
                  <a:ext cx="450720" cy="458640"/>
                  <a:chOff x="7162920" y="5486400"/>
                  <a:chExt cx="450720" cy="45864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>
                    <a:off x="7169040" y="5492880"/>
                    <a:ext cx="444600" cy="4442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7162920" y="5486400"/>
                    <a:ext cx="23004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89">
                        <a:moveTo>
                          <a:pt x="144" y="0"/>
                        </a:moveTo>
                        <a:lnTo>
                          <a:pt x="0" y="0"/>
                        </a:lnTo>
                        <a:lnTo>
                          <a:pt x="0" y="288"/>
                        </a:lnTo>
                        <a:lnTo>
                          <a:pt x="144" y="28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4" name=""/>
                <p:cNvSpPr/>
                <p:nvPr/>
              </p:nvSpPr>
              <p:spPr>
                <a:xfrm>
                  <a:off x="7620120" y="5715000"/>
                  <a:ext cx="152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26240" y="5683320"/>
                  <a:ext cx="63720" cy="633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6" name=""/>
              <p:cNvSpPr/>
              <p:nvPr/>
            </p:nvSpPr>
            <p:spPr>
              <a:xfrm>
                <a:off x="7010280" y="556272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010280" y="5867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>
              <a:off x="6553080" y="5334120"/>
              <a:ext cx="533520" cy="3045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36ab1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53080" y="5715000"/>
              <a:ext cx="457200" cy="304920"/>
            </a:xfrm>
            <a:prstGeom prst="hexagon">
              <a:avLst>
                <a:gd name="adj" fmla="val 37478"/>
                <a:gd name="vf" fmla="val 115470"/>
              </a:avLst>
            </a:prstGeom>
            <a:gradFill rotWithShape="0">
              <a:gsLst>
                <a:gs pos="0">
                  <a:srgbClr val="6ab123"/>
                </a:gs>
                <a:gs pos="50000">
                  <a:srgbClr val="99ff33"/>
                </a:gs>
                <a:gs pos="100000">
                  <a:srgbClr val="6a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7696080" y="4952880"/>
            <a:ext cx="1371600" cy="685800"/>
            <a:chOff x="7696080" y="4952880"/>
            <a:chExt cx="1371600" cy="685800"/>
          </a:xfrm>
        </p:grpSpPr>
        <p:grpSp>
          <p:nvGrpSpPr>
            <p:cNvPr id="1831" name=""/>
            <p:cNvGrpSpPr/>
            <p:nvPr/>
          </p:nvGrpSpPr>
          <p:grpSpPr>
            <a:xfrm>
              <a:off x="8305920" y="5035680"/>
              <a:ext cx="761760" cy="444240"/>
              <a:chOff x="8305920" y="5035680"/>
              <a:chExt cx="761760" cy="444240"/>
            </a:xfrm>
          </p:grpSpPr>
          <p:sp>
            <p:nvSpPr>
              <p:cNvPr id="1832" name=""/>
              <p:cNvSpPr/>
              <p:nvPr/>
            </p:nvSpPr>
            <p:spPr>
              <a:xfrm>
                <a:off x="8305920" y="51055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305920" y="54100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464680" y="5035680"/>
                <a:ext cx="44424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513280" y="50767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915400" y="52578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37" name=""/>
            <p:cNvSpPr/>
            <p:nvPr/>
          </p:nvSpPr>
          <p:spPr>
            <a:xfrm>
              <a:off x="7696080" y="49528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6b1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001000" y="5257800"/>
              <a:ext cx="304920" cy="380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39" name=""/>
          <p:cNvGrpSpPr/>
          <p:nvPr/>
        </p:nvGrpSpPr>
        <p:grpSpPr>
          <a:xfrm>
            <a:off x="533520" y="4648320"/>
            <a:ext cx="1143000" cy="685800"/>
            <a:chOff x="533520" y="4648320"/>
            <a:chExt cx="1143000" cy="685800"/>
          </a:xfrm>
        </p:grpSpPr>
        <p:grpSp>
          <p:nvGrpSpPr>
            <p:cNvPr id="1840" name=""/>
            <p:cNvGrpSpPr/>
            <p:nvPr/>
          </p:nvGrpSpPr>
          <p:grpSpPr>
            <a:xfrm>
              <a:off x="914400" y="4807080"/>
              <a:ext cx="762120" cy="444240"/>
              <a:chOff x="914400" y="4807080"/>
              <a:chExt cx="762120" cy="444240"/>
            </a:xfrm>
          </p:grpSpPr>
          <p:sp>
            <p:nvSpPr>
              <p:cNvPr id="1841" name=""/>
              <p:cNvSpPr/>
              <p:nvPr/>
            </p:nvSpPr>
            <p:spPr>
              <a:xfrm>
                <a:off x="914400" y="487692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914400" y="51814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073160" y="4807080"/>
                <a:ext cx="444600" cy="444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122120" y="484812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5238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533520" y="4648320"/>
              <a:ext cx="533160" cy="304560"/>
            </a:xfrm>
            <a:prstGeom prst="parallelogram">
              <a:avLst>
                <a:gd name="adj" fmla="val 4375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09480" y="5029200"/>
              <a:ext cx="304920" cy="304920"/>
            </a:xfrm>
            <a:prstGeom prst="diamond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b1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76320" y="3968640"/>
            <a:ext cx="990360" cy="527040"/>
            <a:chOff x="76320" y="3968640"/>
            <a:chExt cx="990360" cy="527040"/>
          </a:xfrm>
        </p:grpSpPr>
        <p:grpSp>
          <p:nvGrpSpPr>
            <p:cNvPr id="1849" name=""/>
            <p:cNvGrpSpPr/>
            <p:nvPr/>
          </p:nvGrpSpPr>
          <p:grpSpPr>
            <a:xfrm>
              <a:off x="457200" y="3968640"/>
              <a:ext cx="609480" cy="444600"/>
              <a:chOff x="457200" y="3968640"/>
              <a:chExt cx="609480" cy="444600"/>
            </a:xfrm>
          </p:grpSpPr>
          <p:sp>
            <p:nvSpPr>
              <p:cNvPr id="1850" name=""/>
              <p:cNvSpPr/>
              <p:nvPr/>
            </p:nvSpPr>
            <p:spPr>
              <a:xfrm>
                <a:off x="615960" y="3968640"/>
                <a:ext cx="29196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Sr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572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57200" y="434340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14400" y="4038480"/>
                <a:ext cx="152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rot="5400000">
              <a:off x="152280" y="3962160"/>
              <a:ext cx="228600" cy="380880"/>
            </a:xfrm>
            <a:prstGeom prst="rtTriangle">
              <a:avLst/>
            </a:prstGeom>
            <a:gradFill rotWithShape="0">
              <a:gsLst>
                <a:gs pos="0">
                  <a:srgbClr val="ffe4c9"/>
                </a:gs>
                <a:gs pos="50000">
                  <a:srgbClr val="b19e8b"/>
                </a:gs>
                <a:gs pos="100000">
                  <a:srgbClr val="ffe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52280" y="4267080"/>
              <a:ext cx="381240" cy="228600"/>
            </a:xfrm>
            <a:prstGeom prst="parallelogram">
              <a:avLst>
                <a:gd name="adj" fmla="val 4168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553080" y="4610160"/>
            <a:ext cx="1067040" cy="571320"/>
            <a:chOff x="6553080" y="4610160"/>
            <a:chExt cx="1067040" cy="571320"/>
          </a:xfrm>
        </p:grpSpPr>
        <p:grpSp>
          <p:nvGrpSpPr>
            <p:cNvPr id="1857" name=""/>
            <p:cNvGrpSpPr/>
            <p:nvPr/>
          </p:nvGrpSpPr>
          <p:grpSpPr>
            <a:xfrm>
              <a:off x="7010280" y="4654440"/>
              <a:ext cx="609840" cy="444600"/>
              <a:chOff x="7010280" y="4654440"/>
              <a:chExt cx="609840" cy="444600"/>
            </a:xfrm>
          </p:grpSpPr>
          <p:sp>
            <p:nvSpPr>
              <p:cNvPr id="1858" name=""/>
              <p:cNvSpPr/>
              <p:nvPr/>
            </p:nvSpPr>
            <p:spPr>
              <a:xfrm>
                <a:off x="7169040" y="4654440"/>
                <a:ext cx="292320" cy="444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0102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467480" y="472428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010280" y="5029200"/>
                <a:ext cx="152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62" name=""/>
            <p:cNvSpPr/>
            <p:nvPr/>
          </p:nvSpPr>
          <p:spPr>
            <a:xfrm>
              <a:off x="6553080" y="461016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8d0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629400" y="4952880"/>
              <a:ext cx="380880" cy="22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b123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864" name=""/>
          <p:cNvGraphicFramePr/>
          <p:nvPr/>
        </p:nvGraphicFramePr>
        <p:xfrm>
          <a:off x="1292400" y="1604880"/>
          <a:ext cx="137448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1604880"/>
                    <a:ext cx="13744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6" name=""/>
          <p:cNvSpPr/>
          <p:nvPr/>
        </p:nvSpPr>
        <p:spPr>
          <a:xfrm>
            <a:off x="2882160" y="2627280"/>
            <a:ext cx="516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until no more progr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282680" y="6480"/>
            <a:ext cx="5302440" cy="1244520"/>
          </a:xfrm>
          <a:prstGeom prst="roundRect">
            <a:avLst>
              <a:gd name="adj" fmla="val 12495"/>
            </a:avLst>
          </a:prstGeom>
          <a:solidFill>
            <a:srgbClr val="80808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gebraic, Boolean relat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5960" y="311040"/>
            <a:ext cx="654120" cy="520920"/>
          </a:xfrm>
          <a:prstGeom prst="rightArrow">
            <a:avLst>
              <a:gd name="adj1" fmla="val 50000"/>
              <a:gd name="adj2" fmla="val 62791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578640" y="387360"/>
            <a:ext cx="768240" cy="596880"/>
          </a:xfrm>
          <a:prstGeom prst="leftArrow">
            <a:avLst>
              <a:gd name="adj1" fmla="val 50000"/>
              <a:gd name="adj2" fmla="val 64349"/>
            </a:avLst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797200" y="1285920"/>
            <a:ext cx="2176560" cy="696960"/>
          </a:xfrm>
          <a:custGeom>
            <a:avLst/>
            <a:gdLst/>
            <a:ahLst/>
            <a:rect l="l" t="t" r="r" b="b"/>
            <a:pathLst>
              <a:path w="1371" h="439">
                <a:moveTo>
                  <a:pt x="5" y="291"/>
                </a:moveTo>
                <a:lnTo>
                  <a:pt x="0" y="385"/>
                </a:lnTo>
                <a:lnTo>
                  <a:pt x="295" y="354"/>
                </a:lnTo>
                <a:lnTo>
                  <a:pt x="231" y="337"/>
                </a:lnTo>
                <a:lnTo>
                  <a:pt x="297" y="315"/>
                </a:lnTo>
                <a:lnTo>
                  <a:pt x="363" y="287"/>
                </a:lnTo>
                <a:lnTo>
                  <a:pt x="416" y="266"/>
                </a:lnTo>
                <a:lnTo>
                  <a:pt x="474" y="240"/>
                </a:lnTo>
                <a:lnTo>
                  <a:pt x="535" y="207"/>
                </a:lnTo>
                <a:lnTo>
                  <a:pt x="584" y="171"/>
                </a:lnTo>
                <a:lnTo>
                  <a:pt x="585" y="361"/>
                </a:lnTo>
                <a:lnTo>
                  <a:pt x="505" y="361"/>
                </a:lnTo>
                <a:lnTo>
                  <a:pt x="682" y="438"/>
                </a:lnTo>
                <a:lnTo>
                  <a:pt x="858" y="361"/>
                </a:lnTo>
                <a:lnTo>
                  <a:pt x="781" y="362"/>
                </a:lnTo>
                <a:lnTo>
                  <a:pt x="781" y="169"/>
                </a:lnTo>
                <a:lnTo>
                  <a:pt x="832" y="205"/>
                </a:lnTo>
                <a:lnTo>
                  <a:pt x="881" y="234"/>
                </a:lnTo>
                <a:lnTo>
                  <a:pt x="939" y="261"/>
                </a:lnTo>
                <a:lnTo>
                  <a:pt x="1007" y="288"/>
                </a:lnTo>
                <a:lnTo>
                  <a:pt x="1057" y="310"/>
                </a:lnTo>
                <a:lnTo>
                  <a:pt x="1133" y="337"/>
                </a:lnTo>
                <a:lnTo>
                  <a:pt x="1075" y="354"/>
                </a:lnTo>
                <a:lnTo>
                  <a:pt x="1370" y="386"/>
                </a:lnTo>
                <a:lnTo>
                  <a:pt x="1362" y="291"/>
                </a:lnTo>
                <a:lnTo>
                  <a:pt x="1289" y="305"/>
                </a:lnTo>
                <a:lnTo>
                  <a:pt x="1232" y="278"/>
                </a:lnTo>
                <a:lnTo>
                  <a:pt x="1164" y="249"/>
                </a:lnTo>
                <a:lnTo>
                  <a:pt x="1110" y="223"/>
                </a:lnTo>
                <a:lnTo>
                  <a:pt x="1060" y="199"/>
                </a:lnTo>
                <a:lnTo>
                  <a:pt x="1019" y="176"/>
                </a:lnTo>
                <a:lnTo>
                  <a:pt x="979" y="152"/>
                </a:lnTo>
                <a:lnTo>
                  <a:pt x="936" y="122"/>
                </a:lnTo>
                <a:lnTo>
                  <a:pt x="916" y="92"/>
                </a:lnTo>
                <a:lnTo>
                  <a:pt x="915" y="0"/>
                </a:lnTo>
                <a:lnTo>
                  <a:pt x="457" y="0"/>
                </a:lnTo>
                <a:lnTo>
                  <a:pt x="457" y="91"/>
                </a:lnTo>
                <a:lnTo>
                  <a:pt x="436" y="122"/>
                </a:lnTo>
                <a:lnTo>
                  <a:pt x="382" y="159"/>
                </a:lnTo>
                <a:lnTo>
                  <a:pt x="337" y="183"/>
                </a:lnTo>
                <a:lnTo>
                  <a:pt x="298" y="204"/>
                </a:lnTo>
                <a:lnTo>
                  <a:pt x="250" y="228"/>
                </a:lnTo>
                <a:lnTo>
                  <a:pt x="201" y="251"/>
                </a:lnTo>
                <a:lnTo>
                  <a:pt x="144" y="276"/>
                </a:lnTo>
                <a:lnTo>
                  <a:pt x="78" y="306"/>
                </a:lnTo>
                <a:lnTo>
                  <a:pt x="5" y="29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5313-7CEA-4C2A-95CC-8449A2675B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al insertion for function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758960" y="2292480"/>
            <a:ext cx="5931000" cy="3111480"/>
          </a:xfrm>
          <a:prstGeom prst="rect">
            <a:avLst/>
          </a:prstGeom>
          <a:solidFill>
            <a:srgbClr val="ffe4c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413520" y="5653080"/>
            <a:ext cx="219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tate Grap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965600" y="2286000"/>
            <a:ext cx="5568120" cy="3125880"/>
            <a:chOff x="1965600" y="2286000"/>
            <a:chExt cx="5568120" cy="3125880"/>
          </a:xfrm>
        </p:grpSpPr>
        <p:sp>
          <p:nvSpPr>
            <p:cNvPr id="1875" name=""/>
            <p:cNvSpPr/>
            <p:nvPr/>
          </p:nvSpPr>
          <p:spPr>
            <a:xfrm>
              <a:off x="4114800" y="2286000"/>
              <a:ext cx="1144440" cy="3125880"/>
            </a:xfrm>
            <a:custGeom>
              <a:avLst/>
              <a:gdLst/>
              <a:ahLst/>
              <a:rect l="l" t="t" r="r" b="b"/>
              <a:pathLst>
                <a:path w="721" h="1969">
                  <a:moveTo>
                    <a:pt x="480" y="0"/>
                  </a:moveTo>
                  <a:lnTo>
                    <a:pt x="0" y="480"/>
                  </a:lnTo>
                  <a:lnTo>
                    <a:pt x="720" y="1200"/>
                  </a:lnTo>
                  <a:lnTo>
                    <a:pt x="720" y="1584"/>
                  </a:lnTo>
                  <a:lnTo>
                    <a:pt x="336" y="1968"/>
                  </a:lnTo>
                </a:path>
              </a:pathLst>
            </a:custGeom>
            <a:noFill/>
            <a:ln cap="rnd" w="10152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96560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0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461640" y="3535200"/>
              <a:ext cx="107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c0066"/>
                  </a:solidFill>
                  <a:latin typeface="Arial"/>
                </a:rPr>
                <a:t>F=1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3660480" y="2592000"/>
            <a:ext cx="2054520" cy="2587680"/>
            <a:chOff x="3660480" y="2592000"/>
            <a:chExt cx="2054520" cy="2587680"/>
          </a:xfrm>
        </p:grpSpPr>
        <p:sp>
          <p:nvSpPr>
            <p:cNvPr id="1879" name=""/>
            <p:cNvSpPr/>
            <p:nvPr/>
          </p:nvSpPr>
          <p:spPr>
            <a:xfrm flipH="1" flipV="1">
              <a:off x="3887640" y="2592000"/>
              <a:ext cx="121608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3660480" y="3279600"/>
              <a:ext cx="1292040" cy="730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4575240" y="4118040"/>
              <a:ext cx="1139760" cy="1490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 flipV="1">
              <a:off x="4497480" y="5030280"/>
              <a:ext cx="1139760" cy="1494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2423160" y="1538280"/>
            <a:ext cx="458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nsertion by input bor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4114800" y="2286000"/>
            <a:ext cx="1373040" cy="3125880"/>
            <a:chOff x="4114800" y="2286000"/>
            <a:chExt cx="1373040" cy="3125880"/>
          </a:xfrm>
        </p:grpSpPr>
        <p:sp>
          <p:nvSpPr>
            <p:cNvPr id="1885" name=""/>
            <p:cNvSpPr/>
            <p:nvPr/>
          </p:nvSpPr>
          <p:spPr>
            <a:xfrm>
              <a:off x="4191120" y="3733920"/>
              <a:ext cx="1068120" cy="1677960"/>
            </a:xfrm>
            <a:custGeom>
              <a:avLst/>
              <a:gdLst/>
              <a:ahLst/>
              <a:rect l="l" t="t" r="r" b="b"/>
              <a:pathLst>
                <a:path w="673" h="1057">
                  <a:moveTo>
                    <a:pt x="384" y="0"/>
                  </a:moveTo>
                  <a:lnTo>
                    <a:pt x="0" y="384"/>
                  </a:lnTo>
                  <a:lnTo>
                    <a:pt x="0" y="1056"/>
                  </a:lnTo>
                  <a:lnTo>
                    <a:pt x="288" y="1056"/>
                  </a:lnTo>
                  <a:lnTo>
                    <a:pt x="672" y="672"/>
                  </a:lnTo>
                  <a:lnTo>
                    <a:pt x="672" y="288"/>
                  </a:lnTo>
                  <a:lnTo>
                    <a:pt x="384" y="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327560" y="4417920"/>
              <a:ext cx="616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-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14800" y="2286000"/>
              <a:ext cx="1373040" cy="1144440"/>
            </a:xfrm>
            <a:custGeom>
              <a:avLst/>
              <a:gdLst/>
              <a:ahLst/>
              <a:rect l="l" t="t" r="r" b="b"/>
              <a:pathLst>
                <a:path w="865" h="721">
                  <a:moveTo>
                    <a:pt x="240" y="720"/>
                  </a:moveTo>
                  <a:lnTo>
                    <a:pt x="576" y="720"/>
                  </a:lnTo>
                  <a:lnTo>
                    <a:pt x="864" y="432"/>
                  </a:lnTo>
                  <a:lnTo>
                    <a:pt x="864" y="288"/>
                  </a:lnTo>
                  <a:lnTo>
                    <a:pt x="576" y="0"/>
                  </a:lnTo>
                  <a:lnTo>
                    <a:pt x="480" y="0"/>
                  </a:lnTo>
                  <a:lnTo>
                    <a:pt x="0" y="480"/>
                  </a:lnTo>
                  <a:lnTo>
                    <a:pt x="240" y="720"/>
                  </a:lnTo>
                </a:path>
              </a:pathLst>
            </a:custGeom>
            <a:solidFill>
              <a:srgbClr val="00ccff">
                <a:alpha val="50000"/>
              </a:srgbClr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32120" y="2665440"/>
              <a:ext cx="73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0066"/>
                  </a:solidFill>
                  <a:latin typeface="Arial"/>
                </a:rPr>
                <a:t>F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1176-305B-44B4-8D8B-74658AB860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549440" y="2844720"/>
            <a:ext cx="6273720" cy="3301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035160" y="284472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2574720" y="3141720"/>
            <a:ext cx="796680" cy="596880"/>
            <a:chOff x="2574720" y="3141720"/>
            <a:chExt cx="796680" cy="596880"/>
          </a:xfrm>
        </p:grpSpPr>
        <p:sp>
          <p:nvSpPr>
            <p:cNvPr id="1893" name=""/>
            <p:cNvSpPr/>
            <p:nvPr/>
          </p:nvSpPr>
          <p:spPr>
            <a:xfrm flipH="1">
              <a:off x="2574720" y="3181320"/>
              <a:ext cx="796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633040" y="314172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2463840" y="3130560"/>
            <a:ext cx="4316400" cy="1265040"/>
            <a:chOff x="2463840" y="3130560"/>
            <a:chExt cx="4316400" cy="1265040"/>
          </a:xfrm>
        </p:grpSpPr>
        <p:sp>
          <p:nvSpPr>
            <p:cNvPr id="1896" name=""/>
            <p:cNvSpPr/>
            <p:nvPr/>
          </p:nvSpPr>
          <p:spPr>
            <a:xfrm flipH="1">
              <a:off x="58896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42894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0785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641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927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6787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547520" y="317016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33080" y="3798720"/>
              <a:ext cx="125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R(x)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46384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925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33760" y="3141720"/>
              <a:ext cx="46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F90E-29E2-4174-A16A-71662B30012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549440" y="2844720"/>
            <a:ext cx="6273720" cy="3301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35160" y="284472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2574720" y="3141720"/>
            <a:ext cx="796680" cy="596880"/>
            <a:chOff x="2574720" y="3141720"/>
            <a:chExt cx="796680" cy="596880"/>
          </a:xfrm>
        </p:grpSpPr>
        <p:sp>
          <p:nvSpPr>
            <p:cNvPr id="1911" name=""/>
            <p:cNvSpPr/>
            <p:nvPr/>
          </p:nvSpPr>
          <p:spPr>
            <a:xfrm flipH="1">
              <a:off x="2574720" y="3181320"/>
              <a:ext cx="796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633040" y="314172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2463840" y="3130560"/>
            <a:ext cx="4316400" cy="1265040"/>
            <a:chOff x="2463840" y="3130560"/>
            <a:chExt cx="4316400" cy="1265040"/>
          </a:xfrm>
        </p:grpSpPr>
        <p:sp>
          <p:nvSpPr>
            <p:cNvPr id="1914" name=""/>
            <p:cNvSpPr/>
            <p:nvPr/>
          </p:nvSpPr>
          <p:spPr>
            <a:xfrm flipH="1">
              <a:off x="58896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4289400" y="3181320"/>
              <a:ext cx="797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0785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1641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7927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7872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547520" y="317016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33080" y="3798720"/>
              <a:ext cx="125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R(x)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46384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292560" y="3130560"/>
              <a:ext cx="101520" cy="10152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233760" y="3141720"/>
              <a:ext cx="46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3035160" y="1228680"/>
            <a:ext cx="3187800" cy="158760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333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790440" y="27129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719240" y="269892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419440" y="2727360"/>
            <a:ext cx="467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4289400" y="2495520"/>
            <a:ext cx="7970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0785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16412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2925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92760" y="2444760"/>
            <a:ext cx="101520" cy="10152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547520" y="2027160"/>
            <a:ext cx="488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033080" y="1284120"/>
            <a:ext cx="1251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R(x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3343320" y="2525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42148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12928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843520" y="25401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2547360" y="2313000"/>
            <a:ext cx="752760" cy="825480"/>
            <a:chOff x="2547360" y="2313000"/>
            <a:chExt cx="752760" cy="825480"/>
          </a:xfrm>
        </p:grpSpPr>
        <p:sp>
          <p:nvSpPr>
            <p:cNvPr id="1942" name=""/>
            <p:cNvSpPr/>
            <p:nvPr/>
          </p:nvSpPr>
          <p:spPr>
            <a:xfrm flipH="1">
              <a:off x="2560320" y="2513160"/>
              <a:ext cx="739800" cy="6253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547360" y="2313000"/>
              <a:ext cx="488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3000" spc="-1" strike="noStrike">
                  <a:solidFill>
                    <a:srgbClr val="0066ff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F318-6B35-4F04-881E-92C5911A1D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1938240" y="2390760"/>
            <a:ext cx="6858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perties to preser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947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1056960" y="1325520"/>
            <a:ext cx="1324800" cy="1965960"/>
            <a:chOff x="1056960" y="1325520"/>
            <a:chExt cx="1324800" cy="1965960"/>
          </a:xfrm>
        </p:grpSpPr>
        <p:sp>
          <p:nvSpPr>
            <p:cNvPr id="1962" name=""/>
            <p:cNvSpPr/>
            <p:nvPr/>
          </p:nvSpPr>
          <p:spPr>
            <a:xfrm>
              <a:off x="1709640" y="1365120"/>
              <a:ext cx="0" cy="682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1141560" y="205092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12880" y="20509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1712520" y="26226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41560" y="26226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674720" y="13255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674720" y="20257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236680" y="259236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670040" y="316404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098720" y="2587680"/>
              <a:ext cx="6804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114200" y="18684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99720" y="2739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914120" y="1911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056960" y="2725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3582720" y="1312920"/>
            <a:ext cx="1953000" cy="2042280"/>
            <a:chOff x="3582720" y="1312920"/>
            <a:chExt cx="1953000" cy="2042280"/>
          </a:xfrm>
        </p:grpSpPr>
        <p:sp>
          <p:nvSpPr>
            <p:cNvPr id="1977" name=""/>
            <p:cNvSpPr/>
            <p:nvPr/>
          </p:nvSpPr>
          <p:spPr>
            <a:xfrm flipH="1">
              <a:off x="4238640" y="2638440"/>
              <a:ext cx="1254240" cy="5396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809960" y="2606760"/>
              <a:ext cx="682920" cy="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235400" y="135252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366660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238640" y="203832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66960" y="2610000"/>
              <a:ext cx="568440" cy="568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200480" y="13129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00480" y="201312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76244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195800" y="3151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624120" y="2575080"/>
              <a:ext cx="68400" cy="69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639600" y="18558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673160" y="280368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39880" y="1898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582720" y="2712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467320" y="2579760"/>
              <a:ext cx="68400" cy="698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849560" y="2151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1995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9" name=""/>
          <p:cNvSpPr/>
          <p:nvPr/>
        </p:nvSpPr>
        <p:spPr>
          <a:xfrm rot="2820000">
            <a:off x="1427040" y="4646520"/>
            <a:ext cx="1143000" cy="4572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1069560" y="3840120"/>
            <a:ext cx="1324800" cy="1965960"/>
            <a:chOff x="1069560" y="3840120"/>
            <a:chExt cx="1324800" cy="1965960"/>
          </a:xfrm>
        </p:grpSpPr>
        <p:sp>
          <p:nvSpPr>
            <p:cNvPr id="2011" name=""/>
            <p:cNvSpPr/>
            <p:nvPr/>
          </p:nvSpPr>
          <p:spPr>
            <a:xfrm>
              <a:off x="172260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115380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725480" y="45640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172512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154160" y="51354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68768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687680" y="454032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249640" y="51069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82640" y="5678640"/>
              <a:ext cx="6840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111320" y="5102280"/>
              <a:ext cx="68040" cy="68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26800" y="43830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912680" y="52545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926720" y="44258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9560" y="52401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3576240" y="3840120"/>
            <a:ext cx="2220120" cy="2309040"/>
            <a:chOff x="3576240" y="3840120"/>
            <a:chExt cx="2220120" cy="2309040"/>
          </a:xfrm>
        </p:grpSpPr>
        <p:sp>
          <p:nvSpPr>
            <p:cNvPr id="2026" name=""/>
            <p:cNvSpPr/>
            <p:nvPr/>
          </p:nvSpPr>
          <p:spPr>
            <a:xfrm>
              <a:off x="4299120" y="5154480"/>
              <a:ext cx="1349280" cy="33048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727440" y="4583160"/>
              <a:ext cx="1349280" cy="330120"/>
            </a:xfrm>
            <a:prstGeom prst="line">
              <a:avLst/>
            </a:prstGeom>
            <a:ln w="12600">
              <a:solidFill>
                <a:srgbClr val="ff99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714840" y="3878280"/>
              <a:ext cx="0" cy="682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718080" y="45640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679920" y="384012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679920" y="454032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241880" y="510696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76240" y="46544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517640" y="490680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089680" y="490680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5089680" y="5478480"/>
              <a:ext cx="56808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518000" y="5478480"/>
              <a:ext cx="568440" cy="568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051520" y="4883040"/>
              <a:ext cx="68040" cy="684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613480" y="5450040"/>
              <a:ext cx="68040" cy="680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046840" y="6021360"/>
              <a:ext cx="6804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475160" y="5445000"/>
              <a:ext cx="68400" cy="68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795560" y="484992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76520" y="55976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28720" y="48830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433400" y="558324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0" lang="en-US" sz="2700" spc="-1" strike="noStrike">
                  <a:solidFill>
                    <a:srgbClr val="ff99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157280" y="428796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81120" y="4773600"/>
              <a:ext cx="4676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2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6985080" y="4329000"/>
            <a:ext cx="1422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sis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6095880" y="1371600"/>
            <a:ext cx="3048120" cy="2324160"/>
            <a:chOff x="6095880" y="1371600"/>
            <a:chExt cx="3048120" cy="2324160"/>
          </a:xfrm>
        </p:grpSpPr>
        <p:sp>
          <p:nvSpPr>
            <p:cNvPr id="2050" name=""/>
            <p:cNvSpPr/>
            <p:nvPr/>
          </p:nvSpPr>
          <p:spPr>
            <a:xfrm>
              <a:off x="6451560" y="1890720"/>
              <a:ext cx="25081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is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disabled by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= hazards</a:t>
              </a: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51" name=""/>
            <p:cNvGrpSpPr/>
            <p:nvPr/>
          </p:nvGrpSpPr>
          <p:grpSpPr>
            <a:xfrm>
              <a:off x="6095880" y="1371600"/>
              <a:ext cx="3048120" cy="2324160"/>
              <a:chOff x="6095880" y="1371600"/>
              <a:chExt cx="3048120" cy="2324160"/>
            </a:xfrm>
          </p:grpSpPr>
          <p:sp>
            <p:nvSpPr>
              <p:cNvPr id="2052" name=""/>
              <p:cNvSpPr/>
              <p:nvPr/>
            </p:nvSpPr>
            <p:spPr>
              <a:xfrm>
                <a:off x="6095880" y="1504800"/>
                <a:ext cx="3048120" cy="203868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H="1">
                <a:off x="6267600" y="1371600"/>
                <a:ext cx="2628720" cy="2324160"/>
              </a:xfrm>
              <a:prstGeom prst="line">
                <a:avLst/>
              </a:prstGeom>
              <a:ln w="572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E428-EBEB-45B5-89DB-DCA397DA8684}" type="slidenum">
              <a:t>26</a:t>
            </a:fld>
          </a:p>
        </p:txBody>
      </p:sp>
    </p:spTree>
  </p:cSld>
  <p:transition advTm="108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4952880" y="1523880"/>
            <a:ext cx="3429000" cy="1905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Boolean 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56" name=""/>
          <p:cNvGrpSpPr/>
          <p:nvPr/>
        </p:nvGrpSpPr>
        <p:grpSpPr>
          <a:xfrm>
            <a:off x="219960" y="1798560"/>
            <a:ext cx="3261960" cy="1485720"/>
            <a:chOff x="219960" y="1798560"/>
            <a:chExt cx="3261960" cy="1485720"/>
          </a:xfrm>
        </p:grpSpPr>
        <p:sp>
          <p:nvSpPr>
            <p:cNvPr id="2057" name=""/>
            <p:cNvSpPr/>
            <p:nvPr/>
          </p:nvSpPr>
          <p:spPr>
            <a:xfrm>
              <a:off x="1454040" y="1835280"/>
              <a:ext cx="1130400" cy="12826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812240" y="225576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219960" y="1798560"/>
              <a:ext cx="1227960" cy="1485720"/>
              <a:chOff x="219960" y="1798560"/>
              <a:chExt cx="1227960" cy="1485720"/>
            </a:xfrm>
          </p:grpSpPr>
          <p:sp>
            <p:nvSpPr>
              <p:cNvPr id="2060" name=""/>
              <p:cNvSpPr/>
              <p:nvPr/>
            </p:nvSpPr>
            <p:spPr>
              <a:xfrm>
                <a:off x="914400" y="205740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14400" y="289548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19960" y="179856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19960" y="26370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>
              <a:off x="2590920" y="2514600"/>
              <a:ext cx="45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84200" y="225576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3974400" y="1646280"/>
            <a:ext cx="5168520" cy="1713960"/>
            <a:chOff x="3974400" y="1646280"/>
            <a:chExt cx="5168520" cy="1713960"/>
          </a:xfrm>
        </p:grpSpPr>
        <p:sp>
          <p:nvSpPr>
            <p:cNvPr id="2067" name=""/>
            <p:cNvSpPr/>
            <p:nvPr/>
          </p:nvSpPr>
          <p:spPr>
            <a:xfrm>
              <a:off x="5210280" y="1758960"/>
              <a:ext cx="1130040" cy="1434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191360" y="2063880"/>
              <a:ext cx="977760" cy="8254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46800" y="220968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46800" y="274320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175600" y="2438280"/>
              <a:ext cx="533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568480" y="2255760"/>
              <a:ext cx="47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2880" y="2255760"/>
              <a:ext cx="502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66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3974400" y="1824120"/>
              <a:ext cx="1227960" cy="1485360"/>
              <a:chOff x="3974400" y="1824120"/>
              <a:chExt cx="1227960" cy="1485360"/>
            </a:xfrm>
          </p:grpSpPr>
          <p:sp>
            <p:nvSpPr>
              <p:cNvPr id="2075" name=""/>
              <p:cNvSpPr/>
              <p:nvPr/>
            </p:nvSpPr>
            <p:spPr>
              <a:xfrm>
                <a:off x="4668840" y="208296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668840" y="2921040"/>
                <a:ext cx="533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974400" y="182412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974400" y="2662200"/>
                <a:ext cx="52020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90800" y="1646280"/>
              <a:ext cx="5418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20240" y="2712960"/>
              <a:ext cx="6058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845200" y="2179800"/>
              <a:ext cx="297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>
            <a:off x="455760" y="4084560"/>
            <a:ext cx="2696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F 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721760" y="4084560"/>
            <a:ext cx="3218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 = G(H(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,…,x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18760" y="5227560"/>
            <a:ext cx="6596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ur problem: Given F and G, find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0376-E427-4E8D-AB05-0F54F78ACE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"/>
          <p:cNvGrpSpPr/>
          <p:nvPr/>
        </p:nvGrpSpPr>
        <p:grpSpPr>
          <a:xfrm>
            <a:off x="2432160" y="673200"/>
            <a:ext cx="1713960" cy="1015920"/>
            <a:chOff x="2432160" y="673200"/>
            <a:chExt cx="1713960" cy="1015920"/>
          </a:xfrm>
        </p:grpSpPr>
        <p:sp>
          <p:nvSpPr>
            <p:cNvPr id="2086" name=""/>
            <p:cNvSpPr/>
            <p:nvPr/>
          </p:nvSpPr>
          <p:spPr>
            <a:xfrm>
              <a:off x="2432160" y="8384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432160" y="1524240"/>
              <a:ext cx="51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781000" y="673200"/>
              <a:ext cx="1015560" cy="10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899440" y="774720"/>
              <a:ext cx="7934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8080" rIns="208080" tIns="103320" bIns="103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629240"/>
                  <a:tab algn="l" pos="9258480"/>
                </a:tabLst>
              </a:pPr>
              <a:r>
                <a:rPr b="0" lang="en-US" sz="41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4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03400" y="11811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1" name=""/>
          <p:cNvSpPr/>
          <p:nvPr/>
        </p:nvSpPr>
        <p:spPr>
          <a:xfrm>
            <a:off x="1542960" y="501480"/>
            <a:ext cx="901800" cy="5209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542960" y="1339920"/>
            <a:ext cx="901800" cy="52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079640" y="5716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079640" y="7239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079640" y="8762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079640" y="14860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079640" y="163836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079640" y="179064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63840" y="922320"/>
            <a:ext cx="29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1517760" y="2027160"/>
            <a:ext cx="5873760" cy="3408840"/>
            <a:chOff x="1517760" y="2027160"/>
            <a:chExt cx="5873760" cy="3408840"/>
          </a:xfrm>
        </p:grpSpPr>
        <p:sp>
          <p:nvSpPr>
            <p:cNvPr id="2101" name=""/>
            <p:cNvSpPr/>
            <p:nvPr/>
          </p:nvSpPr>
          <p:spPr>
            <a:xfrm>
              <a:off x="1525320" y="2027160"/>
              <a:ext cx="52326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tate       f     next(f)    (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,h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517760" y="2637000"/>
              <a:ext cx="5732280" cy="27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0        (0,-) (-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0         1        (1,1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0        (0,0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       1         1        (-,1) (1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c         -          -        (-,-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523880" y="2590920"/>
              <a:ext cx="5867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257800" y="2133720"/>
              <a:ext cx="0" cy="2971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1731960" y="5316480"/>
            <a:ext cx="5356080" cy="57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oolean Re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69FE-AF06-41C7-AE3D-B94965A27F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6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107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165640" y="1351080"/>
            <a:ext cx="169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ff33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14800" y="171468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47" name=""/>
          <p:cNvGrpSpPr/>
          <p:nvPr/>
        </p:nvGrpSpPr>
        <p:grpSpPr>
          <a:xfrm>
            <a:off x="6248520" y="4008600"/>
            <a:ext cx="1765800" cy="1090440"/>
            <a:chOff x="6248520" y="4008600"/>
            <a:chExt cx="1765800" cy="1090440"/>
          </a:xfrm>
        </p:grpSpPr>
        <p:grpSp>
          <p:nvGrpSpPr>
            <p:cNvPr id="2148" name=""/>
            <p:cNvGrpSpPr/>
            <p:nvPr/>
          </p:nvGrpSpPr>
          <p:grpSpPr>
            <a:xfrm>
              <a:off x="6248520" y="4197600"/>
              <a:ext cx="1218960" cy="901440"/>
              <a:chOff x="6248520" y="4197600"/>
              <a:chExt cx="1218960" cy="901440"/>
            </a:xfrm>
          </p:grpSpPr>
          <p:sp>
            <p:nvSpPr>
              <p:cNvPr id="2149" name=""/>
              <p:cNvSpPr/>
              <p:nvPr/>
            </p:nvSpPr>
            <p:spPr>
              <a:xfrm>
                <a:off x="6559560" y="419760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2485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162920" y="43434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248520" y="495324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7603560" y="400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502160" y="3816360"/>
            <a:ext cx="1739880" cy="1686600"/>
            <a:chOff x="4502160" y="3816360"/>
            <a:chExt cx="1739880" cy="1686600"/>
          </a:xfrm>
        </p:grpSpPr>
        <p:sp>
          <p:nvSpPr>
            <p:cNvPr id="2155" name=""/>
            <p:cNvSpPr/>
            <p:nvPr/>
          </p:nvSpPr>
          <p:spPr>
            <a:xfrm>
              <a:off x="4502160" y="381636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502160" y="4807080"/>
              <a:ext cx="1739880" cy="67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088960" y="4923000"/>
              <a:ext cx="47916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89320" y="3856320"/>
              <a:ext cx="456480" cy="579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007E-C372-43B1-944C-CE38767DFB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2317-74C5-4F77-A4A5-96189E05893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9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160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9" name=""/>
          <p:cNvGrpSpPr/>
          <p:nvPr/>
        </p:nvGrpSpPr>
        <p:grpSpPr>
          <a:xfrm>
            <a:off x="6248520" y="4084560"/>
            <a:ext cx="1765800" cy="1090440"/>
            <a:chOff x="6248520" y="4084560"/>
            <a:chExt cx="1765800" cy="1090440"/>
          </a:xfrm>
        </p:grpSpPr>
        <p:grpSp>
          <p:nvGrpSpPr>
            <p:cNvPr id="2200" name=""/>
            <p:cNvGrpSpPr/>
            <p:nvPr/>
          </p:nvGrpSpPr>
          <p:grpSpPr>
            <a:xfrm>
              <a:off x="6248520" y="4273560"/>
              <a:ext cx="1218960" cy="901440"/>
              <a:chOff x="6248520" y="4273560"/>
              <a:chExt cx="1218960" cy="901440"/>
            </a:xfrm>
          </p:grpSpPr>
          <p:sp>
            <p:nvSpPr>
              <p:cNvPr id="2201" name=""/>
              <p:cNvSpPr/>
              <p:nvPr/>
            </p:nvSpPr>
            <p:spPr>
              <a:xfrm>
                <a:off x="6559560" y="427356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2485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162920" y="44193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248520" y="502920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7603560" y="4084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4012560" y="3551400"/>
            <a:ext cx="2323080" cy="2332440"/>
            <a:chOff x="4012560" y="3551400"/>
            <a:chExt cx="2323080" cy="2332440"/>
          </a:xfrm>
        </p:grpSpPr>
        <p:grpSp>
          <p:nvGrpSpPr>
            <p:cNvPr id="2207" name=""/>
            <p:cNvGrpSpPr/>
            <p:nvPr/>
          </p:nvGrpSpPr>
          <p:grpSpPr>
            <a:xfrm>
              <a:off x="4456080" y="4800600"/>
              <a:ext cx="1382760" cy="915480"/>
              <a:chOff x="4456080" y="4800600"/>
              <a:chExt cx="1382760" cy="915480"/>
            </a:xfrm>
          </p:grpSpPr>
          <p:grpSp>
            <p:nvGrpSpPr>
              <p:cNvPr id="2208" name=""/>
              <p:cNvGrpSpPr/>
              <p:nvPr/>
            </p:nvGrpSpPr>
            <p:grpSpPr>
              <a:xfrm>
                <a:off x="4761000" y="4800600"/>
                <a:ext cx="1077840" cy="915480"/>
                <a:chOff x="4761000" y="4800600"/>
                <a:chExt cx="1077840" cy="915480"/>
              </a:xfrm>
            </p:grpSpPr>
            <p:grpSp>
              <p:nvGrpSpPr>
                <p:cNvPr id="2209" name=""/>
                <p:cNvGrpSpPr/>
                <p:nvPr/>
              </p:nvGrpSpPr>
              <p:grpSpPr>
                <a:xfrm>
                  <a:off x="4761000" y="4800600"/>
                  <a:ext cx="907920" cy="915480"/>
                  <a:chOff x="4761000" y="4800600"/>
                  <a:chExt cx="907920" cy="915480"/>
                </a:xfrm>
              </p:grpSpPr>
              <p:sp>
                <p:nvSpPr>
                  <p:cNvPr id="2210" name=""/>
                  <p:cNvSpPr/>
                  <p:nvPr/>
                </p:nvSpPr>
                <p:spPr>
                  <a:xfrm>
                    <a:off x="4767120" y="4806360"/>
                    <a:ext cx="901800" cy="901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4761000" y="4800600"/>
                    <a:ext cx="458640" cy="9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77">
                        <a:moveTo>
                          <a:pt x="288" y="0"/>
                        </a:moveTo>
                        <a:lnTo>
                          <a:pt x="0" y="0"/>
                        </a:lnTo>
                        <a:lnTo>
                          <a:pt x="0" y="576"/>
                        </a:lnTo>
                        <a:lnTo>
                          <a:pt x="288" y="576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2" name=""/>
                <p:cNvSpPr/>
                <p:nvPr/>
              </p:nvSpPr>
              <p:spPr>
                <a:xfrm>
                  <a:off x="5676840" y="5247720"/>
                  <a:ext cx="1620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3" name=""/>
              <p:cNvSpPr/>
              <p:nvPr/>
            </p:nvSpPr>
            <p:spPr>
              <a:xfrm>
                <a:off x="4456080" y="495252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456080" y="5562000"/>
                <a:ext cx="3049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4438800" y="3733560"/>
              <a:ext cx="1400040" cy="915840"/>
              <a:chOff x="4438800" y="3733560"/>
              <a:chExt cx="1400040" cy="915840"/>
            </a:xfrm>
          </p:grpSpPr>
          <p:grpSp>
            <p:nvGrpSpPr>
              <p:cNvPr id="2216" name=""/>
              <p:cNvGrpSpPr/>
              <p:nvPr/>
            </p:nvGrpSpPr>
            <p:grpSpPr>
              <a:xfrm>
                <a:off x="4456080" y="3733560"/>
                <a:ext cx="1382760" cy="915840"/>
                <a:chOff x="4456080" y="3733560"/>
                <a:chExt cx="1382760" cy="915840"/>
              </a:xfrm>
            </p:grpSpPr>
            <p:grpSp>
              <p:nvGrpSpPr>
                <p:cNvPr id="2217" name=""/>
                <p:cNvGrpSpPr/>
                <p:nvPr/>
              </p:nvGrpSpPr>
              <p:grpSpPr>
                <a:xfrm>
                  <a:off x="4761000" y="3733560"/>
                  <a:ext cx="1077840" cy="915840"/>
                  <a:chOff x="4761000" y="3733560"/>
                  <a:chExt cx="1077840" cy="915840"/>
                </a:xfrm>
              </p:grpSpPr>
              <p:grpSp>
                <p:nvGrpSpPr>
                  <p:cNvPr id="2218" name=""/>
                  <p:cNvGrpSpPr/>
                  <p:nvPr/>
                </p:nvGrpSpPr>
                <p:grpSpPr>
                  <a:xfrm>
                    <a:off x="4761000" y="3733560"/>
                    <a:ext cx="907920" cy="915840"/>
                    <a:chOff x="4761000" y="3733560"/>
                    <a:chExt cx="907920" cy="915840"/>
                  </a:xfrm>
                </p:grpSpPr>
                <p:sp>
                  <p:nvSpPr>
                    <p:cNvPr id="2219" name=""/>
                    <p:cNvSpPr/>
                    <p:nvPr/>
                  </p:nvSpPr>
                  <p:spPr>
                    <a:xfrm>
                      <a:off x="4767120" y="3739680"/>
                      <a:ext cx="901800" cy="9014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0" name=""/>
                    <p:cNvSpPr/>
                    <p:nvPr/>
                  </p:nvSpPr>
                  <p:spPr>
                    <a:xfrm>
                      <a:off x="4761000" y="3733560"/>
                      <a:ext cx="458640" cy="9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577">
                          <a:moveTo>
                            <a:pt x="288" y="0"/>
                          </a:moveTo>
                          <a:lnTo>
                            <a:pt x="0" y="0"/>
                          </a:lnTo>
                          <a:lnTo>
                            <a:pt x="0" y="576"/>
                          </a:lnTo>
                          <a:lnTo>
                            <a:pt x="288" y="576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21" name=""/>
                  <p:cNvSpPr/>
                  <p:nvPr/>
                </p:nvSpPr>
                <p:spPr>
                  <a:xfrm>
                    <a:off x="5676840" y="4181040"/>
                    <a:ext cx="1620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2" name=""/>
                <p:cNvSpPr/>
                <p:nvPr/>
              </p:nvSpPr>
              <p:spPr>
                <a:xfrm>
                  <a:off x="4456080" y="388584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4456080" y="4495320"/>
                  <a:ext cx="3049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4" name=""/>
              <p:cNvSpPr/>
              <p:nvPr/>
            </p:nvSpPr>
            <p:spPr>
              <a:xfrm>
                <a:off x="4438800" y="4190400"/>
                <a:ext cx="323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4606920" y="4425840"/>
              <a:ext cx="139680" cy="1393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838840" y="5029200"/>
              <a:ext cx="496800" cy="220320"/>
            </a:xfrm>
            <a:custGeom>
              <a:avLst/>
              <a:gdLst/>
              <a:ahLst/>
              <a:rect l="l" t="t" r="r" b="b"/>
              <a:pathLst>
                <a:path w="313" h="139">
                  <a:moveTo>
                    <a:pt x="0" y="138"/>
                  </a:moveTo>
                  <a:lnTo>
                    <a:pt x="0" y="0"/>
                  </a:lnTo>
                  <a:lnTo>
                    <a:pt x="3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838840" y="4181400"/>
              <a:ext cx="496800" cy="239400"/>
            </a:xfrm>
            <a:custGeom>
              <a:avLst/>
              <a:gdLst/>
              <a:ahLst/>
              <a:rect l="l" t="t" r="r" b="b"/>
              <a:pathLst>
                <a:path w="313" h="151">
                  <a:moveTo>
                    <a:pt x="0" y="0"/>
                  </a:moveTo>
                  <a:lnTo>
                    <a:pt x="0" y="150"/>
                  </a:lnTo>
                  <a:lnTo>
                    <a:pt x="312" y="15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022280" y="3551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22280" y="3855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012560" y="423684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022280" y="4618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012560" y="530388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53AC-11FA-4688-9322-B4F7CFF203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3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234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3816360" y="10987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848720" y="20829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594280" y="174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200400" y="13208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200400" y="1778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200400" y="2235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200400" y="2692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727000" y="98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727000" y="14428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726640" y="19000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200400" y="2082960"/>
            <a:ext cx="4954680" cy="129672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114800" y="16257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3" name=""/>
          <p:cNvGrpSpPr/>
          <p:nvPr/>
        </p:nvGrpSpPr>
        <p:grpSpPr>
          <a:xfrm>
            <a:off x="6248520" y="3665520"/>
            <a:ext cx="1765800" cy="1090440"/>
            <a:chOff x="6248520" y="3665520"/>
            <a:chExt cx="1765800" cy="1090440"/>
          </a:xfrm>
        </p:grpSpPr>
        <p:grpSp>
          <p:nvGrpSpPr>
            <p:cNvPr id="2274" name=""/>
            <p:cNvGrpSpPr/>
            <p:nvPr/>
          </p:nvGrpSpPr>
          <p:grpSpPr>
            <a:xfrm>
              <a:off x="6248520" y="3854520"/>
              <a:ext cx="1218960" cy="901440"/>
              <a:chOff x="6248520" y="3854520"/>
              <a:chExt cx="1218960" cy="901440"/>
            </a:xfrm>
          </p:grpSpPr>
          <p:sp>
            <p:nvSpPr>
              <p:cNvPr id="2275" name=""/>
              <p:cNvSpPr/>
              <p:nvPr/>
            </p:nvSpPr>
            <p:spPr>
              <a:xfrm>
                <a:off x="6559560" y="385452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2485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162920" y="4000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248520" y="461016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"/>
            <p:cNvSpPr/>
            <p:nvPr/>
          </p:nvSpPr>
          <p:spPr>
            <a:xfrm>
              <a:off x="7603560" y="36655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4578480" y="4433760"/>
                <a:ext cx="166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81" name=""/>
          <p:cNvSpPr/>
          <p:nvPr/>
        </p:nvSpPr>
        <p:spPr>
          <a:xfrm>
            <a:off x="5774760" y="36655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82B6-3FFA-4339-A05C-9CBB5B48EB91}" type="slidenum">
              <a:t>31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"/>
          <p:cNvGrpSpPr/>
          <p:nvPr/>
        </p:nvGrpSpPr>
        <p:grpSpPr>
          <a:xfrm>
            <a:off x="212400" y="136440"/>
            <a:ext cx="1724400" cy="6021000"/>
            <a:chOff x="212400" y="136440"/>
            <a:chExt cx="1724400" cy="6021000"/>
          </a:xfrm>
        </p:grpSpPr>
        <p:sp>
          <p:nvSpPr>
            <p:cNvPr id="2283" name=""/>
            <p:cNvSpPr/>
            <p:nvPr/>
          </p:nvSpPr>
          <p:spPr>
            <a:xfrm>
              <a:off x="745560" y="136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12400" y="66996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78720" y="6699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38000" y="12034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8000" y="1889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7400" y="25750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99840" y="32608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7400" y="3946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50560" y="478476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278720" y="44798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33360" y="51656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07400" y="569916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571320" y="523800"/>
              <a:ext cx="237960" cy="209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71640" y="514440"/>
              <a:ext cx="361800" cy="276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33520" y="1047600"/>
              <a:ext cx="285480" cy="276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1056960" y="1038240"/>
              <a:ext cx="314280" cy="266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4400" y="16002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14400" y="22860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14400" y="29718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14400" y="365760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009800" y="4324320"/>
              <a:ext cx="342720" cy="295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504720" y="4352760"/>
              <a:ext cx="285840" cy="5432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447920" y="4876920"/>
              <a:ext cx="0" cy="380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14440" y="5172120"/>
              <a:ext cx="314280" cy="619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1066680" y="5524560"/>
              <a:ext cx="276480" cy="237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219320" y="380880"/>
              <a:ext cx="610920" cy="5564160"/>
            </a:xfrm>
            <a:custGeom>
              <a:avLst/>
              <a:gdLst/>
              <a:ahLst/>
              <a:rect l="l" t="t" r="r" b="b"/>
              <a:pathLst>
                <a:path w="385" h="3505">
                  <a:moveTo>
                    <a:pt x="0" y="3504"/>
                  </a:moveTo>
                  <a:lnTo>
                    <a:pt x="384" y="3504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20800" y="29782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10" name=""/>
          <p:cNvSpPr/>
          <p:nvPr/>
        </p:nvSpPr>
        <p:spPr>
          <a:xfrm>
            <a:off x="3816360" y="1123920"/>
            <a:ext cx="4025880" cy="18921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848720" y="2108160"/>
            <a:ext cx="685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8594280" y="17733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200400" y="13460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200400" y="18032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200400" y="22604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200400" y="2717640"/>
            <a:ext cx="609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727000" y="10112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727000" y="14684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726640" y="192564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00400" y="2108160"/>
            <a:ext cx="4954680" cy="1297080"/>
          </a:xfrm>
          <a:custGeom>
            <a:avLst/>
            <a:gdLst/>
            <a:ahLst/>
            <a:rect l="l" t="t" r="r" b="b"/>
            <a:pathLst>
              <a:path w="3121" h="817">
                <a:moveTo>
                  <a:pt x="3120" y="0"/>
                </a:moveTo>
                <a:lnTo>
                  <a:pt x="3120" y="816"/>
                </a:lnTo>
                <a:lnTo>
                  <a:pt x="0" y="81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114800" y="1650960"/>
                <a:ext cx="3505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2" name=""/>
          <p:cNvGrpSpPr/>
          <p:nvPr/>
        </p:nvGrpSpPr>
        <p:grpSpPr>
          <a:xfrm>
            <a:off x="6248520" y="3703680"/>
            <a:ext cx="1765800" cy="1090440"/>
            <a:chOff x="6248520" y="3703680"/>
            <a:chExt cx="1765800" cy="1090440"/>
          </a:xfrm>
        </p:grpSpPr>
        <p:grpSp>
          <p:nvGrpSpPr>
            <p:cNvPr id="2323" name=""/>
            <p:cNvGrpSpPr/>
            <p:nvPr/>
          </p:nvGrpSpPr>
          <p:grpSpPr>
            <a:xfrm>
              <a:off x="6248520" y="3892680"/>
              <a:ext cx="1218960" cy="901440"/>
              <a:chOff x="6248520" y="3892680"/>
              <a:chExt cx="1218960" cy="901440"/>
            </a:xfrm>
          </p:grpSpPr>
          <p:sp>
            <p:nvSpPr>
              <p:cNvPr id="2324" name=""/>
              <p:cNvSpPr/>
              <p:nvPr/>
            </p:nvSpPr>
            <p:spPr>
              <a:xfrm>
                <a:off x="6559560" y="3892680"/>
                <a:ext cx="596880" cy="901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4320" rIns="184320" tIns="92160" bIns="92160" anchor="ctr">
                <a:noAutofit/>
              </a:bodyPr>
              <a:p>
                <a:pPr algn="ctr">
                  <a:tabLst>
                    <a:tab algn="l" pos="0"/>
                    <a:tab algn="l" pos="3657600"/>
                    <a:tab algn="l" pos="7315200"/>
                  </a:tabLst>
                </a:pPr>
                <a:r>
                  <a:rPr b="0" lang="en-US" sz="3600" spc="-1" strike="noStrike">
                    <a:solidFill>
                      <a:srgbClr val="ffffcc"/>
                    </a:solidFill>
                    <a:latin typeface="Times New Roman"/>
                  </a:rPr>
                  <a:t>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2485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162920" y="403848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248520" y="4648320"/>
                <a:ext cx="3045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28" name=""/>
            <p:cNvSpPr/>
            <p:nvPr/>
          </p:nvSpPr>
          <p:spPr>
            <a:xfrm>
              <a:off x="7603560" y="37036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5774760" y="3703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30" name=""/>
          <p:cNvGrpSpPr/>
          <p:nvPr/>
        </p:nvGrpSpPr>
        <p:grpSpPr>
          <a:xfrm>
            <a:off x="5105520" y="4502160"/>
            <a:ext cx="1218960" cy="901800"/>
            <a:chOff x="5105520" y="4502160"/>
            <a:chExt cx="1218960" cy="901800"/>
          </a:xfrm>
        </p:grpSpPr>
        <p:sp>
          <p:nvSpPr>
            <p:cNvPr id="2331" name=""/>
            <p:cNvSpPr/>
            <p:nvPr/>
          </p:nvSpPr>
          <p:spPr>
            <a:xfrm>
              <a:off x="5416560" y="4502160"/>
              <a:ext cx="596880" cy="9018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ctr">
              <a:noAutofit/>
            </a:bodyPr>
            <a:p>
              <a:pPr algn="ctr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055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019920" y="464832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105520" y="5257800"/>
              <a:ext cx="30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4631760" y="4389480"/>
            <a:ext cx="4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631760" y="49230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B78D-57FC-4BDC-84F9-4100C59B8780}" type="slidenum">
              <a:t>32</a:t>
            </a:fld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chnology mapp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Merg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mall gates into larger gates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introduces no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synchronous technique can be applied, e.g. BDD-based boolean 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ndles sequential gates and combinational feedba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hazards there is no guarantee to find correct mapping (some gates cannot be decompos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decomposition can be applied in these rare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EA6B-6439-49F7-9240-6A9C9B8D23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8A16-10B2-46F6-A74B-194694D240E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18680" y="-8244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iming assumptions in design flow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eed-independen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wire delays after a fork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maller than fan-out gate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rst-mod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ircuit stabilizes between</a:t>
            </a:r>
            <a:br>
              <a:rPr sz="2400"/>
            </a:b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wo changes at the in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d circuit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bsolute bounds on gate / environment delays are know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 priori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(before physical desig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26F5-0066-48DE-A65A-1DF24005FDB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tive Timing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1723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ssumption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befor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concurrent events: reduces reachable state sp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ordered events: permits early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th increase don’t care space for logic synthesis =&gt; simplify logic (better area and tim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ssume -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if useful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- guarantee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pproach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 are used by the tool to derive a circuit </a:t>
            </a:r>
            <a:r>
              <a:rPr b="0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quired timing constraints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at must be met in physical desig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pplied to design of the Rotating Asynchronous Pentium Processor(TM) Instruction Decoder (K.Stevens, S.Rotem et al. Intel Corporat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EDE8-131B-4D7C-9765-C0D2FABC21C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/>
          <p:nvPr/>
        </p:nvSpPr>
        <p:spPr>
          <a:xfrm>
            <a:off x="590400" y="100332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ed-independent C-ele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816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Relative Timing Asynchronous Circui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62" name=""/>
          <p:cNvGrpSpPr/>
          <p:nvPr/>
        </p:nvGrpSpPr>
        <p:grpSpPr>
          <a:xfrm>
            <a:off x="628560" y="1974960"/>
            <a:ext cx="8210520" cy="2002680"/>
            <a:chOff x="628560" y="1974960"/>
            <a:chExt cx="8210520" cy="2002680"/>
          </a:xfrm>
        </p:grpSpPr>
        <p:sp>
          <p:nvSpPr>
            <p:cNvPr id="2363" name=""/>
            <p:cNvSpPr/>
            <p:nvPr/>
          </p:nvSpPr>
          <p:spPr>
            <a:xfrm>
              <a:off x="6438960" y="3498840"/>
              <a:ext cx="2400120" cy="45972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28560" y="3517920"/>
              <a:ext cx="75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Timing </a:t>
              </a: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assumption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(on environment):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66960" y="197496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6372720" y="1812240"/>
            <a:ext cx="338760" cy="213840"/>
            <a:chOff x="6372720" y="1812240"/>
            <a:chExt cx="338760" cy="213840"/>
          </a:xfrm>
        </p:grpSpPr>
        <p:sp>
          <p:nvSpPr>
            <p:cNvPr id="2367" name=""/>
            <p:cNvSpPr/>
            <p:nvPr/>
          </p:nvSpPr>
          <p:spPr>
            <a:xfrm rot="16093800">
              <a:off x="6374880" y="1893960"/>
              <a:ext cx="52920" cy="55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rot="16093800">
              <a:off x="6456240" y="1769400"/>
              <a:ext cx="204840" cy="29880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6400800" y="2115360"/>
            <a:ext cx="270360" cy="255960"/>
            <a:chOff x="6400800" y="2115360"/>
            <a:chExt cx="270360" cy="255960"/>
          </a:xfrm>
        </p:grpSpPr>
        <p:sp>
          <p:nvSpPr>
            <p:cNvPr id="2370" name=""/>
            <p:cNvSpPr/>
            <p:nvPr/>
          </p:nvSpPr>
          <p:spPr>
            <a:xfrm rot="5314200">
              <a:off x="6616080" y="2221200"/>
              <a:ext cx="64800" cy="43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rot="5314200">
              <a:off x="6397560" y="2124360"/>
              <a:ext cx="250200" cy="2379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5516640" y="1641600"/>
            <a:ext cx="198360" cy="352800"/>
            <a:chOff x="5516640" y="1641600"/>
            <a:chExt cx="198360" cy="352800"/>
          </a:xfrm>
        </p:grpSpPr>
        <p:grpSp>
          <p:nvGrpSpPr>
            <p:cNvPr id="2373" name=""/>
            <p:cNvGrpSpPr/>
            <p:nvPr/>
          </p:nvGrpSpPr>
          <p:grpSpPr>
            <a:xfrm>
              <a:off x="5591160" y="1641600"/>
              <a:ext cx="123840" cy="352800"/>
              <a:chOff x="5591160" y="1641600"/>
              <a:chExt cx="123840" cy="352800"/>
            </a:xfrm>
          </p:grpSpPr>
          <p:grpSp>
            <p:nvGrpSpPr>
              <p:cNvPr id="2374" name=""/>
              <p:cNvGrpSpPr/>
              <p:nvPr/>
            </p:nvGrpSpPr>
            <p:grpSpPr>
              <a:xfrm>
                <a:off x="5638680" y="1641600"/>
                <a:ext cx="76320" cy="352800"/>
                <a:chOff x="5638680" y="1641600"/>
                <a:chExt cx="76320" cy="352800"/>
              </a:xfrm>
            </p:grpSpPr>
            <p:cxnSp>
              <p:nvCxnSpPr>
                <p:cNvPr id="2375" name=""/>
                <p:cNvCxnSpPr/>
                <p:nvPr/>
              </p:nvCxnSpPr>
              <p:spPr>
                <a:xfrm rot="5400000">
                  <a:off x="5557320" y="172260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376" name=""/>
                <p:cNvCxnSpPr/>
                <p:nvPr/>
              </p:nvCxnSpPr>
              <p:spPr>
                <a:xfrm flipH="1" rot="16200000">
                  <a:off x="5572080" y="185112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377" name=""/>
              <p:cNvSpPr/>
              <p:nvPr/>
            </p:nvSpPr>
            <p:spPr>
              <a:xfrm>
                <a:off x="5591160" y="174636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78" name=""/>
            <p:cNvSpPr/>
            <p:nvPr/>
          </p:nvSpPr>
          <p:spPr>
            <a:xfrm>
              <a:off x="5516640" y="17942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5591160" y="2193840"/>
            <a:ext cx="123840" cy="352800"/>
            <a:chOff x="5591160" y="2193840"/>
            <a:chExt cx="123840" cy="352800"/>
          </a:xfrm>
        </p:grpSpPr>
        <p:grpSp>
          <p:nvGrpSpPr>
            <p:cNvPr id="2380" name=""/>
            <p:cNvGrpSpPr/>
            <p:nvPr/>
          </p:nvGrpSpPr>
          <p:grpSpPr>
            <a:xfrm>
              <a:off x="5638680" y="2193840"/>
              <a:ext cx="76320" cy="352800"/>
              <a:chOff x="5638680" y="2193840"/>
              <a:chExt cx="76320" cy="352800"/>
            </a:xfrm>
          </p:grpSpPr>
          <p:cxnSp>
            <p:nvCxnSpPr>
              <p:cNvPr id="2381" name=""/>
              <p:cNvCxnSpPr/>
              <p:nvPr/>
            </p:nvCxnSpPr>
            <p:spPr>
              <a:xfrm rot="5400000">
                <a:off x="5557320" y="227484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382" name=""/>
              <p:cNvCxnSpPr/>
              <p:nvPr/>
            </p:nvCxnSpPr>
            <p:spPr>
              <a:xfrm flipH="1" rot="16200000">
                <a:off x="5572080" y="240336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383" name=""/>
            <p:cNvSpPr/>
            <p:nvPr/>
          </p:nvSpPr>
          <p:spPr>
            <a:xfrm>
              <a:off x="5591160" y="229860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5591160" y="2460600"/>
            <a:ext cx="123840" cy="352800"/>
            <a:chOff x="5591160" y="2460600"/>
            <a:chExt cx="123840" cy="352800"/>
          </a:xfrm>
        </p:grpSpPr>
        <p:grpSp>
          <p:nvGrpSpPr>
            <p:cNvPr id="2385" name=""/>
            <p:cNvGrpSpPr/>
            <p:nvPr/>
          </p:nvGrpSpPr>
          <p:grpSpPr>
            <a:xfrm>
              <a:off x="5638680" y="2460600"/>
              <a:ext cx="76320" cy="352800"/>
              <a:chOff x="5638680" y="2460600"/>
              <a:chExt cx="76320" cy="352800"/>
            </a:xfrm>
          </p:grpSpPr>
          <p:cxnSp>
            <p:nvCxnSpPr>
              <p:cNvPr id="2386" name=""/>
              <p:cNvCxnSpPr/>
              <p:nvPr/>
            </p:nvCxnSpPr>
            <p:spPr>
              <a:xfrm rot="5400000">
                <a:off x="5557320" y="2541600"/>
                <a:ext cx="239040" cy="76680"/>
              </a:xfrm>
              <a:prstGeom prst="bentConnector3">
                <a:avLst>
                  <a:gd name="adj1" fmla="val 4992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  <p:cxnSp>
            <p:nvCxnSpPr>
              <p:cNvPr id="2387" name=""/>
              <p:cNvCxnSpPr/>
              <p:nvPr/>
            </p:nvCxnSpPr>
            <p:spPr>
              <a:xfrm flipH="1" rot="16200000">
                <a:off x="5572080" y="2670120"/>
                <a:ext cx="210240" cy="76680"/>
              </a:xfrm>
              <a:prstGeom prst="bentConnector3">
                <a:avLst>
                  <a:gd name="adj1" fmla="val 49914"/>
                </a:avLst>
              </a:prstGeom>
              <a:ln w="12600">
                <a:solidFill>
                  <a:srgbClr val="ffffcc"/>
                </a:solidFill>
                <a:miter/>
              </a:ln>
            </p:spPr>
          </p:cxnSp>
        </p:grpSp>
        <p:sp>
          <p:nvSpPr>
            <p:cNvPr id="2388" name=""/>
            <p:cNvSpPr/>
            <p:nvPr/>
          </p:nvSpPr>
          <p:spPr>
            <a:xfrm>
              <a:off x="5591160" y="2565360"/>
              <a:ext cx="0" cy="171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9" name=""/>
          <p:cNvGrpSpPr/>
          <p:nvPr/>
        </p:nvGrpSpPr>
        <p:grpSpPr>
          <a:xfrm>
            <a:off x="5516640" y="1917720"/>
            <a:ext cx="198360" cy="352800"/>
            <a:chOff x="5516640" y="1917720"/>
            <a:chExt cx="198360" cy="352800"/>
          </a:xfrm>
        </p:grpSpPr>
        <p:grpSp>
          <p:nvGrpSpPr>
            <p:cNvPr id="2390" name=""/>
            <p:cNvGrpSpPr/>
            <p:nvPr/>
          </p:nvGrpSpPr>
          <p:grpSpPr>
            <a:xfrm>
              <a:off x="5591160" y="1917720"/>
              <a:ext cx="123840" cy="352800"/>
              <a:chOff x="5591160" y="1917720"/>
              <a:chExt cx="123840" cy="35280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5638680" y="1917720"/>
                <a:ext cx="76320" cy="352800"/>
                <a:chOff x="5638680" y="1917720"/>
                <a:chExt cx="76320" cy="352800"/>
              </a:xfrm>
            </p:grpSpPr>
            <p:cxnSp>
              <p:nvCxnSpPr>
                <p:cNvPr id="2392" name=""/>
                <p:cNvCxnSpPr/>
                <p:nvPr/>
              </p:nvCxnSpPr>
              <p:spPr>
                <a:xfrm rot="5400000">
                  <a:off x="5557320" y="1998720"/>
                  <a:ext cx="239040" cy="76680"/>
                </a:xfrm>
                <a:prstGeom prst="bentConnector3">
                  <a:avLst>
                    <a:gd name="adj1" fmla="val 4992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393" name=""/>
                <p:cNvCxnSpPr/>
                <p:nvPr/>
              </p:nvCxnSpPr>
              <p:spPr>
                <a:xfrm flipH="1" rot="16200000">
                  <a:off x="5572080" y="2127240"/>
                  <a:ext cx="210240" cy="76680"/>
                </a:xfrm>
                <a:prstGeom prst="bentConnector3">
                  <a:avLst>
                    <a:gd name="adj1" fmla="val 49914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394" name=""/>
              <p:cNvSpPr/>
              <p:nvPr/>
            </p:nvSpPr>
            <p:spPr>
              <a:xfrm>
                <a:off x="5591160" y="2022480"/>
                <a:ext cx="0" cy="17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5516640" y="207036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96" name=""/>
          <p:cNvSpPr/>
          <p:nvPr/>
        </p:nvSpPr>
        <p:spPr>
          <a:xfrm>
            <a:off x="5676840" y="1612800"/>
            <a:ext cx="85680" cy="57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648400" y="2813040"/>
            <a:ext cx="12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715000" y="223200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667560" y="2241720"/>
            <a:ext cx="485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400" name=""/>
          <p:cNvCxnSpPr>
            <a:stCxn id="2368" idx="0"/>
          </p:cNvCxnSpPr>
          <p:nvPr/>
        </p:nvCxnSpPr>
        <p:spPr>
          <a:xfrm flipV="1" rot="10800000">
            <a:off x="6057360" y="1923120"/>
            <a:ext cx="352800" cy="308520"/>
          </a:xfrm>
          <a:prstGeom prst="bentConnector3">
            <a:avLst>
              <a:gd name="adj1" fmla="val 50357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401" name=""/>
          <p:cNvCxnSpPr/>
          <p:nvPr/>
        </p:nvCxnSpPr>
        <p:spPr>
          <a:xfrm>
            <a:off x="6706800" y="1905120"/>
            <a:ext cx="446760" cy="327600"/>
          </a:xfrm>
          <a:prstGeom prst="bentConnector4">
            <a:avLst>
              <a:gd name="adj1" fmla="val 51532"/>
              <a:gd name="adj2" fmla="val 1033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2402" name=""/>
          <p:cNvCxnSpPr>
            <a:stCxn id="2395" idx="2"/>
          </p:cNvCxnSpPr>
          <p:nvPr/>
        </p:nvCxnSpPr>
        <p:spPr>
          <a:xfrm flipV="1" rot="10800000">
            <a:off x="5361840" y="2107800"/>
            <a:ext cx="154800" cy="28656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403" name=""/>
          <p:cNvSpPr/>
          <p:nvPr/>
        </p:nvSpPr>
        <p:spPr>
          <a:xfrm>
            <a:off x="5362560" y="2394000"/>
            <a:ext cx="228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404" name=""/>
          <p:cNvCxnSpPr/>
          <p:nvPr/>
        </p:nvCxnSpPr>
        <p:spPr>
          <a:xfrm flipV="1" rot="10800000">
            <a:off x="5247720" y="1821240"/>
            <a:ext cx="268920" cy="8485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2405" name=""/>
          <p:cNvSpPr/>
          <p:nvPr/>
        </p:nvSpPr>
        <p:spPr>
          <a:xfrm>
            <a:off x="5248440" y="2660760"/>
            <a:ext cx="342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4762080" y="2232000"/>
            <a:ext cx="6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H="1">
            <a:off x="4743000" y="2422440"/>
            <a:ext cx="505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481280" y="2271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471920" y="19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110000" y="202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685800" y="1463760"/>
            <a:ext cx="7581960" cy="4799880"/>
            <a:chOff x="685800" y="1463760"/>
            <a:chExt cx="7581960" cy="4799880"/>
          </a:xfrm>
        </p:grpSpPr>
        <p:grpSp>
          <p:nvGrpSpPr>
            <p:cNvPr id="2412" name=""/>
            <p:cNvGrpSpPr/>
            <p:nvPr/>
          </p:nvGrpSpPr>
          <p:grpSpPr>
            <a:xfrm>
              <a:off x="4235400" y="1463760"/>
              <a:ext cx="3021120" cy="1542960"/>
              <a:chOff x="4235400" y="1463760"/>
              <a:chExt cx="3021120" cy="1542960"/>
            </a:xfrm>
          </p:grpSpPr>
          <p:sp>
            <p:nvSpPr>
              <p:cNvPr id="2413" name=""/>
              <p:cNvSpPr/>
              <p:nvPr/>
            </p:nvSpPr>
            <p:spPr>
              <a:xfrm flipH="1">
                <a:off x="423540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341240" y="1463760"/>
                <a:ext cx="2915280" cy="1542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>
              <a:off x="685800" y="542268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T C-element: faster,smaller; correct only under timing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onstraint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: 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866960" y="4203720"/>
              <a:ext cx="780840" cy="952200"/>
            </a:xfrm>
            <a:prstGeom prst="downArrow">
              <a:avLst>
                <a:gd name="adj1" fmla="val 50000"/>
                <a:gd name="adj2" fmla="val 30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390840" y="5803920"/>
              <a:ext cx="240048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- before 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18" name=""/>
            <p:cNvGrpSpPr/>
            <p:nvPr/>
          </p:nvGrpSpPr>
          <p:grpSpPr>
            <a:xfrm>
              <a:off x="6420240" y="4325400"/>
              <a:ext cx="339120" cy="213480"/>
              <a:chOff x="6420240" y="4325400"/>
              <a:chExt cx="339120" cy="213480"/>
            </a:xfrm>
          </p:grpSpPr>
          <p:sp>
            <p:nvSpPr>
              <p:cNvPr id="2419" name=""/>
              <p:cNvSpPr/>
              <p:nvPr/>
            </p:nvSpPr>
            <p:spPr>
              <a:xfrm rot="16093800">
                <a:off x="6422400" y="4406760"/>
                <a:ext cx="52920" cy="55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6093800">
                <a:off x="6504120" y="4282200"/>
                <a:ext cx="204480" cy="2991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448320" y="4628160"/>
              <a:ext cx="270360" cy="255960"/>
              <a:chOff x="6448320" y="4628160"/>
              <a:chExt cx="270360" cy="255960"/>
            </a:xfrm>
          </p:grpSpPr>
          <p:sp>
            <p:nvSpPr>
              <p:cNvPr id="2422" name=""/>
              <p:cNvSpPr/>
              <p:nvPr/>
            </p:nvSpPr>
            <p:spPr>
              <a:xfrm rot="5314200">
                <a:off x="6663600" y="4734000"/>
                <a:ext cx="64800" cy="439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rot="5314200">
                <a:off x="6445080" y="4637160"/>
                <a:ext cx="250200" cy="23796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5638680" y="4706640"/>
              <a:ext cx="123840" cy="352080"/>
              <a:chOff x="5638680" y="4706640"/>
              <a:chExt cx="123840" cy="352080"/>
            </a:xfrm>
          </p:grpSpPr>
          <p:grpSp>
            <p:nvGrpSpPr>
              <p:cNvPr id="2425" name=""/>
              <p:cNvGrpSpPr/>
              <p:nvPr/>
            </p:nvGrpSpPr>
            <p:grpSpPr>
              <a:xfrm>
                <a:off x="5686200" y="4706640"/>
                <a:ext cx="76320" cy="352080"/>
                <a:chOff x="5686200" y="4706640"/>
                <a:chExt cx="76320" cy="352080"/>
              </a:xfrm>
            </p:grpSpPr>
            <p:cxnSp>
              <p:nvCxnSpPr>
                <p:cNvPr id="2426" name=""/>
                <p:cNvCxnSpPr/>
                <p:nvPr/>
              </p:nvCxnSpPr>
              <p:spPr>
                <a:xfrm rot="5400000">
                  <a:off x="5605200" y="47876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427" name=""/>
                <p:cNvCxnSpPr/>
                <p:nvPr/>
              </p:nvCxnSpPr>
              <p:spPr>
                <a:xfrm flipH="1" rot="16200000">
                  <a:off x="5619600" y="49158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428" name=""/>
              <p:cNvSpPr/>
              <p:nvPr/>
            </p:nvSpPr>
            <p:spPr>
              <a:xfrm>
                <a:off x="5638680" y="48114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5638680" y="4973040"/>
              <a:ext cx="123840" cy="352080"/>
              <a:chOff x="5638680" y="4973040"/>
              <a:chExt cx="123840" cy="352080"/>
            </a:xfrm>
          </p:grpSpPr>
          <p:grpSp>
            <p:nvGrpSpPr>
              <p:cNvPr id="2430" name=""/>
              <p:cNvGrpSpPr/>
              <p:nvPr/>
            </p:nvGrpSpPr>
            <p:grpSpPr>
              <a:xfrm>
                <a:off x="5686200" y="4973040"/>
                <a:ext cx="76320" cy="352080"/>
                <a:chOff x="5686200" y="4973040"/>
                <a:chExt cx="76320" cy="352080"/>
              </a:xfrm>
            </p:grpSpPr>
            <p:cxnSp>
              <p:nvCxnSpPr>
                <p:cNvPr id="2431" name=""/>
                <p:cNvCxnSpPr/>
                <p:nvPr/>
              </p:nvCxnSpPr>
              <p:spPr>
                <a:xfrm rot="5400000">
                  <a:off x="5605200" y="5054040"/>
                  <a:ext cx="2386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  <p:cxnSp>
              <p:nvCxnSpPr>
                <p:cNvPr id="2432" name=""/>
                <p:cNvCxnSpPr/>
                <p:nvPr/>
              </p:nvCxnSpPr>
              <p:spPr>
                <a:xfrm flipH="1" rot="16200000">
                  <a:off x="5619600" y="5182200"/>
                  <a:ext cx="209880" cy="76680"/>
                </a:xfrm>
                <a:prstGeom prst="bentConnector3">
                  <a:avLst>
                    <a:gd name="adj1" fmla="val 50000"/>
                  </a:avLst>
                </a:prstGeom>
                <a:ln w="1260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2433" name=""/>
              <p:cNvSpPr/>
              <p:nvPr/>
            </p:nvSpPr>
            <p:spPr>
              <a:xfrm>
                <a:off x="5638680" y="5077800"/>
                <a:ext cx="0" cy="171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34" name=""/>
            <p:cNvGrpSpPr/>
            <p:nvPr/>
          </p:nvGrpSpPr>
          <p:grpSpPr>
            <a:xfrm>
              <a:off x="5564160" y="4430160"/>
              <a:ext cx="198360" cy="352080"/>
              <a:chOff x="5564160" y="4430160"/>
              <a:chExt cx="198360" cy="352080"/>
            </a:xfrm>
          </p:grpSpPr>
          <p:grpSp>
            <p:nvGrpSpPr>
              <p:cNvPr id="2435" name=""/>
              <p:cNvGrpSpPr/>
              <p:nvPr/>
            </p:nvGrpSpPr>
            <p:grpSpPr>
              <a:xfrm>
                <a:off x="5638680" y="4430160"/>
                <a:ext cx="123840" cy="352080"/>
                <a:chOff x="5638680" y="4430160"/>
                <a:chExt cx="123840" cy="352080"/>
              </a:xfrm>
            </p:grpSpPr>
            <p:grpSp>
              <p:nvGrpSpPr>
                <p:cNvPr id="2436" name=""/>
                <p:cNvGrpSpPr/>
                <p:nvPr/>
              </p:nvGrpSpPr>
              <p:grpSpPr>
                <a:xfrm>
                  <a:off x="5686200" y="4430160"/>
                  <a:ext cx="76320" cy="352080"/>
                  <a:chOff x="5686200" y="4430160"/>
                  <a:chExt cx="76320" cy="352080"/>
                </a:xfrm>
              </p:grpSpPr>
              <p:cxnSp>
                <p:nvCxnSpPr>
                  <p:cNvPr id="2437" name=""/>
                  <p:cNvCxnSpPr/>
                  <p:nvPr/>
                </p:nvCxnSpPr>
                <p:spPr>
                  <a:xfrm rot="5400000">
                    <a:off x="5605200" y="4511160"/>
                    <a:ext cx="2386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  <p:cxnSp>
                <p:nvCxnSpPr>
                  <p:cNvPr id="2438" name=""/>
                  <p:cNvCxnSpPr/>
                  <p:nvPr/>
                </p:nvCxnSpPr>
                <p:spPr>
                  <a:xfrm flipH="1" rot="16200000">
                    <a:off x="5619600" y="4639320"/>
                    <a:ext cx="209880" cy="76680"/>
                  </a:xfrm>
                  <a:prstGeom prst="bentConnector3">
                    <a:avLst>
                      <a:gd name="adj1" fmla="val 50000"/>
                    </a:avLst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cxnSp>
            </p:grpSp>
            <p:sp>
              <p:nvSpPr>
                <p:cNvPr id="2439" name=""/>
                <p:cNvSpPr/>
                <p:nvPr/>
              </p:nvSpPr>
              <p:spPr>
                <a:xfrm>
                  <a:off x="5638680" y="4534920"/>
                  <a:ext cx="0" cy="1713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0" name=""/>
              <p:cNvSpPr/>
              <p:nvPr/>
            </p:nvSpPr>
            <p:spPr>
              <a:xfrm>
                <a:off x="5564160" y="4582800"/>
                <a:ext cx="74520" cy="7416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41" name=""/>
            <p:cNvSpPr/>
            <p:nvPr/>
          </p:nvSpPr>
          <p:spPr>
            <a:xfrm>
              <a:off x="5724360" y="4392360"/>
              <a:ext cx="86040" cy="56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95920" y="5325840"/>
              <a:ext cx="123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62520" y="474480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715080" y="4754520"/>
              <a:ext cx="486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2445" name=""/>
            <p:cNvCxnSpPr>
              <a:stCxn id="2420" idx="0"/>
            </p:cNvCxnSpPr>
            <p:nvPr/>
          </p:nvCxnSpPr>
          <p:spPr>
            <a:xfrm flipV="1" rot="10800000">
              <a:off x="6104880" y="4436640"/>
              <a:ext cx="353160" cy="308160"/>
            </a:xfrm>
            <a:prstGeom prst="bentConnector3">
              <a:avLst>
                <a:gd name="adj1" fmla="val 50408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446" name=""/>
            <p:cNvCxnSpPr/>
            <p:nvPr/>
          </p:nvCxnSpPr>
          <p:spPr>
            <a:xfrm>
              <a:off x="6754680" y="4417560"/>
              <a:ext cx="447120" cy="327240"/>
            </a:xfrm>
            <a:prstGeom prst="bentConnector4">
              <a:avLst>
                <a:gd name="adj1" fmla="val 51571"/>
                <a:gd name="adj2" fmla="val 103303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2447" name=""/>
            <p:cNvCxnSpPr>
              <a:stCxn id="2440" idx="2"/>
            </p:cNvCxnSpPr>
            <p:nvPr/>
          </p:nvCxnSpPr>
          <p:spPr>
            <a:xfrm flipV="1" rot="10800000">
              <a:off x="5409360" y="4619880"/>
              <a:ext cx="154800" cy="286200"/>
            </a:xfrm>
            <a:prstGeom prst="bentConnector2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2448" name=""/>
            <p:cNvSpPr/>
            <p:nvPr/>
          </p:nvSpPr>
          <p:spPr>
            <a:xfrm>
              <a:off x="5410080" y="4906800"/>
              <a:ext cx="22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295960" y="5173560"/>
              <a:ext cx="342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4809600" y="4744800"/>
              <a:ext cx="600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4791240" y="4935600"/>
              <a:ext cx="504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529160" y="478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519440" y="4498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157520" y="453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295960" y="4946400"/>
              <a:ext cx="0" cy="23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30D7-E405-40CC-9882-D2F4EB0419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Graph (Read cycl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F4D8-DCC2-4AF7-BD75-3B3192245ED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3429000" y="3587760"/>
            <a:ext cx="3371760" cy="64764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695760" y="3664080"/>
            <a:ext cx="1638360" cy="495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209680" y="257796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657600" y="1454040"/>
            <a:ext cx="200016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azy Transition Syst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570120" y="146700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900800" y="13352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908040" y="39117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ff"/>
                </a:solidFill>
                <a:latin typeface="Arial"/>
              </a:rPr>
              <a:t>E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722760" y="165276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029200" y="1652760"/>
            <a:ext cx="260280" cy="2696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72276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02920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335640" y="2732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72276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02920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6335640" y="3811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2276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029200" y="4890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416320" y="2732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416320" y="3811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16320" y="4890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3984480" y="179244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3989520" y="17924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3989520" y="286704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289120" y="395136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3984480" y="3951360"/>
            <a:ext cx="1038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2677680" y="5041800"/>
            <a:ext cx="1040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3989520" y="5041800"/>
            <a:ext cx="10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470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6564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6564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859200" y="192240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85920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552760" y="300204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552760" y="4081320"/>
            <a:ext cx="0" cy="80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42456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11320" y="3176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744640" y="2044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2660760" y="1873080"/>
            <a:ext cx="1092240" cy="933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5264280" y="4032360"/>
            <a:ext cx="1092240" cy="90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106960" y="31878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488200" y="33591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Arial"/>
              </a:rPr>
              <a:t>DTACK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191280" y="2597040"/>
            <a:ext cx="552600" cy="552600"/>
          </a:xfrm>
          <a:prstGeom prst="noSmoking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905880" y="33400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Arial"/>
              </a:rPr>
              <a:t>FR (LDS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299960" y="5519880"/>
            <a:ext cx="67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v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is lazy: firing = subset of enab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228680" y="5437080"/>
            <a:ext cx="6926400" cy="63684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6423-742A-44A2-8579-A4BEF43B82D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960" y="-39600"/>
            <a:ext cx="7588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 Haz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97640" y="2514600"/>
            <a:ext cx="3255120" cy="1830240"/>
            <a:chOff x="5597640" y="2514600"/>
            <a:chExt cx="3255120" cy="1830240"/>
          </a:xfrm>
        </p:grpSpPr>
        <p:grpSp>
          <p:nvGrpSpPr>
            <p:cNvPr id="114" name=""/>
            <p:cNvGrpSpPr/>
            <p:nvPr/>
          </p:nvGrpSpPr>
          <p:grpSpPr>
            <a:xfrm>
              <a:off x="5597640" y="2514600"/>
              <a:ext cx="2762280" cy="1830240"/>
              <a:chOff x="5597640" y="2514600"/>
              <a:chExt cx="2762280" cy="1830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597640" y="2514600"/>
                <a:ext cx="2762280" cy="1830240"/>
                <a:chOff x="5597640" y="2514600"/>
                <a:chExt cx="2762280" cy="1830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6203880" y="2514600"/>
                  <a:ext cx="2156040" cy="1830240"/>
                  <a:chOff x="6203880" y="2514600"/>
                  <a:chExt cx="2156040" cy="183024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6203880" y="2514600"/>
                    <a:ext cx="1822680" cy="1830240"/>
                    <a:chOff x="6203880" y="2514600"/>
                    <a:chExt cx="1822680" cy="18302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210360" y="2521080"/>
                      <a:ext cx="1816200" cy="18158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203880" y="2514600"/>
                      <a:ext cx="916200" cy="18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7" h="1153">
                          <a:moveTo>
                            <a:pt x="576" y="0"/>
                          </a:moveTo>
                          <a:lnTo>
                            <a:pt x="0" y="0"/>
                          </a:lnTo>
                          <a:lnTo>
                            <a:pt x="0" y="1152"/>
                          </a:lnTo>
                          <a:lnTo>
                            <a:pt x="576" y="1152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" name=""/>
                  <p:cNvSpPr/>
                  <p:nvPr/>
                </p:nvSpPr>
                <p:spPr>
                  <a:xfrm>
                    <a:off x="8039160" y="3409920"/>
                    <a:ext cx="320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5597640" y="281952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597640" y="4038480"/>
                  <a:ext cx="606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5641560" y="3429000"/>
                <a:ext cx="5698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31960" y="26370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31960" y="31701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31960" y="37036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79440" y="3116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8442000" y="3149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99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582920" y="1341360"/>
            <a:ext cx="1089000" cy="1037160"/>
            <a:chOff x="1582920" y="1341360"/>
            <a:chExt cx="1089000" cy="1037160"/>
          </a:xfrm>
        </p:grpSpPr>
        <p:sp>
          <p:nvSpPr>
            <p:cNvPr id="130" name=""/>
            <p:cNvSpPr/>
            <p:nvPr/>
          </p:nvSpPr>
          <p:spPr>
            <a:xfrm>
              <a:off x="1582920" y="1341360"/>
              <a:ext cx="1044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abc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4360" y="17985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84360" y="2255760"/>
            <a:ext cx="1333800" cy="1342080"/>
            <a:chOff x="1584360" y="2255760"/>
            <a:chExt cx="1333800" cy="1342080"/>
          </a:xfrm>
        </p:grpSpPr>
        <p:sp>
          <p:nvSpPr>
            <p:cNvPr id="133" name=""/>
            <p:cNvSpPr/>
            <p:nvPr/>
          </p:nvSpPr>
          <p:spPr>
            <a:xfrm>
              <a:off x="1584360" y="30178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8680" y="22892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9800" y="2255760"/>
              <a:ext cx="648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b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84360" y="3584520"/>
            <a:ext cx="1231920" cy="1308600"/>
            <a:chOff x="1584360" y="3584520"/>
            <a:chExt cx="1231920" cy="1308600"/>
          </a:xfrm>
        </p:grpSpPr>
        <p:sp>
          <p:nvSpPr>
            <p:cNvPr id="137" name=""/>
            <p:cNvSpPr/>
            <p:nvPr/>
          </p:nvSpPr>
          <p:spPr>
            <a:xfrm>
              <a:off x="2128680" y="358452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4360" y="431316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70160" y="3627360"/>
              <a:ext cx="54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a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84360" y="4803840"/>
            <a:ext cx="1388520" cy="1308600"/>
            <a:chOff x="1584360" y="4803840"/>
            <a:chExt cx="1388520" cy="1308600"/>
          </a:xfrm>
        </p:grpSpPr>
        <p:sp>
          <p:nvSpPr>
            <p:cNvPr id="141" name=""/>
            <p:cNvSpPr/>
            <p:nvPr/>
          </p:nvSpPr>
          <p:spPr>
            <a:xfrm>
              <a:off x="2128680" y="4803840"/>
              <a:ext cx="0" cy="682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4360" y="5532480"/>
              <a:ext cx="108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r>
                <a:rPr b="0" lang="en-US" sz="3200" spc="-1" strike="noStrike">
                  <a:solidFill>
                    <a:srgbClr val="00cc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5760" y="4846680"/>
              <a:ext cx="627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c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230360" y="2508120"/>
            <a:ext cx="410760" cy="1824840"/>
            <a:chOff x="4230360" y="2508120"/>
            <a:chExt cx="410760" cy="1824840"/>
          </a:xfrm>
        </p:grpSpPr>
        <p:sp>
          <p:nvSpPr>
            <p:cNvPr id="145" name=""/>
            <p:cNvSpPr/>
            <p:nvPr/>
          </p:nvSpPr>
          <p:spPr>
            <a:xfrm>
              <a:off x="4230360" y="25081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30360" y="3117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0360" y="37530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49360" y="2494080"/>
            <a:ext cx="410760" cy="1824480"/>
            <a:chOff x="5049360" y="2494080"/>
            <a:chExt cx="410760" cy="1824480"/>
          </a:xfrm>
        </p:grpSpPr>
        <p:sp>
          <p:nvSpPr>
            <p:cNvPr id="149" name=""/>
            <p:cNvSpPr/>
            <p:nvPr/>
          </p:nvSpPr>
          <p:spPr>
            <a:xfrm>
              <a:off x="5049360" y="24940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9360" y="3103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9360" y="3738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54080" y="2503440"/>
            <a:ext cx="410760" cy="1824840"/>
            <a:chOff x="4654080" y="2503440"/>
            <a:chExt cx="410760" cy="1824840"/>
          </a:xfrm>
        </p:grpSpPr>
        <p:sp>
          <p:nvSpPr>
            <p:cNvPr id="153" name=""/>
            <p:cNvSpPr/>
            <p:nvPr/>
          </p:nvSpPr>
          <p:spPr>
            <a:xfrm>
              <a:off x="4654080" y="25034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54080" y="31132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54080" y="3748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54160" y="2489040"/>
            <a:ext cx="410760" cy="1824840"/>
            <a:chOff x="3854160" y="2489040"/>
            <a:chExt cx="410760" cy="1824840"/>
          </a:xfrm>
        </p:grpSpPr>
        <p:sp>
          <p:nvSpPr>
            <p:cNvPr id="157" name=""/>
            <p:cNvSpPr/>
            <p:nvPr/>
          </p:nvSpPr>
          <p:spPr>
            <a:xfrm>
              <a:off x="3854160" y="24890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4160" y="309888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4160" y="3733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8031-8ED8-46F4-B0B4-357BC13B0DB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rly enabling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0" y="16765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2ED8-ECFA-4856-B8D1-05BDC27D6E4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peed-independent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582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583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6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87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590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595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596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98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99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01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602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6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611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14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640" name=""/>
          <p:cNvCxnSpPr>
            <a:stCxn id="2638" idx="0"/>
            <a:endCxn id="2639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685D-13D4-4B2F-A342-B2996565034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309680" y="2376360"/>
            <a:ext cx="2022480" cy="56700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100240" y="283068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666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71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674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679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680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82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3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182600" y="5541840"/>
            <a:ext cx="3259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85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686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90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695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03440" y="5127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724" name=""/>
          <p:cNvCxnSpPr>
            <a:stCxn id="2722" idx="0"/>
            <a:endCxn id="2723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grpSp>
        <p:nvGrpSpPr>
          <p:cNvPr id="2725" name=""/>
          <p:cNvGrpSpPr/>
          <p:nvPr/>
        </p:nvGrpSpPr>
        <p:grpSpPr>
          <a:xfrm>
            <a:off x="5205240" y="2378160"/>
            <a:ext cx="5153040" cy="2369880"/>
            <a:chOff x="5205240" y="2378160"/>
            <a:chExt cx="5153040" cy="2369880"/>
          </a:xfrm>
        </p:grpSpPr>
        <p:sp>
          <p:nvSpPr>
            <p:cNvPr id="2726" name=""/>
            <p:cNvSpPr/>
            <p:nvPr/>
          </p:nvSpPr>
          <p:spPr>
            <a:xfrm>
              <a:off x="5205240" y="23781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286320" y="31716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0" y="4213080"/>
            <a:ext cx="8697960" cy="1315800"/>
            <a:chOff x="0" y="4213080"/>
            <a:chExt cx="8697960" cy="1315800"/>
          </a:xfrm>
        </p:grpSpPr>
        <p:grpSp>
          <p:nvGrpSpPr>
            <p:cNvPr id="2729" name=""/>
            <p:cNvGrpSpPr/>
            <p:nvPr/>
          </p:nvGrpSpPr>
          <p:grpSpPr>
            <a:xfrm>
              <a:off x="7737480" y="5025600"/>
              <a:ext cx="960480" cy="503280"/>
              <a:chOff x="7737480" y="5025600"/>
              <a:chExt cx="960480" cy="503280"/>
            </a:xfrm>
          </p:grpSpPr>
          <p:sp>
            <p:nvSpPr>
              <p:cNvPr id="2730" name=""/>
              <p:cNvSpPr/>
              <p:nvPr/>
            </p:nvSpPr>
            <p:spPr>
              <a:xfrm>
                <a:off x="7773480" y="506664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FAST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37480" y="5025600"/>
                <a:ext cx="960480" cy="50328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0" y="4213080"/>
              <a:ext cx="1112760" cy="593640"/>
              <a:chOff x="0" y="4213080"/>
              <a:chExt cx="1112760" cy="593640"/>
            </a:xfrm>
          </p:grpSpPr>
          <p:sp>
            <p:nvSpPr>
              <p:cNvPr id="2733" name=""/>
              <p:cNvSpPr/>
              <p:nvPr/>
            </p:nvSpPr>
            <p:spPr>
              <a:xfrm>
                <a:off x="83160" y="43160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cc"/>
                    </a:solidFill>
                    <a:latin typeface="Arial"/>
                  </a:rPr>
                  <a:t>SLOW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0" y="4213080"/>
                <a:ext cx="1112760" cy="593640"/>
              </a:xfrm>
              <a:prstGeom prst="ellipse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0E23-BA58-47A1-8139-1BB2BD9200F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36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2737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2738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1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2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2745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2750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2751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53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54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1305000" y="5541840"/>
            <a:ext cx="3136680" cy="15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56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2757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61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5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2766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69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73200" y="5111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795" name=""/>
          <p:cNvCxnSpPr>
            <a:stCxn id="2793" idx="0"/>
            <a:endCxn id="2794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2796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5259240" y="2368440"/>
            <a:ext cx="5153040" cy="2370240"/>
            <a:chOff x="5259240" y="2368440"/>
            <a:chExt cx="5153040" cy="2370240"/>
          </a:xfrm>
        </p:grpSpPr>
        <p:sp>
          <p:nvSpPr>
            <p:cNvPr id="2819" name=""/>
            <p:cNvSpPr/>
            <p:nvPr/>
          </p:nvSpPr>
          <p:spPr>
            <a:xfrm>
              <a:off x="5259240" y="236844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40320" y="316224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32FB-02C6-4B01-9825-DE638FB927B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"/>
          <p:cNvSpPr/>
          <p:nvPr/>
        </p:nvSpPr>
        <p:spPr>
          <a:xfrm>
            <a:off x="3486240" y="2914560"/>
            <a:ext cx="3276360" cy="55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800600" y="1790640"/>
            <a:ext cx="762120" cy="2800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57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858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60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8CCC-03DF-483C-8B49-790B255CF2B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3486240" y="2914560"/>
            <a:ext cx="3276360" cy="55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800600" y="1790640"/>
            <a:ext cx="762120" cy="2800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896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C5EA-8A53-4B7E-AA77-1FAB6EAC7E0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"/>
          <p:cNvSpPr/>
          <p:nvPr/>
        </p:nvSpPr>
        <p:spPr>
          <a:xfrm>
            <a:off x="4819680" y="2838600"/>
            <a:ext cx="1962000" cy="666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800600" y="1790640"/>
            <a:ext cx="762120" cy="704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-600120" y="958680"/>
            <a:ext cx="5153040" cy="2370240"/>
            <a:chOff x="-600120" y="958680"/>
            <a:chExt cx="5153040" cy="2370240"/>
          </a:xfrm>
        </p:grpSpPr>
        <p:sp>
          <p:nvSpPr>
            <p:cNvPr id="2931" name=""/>
            <p:cNvSpPr/>
            <p:nvPr/>
          </p:nvSpPr>
          <p:spPr>
            <a:xfrm>
              <a:off x="-600120" y="9586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LDTACK- before DSr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80960" y="17524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33" name=""/>
          <p:cNvSpPr/>
          <p:nvPr/>
        </p:nvSpPr>
        <p:spPr>
          <a:xfrm>
            <a:off x="6671160" y="2487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TACK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118760" y="1611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400480" y="56307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wo more unreachable sta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340F-1B80-4749-AE01-A3E303319DD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2946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64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2965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83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63060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7932240" y="5059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/1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EB17-399E-4E94-99A6-ED348BD43ED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026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3027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5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3046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8748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8199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32440" y="5878440"/>
            <a:ext cx="43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5418720" y="587844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state conflict is remov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3883-551B-4753-B470-31309B3A233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one constra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124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125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126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8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29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3132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36" name=""/>
          <p:cNvGrpSpPr/>
          <p:nvPr/>
        </p:nvGrpSpPr>
        <p:grpSpPr>
          <a:xfrm>
            <a:off x="4441680" y="5105520"/>
            <a:ext cx="630000" cy="525240"/>
            <a:chOff x="4441680" y="5105520"/>
            <a:chExt cx="630000" cy="525240"/>
          </a:xfrm>
        </p:grpSpPr>
        <p:grpSp>
          <p:nvGrpSpPr>
            <p:cNvPr id="3137" name=""/>
            <p:cNvGrpSpPr/>
            <p:nvPr/>
          </p:nvGrpSpPr>
          <p:grpSpPr>
            <a:xfrm>
              <a:off x="4441680" y="5105520"/>
              <a:ext cx="529560" cy="525240"/>
              <a:chOff x="4441680" y="5105520"/>
              <a:chExt cx="529560" cy="525240"/>
            </a:xfrm>
          </p:grpSpPr>
          <p:sp>
            <p:nvSpPr>
              <p:cNvPr id="3138" name=""/>
              <p:cNvSpPr/>
              <p:nvPr/>
            </p:nvSpPr>
            <p:spPr>
              <a:xfrm>
                <a:off x="4446360" y="5110200"/>
                <a:ext cx="524880" cy="514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441680" y="5105520"/>
                <a:ext cx="268560" cy="52524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0" name=""/>
            <p:cNvSpPr/>
            <p:nvPr/>
          </p:nvSpPr>
          <p:spPr>
            <a:xfrm>
              <a:off x="4978800" y="5362560"/>
              <a:ext cx="928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4267080" y="5192640"/>
            <a:ext cx="1746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1305000" y="5541840"/>
            <a:ext cx="3136680" cy="15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2390400" y="4057200"/>
            <a:ext cx="1252080" cy="1573920"/>
            <a:chOff x="2390400" y="4057200"/>
            <a:chExt cx="1252080" cy="1573920"/>
          </a:xfrm>
        </p:grpSpPr>
        <p:sp>
          <p:nvSpPr>
            <p:cNvPr id="3144" name=""/>
            <p:cNvSpPr/>
            <p:nvPr/>
          </p:nvSpPr>
          <p:spPr>
            <a:xfrm rot="10800000">
              <a:off x="2395800" y="4057200"/>
              <a:ext cx="124668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390400" y="4581720"/>
              <a:ext cx="1248120" cy="10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4000" y="4583160"/>
              <a:ext cx="168120" cy="515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28960" y="4578480"/>
              <a:ext cx="90360" cy="52632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48" name=""/>
          <p:cNvSpPr/>
          <p:nvPr/>
        </p:nvSpPr>
        <p:spPr>
          <a:xfrm flipV="1">
            <a:off x="3556080" y="4838760"/>
            <a:ext cx="19368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2998800" y="4640400"/>
            <a:ext cx="79200" cy="77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2163600" y="4665600"/>
            <a:ext cx="8557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932200" y="5014800"/>
            <a:ext cx="1540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153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56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5072040" y="536256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5931000" y="5014800"/>
            <a:ext cx="0" cy="3477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931000" y="5362560"/>
            <a:ext cx="0" cy="50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2928600" y="5864400"/>
            <a:ext cx="3002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2928960" y="5014800"/>
            <a:ext cx="0" cy="849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2163600" y="603900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2163600" y="4086360"/>
            <a:ext cx="0" cy="19526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73200" y="5111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7006320" y="56768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073480" y="4991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869280" y="4610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 flipH="1">
            <a:off x="3747960" y="443556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3747960" y="5192640"/>
            <a:ext cx="5191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182" name=""/>
          <p:cNvCxnSpPr>
            <a:stCxn id="3180" idx="0"/>
            <a:endCxn id="3181" idx="0"/>
          </p:cNvCxnSpPr>
          <p:nvPr/>
        </p:nvCxnSpPr>
        <p:spPr>
          <a:xfrm>
            <a:off x="3749400" y="4435200"/>
            <a:ext cx="1080" cy="75780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183" name=""/>
          <p:cNvSpPr/>
          <p:nvPr/>
        </p:nvSpPr>
        <p:spPr>
          <a:xfrm>
            <a:off x="2476440" y="4514760"/>
            <a:ext cx="2857680" cy="123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B19E-B830-4BA7-BEBB-6FC79FE6420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Decomposition May Lead to Hazar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82920" y="1341360"/>
            <a:ext cx="1389960" cy="4771080"/>
            <a:chOff x="1582920" y="1341360"/>
            <a:chExt cx="1389960" cy="4771080"/>
          </a:xfrm>
        </p:grpSpPr>
        <p:grpSp>
          <p:nvGrpSpPr>
            <p:cNvPr id="163" name=""/>
            <p:cNvGrpSpPr/>
            <p:nvPr/>
          </p:nvGrpSpPr>
          <p:grpSpPr>
            <a:xfrm>
              <a:off x="1582920" y="1341360"/>
              <a:ext cx="1087920" cy="1037160"/>
              <a:chOff x="1582920" y="1341360"/>
              <a:chExt cx="1087920" cy="1037160"/>
            </a:xfrm>
          </p:grpSpPr>
          <p:sp>
            <p:nvSpPr>
              <p:cNvPr id="164" name=""/>
              <p:cNvSpPr/>
              <p:nvPr/>
            </p:nvSpPr>
            <p:spPr>
              <a:xfrm>
                <a:off x="1582920" y="1341360"/>
                <a:ext cx="1044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abc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83640" y="17985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0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583640" y="2255760"/>
              <a:ext cx="1334520" cy="1342080"/>
              <a:chOff x="1583640" y="2255760"/>
              <a:chExt cx="1334520" cy="1342080"/>
            </a:xfrm>
          </p:grpSpPr>
          <p:sp>
            <p:nvSpPr>
              <p:cNvPr id="167" name=""/>
              <p:cNvSpPr/>
              <p:nvPr/>
            </p:nvSpPr>
            <p:spPr>
              <a:xfrm>
                <a:off x="1583640" y="30178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1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28680" y="22892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69800" y="2255760"/>
                <a:ext cx="64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b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583640" y="3584520"/>
              <a:ext cx="1232640" cy="1308600"/>
              <a:chOff x="1583640" y="3584520"/>
              <a:chExt cx="1232640" cy="1308600"/>
            </a:xfrm>
          </p:grpSpPr>
          <p:sp>
            <p:nvSpPr>
              <p:cNvPr id="171" name=""/>
              <p:cNvSpPr/>
              <p:nvPr/>
            </p:nvSpPr>
            <p:spPr>
              <a:xfrm>
                <a:off x="2128680" y="358452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83640" y="431316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0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0160" y="3627360"/>
                <a:ext cx="54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a-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583640" y="4803840"/>
              <a:ext cx="1389240" cy="1308600"/>
              <a:chOff x="1583640" y="4803840"/>
              <a:chExt cx="1389240" cy="1308600"/>
            </a:xfrm>
          </p:grpSpPr>
          <p:sp>
            <p:nvSpPr>
              <p:cNvPr id="175" name=""/>
              <p:cNvSpPr/>
              <p:nvPr/>
            </p:nvSpPr>
            <p:spPr>
              <a:xfrm>
                <a:off x="2128680" y="4803840"/>
                <a:ext cx="0" cy="682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83640" y="5532480"/>
                <a:ext cx="108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66"/>
                    </a:solidFill>
                    <a:latin typeface="Arial"/>
                  </a:rPr>
                  <a:t>011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45760" y="4846680"/>
                <a:ext cx="627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00cc"/>
                    </a:solidFill>
                    <a:latin typeface="Arial"/>
                  </a:rPr>
                  <a:t>c+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4037040" y="2303640"/>
            <a:ext cx="4129200" cy="1843560"/>
            <a:chOff x="4037040" y="2303640"/>
            <a:chExt cx="4129200" cy="1843560"/>
          </a:xfrm>
        </p:grpSpPr>
        <p:grpSp>
          <p:nvGrpSpPr>
            <p:cNvPr id="179" name=""/>
            <p:cNvGrpSpPr/>
            <p:nvPr/>
          </p:nvGrpSpPr>
          <p:grpSpPr>
            <a:xfrm>
              <a:off x="4037040" y="2303640"/>
              <a:ext cx="2071800" cy="1437120"/>
              <a:chOff x="4037040" y="2303640"/>
              <a:chExt cx="2071800" cy="14371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37040" y="2303640"/>
                <a:ext cx="2071800" cy="1373040"/>
                <a:chOff x="4037040" y="2303640"/>
                <a:chExt cx="2071800" cy="137304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491000" y="2303640"/>
                  <a:ext cx="1617840" cy="1373040"/>
                  <a:chOff x="4491000" y="2303640"/>
                  <a:chExt cx="1617840" cy="13730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4491000" y="2303640"/>
                    <a:ext cx="1365120" cy="1373040"/>
                    <a:chOff x="4491000" y="2303640"/>
                    <a:chExt cx="1365120" cy="137304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497480" y="2309760"/>
                      <a:ext cx="1358640" cy="135900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491000" y="230364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5869080" y="297504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4037040" y="25322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37040" y="344664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4555800" y="232236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55800" y="3160800"/>
                <a:ext cx="4107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3840" y="27097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094440" y="2743200"/>
              <a:ext cx="2071800" cy="1404000"/>
              <a:chOff x="6094440" y="2743200"/>
              <a:chExt cx="2071800" cy="14040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094440" y="2743200"/>
                <a:ext cx="2071800" cy="1373040"/>
                <a:chOff x="6094440" y="2743200"/>
                <a:chExt cx="2071800" cy="1373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548400" y="2743200"/>
                  <a:ext cx="1617840" cy="1373040"/>
                  <a:chOff x="6548400" y="2743200"/>
                  <a:chExt cx="1617840" cy="1373040"/>
                </a:xfrm>
              </p:grpSpPr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6548400" y="2743200"/>
                    <a:ext cx="1365120" cy="1373040"/>
                    <a:chOff x="6548400" y="2743200"/>
                    <a:chExt cx="1365120" cy="137304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5548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65484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79264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60944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0944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597000" y="356724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77920" y="320040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3308040" y="1996920"/>
            <a:ext cx="4906440" cy="2370960"/>
            <a:chOff x="3308040" y="1996920"/>
            <a:chExt cx="4906440" cy="2370960"/>
          </a:xfrm>
        </p:grpSpPr>
        <p:sp>
          <p:nvSpPr>
            <p:cNvPr id="203" name=""/>
            <p:cNvSpPr/>
            <p:nvPr/>
          </p:nvSpPr>
          <p:spPr>
            <a:xfrm>
              <a:off x="33080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80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46320" y="2149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08240" y="3787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037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4200" y="18748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16040" y="30942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35120" y="309420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389480"/>
            <a:ext cx="95868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6040" y="5608800"/>
            <a:ext cx="959040" cy="365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01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24680" y="3733920"/>
            <a:ext cx="992160" cy="687240"/>
          </a:xfrm>
          <a:custGeom>
            <a:avLst/>
            <a:gdLst/>
            <a:ahLst/>
            <a:rect l="l" t="t" r="r" b="b"/>
            <a:pathLst>
              <a:path w="625" h="433">
                <a:moveTo>
                  <a:pt x="0" y="432"/>
                </a:moveTo>
                <a:lnTo>
                  <a:pt x="240" y="432"/>
                </a:lnTo>
                <a:lnTo>
                  <a:pt x="336" y="0"/>
                </a:lnTo>
                <a:lnTo>
                  <a:pt x="432" y="432"/>
                </a:lnTo>
                <a:lnTo>
                  <a:pt x="624" y="432"/>
                </a:lnTo>
              </a:path>
            </a:pathLst>
          </a:cu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8120" y="1996920"/>
            <a:ext cx="4906800" cy="2370600"/>
            <a:chOff x="3498120" y="1996920"/>
            <a:chExt cx="4906800" cy="2370600"/>
          </a:xfrm>
        </p:grpSpPr>
        <p:sp>
          <p:nvSpPr>
            <p:cNvPr id="215" name=""/>
            <p:cNvSpPr/>
            <p:nvPr/>
          </p:nvSpPr>
          <p:spPr>
            <a:xfrm>
              <a:off x="34981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981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367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83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941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88560" y="1996920"/>
            <a:ext cx="4906800" cy="2370600"/>
            <a:chOff x="3688560" y="1996920"/>
            <a:chExt cx="4906800" cy="2370600"/>
          </a:xfrm>
        </p:grpSpPr>
        <p:sp>
          <p:nvSpPr>
            <p:cNvPr id="221" name=""/>
            <p:cNvSpPr/>
            <p:nvPr/>
          </p:nvSpPr>
          <p:spPr>
            <a:xfrm>
              <a:off x="3688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8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7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88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84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59920" y="1996920"/>
            <a:ext cx="4906800" cy="2370600"/>
            <a:chOff x="3859920" y="1996920"/>
            <a:chExt cx="4906800" cy="2370600"/>
          </a:xfrm>
        </p:grpSpPr>
        <p:sp>
          <p:nvSpPr>
            <p:cNvPr id="227" name=""/>
            <p:cNvSpPr/>
            <p:nvPr/>
          </p:nvSpPr>
          <p:spPr>
            <a:xfrm>
              <a:off x="385992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992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9856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012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59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012560" y="1996920"/>
            <a:ext cx="4906800" cy="2370600"/>
            <a:chOff x="4012560" y="1996920"/>
            <a:chExt cx="4906800" cy="2370600"/>
          </a:xfrm>
        </p:grpSpPr>
        <p:sp>
          <p:nvSpPr>
            <p:cNvPr id="233" name=""/>
            <p:cNvSpPr/>
            <p:nvPr/>
          </p:nvSpPr>
          <p:spPr>
            <a:xfrm>
              <a:off x="401256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256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120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276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0860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164840" y="1996920"/>
            <a:ext cx="4906800" cy="2370600"/>
            <a:chOff x="4164840" y="1996920"/>
            <a:chExt cx="4906800" cy="2370600"/>
          </a:xfrm>
        </p:grpSpPr>
        <p:sp>
          <p:nvSpPr>
            <p:cNvPr id="239" name=""/>
            <p:cNvSpPr/>
            <p:nvPr/>
          </p:nvSpPr>
          <p:spPr>
            <a:xfrm>
              <a:off x="4164840" y="19969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484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3480" y="21492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65040" y="37875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60880" y="291132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3287-6345-4D9D-9F3A-6FCEFDB1BB30}" type="slidenum">
              <a:t>5</a:t>
            </a:fld>
          </a:p>
        </p:txBody>
      </p:sp>
    </p:spTree>
  </p:cSld>
  <p:transition advTm="65000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one constra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984600" y="2187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246400" y="21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900240" y="21877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924440" y="21877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6471000" y="2187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639200" y="2187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358240" y="15019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07" name=""/>
          <p:cNvGrpSpPr/>
          <p:nvPr/>
        </p:nvGrpSpPr>
        <p:grpSpPr>
          <a:xfrm>
            <a:off x="579600" y="3352320"/>
            <a:ext cx="7508160" cy="2514960"/>
            <a:chOff x="579600" y="3352320"/>
            <a:chExt cx="7508160" cy="2514960"/>
          </a:xfrm>
        </p:grpSpPr>
        <p:grpSp>
          <p:nvGrpSpPr>
            <p:cNvPr id="3208" name=""/>
            <p:cNvGrpSpPr/>
            <p:nvPr/>
          </p:nvGrpSpPr>
          <p:grpSpPr>
            <a:xfrm>
              <a:off x="4267080" y="4189320"/>
              <a:ext cx="804240" cy="525600"/>
              <a:chOff x="4267080" y="4189320"/>
              <a:chExt cx="804240" cy="525600"/>
            </a:xfrm>
          </p:grpSpPr>
          <p:grpSp>
            <p:nvGrpSpPr>
              <p:cNvPr id="3209" name=""/>
              <p:cNvGrpSpPr/>
              <p:nvPr/>
            </p:nvGrpSpPr>
            <p:grpSpPr>
              <a:xfrm>
                <a:off x="4442760" y="4189320"/>
                <a:ext cx="628560" cy="525600"/>
                <a:chOff x="4442760" y="4189320"/>
                <a:chExt cx="628560" cy="525600"/>
              </a:xfrm>
            </p:grpSpPr>
            <p:grpSp>
              <p:nvGrpSpPr>
                <p:cNvPr id="3210" name=""/>
                <p:cNvGrpSpPr/>
                <p:nvPr/>
              </p:nvGrpSpPr>
              <p:grpSpPr>
                <a:xfrm>
                  <a:off x="4442760" y="4189320"/>
                  <a:ext cx="528480" cy="525600"/>
                  <a:chOff x="4442760" y="4189320"/>
                  <a:chExt cx="528480" cy="525600"/>
                </a:xfrm>
              </p:grpSpPr>
              <p:sp>
                <p:nvSpPr>
                  <p:cNvPr id="3211" name=""/>
                  <p:cNvSpPr/>
                  <p:nvPr/>
                </p:nvSpPr>
                <p:spPr>
                  <a:xfrm>
                    <a:off x="4447440" y="4194000"/>
                    <a:ext cx="523800" cy="5144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4442760" y="4189320"/>
                    <a:ext cx="268200" cy="52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3" name=""/>
                <p:cNvSpPr/>
                <p:nvPr/>
              </p:nvSpPr>
              <p:spPr>
                <a:xfrm>
                  <a:off x="4978800" y="444672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4" name=""/>
              <p:cNvSpPr/>
              <p:nvPr/>
            </p:nvSpPr>
            <p:spPr>
              <a:xfrm>
                <a:off x="4267080" y="427644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267080" y="462600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16" name=""/>
            <p:cNvGrpSpPr/>
            <p:nvPr/>
          </p:nvGrpSpPr>
          <p:grpSpPr>
            <a:xfrm>
              <a:off x="5694120" y="4237200"/>
              <a:ext cx="1252080" cy="1575360"/>
              <a:chOff x="5694120" y="4237200"/>
              <a:chExt cx="1252080" cy="1575360"/>
            </a:xfrm>
          </p:grpSpPr>
          <p:sp>
            <p:nvSpPr>
              <p:cNvPr id="3217" name=""/>
              <p:cNvSpPr/>
              <p:nvPr/>
            </p:nvSpPr>
            <p:spPr>
              <a:xfrm rot="10800000">
                <a:off x="5699520" y="4237200"/>
                <a:ext cx="124668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28" y="5433"/>
                    </a:moveTo>
                    <a:arcTo wR="10800" hR="10800" stAng="-9012068" swAng="36052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28" y="5433"/>
                    </a:moveTo>
                    <a:arcTo wR="10800" hR="10800" stAng="-9012068" swAng="3605248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694120" y="4762440"/>
                <a:ext cx="1248120" cy="105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0"/>
                    </a:moveTo>
                    <a:arcTo wR="10800" hR="10800" stAng="-5406821" swAng="36257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0"/>
                    </a:moveTo>
                    <a:arcTo wR="10800" hR="10800" stAng="-5406821" swAng="362579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237720" y="4763880"/>
                <a:ext cx="168120" cy="515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232680" y="4759200"/>
                <a:ext cx="90360" cy="526680"/>
              </a:xfrm>
              <a:custGeom>
                <a:avLst/>
                <a:gdLst/>
                <a:ahLst/>
                <a:rect l="l" t="t" r="r" b="b"/>
                <a:pathLst>
                  <a:path w="73" h="433">
                    <a:moveTo>
                      <a:pt x="72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72" y="4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21" name=""/>
            <p:cNvGrpSpPr/>
            <p:nvPr/>
          </p:nvGrpSpPr>
          <p:grpSpPr>
            <a:xfrm>
              <a:off x="1711800" y="3651120"/>
              <a:ext cx="452160" cy="305640"/>
              <a:chOff x="1711800" y="3651120"/>
              <a:chExt cx="452160" cy="305640"/>
            </a:xfrm>
          </p:grpSpPr>
          <p:sp>
            <p:nvSpPr>
              <p:cNvPr id="3222" name=""/>
              <p:cNvSpPr/>
              <p:nvPr/>
            </p:nvSpPr>
            <p:spPr>
              <a:xfrm rot="10765200">
                <a:off x="1841040" y="3652200"/>
                <a:ext cx="257760" cy="30312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2099520" y="3800160"/>
                <a:ext cx="64440" cy="3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H="1">
                <a:off x="1711800" y="3804480"/>
                <a:ext cx="12960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"/>
            <p:cNvSpPr/>
            <p:nvPr/>
          </p:nvSpPr>
          <p:spPr>
            <a:xfrm>
              <a:off x="6881760" y="5005440"/>
              <a:ext cx="8906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072040" y="4446720"/>
              <a:ext cx="8589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931000" y="4446720"/>
              <a:ext cx="0" cy="461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931000" y="490860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V="1">
              <a:off x="5931000" y="3803760"/>
              <a:ext cx="0" cy="6429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H="1">
              <a:off x="2149200" y="3798720"/>
              <a:ext cx="3794040" cy="5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1309680" y="3798720"/>
              <a:ext cx="4017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V="1">
              <a:off x="5931000" y="3352320"/>
              <a:ext cx="0" cy="4460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931000" y="5205240"/>
              <a:ext cx="474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H="1">
              <a:off x="2163600" y="5867280"/>
              <a:ext cx="56088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163600" y="4276800"/>
              <a:ext cx="0" cy="1590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163600" y="4276800"/>
              <a:ext cx="21034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79600" y="34448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021720" y="33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09920" y="4789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DSr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298280" y="46623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006320" y="54864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LDTACK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42" name=""/>
            <p:cNvCxnSpPr>
              <a:stCxn id="3233" idx="0"/>
            </p:cNvCxnSpPr>
            <p:nvPr/>
          </p:nvCxnSpPr>
          <p:spPr>
            <a:xfrm flipH="1">
              <a:off x="1237680" y="5204880"/>
              <a:ext cx="4693320" cy="19800"/>
            </a:xfrm>
            <a:prstGeom prst="straightConnector1">
              <a:avLst/>
            </a:prstGeom>
            <a:ln w="12600">
              <a:solidFill>
                <a:srgbClr val="ffcc66"/>
              </a:solidFill>
              <a:miter/>
            </a:ln>
          </p:spPr>
        </p:cxnSp>
        <p:sp>
          <p:nvSpPr>
            <p:cNvPr id="3243" name=""/>
            <p:cNvSpPr/>
            <p:nvPr/>
          </p:nvSpPr>
          <p:spPr>
            <a:xfrm>
              <a:off x="4257720" y="4632480"/>
              <a:ext cx="0" cy="5918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44" name=""/>
          <p:cNvGrpSpPr/>
          <p:nvPr/>
        </p:nvGrpSpPr>
        <p:grpSpPr>
          <a:xfrm>
            <a:off x="6537240" y="3449520"/>
            <a:ext cx="2606760" cy="693720"/>
            <a:chOff x="6537240" y="3449520"/>
            <a:chExt cx="2606760" cy="693720"/>
          </a:xfrm>
        </p:grpSpPr>
        <p:sp>
          <p:nvSpPr>
            <p:cNvPr id="3245" name=""/>
            <p:cNvSpPr/>
            <p:nvPr/>
          </p:nvSpPr>
          <p:spPr>
            <a:xfrm>
              <a:off x="6733800" y="3760920"/>
              <a:ext cx="219096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829920" y="3468600"/>
              <a:ext cx="184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537240" y="3449520"/>
              <a:ext cx="2606760" cy="69372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7FA3-CAE2-4362-90A7-464F370D117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ming assum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for concurrent events:        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urrency reduction for firing and enabl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before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r ordered events:                        early ena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simultaneous to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wrt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triples of events: combination of the ab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0" y="2724120"/>
            <a:ext cx="704880" cy="723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CB9B-2EAB-40E8-9E41-74CF279B774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rdered events: early enab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52" name=""/>
          <p:cNvGrpSpPr/>
          <p:nvPr/>
        </p:nvGrpSpPr>
        <p:grpSpPr>
          <a:xfrm>
            <a:off x="357840" y="1816200"/>
            <a:ext cx="3628440" cy="3188520"/>
            <a:chOff x="357840" y="1816200"/>
            <a:chExt cx="3628440" cy="3188520"/>
          </a:xfrm>
        </p:grpSpPr>
        <p:grpSp>
          <p:nvGrpSpPr>
            <p:cNvPr id="3253" name=""/>
            <p:cNvGrpSpPr/>
            <p:nvPr/>
          </p:nvGrpSpPr>
          <p:grpSpPr>
            <a:xfrm>
              <a:off x="2775240" y="2633400"/>
              <a:ext cx="804240" cy="525240"/>
              <a:chOff x="2775240" y="2633400"/>
              <a:chExt cx="804240" cy="525240"/>
            </a:xfrm>
          </p:grpSpPr>
          <p:grpSp>
            <p:nvGrpSpPr>
              <p:cNvPr id="3254" name=""/>
              <p:cNvGrpSpPr/>
              <p:nvPr/>
            </p:nvGrpSpPr>
            <p:grpSpPr>
              <a:xfrm>
                <a:off x="2950920" y="2633400"/>
                <a:ext cx="628560" cy="525240"/>
                <a:chOff x="2950920" y="2633400"/>
                <a:chExt cx="628560" cy="525240"/>
              </a:xfrm>
            </p:grpSpPr>
            <p:grpSp>
              <p:nvGrpSpPr>
                <p:cNvPr id="3255" name=""/>
                <p:cNvGrpSpPr/>
                <p:nvPr/>
              </p:nvGrpSpPr>
              <p:grpSpPr>
                <a:xfrm>
                  <a:off x="2950920" y="2633400"/>
                  <a:ext cx="528480" cy="525240"/>
                  <a:chOff x="2950920" y="2633400"/>
                  <a:chExt cx="528480" cy="525240"/>
                </a:xfrm>
              </p:grpSpPr>
              <p:sp>
                <p:nvSpPr>
                  <p:cNvPr id="3256" name=""/>
                  <p:cNvSpPr/>
                  <p:nvPr/>
                </p:nvSpPr>
                <p:spPr>
                  <a:xfrm>
                    <a:off x="2955600" y="2638080"/>
                    <a:ext cx="523800" cy="51408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2950920" y="2633400"/>
                    <a:ext cx="2682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433">
                        <a:moveTo>
                          <a:pt x="216" y="0"/>
                        </a:moveTo>
                        <a:lnTo>
                          <a:pt x="0" y="0"/>
                        </a:lnTo>
                        <a:lnTo>
                          <a:pt x="0" y="432"/>
                        </a:lnTo>
                        <a:lnTo>
                          <a:pt x="216" y="43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8" name=""/>
                <p:cNvSpPr/>
                <p:nvPr/>
              </p:nvSpPr>
              <p:spPr>
                <a:xfrm>
                  <a:off x="3486960" y="2890440"/>
                  <a:ext cx="92520" cy="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9" name=""/>
              <p:cNvSpPr/>
              <p:nvPr/>
            </p:nvSpPr>
            <p:spPr>
              <a:xfrm>
                <a:off x="2775240" y="272052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75240" y="3070080"/>
                <a:ext cx="1756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1898640" y="1940400"/>
              <a:ext cx="636480" cy="443880"/>
              <a:chOff x="1898640" y="1940400"/>
              <a:chExt cx="636480" cy="443880"/>
            </a:xfrm>
          </p:grpSpPr>
          <p:sp>
            <p:nvSpPr>
              <p:cNvPr id="3262" name=""/>
              <p:cNvSpPr/>
              <p:nvPr/>
            </p:nvSpPr>
            <p:spPr>
              <a:xfrm rot="21540000">
                <a:off x="1989000" y="1943640"/>
                <a:ext cx="363240" cy="437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15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>
                <a:off x="1898640" y="2169000"/>
                <a:ext cx="907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2352600" y="2159640"/>
                <a:ext cx="182520" cy="14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357840" y="181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66" name=""/>
            <p:cNvCxnSpPr/>
            <p:nvPr/>
          </p:nvCxnSpPr>
          <p:spPr>
            <a:xfrm>
              <a:off x="463320" y="2234520"/>
              <a:ext cx="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267" name=""/>
            <p:cNvSpPr/>
            <p:nvPr/>
          </p:nvSpPr>
          <p:spPr>
            <a:xfrm flipH="1">
              <a:off x="798480" y="2162160"/>
              <a:ext cx="1097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551320" y="2162160"/>
              <a:ext cx="1387440" cy="1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551320" y="2162160"/>
              <a:ext cx="15840" cy="57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551320" y="2162160"/>
              <a:ext cx="258840" cy="578880"/>
            </a:xfrm>
            <a:custGeom>
              <a:avLst/>
              <a:gdLst/>
              <a:ahLst/>
              <a:rect l="l" t="t" r="r" b="b"/>
              <a:pathLst>
                <a:path w="163" h="365">
                  <a:moveTo>
                    <a:pt x="0" y="0"/>
                  </a:moveTo>
                  <a:lnTo>
                    <a:pt x="0" y="365"/>
                  </a:lnTo>
                  <a:lnTo>
                    <a:pt x="163" y="356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571920" y="2893680"/>
              <a:ext cx="4129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2779560" y="2923920"/>
              <a:ext cx="1681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09760" y="45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73400" y="403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90640" y="35496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202040" y="4019400"/>
              <a:ext cx="1965240" cy="33444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021040" y="4539960"/>
              <a:ext cx="1965240" cy="334800"/>
            </a:xfrm>
            <a:custGeom>
              <a:avLst/>
              <a:gdLst/>
              <a:ahLst/>
              <a:rect l="l" t="t" r="r" b="b"/>
              <a:pathLst>
                <a:path w="1238" h="211">
                  <a:moveTo>
                    <a:pt x="0" y="211"/>
                  </a:moveTo>
                  <a:lnTo>
                    <a:pt x="441" y="211"/>
                  </a:lnTo>
                  <a:lnTo>
                    <a:pt x="557" y="0"/>
                  </a:lnTo>
                  <a:lnTo>
                    <a:pt x="1238" y="0"/>
                  </a:lnTo>
                </a:path>
              </a:pathLst>
            </a:custGeom>
            <a:noFill/>
            <a:ln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64040" y="340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754760" y="2627280"/>
            <a:ext cx="628560" cy="525600"/>
            <a:chOff x="7754760" y="2627280"/>
            <a:chExt cx="628560" cy="525600"/>
          </a:xfrm>
        </p:grpSpPr>
        <p:grpSp>
          <p:nvGrpSpPr>
            <p:cNvPr id="3280" name=""/>
            <p:cNvGrpSpPr/>
            <p:nvPr/>
          </p:nvGrpSpPr>
          <p:grpSpPr>
            <a:xfrm>
              <a:off x="7754760" y="2627280"/>
              <a:ext cx="528480" cy="525600"/>
              <a:chOff x="7754760" y="2627280"/>
              <a:chExt cx="528480" cy="525600"/>
            </a:xfrm>
          </p:grpSpPr>
          <p:sp>
            <p:nvSpPr>
              <p:cNvPr id="3281" name=""/>
              <p:cNvSpPr/>
              <p:nvPr/>
            </p:nvSpPr>
            <p:spPr>
              <a:xfrm>
                <a:off x="7759440" y="2631960"/>
                <a:ext cx="523800" cy="5144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754760" y="2627280"/>
                <a:ext cx="268200" cy="525600"/>
              </a:xfrm>
              <a:custGeom>
                <a:avLst/>
                <a:gdLst/>
                <a:ahLst/>
                <a:rect l="l" t="t" r="r" b="b"/>
                <a:pathLst>
                  <a:path w="217" h="433">
                    <a:moveTo>
                      <a:pt x="216" y="0"/>
                    </a:moveTo>
                    <a:lnTo>
                      <a:pt x="0" y="0"/>
                    </a:lnTo>
                    <a:lnTo>
                      <a:pt x="0" y="432"/>
                    </a:lnTo>
                    <a:lnTo>
                      <a:pt x="216" y="432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>
              <a:off x="8290800" y="2884680"/>
              <a:ext cx="9252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84" name=""/>
          <p:cNvSpPr/>
          <p:nvPr/>
        </p:nvSpPr>
        <p:spPr>
          <a:xfrm>
            <a:off x="7578720" y="2714760"/>
            <a:ext cx="1760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6702120" y="1934280"/>
            <a:ext cx="636480" cy="444240"/>
            <a:chOff x="6702120" y="1934280"/>
            <a:chExt cx="636480" cy="444240"/>
          </a:xfrm>
        </p:grpSpPr>
        <p:sp>
          <p:nvSpPr>
            <p:cNvPr id="3286" name=""/>
            <p:cNvSpPr/>
            <p:nvPr/>
          </p:nvSpPr>
          <p:spPr>
            <a:xfrm rot="21540000">
              <a:off x="6792480" y="1937520"/>
              <a:ext cx="362880" cy="4377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6702120" y="2163240"/>
              <a:ext cx="9036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V="1">
              <a:off x="7156080" y="2153520"/>
              <a:ext cx="182520" cy="1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89" name=""/>
          <p:cNvSpPr/>
          <p:nvPr/>
        </p:nvSpPr>
        <p:spPr>
          <a:xfrm>
            <a:off x="5161320" y="180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90" name=""/>
          <p:cNvCxnSpPr/>
          <p:nvPr/>
        </p:nvCxnSpPr>
        <p:spPr>
          <a:xfrm>
            <a:off x="5266800" y="222840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291" name=""/>
          <p:cNvSpPr/>
          <p:nvPr/>
        </p:nvSpPr>
        <p:spPr>
          <a:xfrm flipH="1">
            <a:off x="5601960" y="2155680"/>
            <a:ext cx="109692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7354800" y="2155680"/>
            <a:ext cx="1387440" cy="1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7354800" y="2155680"/>
            <a:ext cx="1584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6440400" y="2155680"/>
            <a:ext cx="258840" cy="579600"/>
          </a:xfrm>
          <a:custGeom>
            <a:avLst/>
            <a:gdLst/>
            <a:ahLst/>
            <a:rect l="l" t="t" r="r" b="b"/>
            <a:pathLst>
              <a:path w="163" h="365">
                <a:moveTo>
                  <a:pt x="0" y="0"/>
                </a:moveTo>
                <a:lnTo>
                  <a:pt x="0" y="365"/>
                </a:lnTo>
                <a:lnTo>
                  <a:pt x="163" y="356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8375760" y="2887560"/>
            <a:ext cx="4125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H="1">
            <a:off x="7583400" y="3051000"/>
            <a:ext cx="168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266080" y="453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277240" y="403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694480" y="35434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005520" y="4013280"/>
            <a:ext cx="1965240" cy="33480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6332400" y="4533840"/>
            <a:ext cx="1965600" cy="335160"/>
          </a:xfrm>
          <a:custGeom>
            <a:avLst/>
            <a:gdLst/>
            <a:ahLst/>
            <a:rect l="l" t="t" r="r" b="b"/>
            <a:pathLst>
              <a:path w="1238" h="211">
                <a:moveTo>
                  <a:pt x="0" y="211"/>
                </a:moveTo>
                <a:lnTo>
                  <a:pt x="441" y="211"/>
                </a:lnTo>
                <a:lnTo>
                  <a:pt x="557" y="0"/>
                </a:lnTo>
                <a:lnTo>
                  <a:pt x="1238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267520" y="339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416800" y="1749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3646800" y="173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3649680" y="24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8444160" y="24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689880" y="2725560"/>
            <a:ext cx="930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1692360" y="370188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502320" y="3701880"/>
            <a:ext cx="644760" cy="974880"/>
          </a:xfrm>
          <a:custGeom>
            <a:avLst/>
            <a:gdLst/>
            <a:ahLst/>
            <a:rect l="l" t="t" r="r" b="b"/>
            <a:pathLst>
              <a:path w="406" h="614">
                <a:moveTo>
                  <a:pt x="0" y="0"/>
                </a:moveTo>
                <a:cubicBezTo>
                  <a:pt x="36" y="19"/>
                  <a:pt x="146" y="13"/>
                  <a:pt x="214" y="115"/>
                </a:cubicBezTo>
                <a:cubicBezTo>
                  <a:pt x="282" y="217"/>
                  <a:pt x="366" y="510"/>
                  <a:pt x="406" y="61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6492960" y="3686040"/>
            <a:ext cx="288720" cy="533520"/>
          </a:xfrm>
          <a:custGeom>
            <a:avLst/>
            <a:gdLst/>
            <a:ahLst/>
            <a:rect l="l" t="t" r="r" b="b"/>
            <a:pathLst>
              <a:path w="182" h="336">
                <a:moveTo>
                  <a:pt x="0" y="0"/>
                </a:moveTo>
                <a:cubicBezTo>
                  <a:pt x="47" y="39"/>
                  <a:pt x="94" y="78"/>
                  <a:pt x="124" y="134"/>
                </a:cubicBezTo>
                <a:cubicBezTo>
                  <a:pt x="154" y="190"/>
                  <a:pt x="168" y="263"/>
                  <a:pt x="182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2011320" y="4173480"/>
            <a:ext cx="792360" cy="533520"/>
          </a:xfrm>
          <a:custGeom>
            <a:avLst/>
            <a:gdLst/>
            <a:ahLst/>
            <a:rect l="l" t="t" r="r" b="b"/>
            <a:pathLst>
              <a:path w="499" h="336">
                <a:moveTo>
                  <a:pt x="0" y="0"/>
                </a:moveTo>
                <a:cubicBezTo>
                  <a:pt x="112" y="34"/>
                  <a:pt x="224" y="69"/>
                  <a:pt x="307" y="125"/>
                </a:cubicBezTo>
                <a:cubicBezTo>
                  <a:pt x="390" y="181"/>
                  <a:pt x="444" y="258"/>
                  <a:pt x="499" y="33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4282920" y="3579840"/>
            <a:ext cx="594000" cy="579240"/>
          </a:xfrm>
          <a:prstGeom prst="rightArrow">
            <a:avLst>
              <a:gd name="adj1" fmla="val 50000"/>
              <a:gd name="adj2" fmla="val 25637"/>
            </a:avLst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92320" y="2629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792560" y="2638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15" name=""/>
          <p:cNvGrpSpPr/>
          <p:nvPr/>
        </p:nvGrpSpPr>
        <p:grpSpPr>
          <a:xfrm>
            <a:off x="2448000" y="5257800"/>
            <a:ext cx="4067280" cy="561960"/>
            <a:chOff x="2448000" y="5257800"/>
            <a:chExt cx="4067280" cy="561960"/>
          </a:xfrm>
        </p:grpSpPr>
        <p:sp>
          <p:nvSpPr>
            <p:cNvPr id="3316" name=""/>
            <p:cNvSpPr/>
            <p:nvPr/>
          </p:nvSpPr>
          <p:spPr>
            <a:xfrm>
              <a:off x="2677680" y="5335560"/>
              <a:ext cx="36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Logic for gate 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 may chang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448000" y="5257800"/>
              <a:ext cx="4067280" cy="561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DC2E-5539-431D-9B1A-CA46C8BAF20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dding timing assumptions (I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984600" y="2201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246400" y="2201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3900240" y="2201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24440" y="2201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4710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7639200" y="2201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358240" y="15159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487120" y="290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334320" y="29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3528720" y="15019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1792440" y="236232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505320" y="236232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4394160" y="236232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6027840" y="236232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7135920" y="236232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4545000" y="312264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 flipH="1">
            <a:off x="4250880" y="167652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270080" y="162072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6405480" y="16956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202440" y="2567160"/>
            <a:ext cx="1698480" cy="56664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4637160" y="160020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 rot="10597800">
            <a:off x="3623760" y="176364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4267080" y="4189320"/>
            <a:ext cx="804240" cy="525600"/>
            <a:chOff x="4267080" y="4189320"/>
            <a:chExt cx="804240" cy="525600"/>
          </a:xfrm>
        </p:grpSpPr>
        <p:grpSp>
          <p:nvGrpSpPr>
            <p:cNvPr id="3342" name=""/>
            <p:cNvGrpSpPr/>
            <p:nvPr/>
          </p:nvGrpSpPr>
          <p:grpSpPr>
            <a:xfrm>
              <a:off x="4442760" y="4189320"/>
              <a:ext cx="628560" cy="525600"/>
              <a:chOff x="4442760" y="4189320"/>
              <a:chExt cx="628560" cy="525600"/>
            </a:xfrm>
          </p:grpSpPr>
          <p:grpSp>
            <p:nvGrpSpPr>
              <p:cNvPr id="3343" name=""/>
              <p:cNvGrpSpPr/>
              <p:nvPr/>
            </p:nvGrpSpPr>
            <p:grpSpPr>
              <a:xfrm>
                <a:off x="4442760" y="4189320"/>
                <a:ext cx="528480" cy="525600"/>
                <a:chOff x="4442760" y="4189320"/>
                <a:chExt cx="528480" cy="525600"/>
              </a:xfrm>
            </p:grpSpPr>
            <p:sp>
              <p:nvSpPr>
                <p:cNvPr id="3344" name=""/>
                <p:cNvSpPr/>
                <p:nvPr/>
              </p:nvSpPr>
              <p:spPr>
                <a:xfrm>
                  <a:off x="4447440" y="419400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442760" y="418932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6" name=""/>
              <p:cNvSpPr/>
              <p:nvPr/>
            </p:nvSpPr>
            <p:spPr>
              <a:xfrm>
                <a:off x="4978800" y="444672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47" name=""/>
            <p:cNvSpPr/>
            <p:nvPr/>
          </p:nvSpPr>
          <p:spPr>
            <a:xfrm>
              <a:off x="4267080" y="427644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267080" y="462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49" name=""/>
          <p:cNvGrpSpPr/>
          <p:nvPr/>
        </p:nvGrpSpPr>
        <p:grpSpPr>
          <a:xfrm>
            <a:off x="5694120" y="4237200"/>
            <a:ext cx="1252080" cy="1575360"/>
            <a:chOff x="5694120" y="4237200"/>
            <a:chExt cx="1252080" cy="1575360"/>
          </a:xfrm>
        </p:grpSpPr>
        <p:sp>
          <p:nvSpPr>
            <p:cNvPr id="3350" name=""/>
            <p:cNvSpPr/>
            <p:nvPr/>
          </p:nvSpPr>
          <p:spPr>
            <a:xfrm rot="10800000">
              <a:off x="5699520" y="423720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694120" y="476244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237720" y="476388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232680" y="475920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1711800" y="3651120"/>
            <a:ext cx="452160" cy="305640"/>
            <a:chOff x="1711800" y="3651120"/>
            <a:chExt cx="452160" cy="305640"/>
          </a:xfrm>
        </p:grpSpPr>
        <p:sp>
          <p:nvSpPr>
            <p:cNvPr id="3355" name=""/>
            <p:cNvSpPr/>
            <p:nvPr/>
          </p:nvSpPr>
          <p:spPr>
            <a:xfrm rot="10765200">
              <a:off x="1841040" y="365220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2099520" y="380016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1711800" y="380448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58" name=""/>
          <p:cNvSpPr/>
          <p:nvPr/>
        </p:nvSpPr>
        <p:spPr>
          <a:xfrm>
            <a:off x="6881760" y="500544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072040" y="44467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31000" y="4446720"/>
            <a:ext cx="0" cy="4618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931000" y="49086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 flipV="1">
            <a:off x="5931000" y="3803760"/>
            <a:ext cx="0" cy="6429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2149200" y="379872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H="1">
            <a:off x="1309680" y="379872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5931000" y="335232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5931000" y="520524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2163600" y="586728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2163600" y="427680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2163600" y="427680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95440" y="3505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6021720" y="33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694080" y="4759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7298280" y="4662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7006320" y="54864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375" name=""/>
          <p:cNvCxnSpPr>
            <a:stCxn id="3366" idx="0"/>
          </p:cNvCxnSpPr>
          <p:nvPr/>
        </p:nvCxnSpPr>
        <p:spPr>
          <a:xfrm flipH="1">
            <a:off x="1254960" y="5205240"/>
            <a:ext cx="4676040" cy="57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376" name=""/>
          <p:cNvSpPr/>
          <p:nvPr/>
        </p:nvSpPr>
        <p:spPr>
          <a:xfrm>
            <a:off x="4257720" y="4632480"/>
            <a:ext cx="0" cy="591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6165360" y="2554920"/>
            <a:ext cx="1912320" cy="795240"/>
            <a:chOff x="6165360" y="2554920"/>
            <a:chExt cx="1912320" cy="795240"/>
          </a:xfrm>
        </p:grpSpPr>
        <p:sp>
          <p:nvSpPr>
            <p:cNvPr id="3378" name=""/>
            <p:cNvSpPr/>
            <p:nvPr/>
          </p:nvSpPr>
          <p:spPr>
            <a:xfrm flipH="1">
              <a:off x="6205320" y="256860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10831800">
              <a:off x="6168960" y="256356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0" name=""/>
          <p:cNvGrpSpPr/>
          <p:nvPr/>
        </p:nvGrpSpPr>
        <p:grpSpPr>
          <a:xfrm>
            <a:off x="5330880" y="2720880"/>
            <a:ext cx="5153040" cy="2370240"/>
            <a:chOff x="5330880" y="2720880"/>
            <a:chExt cx="5153040" cy="2370240"/>
          </a:xfrm>
        </p:grpSpPr>
        <p:sp>
          <p:nvSpPr>
            <p:cNvPr id="3381" name=""/>
            <p:cNvSpPr/>
            <p:nvPr/>
          </p:nvSpPr>
          <p:spPr>
            <a:xfrm>
              <a:off x="5330880" y="2720880"/>
              <a:ext cx="5153040" cy="237024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411960" y="3514680"/>
              <a:ext cx="2803680" cy="62568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251D-C6E5-44D6-B2DC-406AE309230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4721400" y="3448080"/>
            <a:ext cx="2145960" cy="1790640"/>
          </a:xfrm>
          <a:custGeom>
            <a:avLst/>
            <a:gdLst/>
            <a:ahLst/>
            <a:rect l="l" t="t" r="r" b="b"/>
            <a:pathLst>
              <a:path w="1352" h="1128">
                <a:moveTo>
                  <a:pt x="2" y="108"/>
                </a:moveTo>
                <a:cubicBezTo>
                  <a:pt x="5" y="95"/>
                  <a:pt x="13" y="29"/>
                  <a:pt x="20" y="24"/>
                </a:cubicBezTo>
                <a:cubicBezTo>
                  <a:pt x="35" y="13"/>
                  <a:pt x="56" y="12"/>
                  <a:pt x="74" y="6"/>
                </a:cubicBezTo>
                <a:cubicBezTo>
                  <a:pt x="80" y="4"/>
                  <a:pt x="92" y="0"/>
                  <a:pt x="92" y="0"/>
                </a:cubicBezTo>
                <a:cubicBezTo>
                  <a:pt x="231" y="8"/>
                  <a:pt x="365" y="20"/>
                  <a:pt x="506" y="24"/>
                </a:cubicBezTo>
                <a:cubicBezTo>
                  <a:pt x="690" y="41"/>
                  <a:pt x="885" y="26"/>
                  <a:pt x="1070" y="30"/>
                </a:cubicBezTo>
                <a:cubicBezTo>
                  <a:pt x="1119" y="35"/>
                  <a:pt x="1166" y="40"/>
                  <a:pt x="1214" y="24"/>
                </a:cubicBezTo>
                <a:cubicBezTo>
                  <a:pt x="1337" y="30"/>
                  <a:pt x="1336" y="5"/>
                  <a:pt x="1352" y="102"/>
                </a:cubicBezTo>
                <a:cubicBezTo>
                  <a:pt x="1350" y="224"/>
                  <a:pt x="1351" y="346"/>
                  <a:pt x="1346" y="468"/>
                </a:cubicBezTo>
                <a:cubicBezTo>
                  <a:pt x="1343" y="545"/>
                  <a:pt x="1222" y="629"/>
                  <a:pt x="1160" y="660"/>
                </a:cubicBezTo>
                <a:cubicBezTo>
                  <a:pt x="1128" y="708"/>
                  <a:pt x="1065" y="743"/>
                  <a:pt x="1016" y="774"/>
                </a:cubicBezTo>
                <a:cubicBezTo>
                  <a:pt x="996" y="786"/>
                  <a:pt x="978" y="803"/>
                  <a:pt x="956" y="810"/>
                </a:cubicBezTo>
                <a:cubicBezTo>
                  <a:pt x="944" y="814"/>
                  <a:pt x="920" y="822"/>
                  <a:pt x="920" y="822"/>
                </a:cubicBezTo>
                <a:cubicBezTo>
                  <a:pt x="890" y="852"/>
                  <a:pt x="852" y="875"/>
                  <a:pt x="812" y="888"/>
                </a:cubicBezTo>
                <a:cubicBezTo>
                  <a:pt x="770" y="920"/>
                  <a:pt x="725" y="942"/>
                  <a:pt x="680" y="972"/>
                </a:cubicBezTo>
                <a:cubicBezTo>
                  <a:pt x="575" y="1042"/>
                  <a:pt x="472" y="1112"/>
                  <a:pt x="344" y="1128"/>
                </a:cubicBezTo>
                <a:cubicBezTo>
                  <a:pt x="284" y="1123"/>
                  <a:pt x="239" y="1128"/>
                  <a:pt x="182" y="1110"/>
                </a:cubicBezTo>
                <a:cubicBezTo>
                  <a:pt x="164" y="1104"/>
                  <a:pt x="146" y="1098"/>
                  <a:pt x="128" y="1092"/>
                </a:cubicBezTo>
                <a:cubicBezTo>
                  <a:pt x="122" y="1090"/>
                  <a:pt x="110" y="1086"/>
                  <a:pt x="110" y="1086"/>
                </a:cubicBezTo>
                <a:cubicBezTo>
                  <a:pt x="87" y="1063"/>
                  <a:pt x="92" y="1040"/>
                  <a:pt x="74" y="1014"/>
                </a:cubicBezTo>
                <a:cubicBezTo>
                  <a:pt x="62" y="966"/>
                  <a:pt x="48" y="917"/>
                  <a:pt x="32" y="870"/>
                </a:cubicBezTo>
                <a:cubicBezTo>
                  <a:pt x="20" y="709"/>
                  <a:pt x="23" y="560"/>
                  <a:pt x="26" y="396"/>
                </a:cubicBezTo>
                <a:cubicBezTo>
                  <a:pt x="24" y="357"/>
                  <a:pt x="19" y="131"/>
                  <a:pt x="2" y="96"/>
                </a:cubicBezTo>
                <a:cubicBezTo>
                  <a:pt x="0" y="92"/>
                  <a:pt x="2" y="104"/>
                  <a:pt x="2" y="108"/>
                </a:cubicBezTo>
                <a:close/>
              </a:path>
            </a:pathLst>
          </a:custGeom>
          <a:solidFill>
            <a:srgbClr val="ff9966"/>
          </a:solidFill>
          <a:ln w="1260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819680" y="3533760"/>
            <a:ext cx="1962000" cy="666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space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3722760" y="158904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029200" y="158904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6335640" y="158904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02920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6335640" y="266868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02920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335640" y="37479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372276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029200" y="482760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416320" y="266868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416320" y="37479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2416320" y="482760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529596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H="1">
            <a:off x="3984480" y="172872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3989520" y="172872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H="1">
            <a:off x="5295960" y="280368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5289120" y="38876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 flipH="1">
            <a:off x="2677680" y="4978440"/>
            <a:ext cx="104004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H="1">
            <a:off x="3989520" y="497844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470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470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165640" y="185904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516564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552760" y="293832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552760" y="4017960"/>
            <a:ext cx="0" cy="809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 flipH="1">
            <a:off x="2660760" y="1809720"/>
            <a:ext cx="1092240" cy="9334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5264280" y="3968280"/>
            <a:ext cx="1092240" cy="90828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6615000" y="3078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738400" y="43736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2402280" y="52498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hable space is unchang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1571400" y="5668920"/>
            <a:ext cx="58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-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enabling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can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be changed in one 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17" name=""/>
          <p:cNvGrpSpPr/>
          <p:nvPr/>
        </p:nvGrpSpPr>
        <p:grpSpPr>
          <a:xfrm>
            <a:off x="-1038240" y="939960"/>
            <a:ext cx="5153040" cy="2369880"/>
            <a:chOff x="-1038240" y="939960"/>
            <a:chExt cx="5153040" cy="2369880"/>
          </a:xfrm>
        </p:grpSpPr>
        <p:sp>
          <p:nvSpPr>
            <p:cNvPr id="3418" name=""/>
            <p:cNvSpPr/>
            <p:nvPr/>
          </p:nvSpPr>
          <p:spPr>
            <a:xfrm>
              <a:off x="-1038240" y="939960"/>
              <a:ext cx="5153040" cy="2369880"/>
            </a:xfrm>
            <a:prstGeom prst="irregularSeal1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- before LDS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2840" y="1733400"/>
              <a:ext cx="2803680" cy="625320"/>
            </a:xfrm>
            <a:prstGeom prst="ellipse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20" name=""/>
          <p:cNvGrpSpPr/>
          <p:nvPr/>
        </p:nvGrpSpPr>
        <p:grpSpPr>
          <a:xfrm>
            <a:off x="5275440" y="4695840"/>
            <a:ext cx="2001600" cy="552600"/>
            <a:chOff x="5275440" y="4695840"/>
            <a:chExt cx="2001600" cy="552600"/>
          </a:xfrm>
        </p:grpSpPr>
        <p:sp>
          <p:nvSpPr>
            <p:cNvPr id="3421" name=""/>
            <p:cNvSpPr/>
            <p:nvPr/>
          </p:nvSpPr>
          <p:spPr>
            <a:xfrm>
              <a:off x="6865920" y="4837320"/>
              <a:ext cx="2620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5275440" y="4969080"/>
              <a:ext cx="1591920" cy="0"/>
            </a:xfrm>
            <a:prstGeom prst="line">
              <a:avLst/>
            </a:prstGeom>
            <a:ln w="12600">
              <a:solidFill>
                <a:srgbClr val="ffcc66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724800" y="4695840"/>
              <a:ext cx="552240" cy="552600"/>
            </a:xfrm>
            <a:prstGeom prst="noSmoking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6946560" y="3922560"/>
            <a:ext cx="2216880" cy="642600"/>
            <a:chOff x="6946560" y="3922560"/>
            <a:chExt cx="2216880" cy="642600"/>
          </a:xfrm>
        </p:grpSpPr>
        <p:sp>
          <p:nvSpPr>
            <p:cNvPr id="3425" name=""/>
            <p:cNvSpPr/>
            <p:nvPr/>
          </p:nvSpPr>
          <p:spPr>
            <a:xfrm>
              <a:off x="6953400" y="3933720"/>
              <a:ext cx="2190600" cy="6188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946560" y="3922560"/>
              <a:ext cx="2216880" cy="6426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Potential enabling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</a:rPr>
                <a:t>for 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7" name=""/>
          <p:cNvSpPr/>
          <p:nvPr/>
        </p:nvSpPr>
        <p:spPr>
          <a:xfrm>
            <a:off x="4030200" y="4586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Sr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06C0-45F1-4422-8978-7464A469694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"/>
          <p:cNvSpPr/>
          <p:nvPr/>
        </p:nvSpPr>
        <p:spPr>
          <a:xfrm>
            <a:off x="6477120" y="3809880"/>
            <a:ext cx="236196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8001000" y="228600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429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1143000" y="4572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1143000" y="2286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8001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5715000" y="457200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228600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37" name=""/>
          <p:cNvGrpSpPr/>
          <p:nvPr/>
        </p:nvGrpSpPr>
        <p:grpSpPr>
          <a:xfrm>
            <a:off x="106920" y="1523880"/>
            <a:ext cx="4160160" cy="3809880"/>
            <a:chOff x="106920" y="1523880"/>
            <a:chExt cx="4160160" cy="3809880"/>
          </a:xfrm>
        </p:grpSpPr>
        <p:sp>
          <p:nvSpPr>
            <p:cNvPr id="3438" name=""/>
            <p:cNvSpPr/>
            <p:nvPr/>
          </p:nvSpPr>
          <p:spPr>
            <a:xfrm>
              <a:off x="1143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905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666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29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143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143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143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 flipV="1">
              <a:off x="685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40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06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240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078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840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678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87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87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87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87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4678920" y="1523880"/>
            <a:ext cx="4160160" cy="3809880"/>
            <a:chOff x="4678920" y="1523880"/>
            <a:chExt cx="4160160" cy="3809880"/>
          </a:xfrm>
        </p:grpSpPr>
        <p:sp>
          <p:nvSpPr>
            <p:cNvPr id="3457" name=""/>
            <p:cNvSpPr/>
            <p:nvPr/>
          </p:nvSpPr>
          <p:spPr>
            <a:xfrm>
              <a:off x="5715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477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38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01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715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715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715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H="1" flipV="1">
              <a:off x="5257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412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678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5812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650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250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259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259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259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259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75" name=""/>
          <p:cNvSpPr/>
          <p:nvPr/>
        </p:nvSpPr>
        <p:spPr>
          <a:xfrm>
            <a:off x="2211480" y="125568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6757920" y="12333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1344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365904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2896920" y="2392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210636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1296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2106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68748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68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678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8199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8202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820260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744048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67836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289692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89692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896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7206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1348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37268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1372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1204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37206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5944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7468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46892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8292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7068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94468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94468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69240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45452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DC12-C179-4F10-9035-1BDE9578571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"/>
          <p:cNvSpPr/>
          <p:nvPr/>
        </p:nvSpPr>
        <p:spPr>
          <a:xfrm>
            <a:off x="6477120" y="3819600"/>
            <a:ext cx="761760" cy="752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238880" y="3809880"/>
            <a:ext cx="160020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8001000" y="2286000"/>
            <a:ext cx="8380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429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143000" y="4572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143000" y="2286000"/>
            <a:ext cx="1523880" cy="7621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8001000" y="4572000"/>
            <a:ext cx="83808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715000" y="4572000"/>
            <a:ext cx="15238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3429000" y="228600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oolean doma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19" name=""/>
          <p:cNvGrpSpPr/>
          <p:nvPr/>
        </p:nvGrpSpPr>
        <p:grpSpPr>
          <a:xfrm>
            <a:off x="106920" y="1523880"/>
            <a:ext cx="4160160" cy="3809880"/>
            <a:chOff x="106920" y="1523880"/>
            <a:chExt cx="4160160" cy="3809880"/>
          </a:xfrm>
        </p:grpSpPr>
        <p:sp>
          <p:nvSpPr>
            <p:cNvPr id="3520" name=""/>
            <p:cNvSpPr/>
            <p:nvPr/>
          </p:nvSpPr>
          <p:spPr>
            <a:xfrm>
              <a:off x="1143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905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666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3429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143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143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143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 flipV="1">
              <a:off x="685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840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06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240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078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840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678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87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87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87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87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4678920" y="1523880"/>
            <a:ext cx="4160160" cy="3809880"/>
            <a:chOff x="4678920" y="1523880"/>
            <a:chExt cx="4160160" cy="3809880"/>
          </a:xfrm>
        </p:grpSpPr>
        <p:sp>
          <p:nvSpPr>
            <p:cNvPr id="3539" name=""/>
            <p:cNvSpPr/>
            <p:nvPr/>
          </p:nvSpPr>
          <p:spPr>
            <a:xfrm>
              <a:off x="5715000" y="228564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47712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3888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8001000" y="228564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715000" y="304776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15000" y="3809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15000" y="457164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H="1" flipV="1">
              <a:off x="5257800" y="182844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412600" y="152388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678920" y="182844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8125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6506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41276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8250840" y="1919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259960" y="2528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259960" y="3214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259960" y="4052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259960" y="481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57" name=""/>
          <p:cNvSpPr/>
          <p:nvPr/>
        </p:nvSpPr>
        <p:spPr>
          <a:xfrm>
            <a:off x="2211480" y="125568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757920" y="1233360"/>
            <a:ext cx="10126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344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365904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2896920" y="2392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210636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296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2106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68748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86872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78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819936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8202600" y="239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820260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744048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678720" y="3836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89692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89692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896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37206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13480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1372680" y="3154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372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21204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72060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5944680" y="3916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468920" y="4678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746892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82926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670680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5944680" y="3124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94468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669240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454520" y="2362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2294640" y="5421240"/>
            <a:ext cx="50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 more DC vector for </a:t>
            </a:r>
            <a:r>
              <a:rPr b="1" i="1" lang="en-US" sz="2000" spc="-1" strike="noStrike" u="sng">
                <a:solidFill>
                  <a:srgbClr val="ffcc66"/>
                </a:solidFill>
                <a:uFillTx/>
                <a:latin typeface="Arial"/>
              </a:rPr>
              <a:t>one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signal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2111040" y="5764320"/>
            <a:ext cx="56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f used: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, otherwise: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DS = DSr + 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5C69-822F-470D-828E-C10E6C6C7EB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efore early enab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984600" y="20113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246400" y="20113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900240" y="20113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4924440" y="20113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6471000" y="2011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7639200" y="2011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358240" y="1325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617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618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619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1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22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24" name=""/>
          <p:cNvGrpSpPr/>
          <p:nvPr/>
        </p:nvGrpSpPr>
        <p:grpSpPr>
          <a:xfrm>
            <a:off x="5694120" y="4046760"/>
            <a:ext cx="1252080" cy="1575360"/>
            <a:chOff x="5694120" y="4046760"/>
            <a:chExt cx="1252080" cy="1575360"/>
          </a:xfrm>
        </p:grpSpPr>
        <p:sp>
          <p:nvSpPr>
            <p:cNvPr id="3625" name=""/>
            <p:cNvSpPr/>
            <p:nvPr/>
          </p:nvSpPr>
          <p:spPr>
            <a:xfrm rot="10800000">
              <a:off x="5699520" y="4046760"/>
              <a:ext cx="124668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8" y="5433"/>
                  </a:moveTo>
                  <a:arcTo wR="10800" hR="10800" stAng="-9012068" swAng="3605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8" y="5433"/>
                  </a:moveTo>
                  <a:arcTo wR="10800" hR="10800" stAng="-9012068" swAng="3605248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694120" y="4572000"/>
              <a:ext cx="1248120" cy="10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821" swAng="3625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821" swAng="362579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37720" y="4573440"/>
              <a:ext cx="168120" cy="51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32680" y="4568760"/>
              <a:ext cx="90360" cy="526680"/>
            </a:xfrm>
            <a:custGeom>
              <a:avLst/>
              <a:gdLst/>
              <a:ahLst/>
              <a:rect l="l" t="t" r="r" b="b"/>
              <a:pathLst>
                <a:path w="73" h="433">
                  <a:moveTo>
                    <a:pt x="72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2" y="4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630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6881760" y="4815000"/>
            <a:ext cx="8906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5931000" y="4255920"/>
            <a:ext cx="0" cy="462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5931000" y="471816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flipH="1">
            <a:off x="2163600" y="567684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 flipV="1">
            <a:off x="2163600" y="408636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94080" y="4568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298280" y="4471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7006320" y="5295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650" name=""/>
          <p:cNvCxnSpPr>
            <a:stCxn id="3641" idx="0"/>
          </p:cNvCxnSpPr>
          <p:nvPr/>
        </p:nvCxnSpPr>
        <p:spPr>
          <a:xfrm flipH="1">
            <a:off x="1254960" y="5014800"/>
            <a:ext cx="4676040" cy="57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651" name=""/>
          <p:cNvSpPr/>
          <p:nvPr/>
        </p:nvSpPr>
        <p:spPr>
          <a:xfrm>
            <a:off x="4257720" y="4441680"/>
            <a:ext cx="0" cy="592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6165360" y="2364480"/>
            <a:ext cx="1912320" cy="795240"/>
            <a:chOff x="6165360" y="2364480"/>
            <a:chExt cx="1912320" cy="795240"/>
          </a:xfrm>
        </p:grpSpPr>
        <p:sp>
          <p:nvSpPr>
            <p:cNvPr id="3653" name=""/>
            <p:cNvSpPr/>
            <p:nvPr/>
          </p:nvSpPr>
          <p:spPr>
            <a:xfrm flipH="1">
              <a:off x="6205320" y="237816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rot="10831800">
              <a:off x="6168960" y="237312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1E15-F456-4C05-8AF5-040D5588C87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tlist with two constrai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984600" y="1996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246400" y="19969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900240" y="1996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4924440" y="19969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471000" y="199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7639200" y="199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5358240" y="13111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487120" y="2712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334320" y="2712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3528720" y="1311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792440" y="2171880"/>
            <a:ext cx="493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505320" y="2171880"/>
            <a:ext cx="409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394160" y="2171880"/>
            <a:ext cx="5367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6027840" y="2171880"/>
            <a:ext cx="43632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7135920" y="2171880"/>
            <a:ext cx="503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545000" y="2932200"/>
            <a:ext cx="94140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4250880" y="1486080"/>
            <a:ext cx="108756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270080" y="1430280"/>
            <a:ext cx="2235240" cy="53676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6405480" y="1504800"/>
            <a:ext cx="1533600" cy="4921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202440" y="2376360"/>
            <a:ext cx="1698480" cy="56700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260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4637160" y="1409760"/>
            <a:ext cx="195120" cy="179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rot="10597800">
            <a:off x="3623760" y="1573200"/>
            <a:ext cx="185760" cy="1208160"/>
          </a:xfrm>
          <a:custGeom>
            <a:avLst/>
            <a:gdLst>
              <a:gd name="textAreaLeft" fmla="*/ 24840 w 185760"/>
              <a:gd name="textAreaRight" fmla="*/ 160920 w 18576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78" name=""/>
          <p:cNvGrpSpPr/>
          <p:nvPr/>
        </p:nvGrpSpPr>
        <p:grpSpPr>
          <a:xfrm>
            <a:off x="6537240" y="3230640"/>
            <a:ext cx="2606760" cy="968400"/>
            <a:chOff x="6537240" y="3230640"/>
            <a:chExt cx="2606760" cy="968400"/>
          </a:xfrm>
        </p:grpSpPr>
        <p:sp>
          <p:nvSpPr>
            <p:cNvPr id="3679" name=""/>
            <p:cNvSpPr/>
            <p:nvPr/>
          </p:nvSpPr>
          <p:spPr>
            <a:xfrm>
              <a:off x="6733800" y="3570480"/>
              <a:ext cx="2190960" cy="580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LDTACK- before DSr+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66"/>
                  </a:solidFill>
                  <a:latin typeface="Arial Black"/>
                </a:rPr>
                <a:t>and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 Black"/>
                </a:rPr>
                <a:t>D- before LDS-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849360" y="3278160"/>
              <a:ext cx="193500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cc66"/>
                  </a:solidFill>
                  <a:latin typeface="Arial Black"/>
                </a:rPr>
                <a:t>TIMING CONSTRAINT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537240" y="3230640"/>
              <a:ext cx="2606760" cy="968400"/>
            </a:xfrm>
            <a:prstGeom prst="flowChartAlternateProcess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6165360" y="2364480"/>
            <a:ext cx="1912320" cy="795240"/>
            <a:chOff x="6165360" y="2364480"/>
            <a:chExt cx="1912320" cy="795240"/>
          </a:xfrm>
        </p:grpSpPr>
        <p:sp>
          <p:nvSpPr>
            <p:cNvPr id="3683" name=""/>
            <p:cNvSpPr/>
            <p:nvPr/>
          </p:nvSpPr>
          <p:spPr>
            <a:xfrm flipH="1">
              <a:off x="6205320" y="2378160"/>
              <a:ext cx="547560" cy="404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rot="10831800">
              <a:off x="6168960" y="2373120"/>
              <a:ext cx="1905120" cy="77760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85" name=""/>
          <p:cNvGrpSpPr/>
          <p:nvPr/>
        </p:nvGrpSpPr>
        <p:grpSpPr>
          <a:xfrm>
            <a:off x="4267080" y="3998880"/>
            <a:ext cx="804240" cy="525600"/>
            <a:chOff x="4267080" y="3998880"/>
            <a:chExt cx="804240" cy="525600"/>
          </a:xfrm>
        </p:grpSpPr>
        <p:grpSp>
          <p:nvGrpSpPr>
            <p:cNvPr id="3686" name=""/>
            <p:cNvGrpSpPr/>
            <p:nvPr/>
          </p:nvGrpSpPr>
          <p:grpSpPr>
            <a:xfrm>
              <a:off x="4442760" y="3998880"/>
              <a:ext cx="628560" cy="525600"/>
              <a:chOff x="4442760" y="3998880"/>
              <a:chExt cx="628560" cy="5256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4442760" y="3998880"/>
                <a:ext cx="528480" cy="525600"/>
                <a:chOff x="4442760" y="3998880"/>
                <a:chExt cx="528480" cy="525600"/>
              </a:xfrm>
            </p:grpSpPr>
            <p:sp>
              <p:nvSpPr>
                <p:cNvPr id="3688" name=""/>
                <p:cNvSpPr/>
                <p:nvPr/>
              </p:nvSpPr>
              <p:spPr>
                <a:xfrm>
                  <a:off x="4447440" y="4003560"/>
                  <a:ext cx="523800" cy="5144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4442760" y="3998880"/>
                  <a:ext cx="268200" cy="525600"/>
                </a:xfrm>
                <a:custGeom>
                  <a:avLst/>
                  <a:gdLst/>
                  <a:ahLst/>
                  <a:rect l="l" t="t" r="r" b="b"/>
                  <a:pathLst>
                    <a:path w="217" h="433">
                      <a:moveTo>
                        <a:pt x="216" y="0"/>
                      </a:move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16" y="43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>
                <a:off x="4978800" y="4256280"/>
                <a:ext cx="925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4267080" y="408600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267080" y="4435560"/>
              <a:ext cx="1756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3" name=""/>
          <p:cNvGrpSpPr/>
          <p:nvPr/>
        </p:nvGrpSpPr>
        <p:grpSpPr>
          <a:xfrm>
            <a:off x="1711800" y="3460680"/>
            <a:ext cx="452160" cy="305640"/>
            <a:chOff x="1711800" y="3460680"/>
            <a:chExt cx="452160" cy="305640"/>
          </a:xfrm>
        </p:grpSpPr>
        <p:sp>
          <p:nvSpPr>
            <p:cNvPr id="3694" name=""/>
            <p:cNvSpPr/>
            <p:nvPr/>
          </p:nvSpPr>
          <p:spPr>
            <a:xfrm rot="10765200">
              <a:off x="1841040" y="3461760"/>
              <a:ext cx="257760" cy="3031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V="1">
              <a:off x="2099520" y="3609720"/>
              <a:ext cx="6444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flipH="1">
              <a:off x="1711800" y="3614040"/>
              <a:ext cx="1296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97" name=""/>
          <p:cNvSpPr/>
          <p:nvPr/>
        </p:nvSpPr>
        <p:spPr>
          <a:xfrm>
            <a:off x="5072040" y="4255920"/>
            <a:ext cx="8589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 flipV="1">
            <a:off x="5931000" y="3612960"/>
            <a:ext cx="0" cy="6426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 flipH="1">
            <a:off x="2149200" y="3608280"/>
            <a:ext cx="3794040" cy="50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 flipH="1">
            <a:off x="1309680" y="3608280"/>
            <a:ext cx="40176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5931000" y="3161880"/>
            <a:ext cx="0" cy="446040"/>
          </a:xfrm>
          <a:prstGeom prst="line">
            <a:avLst/>
          </a:prstGeom>
          <a:ln w="1260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5931000" y="5014800"/>
            <a:ext cx="474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H="1">
            <a:off x="2163600" y="5676840"/>
            <a:ext cx="56088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2163600" y="4086360"/>
            <a:ext cx="0" cy="1590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163600" y="4086360"/>
            <a:ext cx="210348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595440" y="3314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021720" y="31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63840" y="4552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S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7298280" y="4576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7006320" y="5295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LDTAC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711" name=""/>
          <p:cNvCxnSpPr>
            <a:stCxn id="3702" idx="0"/>
          </p:cNvCxnSpPr>
          <p:nvPr/>
        </p:nvCxnSpPr>
        <p:spPr>
          <a:xfrm flipH="1" flipV="1">
            <a:off x="1315440" y="5002920"/>
            <a:ext cx="4615560" cy="1188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712" name=""/>
          <p:cNvSpPr/>
          <p:nvPr/>
        </p:nvSpPr>
        <p:spPr>
          <a:xfrm>
            <a:off x="4257720" y="4441680"/>
            <a:ext cx="0" cy="592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13" name=""/>
          <p:cNvGrpSpPr/>
          <p:nvPr/>
        </p:nvGrpSpPr>
        <p:grpSpPr>
          <a:xfrm>
            <a:off x="6176880" y="4721760"/>
            <a:ext cx="758520" cy="570960"/>
            <a:chOff x="6176880" y="4721760"/>
            <a:chExt cx="758520" cy="570960"/>
          </a:xfrm>
        </p:grpSpPr>
        <p:sp>
          <p:nvSpPr>
            <p:cNvPr id="3714" name=""/>
            <p:cNvSpPr/>
            <p:nvPr/>
          </p:nvSpPr>
          <p:spPr>
            <a:xfrm rot="12600">
              <a:off x="6284880" y="4722480"/>
              <a:ext cx="432720" cy="5695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0" y="0"/>
                  </a:moveTo>
                  <a:lnTo>
                    <a:pt x="0" y="115"/>
                  </a:lnTo>
                  <a:lnTo>
                    <a:pt x="115" y="57"/>
                  </a:lnTo>
                  <a:lnTo>
                    <a:pt x="0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H="1" flipV="1">
              <a:off x="6176880" y="5010840"/>
              <a:ext cx="108000" cy="3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717960" y="5010840"/>
              <a:ext cx="217440" cy="2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717" name=""/>
          <p:cNvCxnSpPr>
            <a:stCxn id="3716" idx="0"/>
          </p:cNvCxnSpPr>
          <p:nvPr/>
        </p:nvCxnSpPr>
        <p:spPr>
          <a:xfrm flipV="1">
            <a:off x="6932160" y="5009760"/>
            <a:ext cx="926280" cy="2160"/>
          </a:xfrm>
          <a:prstGeom prst="straightConnector1">
            <a:avLst/>
          </a:prstGeom>
          <a:ln w="12600">
            <a:solidFill>
              <a:srgbClr val="ffcc66"/>
            </a:solidFill>
            <a:miter/>
          </a:ln>
        </p:spPr>
      </p:cxnSp>
      <p:sp>
        <p:nvSpPr>
          <p:cNvPr id="3718" name=""/>
          <p:cNvSpPr/>
          <p:nvPr/>
        </p:nvSpPr>
        <p:spPr>
          <a:xfrm>
            <a:off x="384120" y="5840280"/>
            <a:ext cx="93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oth timing assumptions are used for optimization and become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 rot="12600">
            <a:off x="6823080" y="4716360"/>
            <a:ext cx="433440" cy="5698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5"/>
                </a:lnTo>
                <a:lnTo>
                  <a:pt x="115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 flipV="1">
            <a:off x="6713640" y="5005080"/>
            <a:ext cx="108000" cy="7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7607-D0AB-4F6C-AD49-9E49020B8E2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lue of Relative Tim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T circuits provides up to 2-3x (1.3-2x) delay&amp;area reduction with respect to SI circuits synthesized without (with) concurrency r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c generation of timing assumptions =&gt; foundation for automatic synthesis of RT circuits with area/performance comparable/better than man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ck-annotation of timing constraints =&gt; minimal required timing information for the back-end tool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ing-aware state encoding allows significant area/performance optim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EEDB-EBD7-4F1D-BDE2-BE0D066B673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Decompos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Generating candid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azard-free signal inser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vent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6E8D-C59B-4F33-9166-B65D898C559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"/>
          <p:cNvSpPr/>
          <p:nvPr/>
        </p:nvSpPr>
        <p:spPr>
          <a:xfrm>
            <a:off x="4594320" y="720720"/>
            <a:ext cx="1600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 +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ser assumptions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4265640" y="2101680"/>
            <a:ext cx="21812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4594320" y="286560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Lazy</a:t>
            </a: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 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4594320" y="39322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594320" y="499896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624560" y="609768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658840" y="165096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662800" y="2489040"/>
            <a:ext cx="27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iming-aware 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5660280" y="355608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5689440" y="462276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5661360" y="568944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5356080" y="163188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5356080" y="24400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5356080" y="350676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356080" y="4573440"/>
            <a:ext cx="1800" cy="4366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5356080" y="5640480"/>
            <a:ext cx="1800" cy="43632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382680" y="-54000"/>
            <a:ext cx="87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Arial"/>
              </a:rPr>
              <a:t>Design Flow with Tim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863640" y="6094440"/>
            <a:ext cx="32544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Required Timing Constrain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539640" y="2703600"/>
            <a:ext cx="355932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utomatic Timing Assump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3745080" y="3076560"/>
            <a:ext cx="869760" cy="290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 flipV="1">
            <a:off x="3773520" y="2336760"/>
            <a:ext cx="493560" cy="3477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4108320" y="6284880"/>
            <a:ext cx="507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1499-B345-4FC5-B5AF-4E7D62208A0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FO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3171960" y="2214720"/>
            <a:ext cx="1341360" cy="14619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482280" y="27352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373480" y="2705040"/>
            <a:ext cx="7999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506840" y="268596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4506840" y="3257640"/>
            <a:ext cx="800280" cy="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2392200" y="3276720"/>
            <a:ext cx="8002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1957680" y="2421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1938960" y="299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5349960" y="240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330160" y="3030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6" name=""/>
          <p:cNvGrpSpPr/>
          <p:nvPr/>
        </p:nvGrpSpPr>
        <p:grpSpPr>
          <a:xfrm>
            <a:off x="2147040" y="4325760"/>
            <a:ext cx="3445920" cy="1391400"/>
            <a:chOff x="2147040" y="4325760"/>
            <a:chExt cx="3445920" cy="1391400"/>
          </a:xfrm>
        </p:grpSpPr>
        <p:sp>
          <p:nvSpPr>
            <p:cNvPr id="3757" name=""/>
            <p:cNvSpPr/>
            <p:nvPr/>
          </p:nvSpPr>
          <p:spPr>
            <a:xfrm>
              <a:off x="2179800" y="52574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83400" y="43257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12120" y="52574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147040" y="43290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294000" y="48240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>
              <a:off x="2698560" y="55209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253224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20880" y="4495680"/>
              <a:ext cx="398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924360" y="52574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005440" y="4325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66560" y="52574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056840" y="432900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248440" y="47462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4674960" y="548784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4353120" y="47793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619520" y="4495680"/>
              <a:ext cx="432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H="1">
              <a:off x="3439800" y="4701960"/>
              <a:ext cx="615960" cy="555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440160" y="4746240"/>
              <a:ext cx="61596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800600" y="439236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770200" y="437328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1288-B81F-46A1-8B15-A953542571A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7" name="fifosi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4224600"/>
          </a:xfrm>
          <a:prstGeom prst="rect">
            <a:avLst/>
          </a:prstGeom>
          <a:ln w="0">
            <a:noFill/>
          </a:ln>
        </p:spPr>
      </p:pic>
      <p:sp>
        <p:nvSpPr>
          <p:cNvPr id="3778" name=""/>
          <p:cNvSpPr/>
          <p:nvPr/>
        </p:nvSpPr>
        <p:spPr>
          <a:xfrm>
            <a:off x="685800" y="38160"/>
            <a:ext cx="7728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peed-Independent Implement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972720" y="5942160"/>
            <a:ext cx="72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ithout concurrency reduction 3 state signals are requir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420840" y="1495440"/>
            <a:ext cx="8439120" cy="4275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03D8-A0F6-4BA2-8C1A-2467D6B46A5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SI implementation with concurrency reductio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600360" y="2684520"/>
            <a:ext cx="565200" cy="573120"/>
            <a:chOff x="3600360" y="2684520"/>
            <a:chExt cx="565200" cy="573120"/>
          </a:xfrm>
        </p:grpSpPr>
        <p:sp>
          <p:nvSpPr>
            <p:cNvPr id="3783" name=""/>
            <p:cNvSpPr/>
            <p:nvPr/>
          </p:nvSpPr>
          <p:spPr>
            <a:xfrm>
              <a:off x="3606840" y="269100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600360" y="26845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5" name=""/>
          <p:cNvSpPr/>
          <p:nvPr/>
        </p:nvSpPr>
        <p:spPr>
          <a:xfrm>
            <a:off x="3413160" y="29322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3413160" y="316080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 flipV="1">
            <a:off x="2871720" y="335556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 rot="16203000">
            <a:off x="2676240" y="3670200"/>
            <a:ext cx="8280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89" name=""/>
          <p:cNvGrpSpPr/>
          <p:nvPr/>
        </p:nvGrpSpPr>
        <p:grpSpPr>
          <a:xfrm>
            <a:off x="1581120" y="2682720"/>
            <a:ext cx="565200" cy="573120"/>
            <a:chOff x="1581120" y="2682720"/>
            <a:chExt cx="565200" cy="573120"/>
          </a:xfrm>
        </p:grpSpPr>
        <p:sp>
          <p:nvSpPr>
            <p:cNvPr id="3790" name=""/>
            <p:cNvSpPr/>
            <p:nvPr/>
          </p:nvSpPr>
          <p:spPr>
            <a:xfrm rot="10800000">
              <a:off x="1581120" y="2690640"/>
              <a:ext cx="558720" cy="558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rot="10800000">
              <a:off x="1859040" y="2682720"/>
              <a:ext cx="287280" cy="573120"/>
            </a:xfrm>
            <a:custGeom>
              <a:avLst/>
              <a:gdLst/>
              <a:ahLst/>
              <a:rect l="l" t="t" r="r" b="b"/>
              <a:pathLst>
                <a:path w="181" h="361">
                  <a:moveTo>
                    <a:pt x="18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180" y="36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92" name=""/>
          <p:cNvSpPr/>
          <p:nvPr/>
        </p:nvSpPr>
        <p:spPr>
          <a:xfrm flipH="1">
            <a:off x="2146320" y="31622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 flipH="1">
            <a:off x="2146320" y="2962440"/>
            <a:ext cx="18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94" name=""/>
          <p:cNvGrpSpPr/>
          <p:nvPr/>
        </p:nvGrpSpPr>
        <p:grpSpPr>
          <a:xfrm>
            <a:off x="4110840" y="2078280"/>
            <a:ext cx="387000" cy="254880"/>
            <a:chOff x="4110840" y="2078280"/>
            <a:chExt cx="387000" cy="254880"/>
          </a:xfrm>
        </p:grpSpPr>
        <p:sp>
          <p:nvSpPr>
            <p:cNvPr id="3795" name=""/>
            <p:cNvSpPr/>
            <p:nvPr/>
          </p:nvSpPr>
          <p:spPr>
            <a:xfrm rot="16093800">
              <a:off x="4111560" y="217620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rot="16093800">
              <a:off x="4200840" y="203508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797" name=""/>
          <p:cNvCxnSpPr/>
          <p:nvPr/>
        </p:nvCxnSpPr>
        <p:spPr>
          <a:xfrm>
            <a:off x="752040" y="2209320"/>
            <a:ext cx="1105560" cy="252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3798" name=""/>
          <p:cNvSpPr/>
          <p:nvPr/>
        </p:nvSpPr>
        <p:spPr>
          <a:xfrm flipH="1">
            <a:off x="3470040" y="2214720"/>
            <a:ext cx="623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835280" y="221472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0" name=""/>
          <p:cNvCxnSpPr>
            <a:stCxn id="3799" idx="0"/>
            <a:endCxn id="3785" idx="0"/>
          </p:cNvCxnSpPr>
          <p:nvPr/>
        </p:nvCxnSpPr>
        <p:spPr>
          <a:xfrm>
            <a:off x="2333160" y="2214360"/>
            <a:ext cx="1080360" cy="71784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01" name=""/>
          <p:cNvCxnSpPr>
            <a:stCxn id="3792" idx="0"/>
            <a:endCxn id="3786" idx="0"/>
          </p:cNvCxnSpPr>
          <p:nvPr/>
        </p:nvCxnSpPr>
        <p:spPr>
          <a:xfrm flipV="1">
            <a:off x="2333160" y="316044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02" name=""/>
          <p:cNvSpPr/>
          <p:nvPr/>
        </p:nvSpPr>
        <p:spPr>
          <a:xfrm flipV="1">
            <a:off x="2876400" y="317304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3" name=""/>
          <p:cNvCxnSpPr>
            <a:stCxn id="3783" idx="6"/>
          </p:cNvCxnSpPr>
          <p:nvPr/>
        </p:nvCxnSpPr>
        <p:spPr>
          <a:xfrm>
            <a:off x="4165200" y="297000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804" name=""/>
          <p:cNvCxnSpPr>
            <a:endCxn id="3790" idx="6"/>
          </p:cNvCxnSpPr>
          <p:nvPr/>
        </p:nvCxnSpPr>
        <p:spPr>
          <a:xfrm>
            <a:off x="752040" y="296064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805" name=""/>
          <p:cNvCxnSpPr>
            <a:stCxn id="3796" idx="3"/>
          </p:cNvCxnSpPr>
          <p:nvPr/>
        </p:nvCxnSpPr>
        <p:spPr>
          <a:xfrm>
            <a:off x="4490640" y="219996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06" name=""/>
          <p:cNvSpPr/>
          <p:nvPr/>
        </p:nvSpPr>
        <p:spPr>
          <a:xfrm>
            <a:off x="4456080" y="298620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2997360" y="4013280"/>
            <a:ext cx="0" cy="331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8" name=""/>
          <p:cNvCxnSpPr>
            <a:stCxn id="3807" idx="0"/>
            <a:endCxn id="3806" idx="0"/>
          </p:cNvCxnSpPr>
          <p:nvPr/>
        </p:nvCxnSpPr>
        <p:spPr>
          <a:xfrm>
            <a:off x="2997360" y="4343400"/>
            <a:ext cx="145944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09" name=""/>
          <p:cNvSpPr/>
          <p:nvPr/>
        </p:nvSpPr>
        <p:spPr>
          <a:xfrm>
            <a:off x="600480" y="2144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70600" y="2938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4728960" y="293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743000" y="21207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70396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 flipH="1">
            <a:off x="5848200" y="3273480"/>
            <a:ext cx="3542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 flipV="1">
            <a:off x="559764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919840" y="2314440"/>
            <a:ext cx="3985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8736120" y="2513160"/>
            <a:ext cx="0" cy="5112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8062560" y="3273480"/>
            <a:ext cx="35388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8074080" y="2314440"/>
            <a:ext cx="43164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6683400" y="2523960"/>
            <a:ext cx="771480" cy="633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822168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5978520" y="219564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5384880" y="3024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288480" y="209232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6217200" y="30243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352120" y="2095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7407000" y="3024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8488080" y="2092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8449560" y="302436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539840" y="20955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6886800" y="1638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6918480" y="33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6531120" y="3378240"/>
            <a:ext cx="453960" cy="18396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 flipV="1">
            <a:off x="7737480" y="2546280"/>
            <a:ext cx="0" cy="4780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142040" y="2038320"/>
            <a:ext cx="465120" cy="986040"/>
          </a:xfrm>
          <a:prstGeom prst="line">
            <a:avLst/>
          </a:prstGeom>
          <a:ln w="1260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7211880" y="2336760"/>
            <a:ext cx="204840" cy="214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5624640" y="1879560"/>
            <a:ext cx="1317600" cy="303120"/>
          </a:xfrm>
          <a:custGeom>
            <a:avLst/>
            <a:gdLst/>
            <a:ahLst/>
            <a:rect l="l" t="t" r="r" b="b"/>
            <a:pathLst>
              <a:path w="830" h="191">
                <a:moveTo>
                  <a:pt x="0" y="191"/>
                </a:moveTo>
                <a:cubicBezTo>
                  <a:pt x="25" y="125"/>
                  <a:pt x="51" y="60"/>
                  <a:pt x="189" y="30"/>
                </a:cubicBezTo>
                <a:cubicBezTo>
                  <a:pt x="327" y="0"/>
                  <a:pt x="799" y="2"/>
                  <a:pt x="830" y="1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342200" y="1895400"/>
            <a:ext cx="1373040" cy="287280"/>
          </a:xfrm>
          <a:custGeom>
            <a:avLst/>
            <a:gdLst/>
            <a:ahLst/>
            <a:rect l="l" t="t" r="r" b="b"/>
            <a:pathLst>
              <a:path w="865" h="181">
                <a:moveTo>
                  <a:pt x="865" y="181"/>
                </a:moveTo>
                <a:cubicBezTo>
                  <a:pt x="863" y="122"/>
                  <a:pt x="862" y="64"/>
                  <a:pt x="718" y="34"/>
                </a:cubicBezTo>
                <a:cubicBezTo>
                  <a:pt x="574" y="4"/>
                  <a:pt x="120" y="7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H="1">
            <a:off x="6934320" y="3273480"/>
            <a:ext cx="4492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5734080" y="2508120"/>
            <a:ext cx="1200240" cy="1136880"/>
          </a:xfrm>
          <a:custGeom>
            <a:avLst/>
            <a:gdLst/>
            <a:ahLst/>
            <a:rect l="l" t="t" r="r" b="b"/>
            <a:pathLst>
              <a:path w="756" h="716">
                <a:moveTo>
                  <a:pt x="756" y="696"/>
                </a:moveTo>
                <a:cubicBezTo>
                  <a:pt x="576" y="706"/>
                  <a:pt x="396" y="716"/>
                  <a:pt x="270" y="600"/>
                </a:cubicBezTo>
                <a:cubicBezTo>
                  <a:pt x="144" y="484"/>
                  <a:pt x="72" y="242"/>
                  <a:pt x="0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7334280" y="2508120"/>
            <a:ext cx="1266840" cy="1177920"/>
          </a:xfrm>
          <a:custGeom>
            <a:avLst/>
            <a:gdLst/>
            <a:ahLst/>
            <a:rect l="l" t="t" r="r" b="b"/>
            <a:pathLst>
              <a:path w="774" h="748">
                <a:moveTo>
                  <a:pt x="0" y="708"/>
                </a:moveTo>
                <a:cubicBezTo>
                  <a:pt x="127" y="728"/>
                  <a:pt x="255" y="748"/>
                  <a:pt x="384" y="630"/>
                </a:cubicBezTo>
                <a:cubicBezTo>
                  <a:pt x="513" y="512"/>
                  <a:pt x="643" y="256"/>
                  <a:pt x="774" y="0"/>
                </a:cubicBezTo>
              </a:path>
            </a:pathLst>
          </a:custGeom>
          <a:noFill/>
          <a:ln w="12600">
            <a:solidFill>
              <a:srgbClr val="ff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508920" y="2747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3476520" y="2212920"/>
            <a:ext cx="0" cy="542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76520" y="2746440"/>
            <a:ext cx="1429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682080" y="2754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46" name=""/>
          <p:cNvCxnSpPr>
            <a:stCxn id="3806" idx="0"/>
          </p:cNvCxnSpPr>
          <p:nvPr/>
        </p:nvCxnSpPr>
        <p:spPr>
          <a:xfrm flipV="1" rot="16200000">
            <a:off x="3131640" y="1661400"/>
            <a:ext cx="564480" cy="2085120"/>
          </a:xfrm>
          <a:prstGeom prst="bentConnector2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47" name=""/>
          <p:cNvSpPr/>
          <p:nvPr/>
        </p:nvSpPr>
        <p:spPr>
          <a:xfrm>
            <a:off x="2352600" y="242244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4419720" y="2927520"/>
            <a:ext cx="74520" cy="74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1556280" y="2773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1905840" y="2776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2228760" y="2212920"/>
            <a:ext cx="0" cy="561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2133720" y="2765520"/>
            <a:ext cx="85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934640" y="2548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 rot="14400">
            <a:off x="2619000" y="3487320"/>
            <a:ext cx="511200" cy="5526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rot="16203000">
            <a:off x="2952720" y="404136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 flipH="1">
            <a:off x="1314360" y="3708360"/>
            <a:ext cx="1362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1314360" y="2974680"/>
            <a:ext cx="0" cy="7239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778B-7773-436E-BFBF-4E70F878367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9" name=""/>
          <p:cNvGrpSpPr/>
          <p:nvPr/>
        </p:nvGrpSpPr>
        <p:grpSpPr>
          <a:xfrm>
            <a:off x="3413160" y="2030400"/>
            <a:ext cx="752400" cy="573120"/>
            <a:chOff x="3413160" y="2030400"/>
            <a:chExt cx="752400" cy="573120"/>
          </a:xfrm>
        </p:grpSpPr>
        <p:grpSp>
          <p:nvGrpSpPr>
            <p:cNvPr id="3860" name=""/>
            <p:cNvGrpSpPr/>
            <p:nvPr/>
          </p:nvGrpSpPr>
          <p:grpSpPr>
            <a:xfrm>
              <a:off x="3600360" y="2030400"/>
              <a:ext cx="565200" cy="573120"/>
              <a:chOff x="3600360" y="2030400"/>
              <a:chExt cx="565200" cy="573120"/>
            </a:xfrm>
          </p:grpSpPr>
          <p:sp>
            <p:nvSpPr>
              <p:cNvPr id="3861" name=""/>
              <p:cNvSpPr/>
              <p:nvPr/>
            </p:nvSpPr>
            <p:spPr>
              <a:xfrm>
                <a:off x="3606840" y="203688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360036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63" name=""/>
            <p:cNvSpPr/>
            <p:nvPr/>
          </p:nvSpPr>
          <p:spPr>
            <a:xfrm>
              <a:off x="3413160" y="212580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3413160" y="250668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65" name=""/>
          <p:cNvGrpSpPr/>
          <p:nvPr/>
        </p:nvGrpSpPr>
        <p:grpSpPr>
          <a:xfrm>
            <a:off x="2017080" y="2793600"/>
            <a:ext cx="1715400" cy="1337040"/>
            <a:chOff x="2017080" y="2793600"/>
            <a:chExt cx="1715400" cy="1337040"/>
          </a:xfrm>
        </p:grpSpPr>
        <p:sp>
          <p:nvSpPr>
            <p:cNvPr id="3866" name=""/>
            <p:cNvSpPr/>
            <p:nvPr/>
          </p:nvSpPr>
          <p:spPr>
            <a:xfrm rot="5403000">
              <a:off x="1920960" y="2890440"/>
              <a:ext cx="133596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8" y="5416"/>
                  </a:moveTo>
                  <a:arcTo wR="10800" hR="10800" stAng="-9005713" swAng="3597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8" y="5416"/>
                  </a:moveTo>
                  <a:arcTo wR="10800" hR="10800" stAng="-9005713" swAng="3597547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rot="16203000">
              <a:off x="2494080" y="2890800"/>
              <a:ext cx="133272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185" swAng="36299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185" swAng="3629923"/>
                </a:path>
              </a:pathLst>
            </a:custGeom>
            <a:solidFill>
              <a:srgbClr val="ff9933"/>
            </a:solidFill>
            <a:ln cap="rnd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rot="16203000">
              <a:off x="2780640" y="3184200"/>
              <a:ext cx="177840" cy="55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rot="16203000">
              <a:off x="2822040" y="3223800"/>
              <a:ext cx="96840" cy="573120"/>
            </a:xfrm>
            <a:custGeom>
              <a:avLst/>
              <a:gdLst/>
              <a:ahLst/>
              <a:rect l="l" t="t" r="r" b="b"/>
              <a:pathLst>
                <a:path w="61" h="361">
                  <a:moveTo>
                    <a:pt x="60" y="0"/>
                  </a:moveTo>
                  <a:lnTo>
                    <a:pt x="0" y="0"/>
                  </a:lnTo>
                  <a:lnTo>
                    <a:pt x="0" y="360"/>
                  </a:lnTo>
                  <a:lnTo>
                    <a:pt x="60" y="3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70" name=""/>
          <p:cNvSpPr/>
          <p:nvPr/>
        </p:nvSpPr>
        <p:spPr>
          <a:xfrm flipV="1">
            <a:off x="2871720" y="2701440"/>
            <a:ext cx="0" cy="187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 rot="16203000">
            <a:off x="2830680" y="2803320"/>
            <a:ext cx="82440" cy="824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2" name=""/>
          <p:cNvGrpSpPr/>
          <p:nvPr/>
        </p:nvGrpSpPr>
        <p:grpSpPr>
          <a:xfrm>
            <a:off x="1582560" y="2030400"/>
            <a:ext cx="752400" cy="573120"/>
            <a:chOff x="1582560" y="2030400"/>
            <a:chExt cx="752400" cy="573120"/>
          </a:xfrm>
        </p:grpSpPr>
        <p:grpSp>
          <p:nvGrpSpPr>
            <p:cNvPr id="3873" name=""/>
            <p:cNvGrpSpPr/>
            <p:nvPr/>
          </p:nvGrpSpPr>
          <p:grpSpPr>
            <a:xfrm>
              <a:off x="1582560" y="2030400"/>
              <a:ext cx="565200" cy="573120"/>
              <a:chOff x="1582560" y="2030400"/>
              <a:chExt cx="565200" cy="573120"/>
            </a:xfrm>
          </p:grpSpPr>
          <p:sp>
            <p:nvSpPr>
              <p:cNvPr id="3874" name=""/>
              <p:cNvSpPr/>
              <p:nvPr/>
            </p:nvSpPr>
            <p:spPr>
              <a:xfrm rot="10800000">
                <a:off x="1582560" y="2038320"/>
                <a:ext cx="558720" cy="5587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0800000">
                <a:off x="1860480" y="2030400"/>
                <a:ext cx="287280" cy="573120"/>
              </a:xfrm>
              <a:custGeom>
                <a:avLst/>
                <a:gdLst/>
                <a:ahLst/>
                <a:rect l="l" t="t" r="r" b="b"/>
                <a:pathLst>
                  <a:path w="181" h="361">
                    <a:moveTo>
                      <a:pt x="18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180" y="360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 flipH="1">
              <a:off x="2147760" y="250812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2147760" y="2127240"/>
              <a:ext cx="18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4110840" y="1424160"/>
            <a:ext cx="387000" cy="254880"/>
            <a:chOff x="4110840" y="1424160"/>
            <a:chExt cx="387000" cy="254880"/>
          </a:xfrm>
        </p:grpSpPr>
        <p:sp>
          <p:nvSpPr>
            <p:cNvPr id="3879" name=""/>
            <p:cNvSpPr/>
            <p:nvPr/>
          </p:nvSpPr>
          <p:spPr>
            <a:xfrm rot="16093800">
              <a:off x="4111560" y="1522080"/>
              <a:ext cx="63360" cy="633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rot="16093800">
              <a:off x="4200840" y="1380960"/>
              <a:ext cx="244440" cy="34128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cxnSp>
        <p:nvCxnSpPr>
          <p:cNvPr id="3881" name=""/>
          <p:cNvCxnSpPr/>
          <p:nvPr/>
        </p:nvCxnSpPr>
        <p:spPr>
          <a:xfrm>
            <a:off x="752040" y="1555920"/>
            <a:ext cx="110556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82" name=""/>
          <p:cNvCxnSpPr>
            <a:endCxn id="3875" idx="0"/>
          </p:cNvCxnSpPr>
          <p:nvPr/>
        </p:nvCxnSpPr>
        <p:spPr>
          <a:xfrm>
            <a:off x="1856880" y="156024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83" name=""/>
          <p:cNvSpPr/>
          <p:nvPr/>
        </p:nvSpPr>
        <p:spPr>
          <a:xfrm flipH="1">
            <a:off x="3375000" y="1560600"/>
            <a:ext cx="7192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835280" y="1560600"/>
            <a:ext cx="498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85" name=""/>
          <p:cNvCxnSpPr>
            <a:stCxn id="3884" idx="0"/>
            <a:endCxn id="3863" idx="0"/>
          </p:cNvCxnSpPr>
          <p:nvPr/>
        </p:nvCxnSpPr>
        <p:spPr>
          <a:xfrm>
            <a:off x="2333160" y="1560600"/>
            <a:ext cx="1080360" cy="5659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86" name=""/>
          <p:cNvCxnSpPr>
            <a:stCxn id="3877" idx="0"/>
            <a:endCxn id="3883" idx="0"/>
          </p:cNvCxnSpPr>
          <p:nvPr/>
        </p:nvCxnSpPr>
        <p:spPr>
          <a:xfrm flipV="1">
            <a:off x="2333160" y="1560240"/>
            <a:ext cx="1043640" cy="5673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87" name=""/>
          <p:cNvCxnSpPr>
            <a:stCxn id="3876" idx="0"/>
            <a:endCxn id="3864" idx="0"/>
          </p:cNvCxnSpPr>
          <p:nvPr/>
        </p:nvCxnSpPr>
        <p:spPr>
          <a:xfrm flipV="1">
            <a:off x="2333160" y="2506320"/>
            <a:ext cx="1080360" cy="21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88" name=""/>
          <p:cNvSpPr/>
          <p:nvPr/>
        </p:nvSpPr>
        <p:spPr>
          <a:xfrm flipV="1">
            <a:off x="2876400" y="2518920"/>
            <a:ext cx="0" cy="189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89" name=""/>
          <p:cNvCxnSpPr/>
          <p:nvPr/>
        </p:nvCxnSpPr>
        <p:spPr>
          <a:xfrm>
            <a:off x="3885840" y="1552320"/>
            <a:ext cx="1080" cy="470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90" name=""/>
          <p:cNvCxnSpPr>
            <a:stCxn id="3861" idx="6"/>
          </p:cNvCxnSpPr>
          <p:nvPr/>
        </p:nvCxnSpPr>
        <p:spPr>
          <a:xfrm>
            <a:off x="4165200" y="2315880"/>
            <a:ext cx="926280" cy="68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3891" name=""/>
          <p:cNvCxnSpPr>
            <a:endCxn id="3874" idx="6"/>
          </p:cNvCxnSpPr>
          <p:nvPr/>
        </p:nvCxnSpPr>
        <p:spPr>
          <a:xfrm>
            <a:off x="752040" y="2306520"/>
            <a:ext cx="826200" cy="864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</p:cxnSp>
      <p:cxnSp>
        <p:nvCxnSpPr>
          <p:cNvPr id="3892" name=""/>
          <p:cNvCxnSpPr>
            <a:stCxn id="3880" idx="3"/>
          </p:cNvCxnSpPr>
          <p:nvPr/>
        </p:nvCxnSpPr>
        <p:spPr>
          <a:xfrm>
            <a:off x="4490640" y="1545840"/>
            <a:ext cx="578520" cy="396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93" name=""/>
          <p:cNvSpPr/>
          <p:nvPr/>
        </p:nvSpPr>
        <p:spPr>
          <a:xfrm>
            <a:off x="1214280" y="2322360"/>
            <a:ext cx="0" cy="1360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456080" y="2332080"/>
            <a:ext cx="0" cy="1360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997360" y="335916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760840" y="3355920"/>
            <a:ext cx="0" cy="331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97" name=""/>
          <p:cNvCxnSpPr>
            <a:stCxn id="3893" idx="0"/>
            <a:endCxn id="3896" idx="0"/>
          </p:cNvCxnSpPr>
          <p:nvPr/>
        </p:nvCxnSpPr>
        <p:spPr>
          <a:xfrm>
            <a:off x="1214280" y="3681000"/>
            <a:ext cx="1547280" cy="540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cxnSp>
        <p:nvCxnSpPr>
          <p:cNvPr id="3898" name=""/>
          <p:cNvCxnSpPr>
            <a:stCxn id="3895" idx="0"/>
            <a:endCxn id="3894" idx="0"/>
          </p:cNvCxnSpPr>
          <p:nvPr/>
        </p:nvCxnSpPr>
        <p:spPr>
          <a:xfrm>
            <a:off x="2997360" y="3688920"/>
            <a:ext cx="1459440" cy="2520"/>
          </a:xfrm>
          <a:prstGeom prst="straightConnector1">
            <a:avLst/>
          </a:prstGeom>
          <a:ln w="12600">
            <a:solidFill>
              <a:srgbClr val="ffffcc"/>
            </a:solidFill>
            <a:miter/>
          </a:ln>
        </p:spPr>
      </p:cxnSp>
      <p:sp>
        <p:nvSpPr>
          <p:cNvPr id="3899" name=""/>
          <p:cNvSpPr/>
          <p:nvPr/>
        </p:nvSpPr>
        <p:spPr>
          <a:xfrm>
            <a:off x="600480" y="14907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570600" y="2284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47289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4743000" y="1467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03960" y="2111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04" name=""/>
          <p:cNvGrpSpPr/>
          <p:nvPr/>
        </p:nvGrpSpPr>
        <p:grpSpPr>
          <a:xfrm>
            <a:off x="5352120" y="984240"/>
            <a:ext cx="3723480" cy="2627280"/>
            <a:chOff x="5352120" y="984240"/>
            <a:chExt cx="3723480" cy="2627280"/>
          </a:xfrm>
        </p:grpSpPr>
        <p:sp>
          <p:nvSpPr>
            <p:cNvPr id="3905" name=""/>
            <p:cNvSpPr/>
            <p:nvPr/>
          </p:nvSpPr>
          <p:spPr>
            <a:xfrm>
              <a:off x="6491160" y="19368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>
              <a:off x="588600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V="1">
              <a:off x="55972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919840" y="16606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8735760" y="18590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H="1">
              <a:off x="8062560" y="26193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8074080" y="16606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H="1">
              <a:off x="6816240" y="18478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683400" y="18702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822168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978520" y="15415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84880" y="2370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288480" y="14382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6217200" y="23702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5352120" y="14414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407000" y="23702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8488080" y="14382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8449200" y="23702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539840" y="14414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6886800" y="984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6918480" y="2713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6958080" y="33022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7097760" y="31017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6521400" y="28130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H="1">
              <a:off x="7219800" y="28353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7737480" y="18921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6643440" y="14065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7142040" y="13845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72118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6769080" y="16830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624280" y="12258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342200" y="12416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7108920" y="13842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5194440" y="3741840"/>
            <a:ext cx="3916080" cy="2426760"/>
            <a:chOff x="5194440" y="3741840"/>
            <a:chExt cx="3916080" cy="2426760"/>
          </a:xfrm>
        </p:grpSpPr>
        <p:sp>
          <p:nvSpPr>
            <p:cNvPr id="3939" name=""/>
            <p:cNvSpPr/>
            <p:nvPr/>
          </p:nvSpPr>
          <p:spPr>
            <a:xfrm>
              <a:off x="5418000" y="5127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321240" y="419544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6250320" y="512748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385240" y="4198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440120" y="512748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521200" y="41954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482680" y="512748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572960" y="419868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919560" y="3741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6951240" y="5470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49" name=""/>
            <p:cNvCxnSpPr>
              <a:stCxn id="3943" idx="2"/>
              <a:endCxn id="3948" idx="3"/>
            </p:cNvCxnSpPr>
            <p:nvPr/>
          </p:nvCxnSpPr>
          <p:spPr>
            <a:xfrm rot="5400000">
              <a:off x="7531200" y="5458320"/>
              <a:ext cx="114480" cy="36720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0" name=""/>
            <p:cNvCxnSpPr>
              <a:stCxn id="3941" idx="2"/>
              <a:endCxn id="3948" idx="1"/>
            </p:cNvCxnSpPr>
            <p:nvPr/>
          </p:nvCxnSpPr>
          <p:spPr>
            <a:xfrm flipH="1" rot="16200000">
              <a:off x="6700680" y="5449320"/>
              <a:ext cx="114480" cy="3844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1" name=""/>
            <p:cNvCxnSpPr>
              <a:stCxn id="3943" idx="2"/>
              <a:endCxn id="3939" idx="2"/>
            </p:cNvCxnSpPr>
            <p:nvPr/>
          </p:nvCxnSpPr>
          <p:spPr>
            <a:xfrm rot="5400000">
              <a:off x="6707520" y="4521600"/>
              <a:ext cx="1800" cy="2127600"/>
            </a:xfrm>
            <a:prstGeom prst="curvedConnector5">
              <a:avLst>
                <a:gd name="adj1" fmla="val 33075000"/>
                <a:gd name="adj2" fmla="val 49991"/>
                <a:gd name="adj3" fmla="val 33075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2" name=""/>
            <p:cNvCxnSpPr>
              <a:stCxn id="3948" idx="0"/>
              <a:endCxn id="3940" idx="3"/>
            </p:cNvCxnSpPr>
            <p:nvPr/>
          </p:nvCxnSpPr>
          <p:spPr>
            <a:xfrm flipV="1" rot="16200000">
              <a:off x="6491160" y="4782960"/>
              <a:ext cx="1046520" cy="32724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953" name=""/>
            <p:cNvCxnSpPr>
              <a:stCxn id="3948" idx="0"/>
              <a:endCxn id="3945" idx="0"/>
            </p:cNvCxnSpPr>
            <p:nvPr/>
          </p:nvCxnSpPr>
          <p:spPr>
            <a:xfrm flipH="1" flipV="1" rot="5400000">
              <a:off x="7799760" y="4505040"/>
              <a:ext cx="342720" cy="1586520"/>
            </a:xfrm>
            <a:prstGeom prst="curvedConnector5">
              <a:avLst>
                <a:gd name="adj1" fmla="val 166771"/>
                <a:gd name="adj2" fmla="val 50000"/>
                <a:gd name="adj3" fmla="val 166771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954" name=""/>
            <p:cNvSpPr/>
            <p:nvPr/>
          </p:nvSpPr>
          <p:spPr>
            <a:xfrm>
              <a:off x="5194440" y="3841560"/>
              <a:ext cx="3916080" cy="23270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5731-94ED-4C72-B3EC-2FA66AD0494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T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570600" y="1411560"/>
            <a:ext cx="4644000" cy="2706480"/>
            <a:chOff x="570600" y="1411560"/>
            <a:chExt cx="4644000" cy="2706480"/>
          </a:xfrm>
        </p:grpSpPr>
        <p:grpSp>
          <p:nvGrpSpPr>
            <p:cNvPr id="3957" name=""/>
            <p:cNvGrpSpPr/>
            <p:nvPr/>
          </p:nvGrpSpPr>
          <p:grpSpPr>
            <a:xfrm>
              <a:off x="3413160" y="2017440"/>
              <a:ext cx="752400" cy="573120"/>
              <a:chOff x="3413160" y="2017440"/>
              <a:chExt cx="752400" cy="573120"/>
            </a:xfrm>
          </p:grpSpPr>
          <p:grpSp>
            <p:nvGrpSpPr>
              <p:cNvPr id="3958" name=""/>
              <p:cNvGrpSpPr/>
              <p:nvPr/>
            </p:nvGrpSpPr>
            <p:grpSpPr>
              <a:xfrm>
                <a:off x="3600360" y="2017440"/>
                <a:ext cx="565200" cy="573120"/>
                <a:chOff x="3600360" y="2017440"/>
                <a:chExt cx="565200" cy="573120"/>
              </a:xfrm>
            </p:grpSpPr>
            <p:sp>
              <p:nvSpPr>
                <p:cNvPr id="3959" name=""/>
                <p:cNvSpPr/>
                <p:nvPr/>
              </p:nvSpPr>
              <p:spPr>
                <a:xfrm>
                  <a:off x="3606840" y="202392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360036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1" name=""/>
              <p:cNvSpPr/>
              <p:nvPr/>
            </p:nvSpPr>
            <p:spPr>
              <a:xfrm>
                <a:off x="3413160" y="211284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3413160" y="249372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2017080" y="2781000"/>
              <a:ext cx="1715400" cy="1337040"/>
              <a:chOff x="2017080" y="2781000"/>
              <a:chExt cx="1715400" cy="1337040"/>
            </a:xfrm>
          </p:grpSpPr>
          <p:sp>
            <p:nvSpPr>
              <p:cNvPr id="3964" name=""/>
              <p:cNvSpPr/>
              <p:nvPr/>
            </p:nvSpPr>
            <p:spPr>
              <a:xfrm rot="5403000">
                <a:off x="1920960" y="2877840"/>
                <a:ext cx="133596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8" y="5416"/>
                    </a:moveTo>
                    <a:arcTo wR="10800" hR="10800" stAng="-9005713" swAng="359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8" y="5416"/>
                    </a:moveTo>
                    <a:arcTo wR="10800" hR="10800" stAng="-9005713" swAng="3597547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rot="16203000">
                <a:off x="2494080" y="2878200"/>
                <a:ext cx="1332720" cy="114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4" y="0"/>
                    </a:moveTo>
                    <a:arcTo wR="10800" hR="10800" stAng="-5408185" swAng="36299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4" y="0"/>
                    </a:moveTo>
                    <a:arcTo wR="10800" hR="10800" stAng="-5408185" swAng="3629923"/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rot="16203000">
                <a:off x="2780640" y="3171600"/>
                <a:ext cx="177840" cy="55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rot="16203000">
                <a:off x="2822040" y="3211200"/>
                <a:ext cx="96840" cy="57312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60" y="0"/>
                    </a:moveTo>
                    <a:lnTo>
                      <a:pt x="0" y="0"/>
                    </a:lnTo>
                    <a:lnTo>
                      <a:pt x="0" y="360"/>
                    </a:lnTo>
                    <a:lnTo>
                      <a:pt x="6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V="1">
              <a:off x="2871720" y="2689200"/>
              <a:ext cx="0" cy="18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rot="16203000">
              <a:off x="2830680" y="2790360"/>
              <a:ext cx="82440" cy="824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70" name=""/>
            <p:cNvGrpSpPr/>
            <p:nvPr/>
          </p:nvGrpSpPr>
          <p:grpSpPr>
            <a:xfrm>
              <a:off x="1582560" y="2017440"/>
              <a:ext cx="752400" cy="573120"/>
              <a:chOff x="1582560" y="2017440"/>
              <a:chExt cx="752400" cy="573120"/>
            </a:xfrm>
          </p:grpSpPr>
          <p:grpSp>
            <p:nvGrpSpPr>
              <p:cNvPr id="3971" name=""/>
              <p:cNvGrpSpPr/>
              <p:nvPr/>
            </p:nvGrpSpPr>
            <p:grpSpPr>
              <a:xfrm>
                <a:off x="1582560" y="2017440"/>
                <a:ext cx="565200" cy="573120"/>
                <a:chOff x="1582560" y="2017440"/>
                <a:chExt cx="565200" cy="573120"/>
              </a:xfrm>
            </p:grpSpPr>
            <p:sp>
              <p:nvSpPr>
                <p:cNvPr id="3972" name=""/>
                <p:cNvSpPr/>
                <p:nvPr/>
              </p:nvSpPr>
              <p:spPr>
                <a:xfrm rot="10800000">
                  <a:off x="1582560" y="2025360"/>
                  <a:ext cx="558720" cy="5587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0800000">
                  <a:off x="1860480" y="2017440"/>
                  <a:ext cx="287280" cy="573120"/>
                </a:xfrm>
                <a:custGeom>
                  <a:avLst/>
                  <a:gdLst/>
                  <a:ahLst/>
                  <a:rect l="l" t="t" r="r" b="b"/>
                  <a:pathLst>
                    <a:path w="181" h="361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60"/>
                      </a:lnTo>
                      <a:lnTo>
                        <a:pt x="180" y="36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4" name=""/>
              <p:cNvSpPr/>
              <p:nvPr/>
            </p:nvSpPr>
            <p:spPr>
              <a:xfrm flipH="1">
                <a:off x="2147760" y="249516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H="1">
                <a:off x="2147760" y="2114280"/>
                <a:ext cx="18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76" name=""/>
            <p:cNvGrpSpPr/>
            <p:nvPr/>
          </p:nvGrpSpPr>
          <p:grpSpPr>
            <a:xfrm>
              <a:off x="4110840" y="1411560"/>
              <a:ext cx="387000" cy="254880"/>
              <a:chOff x="4110840" y="1411560"/>
              <a:chExt cx="387000" cy="254880"/>
            </a:xfrm>
          </p:grpSpPr>
          <p:sp>
            <p:nvSpPr>
              <p:cNvPr id="3977" name=""/>
              <p:cNvSpPr/>
              <p:nvPr/>
            </p:nvSpPr>
            <p:spPr>
              <a:xfrm rot="16093800">
                <a:off x="4111560" y="1509480"/>
                <a:ext cx="63360" cy="633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rot="16093800">
                <a:off x="4200840" y="1368360"/>
                <a:ext cx="244440" cy="34128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cxnSp>
          <p:nvCxnSpPr>
            <p:cNvPr id="3979" name=""/>
            <p:cNvCxnSpPr/>
            <p:nvPr/>
          </p:nvCxnSpPr>
          <p:spPr>
            <a:xfrm>
              <a:off x="752040" y="1542960"/>
              <a:ext cx="110556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0" name=""/>
            <p:cNvCxnSpPr>
              <a:endCxn id="3973" idx="0"/>
            </p:cNvCxnSpPr>
            <p:nvPr/>
          </p:nvCxnSpPr>
          <p:spPr>
            <a:xfrm>
              <a:off x="1856880" y="154728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81" name=""/>
            <p:cNvSpPr/>
            <p:nvPr/>
          </p:nvSpPr>
          <p:spPr>
            <a:xfrm flipH="1">
              <a:off x="3375000" y="1547640"/>
              <a:ext cx="719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835280" y="1547640"/>
              <a:ext cx="498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83" name=""/>
            <p:cNvCxnSpPr>
              <a:stCxn id="3982" idx="0"/>
              <a:endCxn id="3961" idx="0"/>
            </p:cNvCxnSpPr>
            <p:nvPr/>
          </p:nvCxnSpPr>
          <p:spPr>
            <a:xfrm>
              <a:off x="2333160" y="1547640"/>
              <a:ext cx="1080360" cy="5659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4" name=""/>
            <p:cNvCxnSpPr>
              <a:stCxn id="3975" idx="0"/>
              <a:endCxn id="3981" idx="0"/>
            </p:cNvCxnSpPr>
            <p:nvPr/>
          </p:nvCxnSpPr>
          <p:spPr>
            <a:xfrm flipV="1">
              <a:off x="2333160" y="1547280"/>
              <a:ext cx="1043640" cy="5673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5" name=""/>
            <p:cNvCxnSpPr>
              <a:stCxn id="3974" idx="0"/>
              <a:endCxn id="3962" idx="0"/>
            </p:cNvCxnSpPr>
            <p:nvPr/>
          </p:nvCxnSpPr>
          <p:spPr>
            <a:xfrm flipV="1">
              <a:off x="2333160" y="2493000"/>
              <a:ext cx="1080360" cy="2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86" name=""/>
            <p:cNvSpPr/>
            <p:nvPr/>
          </p:nvSpPr>
          <p:spPr>
            <a:xfrm flipV="1">
              <a:off x="2876400" y="2506680"/>
              <a:ext cx="0" cy="188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87" name=""/>
            <p:cNvCxnSpPr/>
            <p:nvPr/>
          </p:nvCxnSpPr>
          <p:spPr>
            <a:xfrm>
              <a:off x="3885840" y="1539360"/>
              <a:ext cx="1080" cy="47052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88" name=""/>
            <p:cNvCxnSpPr>
              <a:stCxn id="3959" idx="6"/>
            </p:cNvCxnSpPr>
            <p:nvPr/>
          </p:nvCxnSpPr>
          <p:spPr>
            <a:xfrm>
              <a:off x="4165200" y="2303280"/>
              <a:ext cx="926280" cy="72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989" name=""/>
            <p:cNvCxnSpPr>
              <a:endCxn id="3972" idx="6"/>
            </p:cNvCxnSpPr>
            <p:nvPr/>
          </p:nvCxnSpPr>
          <p:spPr>
            <a:xfrm>
              <a:off x="752040" y="2293920"/>
              <a:ext cx="826200" cy="864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</p:cxnSp>
        <p:cxnSp>
          <p:nvCxnSpPr>
            <p:cNvPr id="3990" name=""/>
            <p:cNvCxnSpPr>
              <a:stCxn id="3978" idx="3"/>
            </p:cNvCxnSpPr>
            <p:nvPr/>
          </p:nvCxnSpPr>
          <p:spPr>
            <a:xfrm>
              <a:off x="4490640" y="1533600"/>
              <a:ext cx="578520" cy="36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91" name=""/>
            <p:cNvSpPr/>
            <p:nvPr/>
          </p:nvSpPr>
          <p:spPr>
            <a:xfrm>
              <a:off x="1214280" y="230976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456080" y="2319120"/>
              <a:ext cx="0" cy="1360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997360" y="3346200"/>
              <a:ext cx="0" cy="331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760840" y="3343320"/>
              <a:ext cx="0" cy="331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995" name=""/>
            <p:cNvCxnSpPr>
              <a:stCxn id="3991" idx="0"/>
              <a:endCxn id="3994" idx="0"/>
            </p:cNvCxnSpPr>
            <p:nvPr/>
          </p:nvCxnSpPr>
          <p:spPr>
            <a:xfrm>
              <a:off x="1214280" y="3668400"/>
              <a:ext cx="1547280" cy="540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cxnSp>
          <p:nvCxnSpPr>
            <p:cNvPr id="3996" name=""/>
            <p:cNvCxnSpPr>
              <a:stCxn id="3993" idx="0"/>
              <a:endCxn id="3992" idx="0"/>
            </p:cNvCxnSpPr>
            <p:nvPr/>
          </p:nvCxnSpPr>
          <p:spPr>
            <a:xfrm>
              <a:off x="2997360" y="3676680"/>
              <a:ext cx="1459440" cy="2160"/>
            </a:xfrm>
            <a:prstGeom prst="straightConnector1">
              <a:avLst/>
            </a:prstGeom>
            <a:ln w="12600">
              <a:solidFill>
                <a:srgbClr val="ffffcc"/>
              </a:solidFill>
              <a:miter/>
            </a:ln>
          </p:spPr>
        </p:cxnSp>
        <p:sp>
          <p:nvSpPr>
            <p:cNvPr id="3997" name=""/>
            <p:cNvSpPr/>
            <p:nvPr/>
          </p:nvSpPr>
          <p:spPr>
            <a:xfrm>
              <a:off x="600480" y="14778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70600" y="2271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4728960" y="2263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4743000" y="14540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703960" y="209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5352120" y="971640"/>
            <a:ext cx="3723480" cy="2627280"/>
            <a:chOff x="5352120" y="971640"/>
            <a:chExt cx="3723480" cy="2627280"/>
          </a:xfrm>
        </p:grpSpPr>
        <p:sp>
          <p:nvSpPr>
            <p:cNvPr id="4003" name=""/>
            <p:cNvSpPr/>
            <p:nvPr/>
          </p:nvSpPr>
          <p:spPr>
            <a:xfrm>
              <a:off x="6491160" y="1924200"/>
              <a:ext cx="0" cy="433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588600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V="1">
              <a:off x="55972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919840" y="1648080"/>
              <a:ext cx="3981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8735760" y="1846440"/>
              <a:ext cx="0" cy="511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8062560" y="2606760"/>
              <a:ext cx="353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8074080" y="1648080"/>
              <a:ext cx="431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6816240" y="1835280"/>
              <a:ext cx="738360" cy="65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683400" y="1857600"/>
              <a:ext cx="771480" cy="633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822168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978520" y="152892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384880" y="23576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288480" y="142560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217200" y="2357640"/>
              <a:ext cx="6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352120" y="14288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l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407000" y="235764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8488080" y="14256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o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8449200" y="235764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7539840" y="14288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c66"/>
                  </a:solidFill>
                  <a:latin typeface="Arial"/>
                </a:rPr>
                <a:t>ri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6886800" y="9716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918480" y="2700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6958080" y="3289680"/>
              <a:ext cx="309240" cy="309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Arial"/>
                </a:rPr>
                <a:t>OR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7097760" y="3089160"/>
              <a:ext cx="0" cy="1983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521400" y="2800440"/>
              <a:ext cx="476280" cy="5428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7219800" y="2822760"/>
              <a:ext cx="409680" cy="5097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7737480" y="1879560"/>
              <a:ext cx="0" cy="477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6643440" y="1393920"/>
              <a:ext cx="387360" cy="9637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142040" y="1371960"/>
              <a:ext cx="465120" cy="98568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2118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6769080" y="1670400"/>
              <a:ext cx="204840" cy="214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624280" y="1213200"/>
              <a:ext cx="1317960" cy="303120"/>
            </a:xfrm>
            <a:custGeom>
              <a:avLst/>
              <a:gdLst/>
              <a:ahLst/>
              <a:rect l="l" t="t" r="r" b="b"/>
              <a:pathLst>
                <a:path w="830" h="191">
                  <a:moveTo>
                    <a:pt x="0" y="191"/>
                  </a:moveTo>
                  <a:cubicBezTo>
                    <a:pt x="25" y="125"/>
                    <a:pt x="51" y="60"/>
                    <a:pt x="189" y="30"/>
                  </a:cubicBezTo>
                  <a:cubicBezTo>
                    <a:pt x="327" y="0"/>
                    <a:pt x="799" y="2"/>
                    <a:pt x="830" y="1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342200" y="1229040"/>
              <a:ext cx="1373040" cy="287280"/>
            </a:xfrm>
            <a:custGeom>
              <a:avLst/>
              <a:gdLst/>
              <a:ahLst/>
              <a:rect l="l" t="t" r="r" b="b"/>
              <a:pathLst>
                <a:path w="865" h="181">
                  <a:moveTo>
                    <a:pt x="865" y="181"/>
                  </a:moveTo>
                  <a:cubicBezTo>
                    <a:pt x="863" y="122"/>
                    <a:pt x="862" y="64"/>
                    <a:pt x="718" y="34"/>
                  </a:cubicBezTo>
                  <a:cubicBezTo>
                    <a:pt x="574" y="4"/>
                    <a:pt x="120" y="7"/>
                    <a:pt x="0" y="0"/>
                  </a:cubicBezTo>
                </a:path>
              </a:pathLst>
            </a:custGeom>
            <a:noFill/>
            <a:ln w="12600">
              <a:solidFill>
                <a:srgbClr val="ff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V="1">
              <a:off x="7108920" y="1371600"/>
              <a:ext cx="0" cy="14065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36" name=""/>
          <p:cNvSpPr/>
          <p:nvPr/>
        </p:nvSpPr>
        <p:spPr>
          <a:xfrm>
            <a:off x="5418360" y="51148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321600" y="418320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6250680" y="511488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5385600" y="4186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7440480" y="51148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8521560" y="4183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8482680" y="51148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7573320" y="4186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ri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6920280" y="372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951600" y="5457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ff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046" name=""/>
          <p:cNvCxnSpPr>
            <a:stCxn id="4045" idx="0"/>
            <a:endCxn id="4042" idx="0"/>
          </p:cNvCxnSpPr>
          <p:nvPr/>
        </p:nvCxnSpPr>
        <p:spPr>
          <a:xfrm flipH="1" flipV="1" rot="5400000">
            <a:off x="7799760" y="4492800"/>
            <a:ext cx="343800" cy="1586520"/>
          </a:xfrm>
          <a:prstGeom prst="curvedConnector5">
            <a:avLst>
              <a:gd name="adj1" fmla="val 166666"/>
              <a:gd name="adj2" fmla="val 50000"/>
              <a:gd name="adj3" fmla="val 16666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47" name=""/>
          <p:cNvSpPr/>
          <p:nvPr/>
        </p:nvSpPr>
        <p:spPr>
          <a:xfrm>
            <a:off x="5194440" y="3828960"/>
            <a:ext cx="3916080" cy="2327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-34920" y="4194000"/>
            <a:ext cx="275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satisfy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ain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-36360" y="4826160"/>
            <a:ext cx="54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lay(</a:t>
            </a:r>
            <a:r>
              <a:rPr b="0" i="1" lang="en-US" sz="1800" spc="-1" strike="noStrike">
                <a:solidFill>
                  <a:srgbClr val="ffffcc"/>
                </a:solidFill>
                <a:latin typeface="Arial"/>
              </a:rPr>
              <a:t>l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) + Delay(</a:t>
            </a:r>
            <a:r>
              <a:rPr b="0" i="1" lang="en-US" sz="1800" spc="-1" strike="noStrike">
                <a:solidFill>
                  <a:srgbClr val="ff99ff"/>
                </a:solidFill>
                <a:latin typeface="Arial"/>
              </a:rPr>
              <a:t>x-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&lt; Delay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o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 + Delay (</a:t>
            </a:r>
            <a:r>
              <a:rPr b="0" i="1" lang="en-US" sz="1800" spc="-1" strike="noStrike">
                <a:solidFill>
                  <a:srgbClr val="ffcc66"/>
                </a:solidFill>
                <a:latin typeface="Arial"/>
              </a:rPr>
              <a:t>ri+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0" y="5465880"/>
            <a:ext cx="540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ll constraints are either satisfied by default 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asy to satisfy by sizing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8EF1-77B2-4BEC-A28A-D436E191D65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Other synthesis paradigms: outlin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HDL (Verilog) [Lavagno et al, Async00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ubset for asynchronous 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ata-path/control partitio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ircuit architecture. Control gener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ynthesis from asynchronous HDL (CSP, Tangra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SP for control generation [A. Martin et al, 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angram for silicon compilation [K. van Berkel et al, 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trol synthesis using FSMs [K. Yun, S. Nowick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urst-mode mach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ison with ST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2EB8-0573-4792-928E-2C27410D1F3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anguage-based design key enabler to synchronous logic su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HDL as single language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gic simulation and debug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t-layout sim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DL must support multiple levels of abs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AEA7-DCCD-430C-BE2D-B04C58D9BEE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"/>
          <p:cNvSpPr/>
          <p:nvPr/>
        </p:nvSpPr>
        <p:spPr>
          <a:xfrm>
            <a:off x="685800" y="1219320"/>
            <a:ext cx="77724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litting of asynchronous control and synchronous data pa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omated insertion of bundling del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828800" y="3181320"/>
            <a:ext cx="129528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U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5638680" y="3181320"/>
            <a:ext cx="1295640" cy="152388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5791320" y="4933800"/>
            <a:ext cx="990360" cy="53352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124080" y="3562200"/>
            <a:ext cx="25146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4648320" y="3562200"/>
            <a:ext cx="0" cy="1676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648320" y="5238720"/>
            <a:ext cx="11430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781680" y="523872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 flipH="1">
            <a:off x="3733560" y="5772240"/>
            <a:ext cx="37335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3733920" y="4324320"/>
            <a:ext cx="0" cy="14479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 flipH="1">
            <a:off x="3124080" y="43243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 flipV="1">
            <a:off x="7467480" y="5238720"/>
            <a:ext cx="0" cy="5335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3660120" y="3180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4651560" y="577188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cknowledg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rol-data partitio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1716-9312-47F8-A43C-609E6867091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2743200" y="228600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/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lit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304920" y="32767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ro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886200" y="1828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H="1">
            <a:off x="1676160" y="2666880"/>
            <a:ext cx="1066680" cy="609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175248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2438280" y="91440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5867280" y="21337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z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 (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685800" y="4648320"/>
            <a:ext cx="21337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petrif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4876920" y="259092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6248520" y="4648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ing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7391520" y="4191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943600" y="5791320"/>
            <a:ext cx="281952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6248520" y="3505320"/>
            <a:ext cx="213336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ynopsy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7391520" y="3048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739152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 flipH="1">
            <a:off x="5715000" y="4952880"/>
            <a:ext cx="533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04920" y="5791320"/>
            <a:ext cx="281916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1752480" y="5334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3581280" y="5867280"/>
            <a:ext cx="19051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3657600" y="4495680"/>
            <a:ext cx="20574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c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548640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124080" y="6248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8E3C-0004-4A4E-9D87-E720F457455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lobal acknowled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294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8760" y="2637000"/>
            <a:ext cx="3208320" cy="3399120"/>
            <a:chOff x="3488760" y="2637000"/>
            <a:chExt cx="3208320" cy="3399120"/>
          </a:xfrm>
        </p:grpSpPr>
        <p:grpSp>
          <p:nvGrpSpPr>
            <p:cNvPr id="249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4037040" y="2743200"/>
                <a:ext cx="2070000" cy="1373040"/>
                <a:chOff x="4037040" y="2743200"/>
                <a:chExt cx="2070000" cy="137304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491000" y="2743200"/>
                  <a:ext cx="1616040" cy="1373040"/>
                  <a:chOff x="4491000" y="2743200"/>
                  <a:chExt cx="1616040" cy="137304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4491000" y="2743200"/>
                    <a:ext cx="1365120" cy="1373040"/>
                    <a:chOff x="4491000" y="2743200"/>
                    <a:chExt cx="1365120" cy="137304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4974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4910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5" name=""/>
                  <p:cNvSpPr/>
                  <p:nvPr/>
                </p:nvSpPr>
                <p:spPr>
                  <a:xfrm>
                    <a:off x="58672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40370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370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037040" y="3429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037040" y="4572000"/>
                <a:ext cx="2070000" cy="1373040"/>
                <a:chOff x="4037040" y="4572000"/>
                <a:chExt cx="2070000" cy="1373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491000" y="4572000"/>
                  <a:ext cx="1616040" cy="1373040"/>
                  <a:chOff x="4491000" y="4572000"/>
                  <a:chExt cx="1616040" cy="137304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4491000" y="4572000"/>
                    <a:ext cx="1365120" cy="1373040"/>
                    <a:chOff x="4491000" y="4572000"/>
                    <a:chExt cx="1365120" cy="137304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497480" y="45784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491000" y="45720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5867280" y="52434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4037040" y="48006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037040" y="57150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037040" y="5257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488760" y="36273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88760" y="3170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2637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31960" y="30942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8760" y="44658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88760" y="4998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88760" y="5456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07920" y="4923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278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09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A0A6-E5A8-4026-BBC8-2280E36C13A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synchronous Verilog subset by exampl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4057560" y="1257480"/>
            <a:ext cx="52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lway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 = SMP * 3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RES = SMP * 4 + 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7] == 1) RES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lse 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if(RES[6] == 1) RES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wait(!star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done = 0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3716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2743200" y="2514600"/>
            <a:ext cx="304920" cy="685800"/>
          </a:xfrm>
          <a:prstGeom prst="rect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13716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2057400" y="2666880"/>
            <a:ext cx="304920" cy="304920"/>
          </a:xfrm>
          <a:prstGeom prst="flowChartOr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2057400" y="1752480"/>
            <a:ext cx="304920" cy="30492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2209680" y="2057400"/>
            <a:ext cx="0" cy="6094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523880" y="2057400"/>
            <a:ext cx="0" cy="4572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2096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1523880" y="1447920"/>
            <a:ext cx="0" cy="3045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16765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 flipH="1">
            <a:off x="990720" y="1447920"/>
            <a:ext cx="12189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1219320" y="1295280"/>
            <a:ext cx="1981080" cy="2971800"/>
          </a:xfrm>
          <a:prstGeom prst="rect">
            <a:avLst/>
          </a:prstGeom>
          <a:noFill/>
          <a:ln w="2844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 flipV="1">
            <a:off x="838080" y="3657600"/>
            <a:ext cx="106704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2514600" y="3657600"/>
            <a:ext cx="1066680" cy="158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382320" y="12949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M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3505320" y="35049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28600" y="3504960"/>
            <a:ext cx="6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506040" y="266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33"/>
                </a:solidFill>
                <a:latin typeface="Arial"/>
              </a:rPr>
              <a:t>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1905120" y="3352680"/>
            <a:ext cx="609480" cy="685800"/>
          </a:xfrm>
          <a:prstGeom prst="rect">
            <a:avLst/>
          </a:prstGeom>
          <a:solidFill>
            <a:srgbClr val="ffcc66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C.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28954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 flipV="1">
            <a:off x="1523880" y="320004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2514600" y="3505320"/>
            <a:ext cx="38088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1523880" y="3505320"/>
            <a:ext cx="381240" cy="0"/>
          </a:xfrm>
          <a:prstGeom prst="line">
            <a:avLst/>
          </a:prstGeom>
          <a:ln w="1260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875880" y="5524560"/>
            <a:ext cx="7658280" cy="549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begin-end for sequencing, fork-join for concurrency, if-else for input choi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nly structured mix of sequencing, concurrency and choice can be specifie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9A3F-D6B9-42DB-81EF-CC0636392EE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ynthesis from asynchronous HD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based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SP = communicating sequential processes [Hoare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synthesis techn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program transformations [Caltech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ed on direct compilation [Philips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s are more mature than for asynchronous synthesis from standard H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shift in design methodology is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B8E8-7B30-4FE5-ADC0-3527F083FF0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3698640" y="1128240"/>
            <a:ext cx="514332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li goes high do full handshake at the right, then complete handshake at the left and iter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10699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21366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32036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42703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533700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640404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7470720" y="3143160"/>
            <a:ext cx="5302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593640" y="2909880"/>
            <a:ext cx="55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1584360" y="2909880"/>
            <a:ext cx="70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651040" y="2909880"/>
            <a:ext cx="59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3718080" y="2909880"/>
            <a:ext cx="62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4784400" y="2909880"/>
            <a:ext cx="50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r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927760" y="2909880"/>
            <a:ext cx="66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6918480" y="2909880"/>
            <a:ext cx="46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i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8061480" y="290988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lo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41" name=""/>
          <p:cNvGrpSpPr/>
          <p:nvPr/>
        </p:nvGrpSpPr>
        <p:grpSpPr>
          <a:xfrm>
            <a:off x="231840" y="3147840"/>
            <a:ext cx="763560" cy="609480"/>
            <a:chOff x="231840" y="3147840"/>
            <a:chExt cx="763560" cy="609480"/>
          </a:xfrm>
        </p:grpSpPr>
        <p:sp>
          <p:nvSpPr>
            <p:cNvPr id="4142" name=""/>
            <p:cNvSpPr/>
            <p:nvPr/>
          </p:nvSpPr>
          <p:spPr>
            <a:xfrm>
              <a:off x="233280" y="3147840"/>
              <a:ext cx="762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rot="10800000">
              <a:off x="231840" y="3147840"/>
              <a:ext cx="7617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44" name=""/>
          <p:cNvGrpSpPr/>
          <p:nvPr/>
        </p:nvGrpSpPr>
        <p:grpSpPr>
          <a:xfrm>
            <a:off x="8154000" y="3147840"/>
            <a:ext cx="766080" cy="609480"/>
            <a:chOff x="8154000" y="3147840"/>
            <a:chExt cx="766080" cy="609480"/>
          </a:xfrm>
        </p:grpSpPr>
        <p:sp>
          <p:nvSpPr>
            <p:cNvPr id="4145" name=""/>
            <p:cNvSpPr/>
            <p:nvPr/>
          </p:nvSpPr>
          <p:spPr>
            <a:xfrm>
              <a:off x="8154000" y="3147840"/>
              <a:ext cx="761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 rot="10800000">
              <a:off x="8158680" y="3147840"/>
              <a:ext cx="761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47" name=""/>
          <p:cNvSpPr/>
          <p:nvPr/>
        </p:nvSpPr>
        <p:spPr>
          <a:xfrm>
            <a:off x="127080" y="3333600"/>
            <a:ext cx="216000" cy="216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65428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55872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4788000" y="3024360"/>
            <a:ext cx="520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6908760" y="2976480"/>
            <a:ext cx="5209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1560600" y="143352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018960" y="1467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3055680" y="192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r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 flipH="1">
            <a:off x="2597040" y="2238480"/>
            <a:ext cx="663840" cy="1908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2597040" y="1757520"/>
            <a:ext cx="66384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1216080" y="1757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 flipH="1">
            <a:off x="1215720" y="225756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765360" y="15573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753840" y="20574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1583640" y="176688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 flipH="1">
            <a:off x="590400" y="3746520"/>
            <a:ext cx="796320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25092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1632600" y="3879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441360" y="451944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” = sequencing op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+ = ro goes high; ro- = ro goe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[li] = wait until li is high; [not li] = wait until li is 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252720" y="38941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290880" y="2560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1914480" y="2252520"/>
            <a:ext cx="34452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16DC-2DAC-43CA-B961-1CE9B24741C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CSP for control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1632600" y="1365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ro-;[not ri];lo+;[not li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441360" y="4424400"/>
            <a:ext cx="8458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flict: ro+ and ro- are not mutually exclusive (since ri+ and li+ are no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iminate conflict by state signal insertion (= CS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185400" y="234648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i -&gt; ro+; r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ri -&gt; lo+; not l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6502320" y="241128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6502320" y="3116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426360" y="2563920"/>
            <a:ext cx="75960" cy="7596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6845400" y="2957400"/>
            <a:ext cx="6350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6743880" y="36846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80" name=""/>
          <p:cNvGrpSpPr/>
          <p:nvPr/>
        </p:nvGrpSpPr>
        <p:grpSpPr>
          <a:xfrm>
            <a:off x="6807240" y="2030400"/>
            <a:ext cx="152280" cy="152280"/>
            <a:chOff x="6807240" y="2030400"/>
            <a:chExt cx="152280" cy="152280"/>
          </a:xfrm>
        </p:grpSpPr>
        <p:sp>
          <p:nvSpPr>
            <p:cNvPr id="4181" name=""/>
            <p:cNvSpPr/>
            <p:nvPr/>
          </p:nvSpPr>
          <p:spPr>
            <a:xfrm>
              <a:off x="6807240" y="210672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883200" y="203040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83" name=""/>
          <p:cNvSpPr/>
          <p:nvPr/>
        </p:nvSpPr>
        <p:spPr>
          <a:xfrm flipH="1">
            <a:off x="6216480" y="3324240"/>
            <a:ext cx="28584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 flipH="1">
            <a:off x="6121080" y="260352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85" name=""/>
          <p:cNvGrpSpPr/>
          <p:nvPr/>
        </p:nvGrpSpPr>
        <p:grpSpPr>
          <a:xfrm>
            <a:off x="7461360" y="2781360"/>
            <a:ext cx="806040" cy="328680"/>
            <a:chOff x="7461360" y="2781360"/>
            <a:chExt cx="806040" cy="328680"/>
          </a:xfrm>
        </p:grpSpPr>
        <p:sp>
          <p:nvSpPr>
            <p:cNvPr id="4186" name=""/>
            <p:cNvSpPr/>
            <p:nvPr/>
          </p:nvSpPr>
          <p:spPr>
            <a:xfrm rot="5400000">
              <a:off x="7632360" y="2784960"/>
              <a:ext cx="328680" cy="3214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979400" y="2901960"/>
              <a:ext cx="10260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8089200" y="2954520"/>
              <a:ext cx="178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7461360" y="2954520"/>
              <a:ext cx="178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0" name=""/>
          <p:cNvSpPr/>
          <p:nvPr/>
        </p:nvSpPr>
        <p:spPr>
          <a:xfrm>
            <a:off x="5337720" y="215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91" name=""/>
          <p:cNvGrpSpPr/>
          <p:nvPr/>
        </p:nvGrpSpPr>
        <p:grpSpPr>
          <a:xfrm>
            <a:off x="7467120" y="2304720"/>
            <a:ext cx="723960" cy="328680"/>
            <a:chOff x="7467120" y="2304720"/>
            <a:chExt cx="723960" cy="328680"/>
          </a:xfrm>
        </p:grpSpPr>
        <p:sp>
          <p:nvSpPr>
            <p:cNvPr id="4192" name=""/>
            <p:cNvSpPr/>
            <p:nvPr/>
          </p:nvSpPr>
          <p:spPr>
            <a:xfrm rot="16199400">
              <a:off x="7724880" y="232452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 rot="10799400">
              <a:off x="7633440" y="2420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H="1">
              <a:off x="7467120" y="24602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8030520" y="24602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6" name=""/>
          <p:cNvSpPr/>
          <p:nvPr/>
        </p:nvSpPr>
        <p:spPr>
          <a:xfrm>
            <a:off x="8178840" y="2944800"/>
            <a:ext cx="660240" cy="126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8191440" y="243828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7448400" y="2457360"/>
            <a:ext cx="0" cy="500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718600" y="3070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8443800" y="2500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7529400" y="1908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43360" y="2647800"/>
            <a:ext cx="60984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4" name=""/>
          <p:cNvGrpSpPr/>
          <p:nvPr/>
        </p:nvGrpSpPr>
        <p:grpSpPr>
          <a:xfrm>
            <a:off x="5543640" y="2438280"/>
            <a:ext cx="723960" cy="328680"/>
            <a:chOff x="5543640" y="2438280"/>
            <a:chExt cx="723960" cy="328680"/>
          </a:xfrm>
        </p:grpSpPr>
        <p:sp>
          <p:nvSpPr>
            <p:cNvPr id="4205" name=""/>
            <p:cNvSpPr/>
            <p:nvPr/>
          </p:nvSpPr>
          <p:spPr>
            <a:xfrm rot="5400000">
              <a:off x="5680800" y="24580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008760" y="25588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07400" y="26114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543640" y="26114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 flipV="1">
            <a:off x="6591240" y="3130560"/>
            <a:ext cx="0" cy="357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 flipV="1">
            <a:off x="6842160" y="2777760"/>
            <a:ext cx="3240" cy="358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 flipV="1">
            <a:off x="6591240" y="2428560"/>
            <a:ext cx="0" cy="352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6591240" y="3127320"/>
            <a:ext cx="254160" cy="6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 flipV="1">
            <a:off x="6591240" y="3486240"/>
            <a:ext cx="2383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6591240" y="2782800"/>
            <a:ext cx="2541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6591240" y="2430360"/>
            <a:ext cx="257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 flipH="1">
            <a:off x="6813720" y="3473280"/>
            <a:ext cx="2880" cy="203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6845400" y="2235240"/>
            <a:ext cx="3240" cy="2095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7126-4FEA-4E7A-B29D-0CD180487F1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flict elimin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250920" y="14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963720" y="136512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*[[li];ro+;[ri];x+;[x];ro-;[not ri];lo+;[not li];x-;[not x];lo-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52720" y="1379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S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84680" y="2346480"/>
            <a:ext cx="606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duction rul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x and li -&gt; ro+; x or not li -&gt; r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x and not ri -&gt; lo+; not x or ri -&gt; l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i -&gt; x+; not li -&gt; 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3219480" y="2000160"/>
            <a:ext cx="66672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3762360" y="4273560"/>
            <a:ext cx="609480" cy="65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521480" y="3956040"/>
            <a:ext cx="542880" cy="588960"/>
          </a:xfrm>
          <a:prstGeom prst="flowChartDelay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7365960" y="4440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27" name=""/>
          <p:cNvGrpSpPr/>
          <p:nvPr/>
        </p:nvGrpSpPr>
        <p:grpSpPr>
          <a:xfrm>
            <a:off x="5567400" y="5222880"/>
            <a:ext cx="658800" cy="588960"/>
            <a:chOff x="5567400" y="5222880"/>
            <a:chExt cx="658800" cy="588960"/>
          </a:xfrm>
        </p:grpSpPr>
        <p:sp>
          <p:nvSpPr>
            <p:cNvPr id="4228" name=""/>
            <p:cNvSpPr/>
            <p:nvPr/>
          </p:nvSpPr>
          <p:spPr>
            <a:xfrm rot="10800000">
              <a:off x="5567400" y="52228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 rot="10800000">
              <a:off x="6110280" y="55926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30" name=""/>
          <p:cNvSpPr/>
          <p:nvPr/>
        </p:nvSpPr>
        <p:spPr>
          <a:xfrm flipH="1" flipV="1">
            <a:off x="5403600" y="5535720"/>
            <a:ext cx="168120" cy="1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7365960" y="411624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6505560" y="4572000"/>
            <a:ext cx="600120" cy="7430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233" name=""/>
          <p:cNvCxnSpPr>
            <a:stCxn id="4232" idx="3"/>
            <a:endCxn id="4226" idx="0"/>
          </p:cNvCxnSpPr>
          <p:nvPr/>
        </p:nvCxnSpPr>
        <p:spPr>
          <a:xfrm flipV="1">
            <a:off x="7105320" y="4430520"/>
            <a:ext cx="261000" cy="513360"/>
          </a:xfrm>
          <a:prstGeom prst="bentConnector4">
            <a:avLst>
              <a:gd name="adj1" fmla="val 93232"/>
              <a:gd name="adj2" fmla="val 97824"/>
            </a:avLst>
          </a:prstGeom>
          <a:ln w="12600">
            <a:solidFill>
              <a:srgbClr val="ffffcc"/>
            </a:solidFill>
            <a:miter/>
          </a:ln>
        </p:spPr>
      </p:cxnSp>
      <p:sp>
        <p:nvSpPr>
          <p:cNvPr id="4234" name=""/>
          <p:cNvSpPr/>
          <p:nvPr/>
        </p:nvSpPr>
        <p:spPr>
          <a:xfrm>
            <a:off x="6105600" y="53830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6315120" y="4954680"/>
            <a:ext cx="19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305400" y="4962600"/>
            <a:ext cx="0" cy="411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210360" y="5648400"/>
            <a:ext cx="2400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5477040" y="4105440"/>
            <a:ext cx="1914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048520" y="4260960"/>
            <a:ext cx="552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6819840" y="410544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6810480" y="5326200"/>
            <a:ext cx="0" cy="322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6062760" y="456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7309800" y="45752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204160" y="4013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76440" y="5051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8287560" y="5191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8288280" y="3849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B5EF-5562-4760-B7A4-50A7E702FA3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ffer example in Tangr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233960" y="1028880"/>
            <a:ext cx="3624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(a?byte &amp; b!byt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x0: var by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| forever 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a?x0 ; b!x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179360" y="114768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V="1">
            <a:off x="2216160" y="1700280"/>
            <a:ext cx="419040" cy="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835200" y="171468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1334880" y="1530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54" name=""/>
          <p:cNvGrpSpPr/>
          <p:nvPr/>
        </p:nvGrpSpPr>
        <p:grpSpPr>
          <a:xfrm>
            <a:off x="1900080" y="3600360"/>
            <a:ext cx="409680" cy="459720"/>
            <a:chOff x="1900080" y="3600360"/>
            <a:chExt cx="409680" cy="459720"/>
          </a:xfrm>
        </p:grpSpPr>
        <p:sp>
          <p:nvSpPr>
            <p:cNvPr id="4255" name=""/>
            <p:cNvSpPr/>
            <p:nvPr/>
          </p:nvSpPr>
          <p:spPr>
            <a:xfrm flipV="1">
              <a:off x="1900080" y="36003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970280" y="3600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1922400" y="5366520"/>
            <a:ext cx="409680" cy="410400"/>
            <a:chOff x="1922400" y="5366520"/>
            <a:chExt cx="409680" cy="410400"/>
          </a:xfrm>
        </p:grpSpPr>
        <p:sp>
          <p:nvSpPr>
            <p:cNvPr id="4258" name=""/>
            <p:cNvSpPr/>
            <p:nvPr/>
          </p:nvSpPr>
          <p:spPr>
            <a:xfrm flipV="1">
              <a:off x="192240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998720" y="536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60" name=""/>
          <p:cNvSpPr/>
          <p:nvPr/>
        </p:nvSpPr>
        <p:spPr>
          <a:xfrm>
            <a:off x="393840" y="5338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3595680" y="53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62" name=""/>
          <p:cNvGrpSpPr/>
          <p:nvPr/>
        </p:nvGrpSpPr>
        <p:grpSpPr>
          <a:xfrm>
            <a:off x="1139760" y="5367240"/>
            <a:ext cx="436320" cy="459720"/>
            <a:chOff x="1139760" y="5367240"/>
            <a:chExt cx="436320" cy="459720"/>
          </a:xfrm>
        </p:grpSpPr>
        <p:sp>
          <p:nvSpPr>
            <p:cNvPr id="4263" name=""/>
            <p:cNvSpPr/>
            <p:nvPr/>
          </p:nvSpPr>
          <p:spPr>
            <a:xfrm flipV="1">
              <a:off x="1139760" y="536724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209600" y="5367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65" name=""/>
          <p:cNvSpPr/>
          <p:nvPr/>
        </p:nvSpPr>
        <p:spPr>
          <a:xfrm flipV="1">
            <a:off x="1908000" y="4438080"/>
            <a:ext cx="409680" cy="4093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971360" y="4381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67" name=""/>
          <p:cNvGrpSpPr/>
          <p:nvPr/>
        </p:nvGrpSpPr>
        <p:grpSpPr>
          <a:xfrm>
            <a:off x="2727360" y="5376960"/>
            <a:ext cx="436320" cy="459720"/>
            <a:chOff x="2727360" y="5376960"/>
            <a:chExt cx="436320" cy="459720"/>
          </a:xfrm>
        </p:grpSpPr>
        <p:sp>
          <p:nvSpPr>
            <p:cNvPr id="4268" name=""/>
            <p:cNvSpPr/>
            <p:nvPr/>
          </p:nvSpPr>
          <p:spPr>
            <a:xfrm flipV="1">
              <a:off x="2727360" y="5376960"/>
              <a:ext cx="409680" cy="4096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797200" y="5376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70" name=""/>
          <p:cNvSpPr/>
          <p:nvPr/>
        </p:nvSpPr>
        <p:spPr>
          <a:xfrm>
            <a:off x="714240" y="558972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flipV="1">
            <a:off x="3160800" y="5582880"/>
            <a:ext cx="41904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444600" y="14684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2646360" y="1504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106720" y="4006800"/>
            <a:ext cx="0" cy="3794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544760" y="5573880"/>
            <a:ext cx="303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411280" y="5568840"/>
            <a:ext cx="236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101680" y="3135240"/>
            <a:ext cx="0" cy="370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 flipH="1">
            <a:off x="1447560" y="4800600"/>
            <a:ext cx="561960" cy="5097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2236680" y="4805280"/>
            <a:ext cx="554040" cy="54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05740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2048040" y="351792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371600" y="52992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71360" y="363204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752560" y="5327640"/>
            <a:ext cx="10512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048040" y="43527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15336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2638440" y="552456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3133800" y="55245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2219400" y="4784760"/>
            <a:ext cx="9504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2324160" y="5527800"/>
            <a:ext cx="104760" cy="9504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1809720" y="5537160"/>
            <a:ext cx="104760" cy="9540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1895400" y="4794120"/>
            <a:ext cx="95400" cy="101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1038240" y="554688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171360" y="4006800"/>
            <a:ext cx="95400" cy="1015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305640" y="3452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ss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297360" y="3833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tive p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3276720" y="1609560"/>
            <a:ext cx="428400" cy="381240"/>
          </a:xfrm>
          <a:prstGeom prst="rightArrow">
            <a:avLst>
              <a:gd name="adj1" fmla="val 50000"/>
              <a:gd name="adj2" fmla="val 2809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 rot="19200000">
            <a:off x="3323880" y="3165480"/>
            <a:ext cx="466560" cy="339840"/>
          </a:xfrm>
          <a:prstGeom prst="leftArrow">
            <a:avLst>
              <a:gd name="adj1" fmla="val 50000"/>
              <a:gd name="adj2" fmla="val 34322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4029120" y="4410000"/>
            <a:ext cx="428760" cy="381240"/>
          </a:xfrm>
          <a:prstGeom prst="rightArrow">
            <a:avLst>
              <a:gd name="adj1" fmla="val 50000"/>
              <a:gd name="adj2" fmla="val 28116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2550600" y="37782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circle mapped to a netli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1450800" y="593712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ta pat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6170760" y="4411800"/>
            <a:ext cx="103644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7225920" y="4729320"/>
            <a:ext cx="460440" cy="187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238880" y="5222520"/>
            <a:ext cx="1260720" cy="4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5826240" y="473544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H="1">
            <a:off x="5825880" y="5235480"/>
            <a:ext cx="3445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6193800" y="48211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Q ele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 flipH="1">
            <a:off x="6461280" y="5248440"/>
            <a:ext cx="3441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 flipH="1">
            <a:off x="7988040" y="4716360"/>
            <a:ext cx="460440" cy="190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 flipH="1" flipV="1">
            <a:off x="7657920" y="4006440"/>
            <a:ext cx="12600" cy="7225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7988400" y="4006440"/>
            <a:ext cx="0" cy="7225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5994360" y="4375080"/>
            <a:ext cx="2247840" cy="1244520"/>
          </a:xfrm>
          <a:prstGeom prst="rect">
            <a:avLst/>
          </a:prstGeom>
          <a:noFill/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977760" y="5133960"/>
            <a:ext cx="2324160" cy="8668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4D12-A7F7-40CE-B1E9-F8E03848EAF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1858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ngram program is partitioned into data path and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 path is implemented as dual or single rai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 is mapped to composition of standard elements (“;” “||”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standard element is mapped to a circ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-optimization is d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osing islands of control elements and re-synthesis with STG can give more aggressive optim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ilips made a few chips using Tangram, including a product: 8051 micro-controller in low-power pager Muna (25 wks battery life from one AAA batter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milar approach used in Balsa (Manchester Univ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6E64-7473-474D-BE8C-C3E7616318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rst mode FS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7236360" y="2467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4898520" y="28098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+b+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6181560" y="31273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-/x+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5991120" y="39020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+/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4467240" y="38768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se to synchronous FSMs with binary encoded I/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k in burs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transitions fi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te signals chang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ly limited to fundamental mode: next input burst cannot arrive before stabilization at the outpu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6D34-140D-47F6-A513-5F9270F32B5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tended Burst mo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139680" y="1219320"/>
            <a:ext cx="439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ed don’t cares (b*): some concurrency is allowed for input transitions that do not influence an output bur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itional guards &lt;b+&gt; = “if b=1 then …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0760-5552-4E36-B3C7-ECA8C45F106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 of XB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139680" y="12193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xt state and output functions free of functional and logic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quential feedbacks should not introduce new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assig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state of the BM spec to one layer of Karnaugh 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tible layers are merg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compatible if merging does not introduce CSC violations or haza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yers are encoded using race free en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D65F-5A15-48A2-835E-E4C12624A01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488760" y="2637000"/>
            <a:ext cx="3208320" cy="3399120"/>
            <a:chOff x="3488760" y="2637000"/>
            <a:chExt cx="3208320" cy="3399120"/>
          </a:xfrm>
        </p:grpSpPr>
        <p:grpSp>
          <p:nvGrpSpPr>
            <p:cNvPr id="320" name=""/>
            <p:cNvGrpSpPr/>
            <p:nvPr/>
          </p:nvGrpSpPr>
          <p:grpSpPr>
            <a:xfrm>
              <a:off x="4037040" y="2743200"/>
              <a:ext cx="2070000" cy="1373040"/>
              <a:chOff x="4037040" y="2743200"/>
              <a:chExt cx="2070000" cy="13730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4037040" y="2743200"/>
                <a:ext cx="2070000" cy="1373040"/>
                <a:chOff x="4037040" y="2743200"/>
                <a:chExt cx="2070000" cy="137304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4491000" y="2743200"/>
                  <a:ext cx="1616040" cy="1373040"/>
                  <a:chOff x="4491000" y="2743200"/>
                  <a:chExt cx="1616040" cy="1373040"/>
                </a:xfrm>
              </p:grpSpPr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491000" y="2743200"/>
                    <a:ext cx="1365120" cy="1373040"/>
                    <a:chOff x="4491000" y="2743200"/>
                    <a:chExt cx="1365120" cy="137304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4497480" y="27496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491000" y="27432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5867280" y="34146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4037040" y="2971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037040" y="38862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4037040" y="3429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4037040" y="4572000"/>
                <a:ext cx="2070000" cy="1373040"/>
                <a:chOff x="4037040" y="4572000"/>
                <a:chExt cx="2070000" cy="137304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4491000" y="4572000"/>
                  <a:ext cx="1616040" cy="1373040"/>
                  <a:chOff x="4491000" y="4572000"/>
                  <a:chExt cx="1616040" cy="137304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4491000" y="4572000"/>
                    <a:ext cx="1365120" cy="1373040"/>
                    <a:chOff x="4491000" y="4572000"/>
                    <a:chExt cx="1365120" cy="1373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4497480" y="4578480"/>
                      <a:ext cx="1358640" cy="1358640"/>
                    </a:xfrm>
                    <a:prstGeom prst="ellipse">
                      <a:avLst/>
                    </a:prstGeom>
                    <a:solidFill>
                      <a:srgbClr val="ff9933"/>
                    </a:solidFill>
                    <a:ln w="1260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491000" y="4572000"/>
                      <a:ext cx="687600" cy="13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865">
                          <a:moveTo>
                            <a:pt x="432" y="0"/>
                          </a:moveTo>
                          <a:lnTo>
                            <a:pt x="0" y="0"/>
                          </a:lnTo>
                          <a:lnTo>
                            <a:pt x="0" y="864"/>
                          </a:lnTo>
                          <a:lnTo>
                            <a:pt x="432" y="864"/>
                          </a:lnTo>
                        </a:path>
                      </a:pathLst>
                    </a:custGeom>
                    <a:solidFill>
                      <a:srgbClr val="ff9933"/>
                    </a:solidFill>
                    <a:ln cap="rnd" w="12600">
                      <a:solidFill>
                        <a:srgbClr val="ffffc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>
                    <a:off x="5867280" y="5243400"/>
                    <a:ext cx="23976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4037040" y="48006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037040" y="5715000"/>
                  <a:ext cx="4539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037040" y="52578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488760" y="36273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88760" y="3170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88760" y="2637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31960" y="30942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88760" y="44658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88760" y="49989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88760" y="545616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07920" y="49230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350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381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384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0A80-076B-487F-96A3-80D69AF577A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XBM and ST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5803920" y="22986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7213680" y="3335400"/>
            <a:ext cx="469800" cy="493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5803920" y="435600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5791320" y="3309840"/>
            <a:ext cx="469800" cy="493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045120" y="2843280"/>
            <a:ext cx="0" cy="434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6032160" y="3844800"/>
            <a:ext cx="12600" cy="524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6248520" y="3581280"/>
            <a:ext cx="9903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6248520" y="2476440"/>
            <a:ext cx="1193760" cy="851040"/>
          </a:xfrm>
          <a:custGeom>
            <a:avLst/>
            <a:gdLst/>
            <a:ahLst/>
            <a:rect l="l" t="t" r="r" b="b"/>
            <a:pathLst>
              <a:path w="752" h="536">
                <a:moveTo>
                  <a:pt x="752" y="536"/>
                </a:moveTo>
                <a:cubicBezTo>
                  <a:pt x="722" y="360"/>
                  <a:pt x="693" y="185"/>
                  <a:pt x="568" y="96"/>
                </a:cubicBezTo>
                <a:cubicBezTo>
                  <a:pt x="443" y="7"/>
                  <a:pt x="221" y="3"/>
                  <a:pt x="0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5302080" y="3568680"/>
            <a:ext cx="514440" cy="1092240"/>
          </a:xfrm>
          <a:custGeom>
            <a:avLst/>
            <a:gdLst/>
            <a:ahLst/>
            <a:rect l="l" t="t" r="r" b="b"/>
            <a:pathLst>
              <a:path w="324" h="688">
                <a:moveTo>
                  <a:pt x="300" y="688"/>
                </a:moveTo>
                <a:cubicBezTo>
                  <a:pt x="150" y="565"/>
                  <a:pt x="0" y="443"/>
                  <a:pt x="4" y="328"/>
                </a:cubicBezTo>
                <a:cubicBezTo>
                  <a:pt x="8" y="213"/>
                  <a:pt x="166" y="106"/>
                  <a:pt x="324" y="0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5827680" y="2301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840640" y="3330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584064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7224840" y="3343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7237440" y="2540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-/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5102280" y="28828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+b*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6079320" y="31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a-/x+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5990760" y="3975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b+&gt;c+/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4683960" y="39495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-/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32120" y="15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1652400" y="2227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65000" y="29304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 flipH="1">
            <a:off x="1802880" y="1852560"/>
            <a:ext cx="241560" cy="4446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108160" y="1866960"/>
            <a:ext cx="241200" cy="431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1866960" y="2565360"/>
            <a:ext cx="0" cy="4572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1968480" y="396252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809720" y="19432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74640" y="3949560"/>
            <a:ext cx="254160" cy="41940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2261880" y="2239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114640" y="1930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2349360" y="316224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1676520" y="3467160"/>
            <a:ext cx="457200" cy="457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1253160" y="4792680"/>
            <a:ext cx="547920" cy="3682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2579760" y="540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13352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1995120" y="4297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247840" y="4572000"/>
            <a:ext cx="216000" cy="4064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363760" y="495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833200" y="5796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144080" y="54403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x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602000" y="542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y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1386000" y="594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b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H="1">
            <a:off x="1625400" y="3543480"/>
            <a:ext cx="787320" cy="124452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577960" y="3606840"/>
            <a:ext cx="0" cy="140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1447920" y="454644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308240" y="5218200"/>
            <a:ext cx="12672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1638360" y="5192640"/>
            <a:ext cx="11412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1346040" y="5751360"/>
            <a:ext cx="114480" cy="316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>
            <a:off x="1587240" y="5764320"/>
            <a:ext cx="127080" cy="30636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2590920" y="5218200"/>
            <a:ext cx="126720" cy="277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819520" y="5700600"/>
            <a:ext cx="101520" cy="21456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1892160" y="32385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2502000" y="2525760"/>
            <a:ext cx="0" cy="67464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108160" y="3657600"/>
            <a:ext cx="1066680" cy="2158920"/>
          </a:xfrm>
          <a:custGeom>
            <a:avLst/>
            <a:gdLst/>
            <a:ahLst/>
            <a:rect l="l" t="t" r="r" b="b"/>
            <a:pathLst>
              <a:path w="672" h="1360">
                <a:moveTo>
                  <a:pt x="576" y="1360"/>
                </a:moveTo>
                <a:cubicBezTo>
                  <a:pt x="624" y="957"/>
                  <a:pt x="672" y="555"/>
                  <a:pt x="576" y="328"/>
                </a:cubicBezTo>
                <a:cubicBezTo>
                  <a:pt x="480" y="101"/>
                  <a:pt x="240" y="50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2793960" y="3479760"/>
            <a:ext cx="762120" cy="2311560"/>
          </a:xfrm>
          <a:custGeom>
            <a:avLst/>
            <a:gdLst/>
            <a:ahLst/>
            <a:rect l="l" t="t" r="r" b="b"/>
            <a:pathLst>
              <a:path w="480" h="1456">
                <a:moveTo>
                  <a:pt x="144" y="1456"/>
                </a:moveTo>
                <a:cubicBezTo>
                  <a:pt x="312" y="1053"/>
                  <a:pt x="480" y="651"/>
                  <a:pt x="456" y="408"/>
                </a:cubicBezTo>
                <a:cubicBezTo>
                  <a:pt x="432" y="165"/>
                  <a:pt x="216" y="8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730080" y="1314360"/>
            <a:ext cx="1263960" cy="5072040"/>
          </a:xfrm>
          <a:custGeom>
            <a:avLst/>
            <a:gdLst/>
            <a:ahLst/>
            <a:rect l="l" t="t" r="r" b="b"/>
            <a:pathLst>
              <a:path w="796" h="3195">
                <a:moveTo>
                  <a:pt x="436" y="3092"/>
                </a:moveTo>
                <a:cubicBezTo>
                  <a:pt x="294" y="3143"/>
                  <a:pt x="153" y="3195"/>
                  <a:pt x="100" y="2748"/>
                </a:cubicBezTo>
                <a:cubicBezTo>
                  <a:pt x="47" y="2301"/>
                  <a:pt x="0" y="824"/>
                  <a:pt x="116" y="412"/>
                </a:cubicBezTo>
                <a:cubicBezTo>
                  <a:pt x="232" y="0"/>
                  <a:pt x="514" y="138"/>
                  <a:pt x="796" y="27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3898800" y="3803760"/>
            <a:ext cx="596880" cy="577800"/>
          </a:xfrm>
          <a:prstGeom prst="leftArrow">
            <a:avLst>
              <a:gd name="adj1" fmla="val 50000"/>
              <a:gd name="adj2" fmla="val 25826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DD16-C2C8-4E7E-B4BD-D6D5F35756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4037040" y="2743200"/>
            <a:ext cx="2070000" cy="1373040"/>
            <a:chOff x="4037040" y="2743200"/>
            <a:chExt cx="2070000" cy="1373040"/>
          </a:xfrm>
        </p:grpSpPr>
        <p:grpSp>
          <p:nvGrpSpPr>
            <p:cNvPr id="392" name=""/>
            <p:cNvGrpSpPr/>
            <p:nvPr/>
          </p:nvGrpSpPr>
          <p:grpSpPr>
            <a:xfrm>
              <a:off x="4491000" y="2743200"/>
              <a:ext cx="1616040" cy="1373040"/>
              <a:chOff x="4491000" y="2743200"/>
              <a:chExt cx="1616040" cy="137304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4491000" y="2743200"/>
                <a:ext cx="1365120" cy="1373040"/>
                <a:chOff x="4491000" y="2743200"/>
                <a:chExt cx="1365120" cy="13730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497480" y="2749680"/>
                  <a:ext cx="1358640" cy="13586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91000" y="2743200"/>
                  <a:ext cx="68760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5867280" y="34146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037040" y="2971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7040" y="38862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037040" y="4572000"/>
            <a:ext cx="2070000" cy="1373040"/>
            <a:chOff x="4037040" y="4572000"/>
            <a:chExt cx="2070000" cy="1373040"/>
          </a:xfrm>
        </p:grpSpPr>
        <p:grpSp>
          <p:nvGrpSpPr>
            <p:cNvPr id="400" name=""/>
            <p:cNvGrpSpPr/>
            <p:nvPr/>
          </p:nvGrpSpPr>
          <p:grpSpPr>
            <a:xfrm>
              <a:off x="4037040" y="4572000"/>
              <a:ext cx="2070000" cy="1373040"/>
              <a:chOff x="4037040" y="4572000"/>
              <a:chExt cx="2070000" cy="137304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4491000" y="4572000"/>
                <a:ext cx="1616040" cy="1373040"/>
                <a:chOff x="4491000" y="4572000"/>
                <a:chExt cx="1616040" cy="137304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4491000" y="4572000"/>
                  <a:ext cx="1365120" cy="1373040"/>
                  <a:chOff x="4491000" y="4572000"/>
                  <a:chExt cx="1365120" cy="13730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4497480" y="4578480"/>
                    <a:ext cx="1358640" cy="135864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491000" y="4572000"/>
                    <a:ext cx="6876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65">
                        <a:moveTo>
                          <a:pt x="432" y="0"/>
                        </a:moveTo>
                        <a:lnTo>
                          <a:pt x="0" y="0"/>
                        </a:lnTo>
                        <a:lnTo>
                          <a:pt x="0" y="864"/>
                        </a:lnTo>
                        <a:lnTo>
                          <a:pt x="432" y="86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5" name=""/>
                <p:cNvSpPr/>
                <p:nvPr/>
              </p:nvSpPr>
              <p:spPr>
                <a:xfrm>
                  <a:off x="5867280" y="5243400"/>
                  <a:ext cx="23976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4037040" y="48006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037040" y="5715000"/>
                <a:ext cx="45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37040" y="52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663200" y="4084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86960" y="3170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88760" y="2637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31960" y="30942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88760" y="4465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88760" y="49989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8760" y="54561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07920" y="49230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025720" y="3214800"/>
            <a:ext cx="2070000" cy="1373040"/>
            <a:chOff x="2025720" y="3214800"/>
            <a:chExt cx="2070000" cy="1373040"/>
          </a:xfrm>
        </p:grpSpPr>
        <p:grpSp>
          <p:nvGrpSpPr>
            <p:cNvPr id="418" name=""/>
            <p:cNvGrpSpPr/>
            <p:nvPr/>
          </p:nvGrpSpPr>
          <p:grpSpPr>
            <a:xfrm>
              <a:off x="2479680" y="3214800"/>
              <a:ext cx="1616040" cy="1373040"/>
              <a:chOff x="2479680" y="3214800"/>
              <a:chExt cx="1616040" cy="137304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479680" y="3214800"/>
                <a:ext cx="1365120" cy="1373040"/>
                <a:chOff x="2479680" y="3214800"/>
                <a:chExt cx="1365120" cy="1373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486160" y="3220920"/>
                  <a:ext cx="1358640" cy="13590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479680" y="3214800"/>
                  <a:ext cx="687240" cy="1373040"/>
                </a:xfrm>
                <a:custGeom>
                  <a:avLst/>
                  <a:gdLst/>
                  <a:ahLst/>
                  <a:rect l="l" t="t" r="r" b="b"/>
                  <a:pathLst>
                    <a:path w="433" h="865">
                      <a:moveTo>
                        <a:pt x="432" y="0"/>
                      </a:moveTo>
                      <a:lnTo>
                        <a:pt x="0" y="0"/>
                      </a:lnTo>
                      <a:lnTo>
                        <a:pt x="0" y="864"/>
                      </a:lnTo>
                      <a:lnTo>
                        <a:pt x="432" y="86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3855960" y="3886200"/>
                <a:ext cx="2397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025720" y="34434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4357800"/>
              <a:ext cx="453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27080" y="1366920"/>
            <a:ext cx="8793000" cy="1052280"/>
            <a:chOff x="127080" y="1366920"/>
            <a:chExt cx="8793000" cy="1052280"/>
          </a:xfrm>
        </p:grpSpPr>
        <p:sp>
          <p:nvSpPr>
            <p:cNvPr id="426" name=""/>
            <p:cNvSpPr/>
            <p:nvPr/>
          </p:nvSpPr>
          <p:spPr>
            <a:xfrm>
              <a:off x="10699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366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36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703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3700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404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0720" y="160020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256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8364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50320" y="136692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177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368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27040" y="136692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18120" y="136692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60400" y="136692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699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66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36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703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700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0404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70720" y="2133720"/>
              <a:ext cx="5302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292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8364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2664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17000" y="1900080"/>
              <a:ext cx="50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b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84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27400" y="1900080"/>
              <a:ext cx="570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17760" y="1900080"/>
              <a:ext cx="590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a+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60760" y="1900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"/>
                </a:rPr>
                <a:t>c-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31840" y="1604880"/>
              <a:ext cx="763560" cy="609480"/>
              <a:chOff x="231840" y="1604880"/>
              <a:chExt cx="76356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3280" y="1604880"/>
                <a:ext cx="76212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0800000">
                <a:off x="231840" y="1604880"/>
                <a:ext cx="76176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154000" y="1604880"/>
              <a:ext cx="766080" cy="609480"/>
              <a:chOff x="8154000" y="1604880"/>
              <a:chExt cx="766080" cy="609480"/>
            </a:xfrm>
          </p:grpSpPr>
          <p:sp>
            <p:nvSpPr>
              <p:cNvPr id="460" name=""/>
              <p:cNvSpPr/>
              <p:nvPr/>
            </p:nvSpPr>
            <p:spPr>
              <a:xfrm>
                <a:off x="8154000" y="1604880"/>
                <a:ext cx="76104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0800000">
                <a:off x="8158680" y="1604880"/>
                <a:ext cx="7614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9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9868"/>
                  </a:path>
                </a:pathLst>
              </a:custGeom>
              <a:noFill/>
              <a:ln cap="rnd"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27080" y="1790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7336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40040" y="1454040"/>
              <a:ext cx="52092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7080" y="198756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73760" y="1454040"/>
              <a:ext cx="520560" cy="36828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4826160" y="2006640"/>
            <a:ext cx="2616120" cy="330120"/>
          </a:xfrm>
          <a:prstGeom prst="rect">
            <a:avLst/>
          </a:prstGeom>
          <a:noFill/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9625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8480" y="35053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25909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43600" y="30481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192"/>
                </a:moveTo>
                <a:lnTo>
                  <a:pt x="96" y="192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cap="rnd"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26360" y="158760"/>
            <a:ext cx="560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ow about 2-input gates 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F982-9851-4139-891D-E271CC578D01}" type="slidenum">
              <a:t>9</a:t>
            </a:fld>
          </a:p>
        </p:txBody>
      </p:sp>
    </p:spTree>
  </p:cSld>
  <p:transition advTm="6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ageno</cp:lastModifiedBy>
  <cp:lastPrinted>2000-02-20T09:30:11Z</cp:lastPrinted>
  <dcterms:modified xsi:type="dcterms:W3CDTF">2001-10-19T13:54:26Z</dcterms:modified>
  <cp:revision>104</cp:revision>
  <dc:subject/>
  <dc:title>Introduction to basic concepts on asynchronous circuit design</dc:title>
</cp:coreProperties>
</file>