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29D-3C27-4A34-8569-CA7C9E85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9CF-6C37-451D-8C6C-96B885B7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FBC-8A8F-4EEC-8F03-A75CB5F1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08A-17F5-48DD-9583-2EF7DA4F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6E0-3F9D-45B4-AEEF-379AFC95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122-29E6-4FC1-8766-2D33A0B6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6C7-8DFA-4230-AC17-E8B19BDA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51C-49D7-41D5-AD08-6F4AC843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D19A-7F39-4496-B532-CDA900D8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D3C-F3B4-4F23-9979-4DBF1BC9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7C0-380E-4569-B664-46177825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04A-0538-4477-B0B6-5816379D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E25F-9302-4415-9749-2F61C093427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ic design o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ynchronous circu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076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 IV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4382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2B9-2E73-489A-8088-D02BAA7401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 Asynchronous Microprocess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 (Grenoble) “ASPRO-216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9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signal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s Research Laboratories 80C5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9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hesized using “Tangram”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us Star-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0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Null Convention Logic (NC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E48-E775-4910-977C-2C143435A0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ULET3 Processor Architect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76360" y="121932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pipelined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to synchronous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-of-order comple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e 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lide11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8224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B22-96B6-428B-820A-40BC4CE804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nchronous vs. Asynchronous Architec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MULET looks very like a synchronous A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 blocks divided by pipeline lat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ideas can be ‘copied', some need reinv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synchronous ‘tricks’ don’t work in an asynchronous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local interactions, dependency resolution,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pelining is too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tation to inefficient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C32-C17A-48E7-B143-31E8A44EAE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-dependent Tim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4419720"/>
            <a:ext cx="8076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 instructions allow a shift before an ALU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are rarely exploi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hifter is often bypa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xecution timing may be adjusted appropriat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slide1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40360" cy="30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85E-8C35-459B-BA50-F4B8DF3DC7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-level Parallelis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38862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decode and execute st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ous threads – many invoked condition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ewed pipeline latches (lower power EM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stage delay (e.g. ‘stretch’ for series shif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ing pipeline depths (extra buffer for LDM/ST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al invocation of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slide14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640560" cy="26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07D-4569-457E-94FF-5B1EB9AAA9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C Pipeli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synchronous design non-local values can be 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M uses the PC as an oper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(e.g. relative bran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tual value is two instructions ‘out’ due to the pipeline depth of the original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slide14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611680" cy="21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6FB-AE2C-455B-8A48-73F4A153BD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C Pipeli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3580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 asynchronous design only ‘adjacent’ stages can communic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LET supplies the PC value with every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an be adjusted as required in an implementation independent man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lide15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120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AFD-7BD0-4393-9A0F-0DF2E5D106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umb Expan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30481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shaking allows pipeline occupancy to be changed without global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mb instructions normally fetched in pairs but executed individu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scheme applied to (e.g.) ‘Load Multiple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scheme applied to removing ‘surplus’ pa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lide16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61168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E06-E63E-4293-B242-F29587C2C7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al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unit can impose an arbitrary de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ipeline stage could choose to delay indefini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ill halt the whole pipeline shortly thereaf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stream stages ‘drain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stream stages ‘back up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ted CMOS circuits use ‘no’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lock power ei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art is instantane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MULET2 and AMULET3 exploit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sy power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F76-979C-409E-92DB-376598684F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lou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ranches change the local colour and request a new strea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efetched operations discarded until a new stream arr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slide18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451640" cy="2960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1295280"/>
            <a:ext cx="807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peline occupancy may be non-determin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10C-7E5C-4DC6-8683-C37A0E3169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Asynchronous Logic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hing when there is nothing to be d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design freedom and component reus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magnetic Interference (EM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s concentrate noise energy at particular freque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prise the hacker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8DD-A609-4DE3-B845-ABE5230C00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   if pipeline occupancy is variable, what happens if a token is inserted into a ‘full’ pipelin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      Deadlock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anger with the large number of states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avoided with careful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ases in AMULET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es when the prefetch pipeline is f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conflict between instruction and data fet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were known early and prevented at a higher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63C-C693-4128-8619-5EB0E9A9BA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Abor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6479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for MMU to abort or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tch cycle if memory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slide20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43520" cy="30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833-54E5-4E60-AAE4-A6891A47A1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Abor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4419720"/>
            <a:ext cx="8076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e on memory not abor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 results returned out of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parallelism =&gt; higher through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slide21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64280" cy="301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085-2A7E-4107-85D7-4B9517D0B3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order Buff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instructions to complete in any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ves register depende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register 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its low-overhead memory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 exact page fault 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slide2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932440" cy="21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12E-C6A6-41D5-B968-505C28F27B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order Buff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an arrive along any path at any time, providing their targets are mutually exclu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out waits for each register to be filled in turn, then copies out the result (or not, if unwant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 out frees the register bu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es not delete th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slide23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24044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306-22AA-4928-9217-B203FDBF31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ULET3i Memory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46479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M is ‘dual-port’ (at this leve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struction bus is simp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it has a higher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slide25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693040" cy="333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DF9-4958-456D-83BC-5A87CE5B05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ory Struct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ocal RAM is divided into 1 Kbyte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ied RAM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to dual-port 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50% instruction fetches are from the ‘Ibuffer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slide26a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943600" cy="29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643-7454-44E4-A04D-43DEFCFBFC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ULET2e Cach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pel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-dependent ti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ynchronous line fe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er design includ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-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b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tim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slide26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53708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7AC-73CE-4651-91D1-CC3AAB9AF9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nthesis vs. Hand Desig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of the AMULET3i system was designed at schematic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(the DMA controller) was a test of Bal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asynchronous synthesis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hesised blocks are more efficient to design but less efficient in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able for (e.g.) peripherals that are rarely invo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timing closure problem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5AC-66D0-45BA-BE36-C675219DA2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MA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38862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70 000 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structures (register banks) in full cust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synthesised from Balsa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ats slightly by letting a clock into one corne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slide28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4079880" cy="277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0DE-4C31-4CAD-9D62-A6D20E7E61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synchronous micro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in processor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and opportunities in asynchronous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solutions to a selection of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ies and peripher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LS and asynchronous inter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C65-8923-4DE4-B442-BA648A102E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ject to produce a synthesisable ARM core in Bal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3-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its many ‘performance’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dual-rail coding to enhance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rgettable to any process, including dual-rail, 1-of-N codes etc. by recompi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8D3-1B4D-4D5F-9D25-D8B3674C6F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ULET3 vs. SP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slide31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783560" cy="460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D14-A47D-4421-B87A-92D1A14569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ynchronous on-chip Interconne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ntrally arbitrated, multi-channel, asynchronous on-chip bu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rts: 8-, 16- and 32-bit transfers, bus locking, sequential bursts, 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parate, decoupled, asynchronous transfer phases for address and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2-bit bundled data pathway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d on AMULET3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dard ‘master’ and ‘slave’ interfa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dard interface to on-chip synchronous bus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8E6-28C3-431B-9D06-8FE9BBF3D0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ynchronous on-chip Interconne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 insensitive coding for ‘distance’ trans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more wires per 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it lack of clock to send serial symbols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wires, 2-bit (1-of-4) symb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-to-point unidirectional wi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‘master’ and ‘slave’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easily provide standard synchronous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slide32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321440" cy="107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BB0-6899-4971-BF8F-4652A7151E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A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ly Asynchronous, Locally Synchronous inter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‘conventional’ synchronous design blocks for S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synchronous interconnection to avoid timing closure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the first big application of asynchronous log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reason why the ‘local’ blocks need to be synchronous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E3C-2D32-4773-9C5B-5E480E816F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ULET3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MULET3 microprocessor (ARMv4T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 Kbytes RAM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6 Kbytes ROM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lexible, multi-channel DMAC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grammable memory interfa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-chip asynchronous bus (MARBLE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ridge to on-chip synchronous bu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figuration register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ftware debug suppor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slide36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600360" cy="333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DCB-FE7A-41D2-824C-3F92240E886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perience of Large Asynchronous Desig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, but fea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ability (GAL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s, Theseus, ADD, Intel?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2D5-E66D-42E4-B413-F88FEF1CB5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ynchronous logic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competitive with ‘conventional’ des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advantages with low-power and low EM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 portable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the only solution for some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 interconnections on large ch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big systems is a lot of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hard to catch up with the big compan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D40-48BD-4893-87EC-CA561113FD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Microprocessor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 defined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demonstrate correct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conta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stand-alon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obviously suited to asynchronous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ced to examine ‘real’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ing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techniques to dev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6A4-529C-41D7-8FA9-1F400BCF03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processors as Design Exam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LET1 (199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6 compatible processor (almo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0um 60 000 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desig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ndled data, two-phas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sibility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phase logic hard to work with and interface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mulet1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2629080" cy="22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30E-F67F-42CA-A34B-DBBFAB25EF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processors as Design Exam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LET2e (199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7 compatible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ynchronous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um 450 000 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desig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ndled data, four-phas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use, self-containe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amulet2e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354040" cy="22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7F9-0F8D-46C2-8DB7-199B287616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processors as Design Exam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LET3i (20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9 compatible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: Memory, DMA controller, bus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5um 800 000 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hand desig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ndled data, two-phas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rcial application (DRAC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ies don’t have the resources for such project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DRACO" descr=""/>
          <p:cNvPicPr/>
          <p:nvPr/>
        </p:nvPicPr>
        <p:blipFill>
          <a:blip r:embed="rId1"/>
          <a:stretch/>
        </p:blipFill>
        <p:spPr>
          <a:xfrm>
            <a:off x="6248520" y="2133720"/>
            <a:ext cx="2536560" cy="26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C9E-31F3-4EF8-BFFB-15FF4B0545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processors as Design Exam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 (200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10 compatible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8um well over 1 million 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synthes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l-rail, four-phas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 smartcard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confirm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2895480"/>
            <a:ext cx="838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D10-FED0-4364-AEA5-C9FADD5365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 Asynchronous Microprocess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tech Asynchronous Microprocesso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8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asynchronous micro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y of Tokyo’s “TITAC-2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9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hand desig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tech “MiniMIPS” (R3000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9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desig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PDAC / VLSI 2002 - Tutorial on "Large Asynchronous System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88E-C7DD-453E-BB54-475EEBFC60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04:17:08Z</dcterms:created>
  <dc:creator>Texas Instruments India</dc:creator>
  <dc:description/>
  <dc:language>en-US</dc:language>
  <cp:lastModifiedBy>amulet</cp:lastModifiedBy>
  <cp:lastPrinted>2001-05-24T02:57:14Z</cp:lastPrinted>
  <dcterms:modified xsi:type="dcterms:W3CDTF">2001-11-30T10:22:18Z</dcterms:modified>
  <cp:revision>66</cp:revision>
  <dc:subject/>
  <dc:title>No Slide Title</dc:title>
</cp:coreProperties>
</file>